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744C-7B75-468C-9F35-D5CDBF6FA7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7A9-DE10-4FAA-AF49-5F7D96FC10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EAB8-E874-4D3E-AB05-40265A40DA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CC33-57CA-43D7-9B33-5FCA95C031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4C4-F9AD-4C62-82C7-9438E7A31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E774-25B6-4199-9935-4A7DA25579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7878-B95A-4B03-ACCF-AD0964D924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08B9-4EE6-43EB-948D-5728C28642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215-856D-4282-B8D1-ABA6D2B15B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E88-CFAA-428A-9219-DB1A8E0D73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436-BDDD-4F6B-8351-1A15B0B1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1F9-CAF4-4DD1-A855-5EE556B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F83-6FE6-4588-99BD-81A19588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31C-793A-4A29-A39E-07EB9A1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3B26-D66F-41C9-8675-A98979CE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FB0-B3AA-4945-882F-5EFE134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92D2-F787-4610-800D-32509853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A947-239C-4DA6-A4C2-4EAB086B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E3E-6025-4C90-B31D-A61BE219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9DAC-6250-45D5-AF0E-011A25B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FF5C-1EF1-4C20-B568-0FB84D4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8C6-E60E-48D6-9175-B286832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D2D2-6500-4C44-804A-91D5BB3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E56B-7280-412E-98AA-704C588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AD64-04D1-4E68-83CD-43033891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878C-AA98-4052-BBC3-5270ACE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4683-F288-4437-BA47-D1904631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8028-E39A-4D9D-82B6-4AF78DC0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46BA-633B-4AE1-958B-C97F0B3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D1C6-BA32-45F2-AA39-2515F53E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CFE4-3B81-4991-BC3D-34E6052E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DFE1-78CB-42F1-BF2D-5E1D3BD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626-0EA7-4F36-8916-2004FEE2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B728-90C1-43EA-A562-ED8A76D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BFA6-86F7-4E53-96E8-53EE12C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4893-5EE2-457E-B018-9CDB47C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1DD9-DD76-4311-ACBF-99726DB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C726-658D-41EC-B28F-1137F47E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2A57-946E-4F51-9772-AC3B4027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6DC8-0854-4326-BB66-036A06D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1DDE-975F-481E-BF46-3A8C19FA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872A-C57A-4036-A45F-42D0CCA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68B1-3F0C-4F45-9A5E-47828B79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92F-6EBA-4A73-BCD2-40EF87D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6C08-3609-428D-A03F-39D553D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125A-A6D8-43D4-A753-48563996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9806-3FA5-40AA-9E88-CF41CEEF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8E5A-C8C1-4209-A9AF-D13ECAD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8E93-311F-44CD-BC70-E566003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1A56-1E6F-4F5A-8D93-2C78549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CFA0-A110-40AE-B141-52238BCB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D7E7-308A-4442-B605-7476D0B5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AB7D-A4F4-411E-9288-F97A7FF5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C88E-DC65-4329-9B9C-26FDB302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C26-0E85-49CA-82A7-42CCBD5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AE11-C627-409A-BC8E-1E95BFB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9C45-8F54-45B9-B440-70A6AC1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8A82-944E-4F41-A823-1A626AD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6B39-8939-4E9D-AA96-139D4B22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8E59-1561-4AAB-86BD-8024D318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BCCA-58AA-4302-B970-3A03FCA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24F6-C6A8-4DDD-8A9F-4DC0843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8914-06CA-4F94-BD23-499AD60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1CAE-9ACD-41BA-825D-87EBDAE4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863F-0E9D-49E2-8EFA-BDF44679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AE2-20A8-4416-8F40-29FC498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381F-01F4-4B56-A18C-3AE368F1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E19E-0A9C-41AE-BB32-C4B7C8FA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4C8C-B5DA-4989-BACD-E04B1368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CA59-F464-4C32-A277-A6366C9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20B8-575F-42C4-BC6B-1ACBC92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22E5-817E-4AD2-AD02-63042569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54B0A-9AF8-4962-BD57-5B8289D7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C24B-705E-4EC5-952F-0A2F30DA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4258-4437-4135-8095-96D1064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237B-9E7D-40A2-B402-8800A5E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1E5-8F5D-406A-BA85-D451701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E87B-D76E-4A0F-8A87-BE122703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B4CD-D47A-4FCB-A123-792F922A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FAC2-4544-4638-9A5A-7EB3FB0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F542-473E-4D07-AB52-3B1F1A4D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245B-FBA0-44C7-BE2C-7B6EA99C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7E3B-EACE-452F-9297-8C9847F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67C3B-591C-4DC5-BD21-EAB21BC7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1C7B-5B5C-4330-A396-99A189FF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588E-D81B-433C-8A98-22D5F38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0B10F-5A31-4B72-8EDA-9F35EEC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A63-68A7-40C7-ABE4-354CFDEA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0F18-05EF-4244-98EE-9E4F2DB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6845-0E05-4463-9BBB-3E7A9AA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14B8-F0DD-4D10-8F16-982213B6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E1C6-0946-417B-AF47-D82AE4E6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C6FE-FE05-42A7-93A6-642566DC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613-9924-4E70-8A86-BC95C43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1C2-A0AA-46CC-A015-5353BCF8B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EB3-B92A-4A01-8682-EF18FF32AEF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7408-327D-415A-BE08-06EA47695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AB7-5376-49EE-AAC5-F7936DA14A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999-AB14-458B-A296-40BFC8146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DD4-4C92-4295-8D1E-23B2A156924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04C-E9A4-40B4-A668-C0675345DFF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76440" y="1316160"/>
            <a:ext cx="8162640" cy="20732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998960" y="4400640"/>
            <a:ext cx="3962520" cy="952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970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781440" y="6237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галым-201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853080" y="350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2" descr="http://pics.livejournal.com/shimerli/pic/0012k2ak"/>
          <p:cNvPicPr/>
          <p:nvPr/>
        </p:nvPicPr>
        <p:blipFill>
          <a:blip r:embed="rId1"/>
          <a:stretch/>
        </p:blipFill>
        <p:spPr>
          <a:xfrm>
            <a:off x="5508720" y="2565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132000" y="692280"/>
            <a:ext cx="5848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i="1" lang="ru-RU" sz="2400" spc="-1" strike="noStrike">
                <a:solidFill>
                  <a:srgbClr val="cc0000"/>
                </a:solidFill>
                <a:latin typeface="Century Gothic"/>
              </a:rPr>
              <a:t>Интенсивность искривления-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темп отклонения скважины от ее первоначального направления по зенитному углу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Gothic"/>
              </a:rPr>
              <a:t>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или азимуту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Century Gothic"/>
              </a:rPr>
              <a:t>α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34"/>
              <p:cNvSpPr txBox="1"/>
              <p:nvPr/>
            </p:nvSpPr>
            <p:spPr>
              <a:xfrm>
                <a:off x="4500720" y="1989000"/>
                <a:ext cx="1330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6"/>
              <p:cNvSpPr txBox="1"/>
              <p:nvPr/>
            </p:nvSpPr>
            <p:spPr>
              <a:xfrm>
                <a:off x="6659640" y="1967040"/>
                <a:ext cx="1411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3" name="Picture 35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017520" cy="56894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3564000" y="4149720"/>
            <a:ext cx="5400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отрицатель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положитель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Когда интенсивность искривления </a:t>
            </a: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равна 0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24000" y="692280"/>
            <a:ext cx="8640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интервале установки насосного оборудования для эксплуатации скважины интенсивность искривления должна быть </a:t>
            </a:r>
            <a:r>
              <a:rPr b="1" lang="ru-RU" sz="2000" spc="-1" strike="noStrike">
                <a:solidFill>
                  <a:srgbClr val="ff3300"/>
                </a:solidFill>
                <a:latin typeface="Century Gothic"/>
              </a:rPr>
              <a:t>не более 3 град/100 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интервале искусственного искривления при бурении под кондуктор интенсивность искривления должна быть </a:t>
            </a:r>
            <a:r>
              <a:rPr b="1" lang="ru-RU" sz="2000" spc="-1" strike="noStrike">
                <a:solidFill>
                  <a:srgbClr val="ff3300"/>
                </a:solidFill>
                <a:latin typeface="Century Gothic"/>
              </a:rPr>
              <a:t>не более 1,5 град/10 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Group 40"/>
          <p:cNvGrpSpPr/>
          <p:nvPr/>
        </p:nvGrpSpPr>
        <p:grpSpPr>
          <a:xfrm>
            <a:off x="385920" y="2614320"/>
            <a:ext cx="4238280" cy="4027320"/>
            <a:chOff x="385920" y="2614320"/>
            <a:chExt cx="4238280" cy="4027320"/>
          </a:xfrm>
        </p:grpSpPr>
        <p:sp>
          <p:nvSpPr>
            <p:cNvPr id="432" name="Freeform 8"/>
            <p:cNvSpPr/>
            <p:nvPr/>
          </p:nvSpPr>
          <p:spPr>
            <a:xfrm>
              <a:off x="385920" y="2977560"/>
              <a:ext cx="1278720" cy="2674080"/>
            </a:xfrm>
            <a:custGeom>
              <a:avLst/>
              <a:gdLst>
                <a:gd name="textAreaLeft" fmla="*/ 0 w 1278720"/>
                <a:gd name="textAreaRight" fmla="*/ 1278720 w 1278720"/>
                <a:gd name="textAreaTop" fmla="*/ 0 h 2674080"/>
                <a:gd name="textAreaBottom" fmla="*/ 2674440 h 2674080"/>
              </a:gdLst>
              <a:ahLst/>
              <a:rect l="textAreaLeft" t="textAreaTop" r="textAreaRight" b="textAreaBottom"/>
              <a:pathLst>
                <a:path w="864" h="1776">
                  <a:moveTo>
                    <a:pt x="0" y="0"/>
                  </a:moveTo>
                  <a:lnTo>
                    <a:pt x="864" y="0"/>
                  </a:lnTo>
                  <a:lnTo>
                    <a:pt x="864" y="1776"/>
                  </a:lnTo>
                  <a:lnTo>
                    <a:pt x="0" y="17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88c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665720" y="2985120"/>
              <a:ext cx="1562760" cy="3111120"/>
            </a:xfrm>
            <a:custGeom>
              <a:avLst/>
              <a:gdLst>
                <a:gd name="textAreaLeft" fmla="*/ 0 w 1562760"/>
                <a:gd name="textAreaRight" fmla="*/ 1563120 w 1562760"/>
                <a:gd name="textAreaTop" fmla="*/ 0 h 3111120"/>
                <a:gd name="textAreaBottom" fmla="*/ 3111480 h 3111120"/>
              </a:gdLst>
              <a:ahLst/>
              <a:rect l="textAreaLeft" t="textAreaTop" r="textAreaRight" b="textAreaBottom"/>
              <a:pathLst>
                <a:path w="1104" h="2064">
                  <a:moveTo>
                    <a:pt x="0" y="0"/>
                  </a:moveTo>
                  <a:lnTo>
                    <a:pt x="1104" y="384"/>
                  </a:lnTo>
                  <a:lnTo>
                    <a:pt x="1104" y="2064"/>
                  </a:lnTo>
                  <a:lnTo>
                    <a:pt x="8" y="1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9c2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391320" y="2989800"/>
              <a:ext cx="1284480" cy="828000"/>
            </a:xfrm>
            <a:custGeom>
              <a:avLst/>
              <a:gdLst>
                <a:gd name="textAreaLeft" fmla="*/ 0 w 1284480"/>
                <a:gd name="textAreaRight" fmla="*/ 1284840 w 128448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868" h="552">
                  <a:moveTo>
                    <a:pt x="0" y="0"/>
                  </a:moveTo>
                  <a:lnTo>
                    <a:pt x="868" y="55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664640" y="3818160"/>
              <a:ext cx="1290240" cy="2184480"/>
            </a:xfrm>
            <a:custGeom>
              <a:avLst/>
              <a:gdLst>
                <a:gd name="textAreaLeft" fmla="*/ 0 w 1290240"/>
                <a:gd name="textAreaRight" fmla="*/ 1290600 w 129024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872" h="1456">
                  <a:moveTo>
                    <a:pt x="0" y="0"/>
                  </a:moveTo>
                  <a:lnTo>
                    <a:pt x="872" y="1456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1658520" y="2977560"/>
              <a:ext cx="2196000" cy="1440"/>
            </a:xfrm>
            <a:custGeom>
              <a:avLst/>
              <a:gdLst>
                <a:gd name="textAreaLeft" fmla="*/ 0 w 2196000"/>
                <a:gd name="textAreaRight" fmla="*/ 2196360 w 2196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84" h="1">
                  <a:moveTo>
                    <a:pt x="0" y="0"/>
                  </a:moveTo>
                  <a:lnTo>
                    <a:pt x="1484" y="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5"/>
            <p:cNvSpPr/>
            <p:nvPr/>
          </p:nvSpPr>
          <p:spPr>
            <a:xfrm>
              <a:off x="3854880" y="2977560"/>
              <a:ext cx="0" cy="266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16"/>
            <p:cNvSpPr/>
            <p:nvPr/>
          </p:nvSpPr>
          <p:spPr>
            <a:xfrm>
              <a:off x="1723680" y="5643000"/>
              <a:ext cx="2131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>
              <a:off x="3295440" y="5643000"/>
              <a:ext cx="113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0"/>
            <p:cNvSpPr/>
            <p:nvPr/>
          </p:nvSpPr>
          <p:spPr>
            <a:xfrm>
              <a:off x="729000" y="5354640"/>
              <a:ext cx="994320" cy="288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729000" y="2994120"/>
              <a:ext cx="0" cy="23770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 flipV="1">
              <a:off x="729000" y="2614320"/>
              <a:ext cx="0" cy="36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4"/>
            <p:cNvSpPr/>
            <p:nvPr/>
          </p:nvSpPr>
          <p:spPr>
            <a:xfrm>
              <a:off x="729000" y="2620800"/>
              <a:ext cx="941040" cy="356760"/>
            </a:xfrm>
            <a:custGeom>
              <a:avLst/>
              <a:gdLst>
                <a:gd name="textAreaLeft" fmla="*/ 0 w 941040"/>
                <a:gd name="textAreaRight" fmla="*/ 941040 w 94104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636" h="238">
                  <a:moveTo>
                    <a:pt x="0" y="0"/>
                  </a:moveTo>
                  <a:lnTo>
                    <a:pt x="636" y="238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>
              <a:off x="3215520" y="6081480"/>
              <a:ext cx="7812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26"/>
            <p:cNvSpPr/>
            <p:nvPr/>
          </p:nvSpPr>
          <p:spPr>
            <a:xfrm>
              <a:off x="2966760" y="5643000"/>
              <a:ext cx="639360" cy="372240"/>
            </a:xfrm>
            <a:custGeom>
              <a:avLst/>
              <a:gdLst>
                <a:gd name="textAreaLeft" fmla="*/ 0 w 639360"/>
                <a:gd name="textAreaRight" fmla="*/ 639360 w 6393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32" h="248">
                  <a:moveTo>
                    <a:pt x="0" y="248"/>
                  </a:moveTo>
                  <a:lnTo>
                    <a:pt x="4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27"/>
            <p:cNvSpPr/>
            <p:nvPr/>
          </p:nvSpPr>
          <p:spPr>
            <a:xfrm>
              <a:off x="1664640" y="3806280"/>
              <a:ext cx="1935720" cy="1848240"/>
            </a:xfrm>
            <a:custGeom>
              <a:avLst/>
              <a:gdLst>
                <a:gd name="textAreaLeft" fmla="*/ 0 w 1935720"/>
                <a:gd name="textAreaRight" fmla="*/ 1936080 w 1935720"/>
                <a:gd name="textAreaTop" fmla="*/ 0 h 1848240"/>
                <a:gd name="textAreaBottom" fmla="*/ 1848600 h 1848240"/>
              </a:gdLst>
              <a:ahLst/>
              <a:rect l="textAreaLeft" t="textAreaTop" r="textAreaRight" b="textAreaBottom"/>
              <a:pathLst>
                <a:path w="1308" h="1232">
                  <a:moveTo>
                    <a:pt x="1308" y="12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rc 28"/>
            <p:cNvSpPr/>
            <p:nvPr/>
          </p:nvSpPr>
          <p:spPr>
            <a:xfrm flipV="1">
              <a:off x="1670040" y="4196160"/>
              <a:ext cx="389160" cy="2368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360 h 236880"/>
                <a:gd name="textAreaBottom" fmla="*/ 237600 h 236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rc 30"/>
            <p:cNvSpPr/>
            <p:nvPr/>
          </p:nvSpPr>
          <p:spPr>
            <a:xfrm flipV="1">
              <a:off x="1676160" y="4622400"/>
              <a:ext cx="426240" cy="1440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360 h 144000"/>
                <a:gd name="textAreaBottom" fmla="*/ 144720 h 144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rc 31"/>
            <p:cNvSpPr/>
            <p:nvPr/>
          </p:nvSpPr>
          <p:spPr>
            <a:xfrm flipV="1">
              <a:off x="2232720" y="4544280"/>
              <a:ext cx="177480" cy="1800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360 h 180000"/>
                <a:gd name="textAreaBottom" fmla="*/ 180720 h 180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2"/>
            <p:cNvSpPr/>
            <p:nvPr/>
          </p:nvSpPr>
          <p:spPr>
            <a:xfrm>
              <a:off x="2279880" y="4544280"/>
              <a:ext cx="2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33"/>
            <p:cNvSpPr/>
            <p:nvPr/>
          </p:nvSpPr>
          <p:spPr>
            <a:xfrm>
              <a:off x="1788840" y="4693320"/>
              <a:ext cx="426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4"/>
            <p:cNvSpPr/>
            <p:nvPr/>
          </p:nvSpPr>
          <p:spPr>
            <a:xfrm>
              <a:off x="1705680" y="4332600"/>
              <a:ext cx="426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5"/>
            <p:cNvSpPr/>
            <p:nvPr/>
          </p:nvSpPr>
          <p:spPr>
            <a:xfrm>
              <a:off x="1694160" y="3537360"/>
              <a:ext cx="2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36"/>
            <p:cNvSpPr/>
            <p:nvPr/>
          </p:nvSpPr>
          <p:spPr>
            <a:xfrm>
              <a:off x="2771280" y="5983560"/>
              <a:ext cx="35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37"/>
            <p:cNvSpPr/>
            <p:nvPr/>
          </p:nvSpPr>
          <p:spPr>
            <a:xfrm>
              <a:off x="3582720" y="5569560"/>
              <a:ext cx="2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38"/>
            <p:cNvSpPr/>
            <p:nvPr/>
          </p:nvSpPr>
          <p:spPr>
            <a:xfrm>
              <a:off x="4199760" y="55526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39"/>
            <p:cNvSpPr/>
            <p:nvPr/>
          </p:nvSpPr>
          <p:spPr>
            <a:xfrm>
              <a:off x="3748320" y="620100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ru-RU" sz="20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8" name="Object 46"/>
              <p:cNvSpPr txBox="1"/>
              <p:nvPr/>
            </p:nvSpPr>
            <p:spPr>
              <a:xfrm>
                <a:off x="5956200" y="3935520"/>
                <a:ext cx="874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47"/>
              <p:cNvSpPr txBox="1"/>
              <p:nvPr/>
            </p:nvSpPr>
            <p:spPr>
              <a:xfrm>
                <a:off x="4427640" y="3214800"/>
                <a:ext cx="4035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к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н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к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н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р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8"/>
              <p:cNvSpPr txBox="1"/>
              <p:nvPr/>
            </p:nvSpPr>
            <p:spPr>
              <a:xfrm>
                <a:off x="1332000" y="2398680"/>
                <a:ext cx="7450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sSub>
                          <m:e>
                            <m:r>
                              <m:t xml:space="preserve">⋅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Прямоугольник 35"/>
          <p:cNvSpPr/>
          <p:nvPr/>
        </p:nvSpPr>
        <p:spPr>
          <a:xfrm>
            <a:off x="3995640" y="47991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 пространственного искривления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86731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Object 41"/>
              <p:cNvSpPr txBox="1"/>
              <p:nvPr/>
            </p:nvSpPr>
            <p:spPr>
              <a:xfrm>
                <a:off x="3276720" y="907920"/>
                <a:ext cx="21351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2"/>
              <p:cNvSpPr txBox="1"/>
              <p:nvPr/>
            </p:nvSpPr>
            <p:spPr>
              <a:xfrm>
                <a:off x="3419640" y="2781360"/>
                <a:ext cx="18000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390760" cy="4133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http://pics.livejournal.com/shimerli/pic/0012k2ak"/>
          <p:cNvPicPr/>
          <p:nvPr/>
        </p:nvPicPr>
        <p:blipFill>
          <a:blip r:embed="rId2"/>
          <a:stretch/>
        </p:blipFill>
        <p:spPr>
          <a:xfrm>
            <a:off x="539640" y="501336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2124000" y="4869000"/>
            <a:ext cx="68407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Радиус кривизны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скважи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Кривизна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 скважи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Gothic"/>
              </a:rPr>
              <a:t>Апсидальная плоскость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5"/>
          <p:cNvGrpSpPr/>
          <p:nvPr/>
        </p:nvGrpSpPr>
        <p:grpSpPr>
          <a:xfrm>
            <a:off x="5683680" y="765000"/>
            <a:ext cx="3969360" cy="5321880"/>
            <a:chOff x="5683680" y="765000"/>
            <a:chExt cx="3969360" cy="5321880"/>
          </a:xfrm>
        </p:grpSpPr>
        <p:sp>
          <p:nvSpPr>
            <p:cNvPr id="471" name="AutoShape 14"/>
            <p:cNvSpPr/>
            <p:nvPr/>
          </p:nvSpPr>
          <p:spPr>
            <a:xfrm rot="19873200">
              <a:off x="6445080" y="1940760"/>
              <a:ext cx="2446200" cy="3791160"/>
            </a:xfrm>
            <a:prstGeom prst="diamond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72" name="Object 8"/>
            <p:cNvGraphicFramePr/>
            <p:nvPr/>
          </p:nvGraphicFramePr>
          <p:xfrm>
            <a:off x="6084720" y="765000"/>
            <a:ext cx="2340000" cy="143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84720" y="765000"/>
                      <a:ext cx="234000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4" name="Object 9"/>
            <p:cNvGraphicFramePr/>
            <p:nvPr/>
          </p:nvGraphicFramePr>
          <p:xfrm>
            <a:off x="6472080" y="765000"/>
            <a:ext cx="690480" cy="142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2080" y="765000"/>
                      <a:ext cx="690480" cy="14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6" name="Freeform 10"/>
            <p:cNvSpPr/>
            <p:nvPr/>
          </p:nvSpPr>
          <p:spPr>
            <a:xfrm>
              <a:off x="6829200" y="2217600"/>
              <a:ext cx="1416240" cy="2685960"/>
            </a:xfrm>
            <a:custGeom>
              <a:avLst/>
              <a:gdLst>
                <a:gd name="textAreaLeft" fmla="*/ 0 w 1416240"/>
                <a:gd name="textAreaRight" fmla="*/ 1416240 w 1416240"/>
                <a:gd name="textAreaTop" fmla="*/ 0 h 2685960"/>
                <a:gd name="textAreaBottom" fmla="*/ 2686320 h 2685960"/>
              </a:gdLst>
              <a:ahLst/>
              <a:rect l="textAreaLeft" t="textAreaTop" r="textAreaRight" b="textAreaBottom"/>
              <a:pathLst>
                <a:path w="892" h="1692">
                  <a:moveTo>
                    <a:pt x="0" y="0"/>
                  </a:moveTo>
                  <a:lnTo>
                    <a:pt x="36" y="158"/>
                  </a:lnTo>
                  <a:lnTo>
                    <a:pt x="81" y="347"/>
                  </a:lnTo>
                  <a:lnTo>
                    <a:pt x="136" y="603"/>
                  </a:lnTo>
                  <a:lnTo>
                    <a:pt x="214" y="847"/>
                  </a:lnTo>
                  <a:lnTo>
                    <a:pt x="292" y="1036"/>
                  </a:lnTo>
                  <a:lnTo>
                    <a:pt x="370" y="1192"/>
                  </a:lnTo>
                  <a:lnTo>
                    <a:pt x="470" y="1347"/>
                  </a:lnTo>
                  <a:lnTo>
                    <a:pt x="592" y="1469"/>
                  </a:lnTo>
                  <a:lnTo>
                    <a:pt x="714" y="1581"/>
                  </a:lnTo>
                  <a:lnTo>
                    <a:pt x="892" y="1692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Box 23"/>
          <p:cNvSpPr/>
          <p:nvPr/>
        </p:nvSpPr>
        <p:spPr>
          <a:xfrm>
            <a:off x="176580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3421800" y="198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7814160" y="335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3566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2" descr="http://cs418428.vk.me/v418428164/7160/Czqz88dA4RI.jpg"/>
          <p:cNvPicPr/>
          <p:nvPr/>
        </p:nvPicPr>
        <p:blipFill>
          <a:blip r:embed="rId7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Причины искривления скважин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033"/>
          <p:cNvSpPr/>
          <p:nvPr/>
        </p:nvSpPr>
        <p:spPr>
          <a:xfrm>
            <a:off x="250920" y="660240"/>
            <a:ext cx="8642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сновная причина искривления скважин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равномерное разрушение горной породы на забое, что происходит в результате действия различных сил и опрокидывающих моментов, действующих на породоразрушающий инструмент. Все эти силы и моменты можно привести к одной равнодействующей силе и главному мом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ханизм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1036" descr=""/>
          <p:cNvPicPr/>
          <p:nvPr/>
        </p:nvPicPr>
        <p:blipFill>
          <a:blip r:embed="rId1"/>
          <a:srcRect l="23563" t="0" r="58492" b="11472"/>
          <a:stretch/>
        </p:blipFill>
        <p:spPr>
          <a:xfrm>
            <a:off x="611280" y="2421000"/>
            <a:ext cx="857160" cy="3908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"/>
          <p:cNvPicPr/>
          <p:nvPr/>
        </p:nvPicPr>
        <p:blipFill>
          <a:blip r:embed="rId2"/>
          <a:srcRect l="49369" t="0" r="29317" b="9680"/>
          <a:stretch/>
        </p:blipFill>
        <p:spPr>
          <a:xfrm>
            <a:off x="1692360" y="2421000"/>
            <a:ext cx="1017360" cy="39891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8" descr=""/>
          <p:cNvPicPr/>
          <p:nvPr/>
        </p:nvPicPr>
        <p:blipFill>
          <a:blip r:embed="rId3"/>
          <a:srcRect l="75180" t="0" r="3505" b="9680"/>
          <a:stretch/>
        </p:blipFill>
        <p:spPr>
          <a:xfrm>
            <a:off x="2843280" y="2349360"/>
            <a:ext cx="1017360" cy="39895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6"/>
          <p:cNvSpPr/>
          <p:nvPr/>
        </p:nvSpPr>
        <p:spPr>
          <a:xfrm>
            <a:off x="93420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198180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3166920" y="63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103640" y="3803760"/>
            <a:ext cx="4572000" cy="29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я ствола за счет фрезерования стенки скважин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е за счет асимметричного разрушения породы на забое скважин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ивление скважин за счет одновременного фрезерования стенки и асимметричного разрушения забо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2" descr="http://pics.livejournal.com/shimerli/pic/0012k2ak"/>
          <p:cNvPicPr/>
          <p:nvPr/>
        </p:nvPicPr>
        <p:blipFill>
          <a:blip r:embed="rId4"/>
          <a:stretch/>
        </p:blipFill>
        <p:spPr>
          <a:xfrm>
            <a:off x="5508720" y="227664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ttp://cs418428.vk.me/v418428164/7160/Czqz88dA4RI.jpg"/>
          <p:cNvPicPr/>
          <p:nvPr/>
        </p:nvPicPr>
        <p:blipFill>
          <a:blip r:embed="rId5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8"/>
          <p:cNvSpPr/>
          <p:nvPr/>
        </p:nvSpPr>
        <p:spPr>
          <a:xfrm>
            <a:off x="5724360" y="2781360"/>
            <a:ext cx="2617920" cy="69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593640" y="2854440"/>
            <a:ext cx="269424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2933640" y="198900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2"/>
          <p:cNvGrpSpPr/>
          <p:nvPr/>
        </p:nvGrpSpPr>
        <p:grpSpPr>
          <a:xfrm>
            <a:off x="1958400" y="1339920"/>
            <a:ext cx="5076720" cy="1513080"/>
            <a:chOff x="1958400" y="1339920"/>
            <a:chExt cx="5076720" cy="1513080"/>
          </a:xfrm>
        </p:grpSpPr>
        <p:cxnSp>
          <p:nvCxnSpPr>
            <p:cNvPr id="507" name="AutoShape 13"/>
            <p:cNvCxnSpPr/>
            <p:nvPr/>
          </p:nvCxnSpPr>
          <p:spPr>
            <a:xfrm flipH="1" rot="16200000">
              <a:off x="5078520" y="82908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08" name="AutoShape 14"/>
            <p:cNvCxnSpPr/>
            <p:nvPr/>
          </p:nvCxnSpPr>
          <p:spPr>
            <a:xfrm>
              <a:off x="4557240" y="167112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09" name="AutoShape 15"/>
            <p:cNvCxnSpPr/>
            <p:nvPr/>
          </p:nvCxnSpPr>
          <p:spPr>
            <a:xfrm rot="5400000">
              <a:off x="2502720" y="79524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510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6611760" y="4172040"/>
            <a:ext cx="2286000" cy="62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межае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оев по тверд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2411280" y="4189320"/>
            <a:ext cx="152424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оист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293760" y="4149720"/>
            <a:ext cx="1904760" cy="60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низотроп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рных п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6019920" y="6165720"/>
            <a:ext cx="2563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аличие включ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4537080" y="4187880"/>
            <a:ext cx="1752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анцева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3657600" y="6132600"/>
            <a:ext cx="1676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рис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762120" y="6134040"/>
            <a:ext cx="205740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ещиноват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16"/>
          <p:cNvGrpSpPr/>
          <p:nvPr/>
        </p:nvGrpSpPr>
        <p:grpSpPr>
          <a:xfrm>
            <a:off x="826200" y="3284280"/>
            <a:ext cx="6365160" cy="2881080"/>
            <a:chOff x="826200" y="3284280"/>
            <a:chExt cx="6365160" cy="2881080"/>
          </a:xfrm>
        </p:grpSpPr>
        <p:cxnSp>
          <p:nvCxnSpPr>
            <p:cNvPr id="519" name="AutoShape 17"/>
            <p:cNvCxnSpPr/>
            <p:nvPr/>
          </p:nvCxnSpPr>
          <p:spPr>
            <a:xfrm flipH="1" rot="16200000">
              <a:off x="5171040" y="2161080"/>
              <a:ext cx="897480" cy="3143520"/>
            </a:xfrm>
            <a:prstGeom prst="bentConnector3">
              <a:avLst>
                <a:gd name="adj1" fmla="val 49879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0" name="AutoShape 18"/>
            <p:cNvCxnSpPr/>
            <p:nvPr/>
          </p:nvCxnSpPr>
          <p:spPr>
            <a:xfrm>
              <a:off x="2975040" y="3736800"/>
              <a:ext cx="1080" cy="453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1" name="AutoShape 19"/>
            <p:cNvCxnSpPr/>
            <p:nvPr/>
          </p:nvCxnSpPr>
          <p:spPr>
            <a:xfrm>
              <a:off x="4047840" y="3702960"/>
              <a:ext cx="1080" cy="243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2" name="AutoShape 20"/>
            <p:cNvCxnSpPr/>
            <p:nvPr/>
          </p:nvCxnSpPr>
          <p:spPr>
            <a:xfrm flipH="1" rot="16200000">
              <a:off x="4129920" y="3394800"/>
              <a:ext cx="30600" cy="5511240"/>
            </a:xfrm>
            <a:prstGeom prst="bentConnector3">
              <a:avLst>
                <a:gd name="adj1" fmla="val -2315476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3" name="AutoShape 21"/>
            <p:cNvCxnSpPr/>
            <p:nvPr/>
          </p:nvCxnSpPr>
          <p:spPr>
            <a:xfrm rot="5400000">
              <a:off x="2008080" y="2121120"/>
              <a:ext cx="860040" cy="32238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524" name="AutoShape 22"/>
            <p:cNvCxnSpPr/>
            <p:nvPr/>
          </p:nvCxnSpPr>
          <p:spPr>
            <a:xfrm>
              <a:off x="5084640" y="3710160"/>
              <a:ext cx="1080" cy="45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525" name="Прямая соединительная линия 27"/>
          <p:cNvSpPr/>
          <p:nvPr/>
        </p:nvSpPr>
        <p:spPr>
          <a:xfrm flipH="1">
            <a:off x="3276720" y="3284640"/>
            <a:ext cx="790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19" descr=""/>
          <p:cNvPicPr/>
          <p:nvPr/>
        </p:nvPicPr>
        <p:blipFill>
          <a:blip r:embed="rId1"/>
          <a:srcRect l="0" t="1563" r="0" b="1463"/>
          <a:stretch/>
        </p:blipFill>
        <p:spPr>
          <a:xfrm>
            <a:off x="250920" y="692280"/>
            <a:ext cx="4057560" cy="33843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8"/>
          <p:cNvSpPr/>
          <p:nvPr/>
        </p:nvSpPr>
        <p:spPr>
          <a:xfrm>
            <a:off x="4361760" y="2205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троп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19"/>
          <p:cNvSpPr/>
          <p:nvPr/>
        </p:nvSpPr>
        <p:spPr>
          <a:xfrm>
            <a:off x="4434480" y="3284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зотроп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20"/>
          <p:cNvSpPr/>
          <p:nvPr/>
        </p:nvSpPr>
        <p:spPr>
          <a:xfrm>
            <a:off x="1479960" y="40053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низотро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22"/>
          <p:cNvSpPr/>
          <p:nvPr/>
        </p:nvSpPr>
        <p:spPr>
          <a:xfrm>
            <a:off x="6999480" y="4211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лоист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4284720" y="3879720"/>
            <a:ext cx="2643120" cy="2978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462400" cy="34992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4"/>
          <p:cNvSpPr/>
          <p:nvPr/>
        </p:nvSpPr>
        <p:spPr>
          <a:xfrm>
            <a:off x="2204640" y="515772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межае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 тверд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2" descr="http://cs418428.vk.me/v418428164/7160/Czqz88dA4RI.jpg"/>
          <p:cNvPicPr/>
          <p:nvPr/>
        </p:nvPicPr>
        <p:blipFill>
          <a:blip r:embed="rId4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38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5" descr=""/>
          <p:cNvPicPr/>
          <p:nvPr/>
        </p:nvPicPr>
        <p:blipFill>
          <a:blip r:embed="rId1"/>
          <a:stretch/>
        </p:blipFill>
        <p:spPr>
          <a:xfrm>
            <a:off x="1332000" y="2717640"/>
            <a:ext cx="6343560" cy="34480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3287880" y="4251240"/>
            <a:ext cx="28080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Частота вращ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инстру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533520" y="4462560"/>
            <a:ext cx="236196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с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гру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6477120" y="4319640"/>
            <a:ext cx="2209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ид бур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590840" y="5504040"/>
            <a:ext cx="2981160" cy="84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че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бурового   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4913280" y="5487840"/>
            <a:ext cx="2859120" cy="85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с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бурового раст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5724360" y="2781360"/>
            <a:ext cx="2617920" cy="69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593640" y="2854440"/>
            <a:ext cx="269424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2933640" y="198900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12"/>
          <p:cNvGrpSpPr/>
          <p:nvPr/>
        </p:nvGrpSpPr>
        <p:grpSpPr>
          <a:xfrm>
            <a:off x="1958400" y="1339920"/>
            <a:ext cx="5076720" cy="1513080"/>
            <a:chOff x="1958400" y="1339920"/>
            <a:chExt cx="5076720" cy="1513080"/>
          </a:xfrm>
        </p:grpSpPr>
        <p:cxnSp>
          <p:nvCxnSpPr>
            <p:cNvPr id="552" name="AutoShape 13"/>
            <p:cNvCxnSpPr/>
            <p:nvPr/>
          </p:nvCxnSpPr>
          <p:spPr>
            <a:xfrm flipH="1" rot="16200000">
              <a:off x="5078520" y="82908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3" name="AutoShape 14"/>
            <p:cNvCxnSpPr/>
            <p:nvPr/>
          </p:nvCxnSpPr>
          <p:spPr>
            <a:xfrm>
              <a:off x="4557240" y="167112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4" name="AutoShape 15"/>
            <p:cNvCxnSpPr/>
            <p:nvPr/>
          </p:nvCxnSpPr>
          <p:spPr>
            <a:xfrm rot="5400000">
              <a:off x="2502720" y="79524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pic>
        <p:nvPicPr>
          <p:cNvPr id="555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0"/>
          <p:cNvSpPr/>
          <p:nvPr/>
        </p:nvSpPr>
        <p:spPr>
          <a:xfrm>
            <a:off x="468360" y="692280"/>
            <a:ext cx="842004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евой нагруз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лото 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ю интенсивности искривления ств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ак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ивается прогиб всех элементов КНБ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растает отклоняющая сила на породоразрушающем инструмен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точка касания КНБК со стенкой скважины приближается к забою, следовательно увеличивается перекос инструмен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ивается разработка ствола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1569960" y="5919840"/>
            <a:ext cx="6435000" cy="534600"/>
            <a:chOff x="1569960" y="5919840"/>
            <a:chExt cx="6435000" cy="534600"/>
          </a:xfrm>
        </p:grpSpPr>
        <p:sp>
          <p:nvSpPr>
            <p:cNvPr id="561" name="Text Box 12"/>
            <p:cNvSpPr/>
            <p:nvPr/>
          </p:nvSpPr>
          <p:spPr>
            <a:xfrm>
              <a:off x="1569960" y="5919840"/>
              <a:ext cx="24256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Мала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3680280" y="5941800"/>
              <a:ext cx="2424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Средня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5580000" y="5922720"/>
              <a:ext cx="2424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Arial"/>
                </a:rPr>
                <a:t>Больша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4" name="Picture 16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5904000" cy="252108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0"/>
          <p:cNvSpPr/>
          <p:nvPr/>
        </p:nvSpPr>
        <p:spPr>
          <a:xfrm>
            <a:off x="2428920" y="3203640"/>
            <a:ext cx="47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ия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астоты вра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тру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0"/>
          <p:cNvSpPr/>
          <p:nvPr/>
        </p:nvSpPr>
        <p:spPr>
          <a:xfrm>
            <a:off x="539640" y="836640"/>
            <a:ext cx="811548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Увеличение расхода бурового раствора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мягких породах приводит к размыву стенок скважины, в результате увеличивается угол перекоса инструмента, а следовательно, и </a:t>
            </a: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интенсивность искривления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Введение в буровой раствор смазывающих добавок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няет кинематику перемещения инструмента в скважине, что приводит к </a:t>
            </a:r>
            <a:r>
              <a:rPr b="1" lang="ru-RU" sz="2500" spc="-1" strike="noStrike">
                <a:solidFill>
                  <a:srgbClr val="0070c0"/>
                </a:solidFill>
                <a:latin typeface="Arial"/>
              </a:rPr>
              <a:t>изменению интенсивности искривления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олог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Технологии направленного бурени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490680" y="3429000"/>
            <a:ext cx="409320" cy="33336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12"/>
          <p:cNvGrpSpPr/>
          <p:nvPr/>
        </p:nvGrpSpPr>
        <p:grpSpPr>
          <a:xfrm>
            <a:off x="1958400" y="1052640"/>
            <a:ext cx="5076720" cy="1513080"/>
            <a:chOff x="1958400" y="1052640"/>
            <a:chExt cx="5076720" cy="1513080"/>
          </a:xfrm>
        </p:grpSpPr>
        <p:cxnSp>
          <p:nvCxnSpPr>
            <p:cNvPr id="575" name="AutoShape 13"/>
            <p:cNvCxnSpPr/>
            <p:nvPr/>
          </p:nvCxnSpPr>
          <p:spPr>
            <a:xfrm flipH="1" rot="16200000">
              <a:off x="5078520" y="541800"/>
              <a:ext cx="1437120" cy="2477160"/>
            </a:xfrm>
            <a:prstGeom prst="bentConnector3">
              <a:avLst>
                <a:gd name="adj1" fmla="val 258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6" name="AutoShape 14"/>
            <p:cNvCxnSpPr/>
            <p:nvPr/>
          </p:nvCxnSpPr>
          <p:spPr>
            <a:xfrm>
              <a:off x="4557240" y="1383840"/>
              <a:ext cx="1080" cy="384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7" name="AutoShape 15"/>
            <p:cNvCxnSpPr/>
            <p:nvPr/>
          </p:nvCxnSpPr>
          <p:spPr>
            <a:xfrm rot="5400000">
              <a:off x="2502720" y="507960"/>
              <a:ext cx="1513440" cy="2602440"/>
            </a:xfrm>
            <a:prstGeom prst="bentConnector3">
              <a:avLst>
                <a:gd name="adj1" fmla="val 25101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pic>
        <p:nvPicPr>
          <p:cNvPr id="578" name="Picture 2" descr=""/>
          <p:cNvPicPr/>
          <p:nvPr/>
        </p:nvPicPr>
        <p:blipFill>
          <a:blip r:embed="rId2"/>
          <a:stretch/>
        </p:blipFill>
        <p:spPr>
          <a:xfrm>
            <a:off x="2071800" y="2349360"/>
            <a:ext cx="5000400" cy="1440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5724360" y="2349360"/>
            <a:ext cx="2617920" cy="69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Тех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2352600" y="620640"/>
            <a:ext cx="43801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Gothic"/>
              </a:rPr>
              <a:t>Причины искри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593640" y="2349360"/>
            <a:ext cx="269424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Ге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2933640" y="1557360"/>
            <a:ext cx="3222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Техн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03440" y="3332160"/>
            <a:ext cx="289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Состав КНБ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774720" y="3890880"/>
            <a:ext cx="3581280" cy="75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иаметр отдельных 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770040" y="5661000"/>
            <a:ext cx="3657600" cy="47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еста и количество установленных центра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755640" y="6286680"/>
            <a:ext cx="3672000" cy="4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личество и ме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становки калибратор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5076720" y="4292640"/>
            <a:ext cx="30909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а то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5076720" y="5805360"/>
            <a:ext cx="30909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ип воору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>
            <a:off x="5105520" y="5157720"/>
            <a:ext cx="3092400" cy="4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резерующая 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5046840" y="3317760"/>
            <a:ext cx="31701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Особ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entury Gothic"/>
              </a:rPr>
              <a:t>породоразрушающего инстру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18"/>
          <p:cNvGrpSpPr/>
          <p:nvPr/>
        </p:nvGrpSpPr>
        <p:grpSpPr>
          <a:xfrm>
            <a:off x="515160" y="4041720"/>
            <a:ext cx="311040" cy="2124360"/>
            <a:chOff x="515160" y="4041720"/>
            <a:chExt cx="311040" cy="2124360"/>
          </a:xfrm>
        </p:grpSpPr>
        <p:cxnSp>
          <p:nvCxnSpPr>
            <p:cNvPr id="593" name="AutoShape 20"/>
            <p:cNvCxnSpPr/>
            <p:nvPr/>
          </p:nvCxnSpPr>
          <p:spPr>
            <a:xfrm flipV="1" rot="10800000">
              <a:off x="747000" y="4041360"/>
              <a:ext cx="35640" cy="2124720"/>
            </a:xfrm>
            <a:prstGeom prst="bentConnector3">
              <a:avLst>
                <a:gd name="adj1" fmla="val 7540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94" name="AutoShape 21"/>
            <p:cNvCxnSpPr/>
            <p:nvPr/>
          </p:nvCxnSpPr>
          <p:spPr>
            <a:xfrm flipH="1" flipV="1" rot="10800000">
              <a:off x="819720" y="4555080"/>
              <a:ext cx="6840" cy="710280"/>
            </a:xfrm>
            <a:prstGeom prst="bentConnector3">
              <a:avLst>
                <a:gd name="adj1" fmla="val -4700000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grpSp>
        <p:nvGrpSpPr>
          <p:cNvPr id="595" name="Group 22"/>
          <p:cNvGrpSpPr/>
          <p:nvPr/>
        </p:nvGrpSpPr>
        <p:grpSpPr>
          <a:xfrm>
            <a:off x="8165880" y="3771720"/>
            <a:ext cx="274680" cy="2321280"/>
            <a:chOff x="8165880" y="3771720"/>
            <a:chExt cx="274680" cy="2321280"/>
          </a:xfrm>
        </p:grpSpPr>
        <p:cxnSp>
          <p:nvCxnSpPr>
            <p:cNvPr id="596" name="AutoShape 23"/>
            <p:cNvCxnSpPr>
              <a:stCxn id="591" idx="3"/>
              <a:endCxn id="589" idx="3"/>
            </p:cNvCxnSpPr>
            <p:nvPr/>
          </p:nvCxnSpPr>
          <p:spPr>
            <a:xfrm flipH="1">
              <a:off x="8165880" y="3771720"/>
              <a:ext cx="49680" cy="2321640"/>
            </a:xfrm>
            <a:prstGeom prst="bentConnector3">
              <a:avLst>
                <a:gd name="adj1" fmla="val -45693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97" name="AutoShape 24"/>
            <p:cNvCxnSpPr/>
            <p:nvPr/>
          </p:nvCxnSpPr>
          <p:spPr>
            <a:xfrm flipH="1">
              <a:off x="8171640" y="4508640"/>
              <a:ext cx="25560" cy="945360"/>
            </a:xfrm>
            <a:prstGeom prst="bentConnector3">
              <a:avLst>
                <a:gd name="adj1" fmla="val -900000"/>
              </a:avLst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598" name="Rectangle 9"/>
          <p:cNvSpPr/>
          <p:nvPr/>
        </p:nvSpPr>
        <p:spPr>
          <a:xfrm>
            <a:off x="774720" y="4421520"/>
            <a:ext cx="3581280" cy="42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олщина стенки тр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765000" y="5013360"/>
            <a:ext cx="3591000" cy="75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ина отдельных 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4" descr=""/>
          <p:cNvPicPr/>
          <p:nvPr/>
        </p:nvPicPr>
        <p:blipFill>
          <a:blip r:embed="rId1"/>
          <a:stretch/>
        </p:blipFill>
        <p:spPr>
          <a:xfrm>
            <a:off x="7812000" y="1341360"/>
            <a:ext cx="1224000" cy="3432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9"/>
          <p:cNvSpPr/>
          <p:nvPr/>
        </p:nvSpPr>
        <p:spPr>
          <a:xfrm>
            <a:off x="-108000" y="622080"/>
            <a:ext cx="4025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диаметра долот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08000" y="2781360"/>
            <a:ext cx="3527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- долото диаметром 393,7 м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- долото диаметром 295,3 м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Group 123"/>
          <p:cNvGrpSpPr/>
          <p:nvPr/>
        </p:nvGrpSpPr>
        <p:grpSpPr>
          <a:xfrm>
            <a:off x="611280" y="1125360"/>
            <a:ext cx="2808000" cy="1636920"/>
            <a:chOff x="611280" y="1125360"/>
            <a:chExt cx="2808000" cy="1636920"/>
          </a:xfrm>
        </p:grpSpPr>
        <p:sp>
          <p:nvSpPr>
            <p:cNvPr id="607" name="Line 69"/>
            <p:cNvSpPr/>
            <p:nvPr/>
          </p:nvSpPr>
          <p:spPr>
            <a:xfrm>
              <a:off x="931680" y="1339920"/>
              <a:ext cx="189828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70"/>
            <p:cNvSpPr/>
            <p:nvPr/>
          </p:nvSpPr>
          <p:spPr>
            <a:xfrm>
              <a:off x="931680" y="1728360"/>
              <a:ext cx="189828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71"/>
            <p:cNvSpPr/>
            <p:nvPr/>
          </p:nvSpPr>
          <p:spPr>
            <a:xfrm>
              <a:off x="931680" y="2124720"/>
              <a:ext cx="1898280" cy="3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72"/>
            <p:cNvSpPr/>
            <p:nvPr/>
          </p:nvSpPr>
          <p:spPr>
            <a:xfrm>
              <a:off x="931680" y="2521440"/>
              <a:ext cx="1898280" cy="3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73"/>
            <p:cNvSpPr/>
            <p:nvPr/>
          </p:nvSpPr>
          <p:spPr>
            <a:xfrm>
              <a:off x="931680" y="133992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74"/>
            <p:cNvSpPr/>
            <p:nvPr/>
          </p:nvSpPr>
          <p:spPr>
            <a:xfrm>
              <a:off x="157284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75"/>
            <p:cNvSpPr/>
            <p:nvPr/>
          </p:nvSpPr>
          <p:spPr>
            <a:xfrm>
              <a:off x="188496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6"/>
            <p:cNvSpPr/>
            <p:nvPr/>
          </p:nvSpPr>
          <p:spPr>
            <a:xfrm>
              <a:off x="2830320" y="133992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77"/>
            <p:cNvSpPr/>
            <p:nvPr/>
          </p:nvSpPr>
          <p:spPr>
            <a:xfrm>
              <a:off x="1243800" y="1472040"/>
              <a:ext cx="1586160" cy="454320"/>
            </a:xfrm>
            <a:custGeom>
              <a:avLst/>
              <a:gdLst>
                <a:gd name="textAreaLeft" fmla="*/ 0 w 1586160"/>
                <a:gd name="textAreaRight" fmla="*/ 1586520 w 15861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2123" h="605">
                  <a:moveTo>
                    <a:pt x="0" y="22"/>
                  </a:moveTo>
                  <a:lnTo>
                    <a:pt x="286" y="55"/>
                  </a:lnTo>
                  <a:lnTo>
                    <a:pt x="561" y="99"/>
                  </a:lnTo>
                  <a:lnTo>
                    <a:pt x="825" y="154"/>
                  </a:lnTo>
                  <a:lnTo>
                    <a:pt x="1078" y="220"/>
                  </a:lnTo>
                  <a:lnTo>
                    <a:pt x="1331" y="297"/>
                  </a:lnTo>
                  <a:lnTo>
                    <a:pt x="1595" y="385"/>
                  </a:lnTo>
                  <a:lnTo>
                    <a:pt x="1848" y="495"/>
                  </a:lnTo>
                  <a:lnTo>
                    <a:pt x="2112" y="605"/>
                  </a:lnTo>
                  <a:lnTo>
                    <a:pt x="2123" y="583"/>
                  </a:lnTo>
                  <a:lnTo>
                    <a:pt x="1859" y="473"/>
                  </a:lnTo>
                  <a:lnTo>
                    <a:pt x="1595" y="374"/>
                  </a:lnTo>
                  <a:lnTo>
                    <a:pt x="1342" y="275"/>
                  </a:lnTo>
                  <a:lnTo>
                    <a:pt x="1089" y="198"/>
                  </a:lnTo>
                  <a:lnTo>
                    <a:pt x="825" y="132"/>
                  </a:lnTo>
                  <a:lnTo>
                    <a:pt x="561" y="77"/>
                  </a:lnTo>
                  <a:lnTo>
                    <a:pt x="286" y="33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78"/>
            <p:cNvSpPr/>
            <p:nvPr/>
          </p:nvSpPr>
          <p:spPr>
            <a:xfrm>
              <a:off x="693360" y="13068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9"/>
            <p:cNvSpPr/>
            <p:nvPr/>
          </p:nvSpPr>
          <p:spPr>
            <a:xfrm>
              <a:off x="758880" y="138132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80"/>
            <p:cNvSpPr/>
            <p:nvPr/>
          </p:nvSpPr>
          <p:spPr>
            <a:xfrm>
              <a:off x="792000" y="13068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81"/>
            <p:cNvSpPr/>
            <p:nvPr/>
          </p:nvSpPr>
          <p:spPr>
            <a:xfrm>
              <a:off x="676800" y="16704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82"/>
            <p:cNvSpPr/>
            <p:nvPr/>
          </p:nvSpPr>
          <p:spPr>
            <a:xfrm>
              <a:off x="742680" y="1744560"/>
              <a:ext cx="16200" cy="248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83"/>
            <p:cNvSpPr/>
            <p:nvPr/>
          </p:nvSpPr>
          <p:spPr>
            <a:xfrm>
              <a:off x="775440" y="167040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44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84"/>
            <p:cNvSpPr/>
            <p:nvPr/>
          </p:nvSpPr>
          <p:spPr>
            <a:xfrm>
              <a:off x="676800" y="20833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85"/>
            <p:cNvSpPr/>
            <p:nvPr/>
          </p:nvSpPr>
          <p:spPr>
            <a:xfrm>
              <a:off x="750960" y="215784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2" h="33">
                  <a:moveTo>
                    <a:pt x="11" y="33"/>
                  </a:moveTo>
                  <a:lnTo>
                    <a:pt x="0" y="3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86"/>
            <p:cNvSpPr/>
            <p:nvPr/>
          </p:nvSpPr>
          <p:spPr>
            <a:xfrm>
              <a:off x="792000" y="20833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87"/>
            <p:cNvSpPr/>
            <p:nvPr/>
          </p:nvSpPr>
          <p:spPr>
            <a:xfrm>
              <a:off x="121104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8"/>
            <p:cNvSpPr/>
            <p:nvPr/>
          </p:nvSpPr>
          <p:spPr>
            <a:xfrm>
              <a:off x="1498680" y="263700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89"/>
            <p:cNvSpPr/>
            <p:nvPr/>
          </p:nvSpPr>
          <p:spPr>
            <a:xfrm>
              <a:off x="156456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90"/>
            <p:cNvSpPr/>
            <p:nvPr/>
          </p:nvSpPr>
          <p:spPr>
            <a:xfrm>
              <a:off x="1819440" y="262872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91"/>
            <p:cNvSpPr/>
            <p:nvPr/>
          </p:nvSpPr>
          <p:spPr>
            <a:xfrm>
              <a:off x="1884960" y="262872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92"/>
            <p:cNvSpPr/>
            <p:nvPr/>
          </p:nvSpPr>
          <p:spPr>
            <a:xfrm>
              <a:off x="2992320" y="2638440"/>
              <a:ext cx="82080" cy="99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10" h="132">
                  <a:moveTo>
                    <a:pt x="99" y="121"/>
                  </a:moveTo>
                  <a:lnTo>
                    <a:pt x="110" y="121"/>
                  </a:lnTo>
                  <a:lnTo>
                    <a:pt x="110" y="132"/>
                  </a:lnTo>
                  <a:lnTo>
                    <a:pt x="99" y="132"/>
                  </a:lnTo>
                  <a:lnTo>
                    <a:pt x="88" y="121"/>
                  </a:lnTo>
                  <a:lnTo>
                    <a:pt x="77" y="132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33" y="121"/>
                  </a:lnTo>
                  <a:lnTo>
                    <a:pt x="22" y="110"/>
                  </a:lnTo>
                  <a:lnTo>
                    <a:pt x="11" y="99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44"/>
                  </a:lnTo>
                  <a:lnTo>
                    <a:pt x="11" y="33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8" y="11"/>
                  </a:lnTo>
                  <a:lnTo>
                    <a:pt x="99" y="22"/>
                  </a:lnTo>
                  <a:lnTo>
                    <a:pt x="99" y="33"/>
                  </a:lnTo>
                  <a:lnTo>
                    <a:pt x="110" y="44"/>
                  </a:lnTo>
                  <a:lnTo>
                    <a:pt x="110" y="66"/>
                  </a:lnTo>
                  <a:lnTo>
                    <a:pt x="110" y="77"/>
                  </a:lnTo>
                  <a:lnTo>
                    <a:pt x="110" y="99"/>
                  </a:lnTo>
                  <a:lnTo>
                    <a:pt x="110" y="110"/>
                  </a:lnTo>
                  <a:lnTo>
                    <a:pt x="99" y="121"/>
                  </a:lnTo>
                  <a:close/>
                  <a:moveTo>
                    <a:pt x="55" y="99"/>
                  </a:moveTo>
                  <a:lnTo>
                    <a:pt x="77" y="99"/>
                  </a:lnTo>
                  <a:lnTo>
                    <a:pt x="88" y="110"/>
                  </a:lnTo>
                  <a:lnTo>
                    <a:pt x="99" y="88"/>
                  </a:lnTo>
                  <a:lnTo>
                    <a:pt x="99" y="66"/>
                  </a:lnTo>
                  <a:lnTo>
                    <a:pt x="99" y="44"/>
                  </a:lnTo>
                  <a:lnTo>
                    <a:pt x="99" y="33"/>
                  </a:lnTo>
                  <a:lnTo>
                    <a:pt x="88" y="22"/>
                  </a:lnTo>
                  <a:lnTo>
                    <a:pt x="77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lnTo>
                    <a:pt x="11" y="88"/>
                  </a:lnTo>
                  <a:lnTo>
                    <a:pt x="22" y="110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7" y="121"/>
                  </a:lnTo>
                  <a:lnTo>
                    <a:pt x="66" y="110"/>
                  </a:lnTo>
                  <a:lnTo>
                    <a:pt x="55" y="110"/>
                  </a:lnTo>
                  <a:lnTo>
                    <a:pt x="5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93"/>
            <p:cNvSpPr/>
            <p:nvPr/>
          </p:nvSpPr>
          <p:spPr>
            <a:xfrm>
              <a:off x="3099240" y="2729160"/>
              <a:ext cx="7920" cy="32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44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94"/>
            <p:cNvSpPr/>
            <p:nvPr/>
          </p:nvSpPr>
          <p:spPr>
            <a:xfrm>
              <a:off x="3165120" y="2663280"/>
              <a:ext cx="40680" cy="74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95"/>
            <p:cNvSpPr/>
            <p:nvPr/>
          </p:nvSpPr>
          <p:spPr>
            <a:xfrm>
              <a:off x="3214440" y="2663280"/>
              <a:ext cx="57240" cy="9900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96"/>
            <p:cNvSpPr/>
            <p:nvPr/>
          </p:nvSpPr>
          <p:spPr>
            <a:xfrm>
              <a:off x="3288240" y="2663280"/>
              <a:ext cx="57600" cy="74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97"/>
            <p:cNvSpPr/>
            <p:nvPr/>
          </p:nvSpPr>
          <p:spPr>
            <a:xfrm>
              <a:off x="3353760" y="266328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98"/>
            <p:cNvSpPr/>
            <p:nvPr/>
          </p:nvSpPr>
          <p:spPr>
            <a:xfrm>
              <a:off x="611280" y="1125360"/>
              <a:ext cx="8280" cy="9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99"/>
            <p:cNvSpPr/>
            <p:nvPr/>
          </p:nvSpPr>
          <p:spPr>
            <a:xfrm>
              <a:off x="685080" y="1150200"/>
              <a:ext cx="40680" cy="74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00"/>
            <p:cNvSpPr/>
            <p:nvPr/>
          </p:nvSpPr>
          <p:spPr>
            <a:xfrm>
              <a:off x="734400" y="1150200"/>
              <a:ext cx="57600" cy="99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01"/>
            <p:cNvSpPr/>
            <p:nvPr/>
          </p:nvSpPr>
          <p:spPr>
            <a:xfrm>
              <a:off x="808560" y="1150200"/>
              <a:ext cx="57240" cy="7416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02"/>
            <p:cNvSpPr/>
            <p:nvPr/>
          </p:nvSpPr>
          <p:spPr>
            <a:xfrm>
              <a:off x="874080" y="11502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03"/>
            <p:cNvSpPr/>
            <p:nvPr/>
          </p:nvSpPr>
          <p:spPr>
            <a:xfrm>
              <a:off x="948240" y="1125360"/>
              <a:ext cx="32760" cy="9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4" h="132">
                  <a:moveTo>
                    <a:pt x="0" y="132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11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04"/>
            <p:cNvSpPr/>
            <p:nvPr/>
          </p:nvSpPr>
          <p:spPr>
            <a:xfrm>
              <a:off x="1005840" y="1125360"/>
              <a:ext cx="32760" cy="99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4" h="132">
                  <a:moveTo>
                    <a:pt x="44" y="132"/>
                  </a:moveTo>
                  <a:lnTo>
                    <a:pt x="33" y="132"/>
                  </a:lnTo>
                  <a:lnTo>
                    <a:pt x="33" y="22"/>
                  </a:lnTo>
                  <a:lnTo>
                    <a:pt x="22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11" y="22"/>
                  </a:lnTo>
                  <a:lnTo>
                    <a:pt x="22" y="22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5"/>
            <p:cNvSpPr/>
            <p:nvPr/>
          </p:nvSpPr>
          <p:spPr>
            <a:xfrm>
              <a:off x="1071360" y="1125360"/>
              <a:ext cx="57240" cy="9900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06"/>
            <p:cNvSpPr/>
            <p:nvPr/>
          </p:nvSpPr>
          <p:spPr>
            <a:xfrm>
              <a:off x="1145160" y="1125360"/>
              <a:ext cx="57600" cy="99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07"/>
            <p:cNvSpPr/>
            <p:nvPr/>
          </p:nvSpPr>
          <p:spPr>
            <a:xfrm>
              <a:off x="1211040" y="1150200"/>
              <a:ext cx="73800" cy="74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9" h="99">
                  <a:moveTo>
                    <a:pt x="0" y="0"/>
                  </a:moveTo>
                  <a:lnTo>
                    <a:pt x="11" y="0"/>
                  </a:lnTo>
                  <a:lnTo>
                    <a:pt x="55" y="77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99" y="99"/>
                  </a:lnTo>
                  <a:lnTo>
                    <a:pt x="88" y="99"/>
                  </a:lnTo>
                  <a:lnTo>
                    <a:pt x="88" y="22"/>
                  </a:lnTo>
                  <a:lnTo>
                    <a:pt x="55" y="99"/>
                  </a:lnTo>
                  <a:lnTo>
                    <a:pt x="44" y="99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>
              <a:off x="1252080" y="133992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09"/>
            <p:cNvSpPr/>
            <p:nvPr/>
          </p:nvSpPr>
          <p:spPr>
            <a:xfrm>
              <a:off x="767160" y="246348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10"/>
            <p:cNvSpPr/>
            <p:nvPr/>
          </p:nvSpPr>
          <p:spPr>
            <a:xfrm>
              <a:off x="2205720" y="1331640"/>
              <a:ext cx="36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11"/>
            <p:cNvSpPr/>
            <p:nvPr/>
          </p:nvSpPr>
          <p:spPr>
            <a:xfrm>
              <a:off x="2509560" y="1331640"/>
              <a:ext cx="720" cy="118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2"/>
            <p:cNvSpPr/>
            <p:nvPr/>
          </p:nvSpPr>
          <p:spPr>
            <a:xfrm>
              <a:off x="2131560" y="263700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13"/>
            <p:cNvSpPr/>
            <p:nvPr/>
          </p:nvSpPr>
          <p:spPr>
            <a:xfrm>
              <a:off x="2205720" y="263700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14"/>
            <p:cNvSpPr/>
            <p:nvPr/>
          </p:nvSpPr>
          <p:spPr>
            <a:xfrm>
              <a:off x="2452320" y="2645280"/>
              <a:ext cx="57240" cy="90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15"/>
            <p:cNvSpPr/>
            <p:nvPr/>
          </p:nvSpPr>
          <p:spPr>
            <a:xfrm>
              <a:off x="2526120" y="2645280"/>
              <a:ext cx="65880" cy="90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0" y="77"/>
                  </a:moveTo>
                  <a:lnTo>
                    <a:pt x="11" y="77"/>
                  </a:ln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66"/>
                  </a:lnTo>
                  <a:lnTo>
                    <a:pt x="66" y="55"/>
                  </a:lnTo>
                  <a:lnTo>
                    <a:pt x="55" y="44"/>
                  </a:lnTo>
                  <a:lnTo>
                    <a:pt x="44" y="44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5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11" y="0"/>
                  </a:lnTo>
                  <a:lnTo>
                    <a:pt x="77" y="0"/>
                  </a:lnTo>
                  <a:lnTo>
                    <a:pt x="77" y="11"/>
                  </a:lnTo>
                  <a:lnTo>
                    <a:pt x="22" y="11"/>
                  </a:lnTo>
                  <a:lnTo>
                    <a:pt x="22" y="44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66" y="33"/>
                  </a:lnTo>
                  <a:lnTo>
                    <a:pt x="77" y="44"/>
                  </a:lnTo>
                  <a:lnTo>
                    <a:pt x="88" y="55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11" y="110"/>
                  </a:lnTo>
                  <a:lnTo>
                    <a:pt x="11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16"/>
            <p:cNvSpPr/>
            <p:nvPr/>
          </p:nvSpPr>
          <p:spPr>
            <a:xfrm>
              <a:off x="2781000" y="265356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17"/>
            <p:cNvSpPr/>
            <p:nvPr/>
          </p:nvSpPr>
          <p:spPr>
            <a:xfrm>
              <a:off x="2854800" y="2653560"/>
              <a:ext cx="65520" cy="90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18"/>
            <p:cNvSpPr/>
            <p:nvPr/>
          </p:nvSpPr>
          <p:spPr>
            <a:xfrm>
              <a:off x="1252080" y="1621080"/>
              <a:ext cx="1569600" cy="49536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01" h="660">
                  <a:moveTo>
                    <a:pt x="0" y="22"/>
                  </a:moveTo>
                  <a:lnTo>
                    <a:pt x="308" y="66"/>
                  </a:lnTo>
                  <a:lnTo>
                    <a:pt x="616" y="132"/>
                  </a:lnTo>
                  <a:lnTo>
                    <a:pt x="891" y="209"/>
                  </a:lnTo>
                  <a:lnTo>
                    <a:pt x="1166" y="297"/>
                  </a:lnTo>
                  <a:lnTo>
                    <a:pt x="1419" y="385"/>
                  </a:lnTo>
                  <a:lnTo>
                    <a:pt x="1661" y="473"/>
                  </a:lnTo>
                  <a:lnTo>
                    <a:pt x="1881" y="572"/>
                  </a:lnTo>
                  <a:lnTo>
                    <a:pt x="2090" y="660"/>
                  </a:lnTo>
                  <a:lnTo>
                    <a:pt x="2101" y="638"/>
                  </a:lnTo>
                  <a:lnTo>
                    <a:pt x="1892" y="550"/>
                  </a:lnTo>
                  <a:lnTo>
                    <a:pt x="1672" y="462"/>
                  </a:lnTo>
                  <a:lnTo>
                    <a:pt x="1430" y="363"/>
                  </a:lnTo>
                  <a:lnTo>
                    <a:pt x="1177" y="275"/>
                  </a:lnTo>
                  <a:lnTo>
                    <a:pt x="902" y="187"/>
                  </a:lnTo>
                  <a:lnTo>
                    <a:pt x="616" y="110"/>
                  </a:lnTo>
                  <a:lnTo>
                    <a:pt x="319" y="55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19"/>
            <p:cNvSpPr/>
            <p:nvPr/>
          </p:nvSpPr>
          <p:spPr>
            <a:xfrm flipV="1">
              <a:off x="2255040" y="1562760"/>
              <a:ext cx="65520" cy="1155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20"/>
            <p:cNvSpPr/>
            <p:nvPr/>
          </p:nvSpPr>
          <p:spPr>
            <a:xfrm flipV="1">
              <a:off x="2485080" y="1628640"/>
              <a:ext cx="164160" cy="3301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1"/>
            <p:cNvSpPr/>
            <p:nvPr/>
          </p:nvSpPr>
          <p:spPr>
            <a:xfrm>
              <a:off x="2657880" y="1505160"/>
              <a:ext cx="24480" cy="907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122"/>
            <p:cNvSpPr/>
            <p:nvPr/>
          </p:nvSpPr>
          <p:spPr>
            <a:xfrm>
              <a:off x="2328840" y="1447560"/>
              <a:ext cx="57600" cy="90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е причины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08000" y="3359160"/>
            <a:ext cx="4032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типа долота и зенитного угл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2700360" y="5369040"/>
            <a:ext cx="1655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 - долото МЗ-Г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- долото С-Г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34920" y="5835960"/>
            <a:ext cx="417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исимость интенсивности искривления от величины зенитного угла при бурении долотами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215,9 мм и турбобуром ЗТСШ-195Т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61"/>
          <p:cNvGrpSpPr/>
          <p:nvPr/>
        </p:nvGrpSpPr>
        <p:grpSpPr>
          <a:xfrm>
            <a:off x="468360" y="3929040"/>
            <a:ext cx="2735280" cy="2021040"/>
            <a:chOff x="468360" y="3929040"/>
            <a:chExt cx="2735280" cy="2021040"/>
          </a:xfrm>
        </p:grpSpPr>
        <p:sp>
          <p:nvSpPr>
            <p:cNvPr id="666" name="Line 15"/>
            <p:cNvSpPr/>
            <p:nvPr/>
          </p:nvSpPr>
          <p:spPr>
            <a:xfrm>
              <a:off x="1001520" y="412200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6"/>
            <p:cNvSpPr/>
            <p:nvPr/>
          </p:nvSpPr>
          <p:spPr>
            <a:xfrm>
              <a:off x="1001520" y="464580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7"/>
            <p:cNvSpPr/>
            <p:nvPr/>
          </p:nvSpPr>
          <p:spPr>
            <a:xfrm>
              <a:off x="1001520" y="517932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>
              <a:off x="1001520" y="5712840"/>
              <a:ext cx="1737720" cy="7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9"/>
            <p:cNvSpPr/>
            <p:nvPr/>
          </p:nvSpPr>
          <p:spPr>
            <a:xfrm>
              <a:off x="1001520" y="412200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20"/>
            <p:cNvSpPr/>
            <p:nvPr/>
          </p:nvSpPr>
          <p:spPr>
            <a:xfrm>
              <a:off x="187056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21"/>
            <p:cNvSpPr/>
            <p:nvPr/>
          </p:nvSpPr>
          <p:spPr>
            <a:xfrm>
              <a:off x="229500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1149480" y="4368960"/>
              <a:ext cx="1431720" cy="134352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1343520"/>
                <a:gd name="textAreaBottom" fmla="*/ 1343520 h 1343520"/>
              </a:gdLst>
              <a:ahLst/>
              <a:rect l="textAreaLeft" t="textAreaTop" r="textAreaRight" b="textAreaBottom"/>
              <a:pathLst>
                <a:path w="1595" h="1496">
                  <a:moveTo>
                    <a:pt x="0" y="11"/>
                  </a:moveTo>
                  <a:lnTo>
                    <a:pt x="1584" y="1496"/>
                  </a:lnTo>
                  <a:lnTo>
                    <a:pt x="1595" y="1485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843480" y="39837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4"/>
            <p:cNvSpPr/>
            <p:nvPr/>
          </p:nvSpPr>
          <p:spPr>
            <a:xfrm>
              <a:off x="804240" y="460620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863280" y="4546800"/>
              <a:ext cx="29160" cy="108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26"/>
            <p:cNvSpPr/>
            <p:nvPr/>
          </p:nvSpPr>
          <p:spPr>
            <a:xfrm>
              <a:off x="784440" y="515952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833760" y="510048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28"/>
            <p:cNvSpPr/>
            <p:nvPr/>
          </p:nvSpPr>
          <p:spPr>
            <a:xfrm>
              <a:off x="1327320" y="3944160"/>
              <a:ext cx="29520" cy="10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1406520" y="39441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30"/>
            <p:cNvSpPr/>
            <p:nvPr/>
          </p:nvSpPr>
          <p:spPr>
            <a:xfrm>
              <a:off x="2966760" y="3929040"/>
              <a:ext cx="98640" cy="11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10" h="132">
                  <a:moveTo>
                    <a:pt x="99" y="121"/>
                  </a:moveTo>
                  <a:lnTo>
                    <a:pt x="110" y="121"/>
                  </a:lnTo>
                  <a:lnTo>
                    <a:pt x="110" y="132"/>
                  </a:lnTo>
                  <a:lnTo>
                    <a:pt x="99" y="132"/>
                  </a:lnTo>
                  <a:lnTo>
                    <a:pt x="88" y="121"/>
                  </a:lnTo>
                  <a:lnTo>
                    <a:pt x="77" y="132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33" y="121"/>
                  </a:lnTo>
                  <a:lnTo>
                    <a:pt x="22" y="110"/>
                  </a:lnTo>
                  <a:lnTo>
                    <a:pt x="11" y="99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44"/>
                  </a:lnTo>
                  <a:lnTo>
                    <a:pt x="11" y="33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8" y="11"/>
                  </a:lnTo>
                  <a:lnTo>
                    <a:pt x="99" y="22"/>
                  </a:lnTo>
                  <a:lnTo>
                    <a:pt x="99" y="33"/>
                  </a:lnTo>
                  <a:lnTo>
                    <a:pt x="110" y="44"/>
                  </a:lnTo>
                  <a:lnTo>
                    <a:pt x="110" y="66"/>
                  </a:lnTo>
                  <a:lnTo>
                    <a:pt x="110" y="77"/>
                  </a:lnTo>
                  <a:lnTo>
                    <a:pt x="110" y="99"/>
                  </a:lnTo>
                  <a:lnTo>
                    <a:pt x="110" y="110"/>
                  </a:lnTo>
                  <a:lnTo>
                    <a:pt x="99" y="121"/>
                  </a:lnTo>
                  <a:close/>
                  <a:moveTo>
                    <a:pt x="55" y="99"/>
                  </a:moveTo>
                  <a:lnTo>
                    <a:pt x="77" y="99"/>
                  </a:lnTo>
                  <a:lnTo>
                    <a:pt x="88" y="110"/>
                  </a:lnTo>
                  <a:lnTo>
                    <a:pt x="99" y="88"/>
                  </a:lnTo>
                  <a:lnTo>
                    <a:pt x="99" y="66"/>
                  </a:lnTo>
                  <a:lnTo>
                    <a:pt x="99" y="44"/>
                  </a:lnTo>
                  <a:lnTo>
                    <a:pt x="99" y="33"/>
                  </a:lnTo>
                  <a:lnTo>
                    <a:pt x="88" y="22"/>
                  </a:lnTo>
                  <a:lnTo>
                    <a:pt x="77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lnTo>
                    <a:pt x="11" y="88"/>
                  </a:lnTo>
                  <a:lnTo>
                    <a:pt x="22" y="110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7" y="121"/>
                  </a:lnTo>
                  <a:lnTo>
                    <a:pt x="66" y="110"/>
                  </a:lnTo>
                  <a:lnTo>
                    <a:pt x="55" y="110"/>
                  </a:lnTo>
                  <a:lnTo>
                    <a:pt x="5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31"/>
            <p:cNvSpPr/>
            <p:nvPr/>
          </p:nvSpPr>
          <p:spPr>
            <a:xfrm>
              <a:off x="3094920" y="4037760"/>
              <a:ext cx="9720" cy="39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44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32"/>
            <p:cNvSpPr/>
            <p:nvPr/>
          </p:nvSpPr>
          <p:spPr>
            <a:xfrm>
              <a:off x="2897280" y="4122000"/>
              <a:ext cx="49320" cy="88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33"/>
            <p:cNvSpPr/>
            <p:nvPr/>
          </p:nvSpPr>
          <p:spPr>
            <a:xfrm>
              <a:off x="2956680" y="412200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045600" y="4122000"/>
              <a:ext cx="68760" cy="88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35"/>
            <p:cNvSpPr/>
            <p:nvPr/>
          </p:nvSpPr>
          <p:spPr>
            <a:xfrm>
              <a:off x="3124800" y="412200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36"/>
            <p:cNvSpPr/>
            <p:nvPr/>
          </p:nvSpPr>
          <p:spPr>
            <a:xfrm>
              <a:off x="468360" y="5802120"/>
              <a:ext cx="972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37"/>
            <p:cNvSpPr/>
            <p:nvPr/>
          </p:nvSpPr>
          <p:spPr>
            <a:xfrm>
              <a:off x="557280" y="5831640"/>
              <a:ext cx="48960" cy="88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5" h="99">
                  <a:moveTo>
                    <a:pt x="0" y="0"/>
                  </a:moveTo>
                  <a:lnTo>
                    <a:pt x="55" y="0"/>
                  </a:lnTo>
                  <a:lnTo>
                    <a:pt x="55" y="11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38"/>
            <p:cNvSpPr/>
            <p:nvPr/>
          </p:nvSpPr>
          <p:spPr>
            <a:xfrm>
              <a:off x="616320" y="583164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1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66" y="88"/>
                  </a:ln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22" y="88"/>
                  </a:lnTo>
                  <a:lnTo>
                    <a:pt x="11" y="88"/>
                  </a:lnTo>
                  <a:lnTo>
                    <a:pt x="11" y="132"/>
                  </a:lnTo>
                  <a:lnTo>
                    <a:pt x="0" y="132"/>
                  </a:lnTo>
                  <a:close/>
                  <a:moveTo>
                    <a:pt x="11" y="55"/>
                  </a:moveTo>
                  <a:lnTo>
                    <a:pt x="11" y="66"/>
                  </a:lnTo>
                  <a:lnTo>
                    <a:pt x="22" y="77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705240" y="5831640"/>
              <a:ext cx="68760" cy="88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99">
                  <a:moveTo>
                    <a:pt x="66" y="88"/>
                  </a:moveTo>
                  <a:lnTo>
                    <a:pt x="55" y="88"/>
                  </a:lnTo>
                  <a:lnTo>
                    <a:pt x="44" y="99"/>
                  </a:lnTo>
                  <a:lnTo>
                    <a:pt x="33" y="99"/>
                  </a:lnTo>
                  <a:lnTo>
                    <a:pt x="22" y="99"/>
                  </a:lnTo>
                  <a:lnTo>
                    <a:pt x="11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55" y="33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3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77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88"/>
                  </a:lnTo>
                  <a:close/>
                  <a:moveTo>
                    <a:pt x="66" y="44"/>
                  </a:moveTo>
                  <a:lnTo>
                    <a:pt x="55" y="44"/>
                  </a:lnTo>
                  <a:lnTo>
                    <a:pt x="33" y="55"/>
                  </a:lnTo>
                  <a:lnTo>
                    <a:pt x="22" y="55"/>
                  </a:lnTo>
                  <a:lnTo>
                    <a:pt x="11" y="66"/>
                  </a:lnTo>
                  <a:lnTo>
                    <a:pt x="11" y="77"/>
                  </a:lnTo>
                  <a:lnTo>
                    <a:pt x="22" y="88"/>
                  </a:lnTo>
                  <a:lnTo>
                    <a:pt x="33" y="88"/>
                  </a:lnTo>
                  <a:lnTo>
                    <a:pt x="44" y="88"/>
                  </a:lnTo>
                  <a:lnTo>
                    <a:pt x="55" y="88"/>
                  </a:lnTo>
                  <a:lnTo>
                    <a:pt x="55" y="77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40"/>
            <p:cNvSpPr/>
            <p:nvPr/>
          </p:nvSpPr>
          <p:spPr>
            <a:xfrm>
              <a:off x="784440" y="583164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22" y="0"/>
                  </a:moveTo>
                  <a:lnTo>
                    <a:pt x="77" y="0"/>
                  </a:lnTo>
                  <a:lnTo>
                    <a:pt x="77" y="88"/>
                  </a:lnTo>
                  <a:lnTo>
                    <a:pt x="88" y="88"/>
                  </a:lnTo>
                  <a:lnTo>
                    <a:pt x="88" y="121"/>
                  </a:lnTo>
                  <a:lnTo>
                    <a:pt x="77" y="121"/>
                  </a:lnTo>
                  <a:lnTo>
                    <a:pt x="77" y="99"/>
                  </a:lnTo>
                  <a:lnTo>
                    <a:pt x="11" y="99"/>
                  </a:lnTo>
                  <a:lnTo>
                    <a:pt x="11" y="121"/>
                  </a:lnTo>
                  <a:lnTo>
                    <a:pt x="0" y="121"/>
                  </a:lnTo>
                  <a:lnTo>
                    <a:pt x="0" y="88"/>
                  </a:lnTo>
                  <a:lnTo>
                    <a:pt x="11" y="88"/>
                  </a:lnTo>
                  <a:lnTo>
                    <a:pt x="22" y="55"/>
                  </a:lnTo>
                  <a:lnTo>
                    <a:pt x="22" y="0"/>
                  </a:lnTo>
                  <a:close/>
                  <a:moveTo>
                    <a:pt x="33" y="11"/>
                  </a:moveTo>
                  <a:lnTo>
                    <a:pt x="33" y="55"/>
                  </a:lnTo>
                  <a:lnTo>
                    <a:pt x="22" y="88"/>
                  </a:lnTo>
                  <a:lnTo>
                    <a:pt x="66" y="88"/>
                  </a:lnTo>
                  <a:lnTo>
                    <a:pt x="66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41"/>
            <p:cNvSpPr/>
            <p:nvPr/>
          </p:nvSpPr>
          <p:spPr>
            <a:xfrm>
              <a:off x="873000" y="5802120"/>
              <a:ext cx="39240" cy="118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4" h="132">
                  <a:moveTo>
                    <a:pt x="0" y="132"/>
                  </a:moveTo>
                  <a:lnTo>
                    <a:pt x="33" y="0"/>
                  </a:lnTo>
                  <a:lnTo>
                    <a:pt x="44" y="0"/>
                  </a:lnTo>
                  <a:lnTo>
                    <a:pt x="11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42"/>
            <p:cNvSpPr/>
            <p:nvPr/>
          </p:nvSpPr>
          <p:spPr>
            <a:xfrm>
              <a:off x="942480" y="5802120"/>
              <a:ext cx="39240" cy="118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4" h="132">
                  <a:moveTo>
                    <a:pt x="44" y="132"/>
                  </a:moveTo>
                  <a:lnTo>
                    <a:pt x="33" y="132"/>
                  </a:lnTo>
                  <a:lnTo>
                    <a:pt x="33" y="22"/>
                  </a:lnTo>
                  <a:lnTo>
                    <a:pt x="22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11" y="22"/>
                  </a:lnTo>
                  <a:lnTo>
                    <a:pt x="22" y="22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43"/>
            <p:cNvSpPr/>
            <p:nvPr/>
          </p:nvSpPr>
          <p:spPr>
            <a:xfrm>
              <a:off x="1021320" y="5802120"/>
              <a:ext cx="68760" cy="1184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1109880" y="5802120"/>
              <a:ext cx="69120" cy="118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7" h="132">
                  <a:moveTo>
                    <a:pt x="0" y="66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66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66" y="121"/>
                  </a:lnTo>
                  <a:lnTo>
                    <a:pt x="55" y="132"/>
                  </a:lnTo>
                  <a:lnTo>
                    <a:pt x="44" y="132"/>
                  </a:lnTo>
                  <a:lnTo>
                    <a:pt x="22" y="132"/>
                  </a:lnTo>
                  <a:lnTo>
                    <a:pt x="11" y="121"/>
                  </a:lnTo>
                  <a:lnTo>
                    <a:pt x="0" y="99"/>
                  </a:lnTo>
                  <a:lnTo>
                    <a:pt x="0" y="66"/>
                  </a:lnTo>
                  <a:close/>
                  <a:moveTo>
                    <a:pt x="11" y="66"/>
                  </a:moveTo>
                  <a:lnTo>
                    <a:pt x="11" y="99"/>
                  </a:lnTo>
                  <a:lnTo>
                    <a:pt x="22" y="110"/>
                  </a:lnTo>
                  <a:lnTo>
                    <a:pt x="33" y="121"/>
                  </a:lnTo>
                  <a:lnTo>
                    <a:pt x="44" y="121"/>
                  </a:lnTo>
                  <a:lnTo>
                    <a:pt x="55" y="121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66" y="66"/>
                  </a:lnTo>
                  <a:lnTo>
                    <a:pt x="66" y="44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44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45"/>
            <p:cNvSpPr/>
            <p:nvPr/>
          </p:nvSpPr>
          <p:spPr>
            <a:xfrm>
              <a:off x="1199160" y="583164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9" h="99">
                  <a:moveTo>
                    <a:pt x="0" y="0"/>
                  </a:moveTo>
                  <a:lnTo>
                    <a:pt x="11" y="0"/>
                  </a:lnTo>
                  <a:lnTo>
                    <a:pt x="55" y="77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99" y="99"/>
                  </a:lnTo>
                  <a:lnTo>
                    <a:pt x="88" y="99"/>
                  </a:lnTo>
                  <a:lnTo>
                    <a:pt x="88" y="22"/>
                  </a:lnTo>
                  <a:lnTo>
                    <a:pt x="55" y="99"/>
                  </a:lnTo>
                  <a:lnTo>
                    <a:pt x="44" y="99"/>
                  </a:lnTo>
                  <a:lnTo>
                    <a:pt x="11" y="11"/>
                  </a:lnTo>
                  <a:lnTo>
                    <a:pt x="11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Line 46"/>
            <p:cNvSpPr/>
            <p:nvPr/>
          </p:nvSpPr>
          <p:spPr>
            <a:xfrm>
              <a:off x="1436040" y="412200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804240" y="5693040"/>
              <a:ext cx="39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853200" y="5634000"/>
              <a:ext cx="69120" cy="1087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49"/>
            <p:cNvSpPr/>
            <p:nvPr/>
          </p:nvSpPr>
          <p:spPr>
            <a:xfrm>
              <a:off x="2729520" y="4112280"/>
              <a:ext cx="720" cy="159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1781640" y="3944160"/>
              <a:ext cx="68760" cy="1087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1870560" y="3944160"/>
              <a:ext cx="78840" cy="108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52"/>
            <p:cNvSpPr/>
            <p:nvPr/>
          </p:nvSpPr>
          <p:spPr>
            <a:xfrm>
              <a:off x="2630880" y="393444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55" y="88"/>
                  </a:moveTo>
                  <a:lnTo>
                    <a:pt x="55" y="11"/>
                  </a:lnTo>
                  <a:lnTo>
                    <a:pt x="11" y="88"/>
                  </a:lnTo>
                  <a:lnTo>
                    <a:pt x="55" y="88"/>
                  </a:lnTo>
                  <a:close/>
                  <a:moveTo>
                    <a:pt x="66" y="121"/>
                  </a:moveTo>
                  <a:lnTo>
                    <a:pt x="55" y="121"/>
                  </a:lnTo>
                  <a:lnTo>
                    <a:pt x="55" y="99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66" y="88"/>
                  </a:lnTo>
                  <a:lnTo>
                    <a:pt x="77" y="88"/>
                  </a:lnTo>
                  <a:lnTo>
                    <a:pt x="77" y="99"/>
                  </a:lnTo>
                  <a:lnTo>
                    <a:pt x="66" y="99"/>
                  </a:lnTo>
                  <a:lnTo>
                    <a:pt x="6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2729520" y="3934440"/>
              <a:ext cx="78840" cy="108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2216160" y="393444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99"/>
                  </a:lnTo>
                  <a:lnTo>
                    <a:pt x="66" y="88"/>
                  </a:lnTo>
                  <a:lnTo>
                    <a:pt x="66" y="77"/>
                  </a:lnTo>
                  <a:lnTo>
                    <a:pt x="55" y="66"/>
                  </a:lnTo>
                  <a:lnTo>
                    <a:pt x="44" y="55"/>
                  </a:lnTo>
                  <a:lnTo>
                    <a:pt x="33" y="55"/>
                  </a:lnTo>
                  <a:lnTo>
                    <a:pt x="33" y="44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33"/>
                  </a:lnTo>
                  <a:lnTo>
                    <a:pt x="55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22" y="33"/>
                  </a:lnTo>
                  <a:lnTo>
                    <a:pt x="11" y="3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2"/>
                  </a:lnTo>
                  <a:lnTo>
                    <a:pt x="66" y="33"/>
                  </a:lnTo>
                  <a:lnTo>
                    <a:pt x="66" y="44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77" y="77"/>
                  </a:lnTo>
                  <a:lnTo>
                    <a:pt x="77" y="88"/>
                  </a:lnTo>
                  <a:lnTo>
                    <a:pt x="66" y="110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22" y="121"/>
                  </a:lnTo>
                  <a:lnTo>
                    <a:pt x="11" y="110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2305080" y="3934440"/>
              <a:ext cx="78840" cy="108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121">
                  <a:moveTo>
                    <a:pt x="11" y="77"/>
                  </a:moveTo>
                  <a:lnTo>
                    <a:pt x="11" y="88"/>
                  </a:lnTo>
                  <a:lnTo>
                    <a:pt x="22" y="99"/>
                  </a:lnTo>
                  <a:lnTo>
                    <a:pt x="33" y="110"/>
                  </a:lnTo>
                  <a:lnTo>
                    <a:pt x="44" y="110"/>
                  </a:lnTo>
                  <a:lnTo>
                    <a:pt x="55" y="110"/>
                  </a:lnTo>
                  <a:lnTo>
                    <a:pt x="66" y="99"/>
                  </a:lnTo>
                  <a:lnTo>
                    <a:pt x="77" y="88"/>
                  </a:lnTo>
                  <a:lnTo>
                    <a:pt x="77" y="77"/>
                  </a:lnTo>
                  <a:lnTo>
                    <a:pt x="77" y="44"/>
                  </a:lnTo>
                  <a:lnTo>
                    <a:pt x="77" y="33"/>
                  </a:lnTo>
                  <a:lnTo>
                    <a:pt x="66" y="22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11" y="77"/>
                  </a:lnTo>
                  <a:close/>
                  <a:moveTo>
                    <a:pt x="0" y="77"/>
                  </a:moveTo>
                  <a:lnTo>
                    <a:pt x="0" y="44"/>
                  </a:lnTo>
                  <a:lnTo>
                    <a:pt x="0" y="33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77" y="11"/>
                  </a:lnTo>
                  <a:lnTo>
                    <a:pt x="88" y="22"/>
                  </a:lnTo>
                  <a:lnTo>
                    <a:pt x="88" y="44"/>
                  </a:lnTo>
                  <a:lnTo>
                    <a:pt x="88" y="77"/>
                  </a:lnTo>
                  <a:lnTo>
                    <a:pt x="88" y="88"/>
                  </a:lnTo>
                  <a:lnTo>
                    <a:pt x="88" y="99"/>
                  </a:lnTo>
                  <a:lnTo>
                    <a:pt x="77" y="110"/>
                  </a:lnTo>
                  <a:lnTo>
                    <a:pt x="66" y="121"/>
                  </a:lnTo>
                  <a:lnTo>
                    <a:pt x="55" y="121"/>
                  </a:lnTo>
                  <a:lnTo>
                    <a:pt x="44" y="121"/>
                  </a:lnTo>
                  <a:lnTo>
                    <a:pt x="33" y="121"/>
                  </a:lnTo>
                  <a:lnTo>
                    <a:pt x="22" y="121"/>
                  </a:lnTo>
                  <a:lnTo>
                    <a:pt x="22" y="110"/>
                  </a:lnTo>
                  <a:lnTo>
                    <a:pt x="11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56"/>
            <p:cNvSpPr/>
            <p:nvPr/>
          </p:nvSpPr>
          <p:spPr>
            <a:xfrm flipV="1">
              <a:off x="1465560" y="4428360"/>
              <a:ext cx="118440" cy="236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57"/>
            <p:cNvSpPr/>
            <p:nvPr/>
          </p:nvSpPr>
          <p:spPr>
            <a:xfrm flipV="1">
              <a:off x="1524960" y="4546800"/>
              <a:ext cx="207000" cy="46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1761840" y="4388760"/>
              <a:ext cx="29160" cy="108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3" h="121">
                  <a:moveTo>
                    <a:pt x="33" y="121"/>
                  </a:moveTo>
                  <a:lnTo>
                    <a:pt x="22" y="121"/>
                  </a:lnTo>
                  <a:lnTo>
                    <a:pt x="2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1574280" y="4260600"/>
              <a:ext cx="69120" cy="108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7" h="121">
                  <a:moveTo>
                    <a:pt x="77" y="121"/>
                  </a:moveTo>
                  <a:lnTo>
                    <a:pt x="0" y="121"/>
                  </a:lnTo>
                  <a:lnTo>
                    <a:pt x="0" y="110"/>
                  </a:lnTo>
                  <a:lnTo>
                    <a:pt x="44" y="66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44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55" y="22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2" y="22"/>
                  </a:lnTo>
                  <a:lnTo>
                    <a:pt x="11" y="33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1"/>
                  </a:lnTo>
                  <a:lnTo>
                    <a:pt x="77" y="22"/>
                  </a:lnTo>
                  <a:lnTo>
                    <a:pt x="77" y="33"/>
                  </a:lnTo>
                  <a:lnTo>
                    <a:pt x="77" y="44"/>
                  </a:lnTo>
                  <a:lnTo>
                    <a:pt x="77" y="55"/>
                  </a:lnTo>
                  <a:lnTo>
                    <a:pt x="66" y="66"/>
                  </a:lnTo>
                  <a:lnTo>
                    <a:pt x="55" y="77"/>
                  </a:lnTo>
                  <a:lnTo>
                    <a:pt x="11" y="110"/>
                  </a:lnTo>
                  <a:lnTo>
                    <a:pt x="77" y="110"/>
                  </a:lnTo>
                  <a:lnTo>
                    <a:pt x="7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60"/>
            <p:cNvSpPr/>
            <p:nvPr/>
          </p:nvSpPr>
          <p:spPr>
            <a:xfrm>
              <a:off x="1189080" y="4774320"/>
              <a:ext cx="1283400" cy="958320"/>
            </a:xfrm>
            <a:custGeom>
              <a:avLst/>
              <a:gdLst>
                <a:gd name="textAreaLeft" fmla="*/ 0 w 1283400"/>
                <a:gd name="textAreaRight" fmla="*/ 1283400 w 128340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30" h="1067">
                  <a:moveTo>
                    <a:pt x="0" y="11"/>
                  </a:moveTo>
                  <a:lnTo>
                    <a:pt x="1419" y="1067"/>
                  </a:lnTo>
                  <a:lnTo>
                    <a:pt x="1430" y="1045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bc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Rectangle 9"/>
          <p:cNvSpPr/>
          <p:nvPr/>
        </p:nvSpPr>
        <p:spPr>
          <a:xfrm>
            <a:off x="5364000" y="623160"/>
            <a:ext cx="3961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диаметра и длины забойного двигателя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"/>
              <p:cNvSpPr txBox="1"/>
              <p:nvPr/>
            </p:nvSpPr>
            <p:spPr>
              <a:xfrm>
                <a:off x="6732720" y="2997360"/>
                <a:ext cx="1330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4" name="Rectangle 9"/>
          <p:cNvSpPr/>
          <p:nvPr/>
        </p:nvSpPr>
        <p:spPr>
          <a:xfrm>
            <a:off x="4067280" y="1416240"/>
            <a:ext cx="2736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жесткости инструмента на искри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0"/>
              <p:cNvSpPr txBox="1"/>
              <p:nvPr/>
            </p:nvSpPr>
            <p:spPr>
              <a:xfrm>
                <a:off x="3708360" y="2133720"/>
                <a:ext cx="3127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6" name="Picture 14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3315960" cy="185436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9"/>
          <p:cNvSpPr/>
          <p:nvPr/>
        </p:nvSpPr>
        <p:spPr>
          <a:xfrm>
            <a:off x="4030560" y="4008600"/>
            <a:ext cx="4141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лияние формы торца породоразрушающего инструмента на искривление скваж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Закономерности искривления скважин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6"/>
          <p:cNvSpPr/>
          <p:nvPr/>
        </p:nvSpPr>
        <p:spPr>
          <a:xfrm>
            <a:off x="324000" y="436680"/>
            <a:ext cx="85723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льшинстве случаев скважины стремятся занять направление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пендикулярное слоист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ных пород. По мере приближения к этому направлению интенсивность искривления сниж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ение зазор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 стенками скважины и инструментом 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ению искрив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сто установки центрирующих элементо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диаметр весьма существенно влияют на направление и интенсивность зенитного искр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 жестк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трумент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меньшает искривлени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важины, поэтому скважины большого диаметра искривляются менее интенсивно, чем скважины малого диаме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5840" algn="just"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е осевой нагруз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дит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величению интенсивн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ривления, а повышение частоты вращения колонны бурильных труб - к снижению искр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117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кономерности 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2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Типы профилей наклонно-направленных скважин. Выбор и расчет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13"/>
          <p:cNvSpPr/>
          <p:nvPr/>
        </p:nvSpPr>
        <p:spPr>
          <a:xfrm>
            <a:off x="0" y="155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684360" y="2660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Rectangle 18" descr=""/>
          <p:cNvPicPr/>
          <p:nvPr/>
        </p:nvPicPr>
        <p:blipFill>
          <a:blip r:embed="rId1"/>
          <a:stretch/>
        </p:blipFill>
        <p:spPr>
          <a:xfrm>
            <a:off x="390600" y="695160"/>
            <a:ext cx="8388360" cy="132876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9" descr=""/>
          <p:cNvPicPr/>
          <p:nvPr/>
        </p:nvPicPr>
        <p:blipFill>
          <a:blip r:embed="rId2"/>
          <a:stretch/>
        </p:blipFill>
        <p:spPr>
          <a:xfrm>
            <a:off x="334800" y="1620720"/>
            <a:ext cx="8510760" cy="433548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6"/>
          <p:cNvSpPr/>
          <p:nvPr/>
        </p:nvSpPr>
        <p:spPr>
          <a:xfrm>
            <a:off x="0" y="117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ребования к профилю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4"/>
          <p:cNvSpPr/>
          <p:nvPr/>
        </p:nvSpPr>
        <p:spPr>
          <a:xfrm>
            <a:off x="611280" y="549360"/>
            <a:ext cx="7993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ыбор типа профи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Определение допустимой интенсивности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Расчет профи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щий порядок проектирования и ограни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468360" y="2205000"/>
            <a:ext cx="817560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аксималь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пустимый зенитны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величения угла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40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становки погружного насоса –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ru-RU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входе в продуктивный пласт –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5</a:t>
            </a:r>
            <a:r>
              <a:rPr b="1" lang="ru-RU" sz="2400" spc="-1" strike="noStrike" baseline="30000">
                <a:solidFill>
                  <a:srgbClr val="0070c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95280" y="4548240"/>
            <a:ext cx="84978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аксималь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пустимая интенсивность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искусственного искривления скважины –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1,5град/10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вале установки погружного насоса –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град/100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лассификация профилей направленных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Прямоугольник 4"/>
          <p:cNvSpPr/>
          <p:nvPr/>
        </p:nvSpPr>
        <p:spPr>
          <a:xfrm>
            <a:off x="250920" y="549360"/>
            <a:ext cx="29527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количеству интервалов с неизменной интенсив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Прямоугольник 5"/>
          <p:cNvSpPr/>
          <p:nvPr/>
        </p:nvSpPr>
        <p:spPr>
          <a:xfrm>
            <a:off x="3492360" y="907920"/>
            <a:ext cx="244800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виду профи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6156360" y="765000"/>
            <a:ext cx="2879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величине радиуса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Прямая соединительная линия 8"/>
          <p:cNvSpPr/>
          <p:nvPr/>
        </p:nvSpPr>
        <p:spPr>
          <a:xfrm>
            <a:off x="250920" y="1773360"/>
            <a:ext cx="0" cy="273528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Прямая соединительная линия 11"/>
          <p:cNvSpPr/>
          <p:nvPr/>
        </p:nvSpPr>
        <p:spPr>
          <a:xfrm>
            <a:off x="250920" y="227664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Прямая соединительная линия 12"/>
          <p:cNvSpPr/>
          <p:nvPr/>
        </p:nvSpPr>
        <p:spPr>
          <a:xfrm>
            <a:off x="250920" y="292428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Прямая соединительная линия 13"/>
          <p:cNvSpPr/>
          <p:nvPr/>
        </p:nvSpPr>
        <p:spPr>
          <a:xfrm>
            <a:off x="250920" y="350028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Прямая соединительная линия 14"/>
          <p:cNvSpPr/>
          <p:nvPr/>
        </p:nvSpPr>
        <p:spPr>
          <a:xfrm>
            <a:off x="250920" y="400536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Прямая соединительная линия 15"/>
          <p:cNvSpPr/>
          <p:nvPr/>
        </p:nvSpPr>
        <p:spPr>
          <a:xfrm>
            <a:off x="250920" y="4508640"/>
            <a:ext cx="4334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16"/>
          <p:cNvSpPr/>
          <p:nvPr/>
        </p:nvSpPr>
        <p:spPr>
          <a:xfrm>
            <a:off x="762840" y="20606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Box 17"/>
          <p:cNvSpPr/>
          <p:nvPr/>
        </p:nvSpPr>
        <p:spPr>
          <a:xfrm>
            <a:off x="722880" y="270828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Box 18"/>
          <p:cNvSpPr/>
          <p:nvPr/>
        </p:nvSpPr>
        <p:spPr>
          <a:xfrm>
            <a:off x="762120" y="328464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ырех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Box 19"/>
          <p:cNvSpPr/>
          <p:nvPr/>
        </p:nvSpPr>
        <p:spPr>
          <a:xfrm>
            <a:off x="765000" y="3789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иинтерв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21"/>
          <p:cNvSpPr/>
          <p:nvPr/>
        </p:nvSpPr>
        <p:spPr>
          <a:xfrm>
            <a:off x="759240" y="42926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Прямая соединительная линия 22"/>
          <p:cNvSpPr/>
          <p:nvPr/>
        </p:nvSpPr>
        <p:spPr>
          <a:xfrm>
            <a:off x="3492360" y="1413000"/>
            <a:ext cx="0" cy="115236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Прямая соединительная линия 23"/>
          <p:cNvSpPr/>
          <p:nvPr/>
        </p:nvSpPr>
        <p:spPr>
          <a:xfrm>
            <a:off x="3492360" y="1916280"/>
            <a:ext cx="4320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Прямая соединительная линия 24"/>
          <p:cNvSpPr/>
          <p:nvPr/>
        </p:nvSpPr>
        <p:spPr>
          <a:xfrm>
            <a:off x="3492360" y="2565360"/>
            <a:ext cx="4320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26"/>
          <p:cNvSpPr/>
          <p:nvPr/>
        </p:nvSpPr>
        <p:spPr>
          <a:xfrm>
            <a:off x="4003920" y="17002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Box 27"/>
          <p:cNvSpPr/>
          <p:nvPr/>
        </p:nvSpPr>
        <p:spPr>
          <a:xfrm>
            <a:off x="4002840" y="234000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Прямая соединительная линия 28"/>
          <p:cNvSpPr/>
          <p:nvPr/>
        </p:nvSpPr>
        <p:spPr>
          <a:xfrm>
            <a:off x="6156360" y="1484280"/>
            <a:ext cx="0" cy="2232000"/>
          </a:xfrm>
          <a:prstGeom prst="line">
            <a:avLst/>
          </a:prstGeom>
          <a:ln w="284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Прямая соединительная линия 29"/>
          <p:cNvSpPr/>
          <p:nvPr/>
        </p:nvSpPr>
        <p:spPr>
          <a:xfrm>
            <a:off x="6156360" y="1989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Прямая соединительная линия 30"/>
          <p:cNvSpPr/>
          <p:nvPr/>
        </p:nvSpPr>
        <p:spPr>
          <a:xfrm>
            <a:off x="6156360" y="2637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Прямая соединительная линия 31"/>
          <p:cNvSpPr/>
          <p:nvPr/>
        </p:nvSpPr>
        <p:spPr>
          <a:xfrm>
            <a:off x="6156360" y="321300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Прямая соединительная линия 32"/>
          <p:cNvSpPr/>
          <p:nvPr/>
        </p:nvSpPr>
        <p:spPr>
          <a:xfrm>
            <a:off x="6156360" y="3716280"/>
            <a:ext cx="43164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6597720" y="177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больши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35"/>
          <p:cNvSpPr/>
          <p:nvPr/>
        </p:nvSpPr>
        <p:spPr>
          <a:xfrm>
            <a:off x="6624360" y="241128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редни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Box 36"/>
          <p:cNvSpPr/>
          <p:nvPr/>
        </p:nvSpPr>
        <p:spPr>
          <a:xfrm>
            <a:off x="6599880" y="2997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лы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37"/>
          <p:cNvSpPr/>
          <p:nvPr/>
        </p:nvSpPr>
        <p:spPr>
          <a:xfrm>
            <a:off x="6615000" y="3492360"/>
            <a:ext cx="25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верхмалым радиу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285920" cy="2852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" descr=""/>
          <p:cNvPicPr/>
          <p:nvPr/>
        </p:nvPicPr>
        <p:blipFill>
          <a:blip r:embed="rId2"/>
          <a:stretch/>
        </p:blipFill>
        <p:spPr>
          <a:xfrm>
            <a:off x="4773600" y="3005280"/>
            <a:ext cx="1300320" cy="28717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http://pics.livejournal.com/shimerli/pic/0012k2ak"/>
          <p:cNvPicPr/>
          <p:nvPr/>
        </p:nvPicPr>
        <p:blipFill>
          <a:blip r:embed="rId3"/>
          <a:stretch/>
        </p:blipFill>
        <p:spPr>
          <a:xfrm>
            <a:off x="468360" y="5013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783" name="TextBox 74"/>
          <p:cNvSpPr/>
          <p:nvPr/>
        </p:nvSpPr>
        <p:spPr>
          <a:xfrm>
            <a:off x="2048040" y="6083280"/>
            <a:ext cx="54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профи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ный, а како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ы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75"/>
          <p:cNvSpPr/>
          <p:nvPr/>
        </p:nvSpPr>
        <p:spPr>
          <a:xfrm>
            <a:off x="3495240" y="512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76"/>
          <p:cNvSpPr/>
          <p:nvPr/>
        </p:nvSpPr>
        <p:spPr>
          <a:xfrm>
            <a:off x="4866840" y="512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Picture 2" descr="http://cs418428.vk.me/v418428164/7160/Czqz88dA4RI.jpg"/>
          <p:cNvPicPr/>
          <p:nvPr/>
        </p:nvPicPr>
        <p:blipFill>
          <a:blip r:embed="rId4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15"/>
          <p:cNvSpPr/>
          <p:nvPr/>
        </p:nvSpPr>
        <p:spPr>
          <a:xfrm>
            <a:off x="1835280" y="950760"/>
            <a:ext cx="66974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44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вухинтервальный проф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ый отход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применений специальных компоновок (отклонителей) на втором интерв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0" indent="-144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2819520" y="3733920"/>
            <a:ext cx="6324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79280" y="662040"/>
            <a:ext cx="1513080" cy="33433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7151760" y="2428920"/>
            <a:ext cx="1884240" cy="416880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3"/>
          <p:cNvSpPr/>
          <p:nvPr/>
        </p:nvSpPr>
        <p:spPr>
          <a:xfrm>
            <a:off x="34920" y="3979800"/>
            <a:ext cx="710712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рехинтервальный профиль с третьим прямолинейным участ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время бурения с отклонителем; сравнительно большая величина от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осложнений при бурении третьего интервала, особенно в абразивных породах средней твердости и тверд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796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9"/>
          <p:cNvSpPr/>
          <p:nvPr/>
        </p:nvSpPr>
        <p:spPr>
          <a:xfrm>
            <a:off x="2050920" y="549360"/>
            <a:ext cx="68421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рехинтервальный профиль с третьим криволинейным участ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ощается проходка третьего интерв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ньшается отход при прочих равных условиях; увеличивается длина интервала бурения с отклон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250920" y="668160"/>
            <a:ext cx="1728720" cy="38404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"/>
          <p:cNvPicPr/>
          <p:nvPr/>
        </p:nvPicPr>
        <p:blipFill>
          <a:blip r:embed="rId2"/>
          <a:stretch/>
        </p:blipFill>
        <p:spPr>
          <a:xfrm>
            <a:off x="7234200" y="2540160"/>
            <a:ext cx="1730520" cy="384156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9"/>
          <p:cNvSpPr/>
          <p:nvPr/>
        </p:nvSpPr>
        <p:spPr>
          <a:xfrm>
            <a:off x="179280" y="4413240"/>
            <a:ext cx="70567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тырехинтервальный профиль с четвертым интервалом  уменьшения зенитного уг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тельно большая величина отхода; уменьшение вероятности осложнений в процессе бу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растание сил сопротивления перемещению колонны  т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04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603360" y="169560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2637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entury Gothic"/>
              </a:rPr>
              <a:t>Определения, основные понятия и термин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9"/>
          <p:cNvSpPr/>
          <p:nvPr/>
        </p:nvSpPr>
        <p:spPr>
          <a:xfrm>
            <a:off x="1979640" y="549360"/>
            <a:ext cx="66960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тырехинтервальный профиль с четвертым интервалом увеличения зенитного уг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я поверхности фильтрации и зоны дренирования; увеличения дебита скважины; увеличения коэффициента нефтеотдачи пл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ость реал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0" y="232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стоинства и недостатки разных профи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1710000" cy="3816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2"/>
          <a:stretch/>
        </p:blipFill>
        <p:spPr>
          <a:xfrm>
            <a:off x="7164360" y="2610000"/>
            <a:ext cx="1860480" cy="411480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9"/>
          <p:cNvSpPr/>
          <p:nvPr/>
        </p:nvSpPr>
        <p:spPr>
          <a:xfrm>
            <a:off x="395280" y="3803760"/>
            <a:ext cx="6769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ятиинтервальный проф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имуществ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эксплуатации скважины возможна установка насосного оборудования в зоне продуктивного горизо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достатки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енное увеличение нагрузки на крюке за счет сил т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http://cs418428.vk.me/v418428164/7160/Czqz88dA4RI.jpg"/>
          <p:cNvPicPr/>
          <p:nvPr/>
        </p:nvPicPr>
        <p:blipFill>
          <a:blip r:embed="rId3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8679240" y="651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0" y="250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ределение допустимой интенсивности искр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250920" y="1268280"/>
            <a:ext cx="867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324000" y="2060640"/>
            <a:ext cx="85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спускаемого инструмента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диаметр;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аметр скважины или внутренний диаметр обсадной колоны;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еобходимый зазор, К=1,5-3 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6" name="Group 22"/>
          <p:cNvGrpSpPr/>
          <p:nvPr/>
        </p:nvGrpSpPr>
        <p:grpSpPr>
          <a:xfrm>
            <a:off x="272880" y="3043080"/>
            <a:ext cx="8674200" cy="1035360"/>
            <a:chOff x="272880" y="3043080"/>
            <a:chExt cx="8674200" cy="1035360"/>
          </a:xfrm>
        </p:grpSpPr>
        <p:sp>
          <p:nvSpPr>
            <p:cNvPr id="817" name="Rectangle 13"/>
            <p:cNvSpPr/>
            <p:nvPr/>
          </p:nvSpPr>
          <p:spPr>
            <a:xfrm>
              <a:off x="272880" y="3043080"/>
              <a:ext cx="8674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- из условия предотвращения желобообразования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8" name="Object 3"/>
                <p:cNvSpPr txBox="1"/>
                <p:nvPr/>
              </p:nvSpPr>
              <p:spPr>
                <a:xfrm>
                  <a:off x="3705120" y="3357720"/>
                  <a:ext cx="13636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l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доп</m:t>
                              </m:r>
                            </m:sub>
                          </m:sSub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9" name="Rectangle 15"/>
          <p:cNvSpPr/>
          <p:nvPr/>
        </p:nvSpPr>
        <p:spPr>
          <a:xfrm>
            <a:off x="324000" y="3925800"/>
            <a:ext cx="856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яжение колонны при подъеме инструмента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расстояние между замками;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до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пустимая сила прижатия замка к стенке скваж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Group 23"/>
          <p:cNvGrpSpPr/>
          <p:nvPr/>
        </p:nvGrpSpPr>
        <p:grpSpPr>
          <a:xfrm>
            <a:off x="353880" y="4941720"/>
            <a:ext cx="8674200" cy="936720"/>
            <a:chOff x="353880" y="4941720"/>
            <a:chExt cx="8674200" cy="936720"/>
          </a:xfrm>
        </p:grpSpPr>
        <p:sp>
          <p:nvSpPr>
            <p:cNvPr id="821" name="Rectangle 17"/>
            <p:cNvSpPr/>
            <p:nvPr/>
          </p:nvSpPr>
          <p:spPr>
            <a:xfrm>
              <a:off x="353880" y="4941720"/>
              <a:ext cx="8674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- из условия предотвращения поломок колонн труб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Object 2"/>
                <p:cNvSpPr txBox="1"/>
                <p:nvPr/>
              </p:nvSpPr>
              <p:spPr>
                <a:xfrm>
                  <a:off x="3705120" y="5157720"/>
                  <a:ext cx="15703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</m:num>
                        <m:den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изг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3" name="Rectangle 19"/>
          <p:cNvSpPr/>
          <p:nvPr/>
        </p:nvSpPr>
        <p:spPr>
          <a:xfrm>
            <a:off x="461880" y="5900760"/>
            <a:ext cx="8502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уль упругости;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пустимое напряжение изги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20"/>
          <p:cNvSpPr/>
          <p:nvPr/>
        </p:nvSpPr>
        <p:spPr>
          <a:xfrm>
            <a:off x="250920" y="449280"/>
            <a:ext cx="86421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ый радиус кривизны ствола R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 по следующим формул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з условия проходимости оборудования и инструмента по скважи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5"/>
              <p:cNvSpPr txBox="1"/>
              <p:nvPr/>
            </p:nvSpPr>
            <p:spPr>
              <a:xfrm>
                <a:off x="3311640" y="1542960"/>
                <a:ext cx="1981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6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8"/>
          <p:cNvSpPr/>
          <p:nvPr/>
        </p:nvSpPr>
        <p:spPr>
          <a:xfrm>
            <a:off x="179280" y="549360"/>
            <a:ext cx="885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ранее пробуренным скважинам определяютс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кономерности искри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влияние на него различных фак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хеме кустования или структурной карте и геологическим разрезам определяются проектный азимут скважины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лубина скважины по вертикал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ектный отхо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меще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ется конечна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лубина верхнего  вертикального участ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ыбирается КНБ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беспечивающая необходимую интенсивность искусственного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дится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счет профи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.е. определяются зенитные углы в начале и в конце каждого интервала и величины проекций каждого интервала на горизонтальную и вертикальную плоскости, а также длина каждого интервала по оси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0" y="1159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расчета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11" descr=""/>
          <p:cNvPicPr/>
          <p:nvPr/>
        </p:nvPicPr>
        <p:blipFill>
          <a:blip r:embed="rId1"/>
          <a:srcRect l="5306" t="3524" r="2879" b="0"/>
          <a:stretch/>
        </p:blipFill>
        <p:spPr>
          <a:xfrm>
            <a:off x="250920" y="692280"/>
            <a:ext cx="4033800" cy="57610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2"/>
          <p:cNvSpPr/>
          <p:nvPr/>
        </p:nvSpPr>
        <p:spPr>
          <a:xfrm>
            <a:off x="0" y="1159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ктирование по номограм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284720" y="2133720"/>
            <a:ext cx="48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Исходные дан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бина скважины по вертика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ход скважи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нитный угол в конце интервала наб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86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1"/>
          <a:stretch/>
        </p:blipFill>
        <p:spPr>
          <a:xfrm>
            <a:off x="536400" y="2633760"/>
            <a:ext cx="8369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50560" y="83664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Направленное бурение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- это бурение скважин с использованием закономерностей естественного искривления и с помощью технологических приемов и технических средств для вывода скважины в заданную точку. При этом искривление скважины обязательно подвергается контролю и управлению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50920" y="3357720"/>
            <a:ext cx="86421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«Направленное бурение является скорее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искусством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чем наукой, поскольку в нем нет жестких формул и номограмм, подтверждающих правильность и однозначность выбора решения. При этом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не существует замены человеку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который, ведя направленное бурение, представляет условия, существующие на забое скважины, и знает, каким способом вывести скважину в нужном направлении. Этому искусству или мастерству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может быть обучен далеко не каждый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. Для этого требуется скорее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талантливый</a:t>
            </a:r>
            <a:r>
              <a:rPr b="1" i="1" lang="ru-RU" sz="2000" spc="-1" strike="noStrike">
                <a:solidFill>
                  <a:srgbClr val="003300"/>
                </a:solidFill>
                <a:latin typeface="Century Gothic"/>
              </a:rPr>
              <a:t>, чем образованный челове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160720" y="5877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1098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рицательные послед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скривления сква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95280" y="836640"/>
            <a:ext cx="851544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ый износ инстру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е нагрузки на крю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ый расход мощности на вращение колон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ые нагрузки на забойные двигатели, УБТ, бурильные трубы за счет изги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ньшение устойчивости стенок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ование желобных выработок в ств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линение скваж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ые затраты времени на измерение искри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324000" y="711360"/>
            <a:ext cx="85150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под море, озера и искусственные соору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с площадок ограниченных размеров по условиям релье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крутопадающих залежей углеводор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стовое бу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горизонтальных скваж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дополнительных стволов из бездействующих скваж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забойное (радиальное) бу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ение с морских буровых платформ и насыпны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ход мест сложных ава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ход зон обвалов, погло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шение фонта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ласти применения направленного бу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" descr="http://cs418428.vk.me/v418428164/7160/Czqz88dA4RI.jpg"/>
          <p:cNvPicPr/>
          <p:nvPr/>
        </p:nvPicPr>
        <p:blipFill>
          <a:blip r:embed="rId1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651640" y="4365360"/>
            <a:ext cx="295272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Профиль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План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Длина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Глубина по вертикали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Отход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Century Gothic"/>
              </a:rPr>
              <a:t>Зенитный угол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6" descr=""/>
          <p:cNvPicPr/>
          <p:nvPr/>
        </p:nvPicPr>
        <p:blipFill>
          <a:blip r:embed="rId1"/>
          <a:stretch/>
        </p:blipFill>
        <p:spPr>
          <a:xfrm>
            <a:off x="515880" y="765000"/>
            <a:ext cx="1596960" cy="3527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"/>
          <p:cNvPicPr/>
          <p:nvPr/>
        </p:nvPicPr>
        <p:blipFill>
          <a:blip r:embed="rId2"/>
          <a:stretch/>
        </p:blipFill>
        <p:spPr>
          <a:xfrm>
            <a:off x="6996240" y="765000"/>
            <a:ext cx="1608120" cy="3527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"/>
          <p:cNvPicPr/>
          <p:nvPr/>
        </p:nvPicPr>
        <p:blipFill>
          <a:blip r:embed="rId3"/>
          <a:stretch/>
        </p:blipFill>
        <p:spPr>
          <a:xfrm>
            <a:off x="5411880" y="765000"/>
            <a:ext cx="1619280" cy="3527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"/>
          <p:cNvPicPr/>
          <p:nvPr/>
        </p:nvPicPr>
        <p:blipFill>
          <a:blip r:embed="rId4"/>
          <a:stretch/>
        </p:blipFill>
        <p:spPr>
          <a:xfrm>
            <a:off x="3755880" y="765000"/>
            <a:ext cx="1676520" cy="3527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"/>
          <p:cNvPicPr/>
          <p:nvPr/>
        </p:nvPicPr>
        <p:blipFill>
          <a:blip r:embed="rId5"/>
          <a:stretch/>
        </p:blipFill>
        <p:spPr>
          <a:xfrm>
            <a:off x="2100240" y="765000"/>
            <a:ext cx="1682640" cy="352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http://pics.livejournal.com/shimerli/pic/0012k2ak"/>
          <p:cNvPicPr/>
          <p:nvPr/>
        </p:nvPicPr>
        <p:blipFill>
          <a:blip r:embed="rId6"/>
          <a:stretch/>
        </p:blipFill>
        <p:spPr>
          <a:xfrm>
            <a:off x="539640" y="4437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2"/>
          <p:cNvSpPr/>
          <p:nvPr/>
        </p:nvSpPr>
        <p:spPr>
          <a:xfrm>
            <a:off x="2704680" y="522936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йдите соответств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3"/>
          <p:cNvSpPr/>
          <p:nvPr/>
        </p:nvSpPr>
        <p:spPr>
          <a:xfrm>
            <a:off x="1549800" y="198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1334160" y="324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25"/>
          <p:cNvSpPr/>
          <p:nvPr/>
        </p:nvSpPr>
        <p:spPr>
          <a:xfrm>
            <a:off x="2662920" y="360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6"/>
          <p:cNvSpPr/>
          <p:nvPr/>
        </p:nvSpPr>
        <p:spPr>
          <a:xfrm>
            <a:off x="4534560" y="34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5726520" y="335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28"/>
          <p:cNvSpPr/>
          <p:nvPr/>
        </p:nvSpPr>
        <p:spPr>
          <a:xfrm>
            <a:off x="7703280" y="214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http://cs418428.vk.me/v418428164/7160/Czqz88dA4RI.jpg"/>
          <p:cNvPicPr/>
          <p:nvPr/>
        </p:nvPicPr>
        <p:blipFill>
          <a:blip r:embed="rId7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24000" y="765000"/>
            <a:ext cx="849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х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енитного угл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ивается либ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можностями используемого инструмента, либ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орматив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9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714920" cy="17337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0"/>
          <p:cNvSpPr/>
          <p:nvPr/>
        </p:nvSpPr>
        <p:spPr>
          <a:xfrm>
            <a:off x="118944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21"/>
          <p:cNvSpPr/>
          <p:nvPr/>
        </p:nvSpPr>
        <p:spPr>
          <a:xfrm>
            <a:off x="2989800" y="35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2"/>
          <p:cNvSpPr/>
          <p:nvPr/>
        </p:nvSpPr>
        <p:spPr>
          <a:xfrm>
            <a:off x="4790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2" descr="http://pics.livejournal.com/shimerli/pic/0012k2ak"/>
          <p:cNvPicPr/>
          <p:nvPr/>
        </p:nvPicPr>
        <p:blipFill>
          <a:blip r:embed="rId2"/>
          <a:stretch/>
        </p:blipFill>
        <p:spPr>
          <a:xfrm>
            <a:off x="5219640" y="24922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084720" y="2565360"/>
            <a:ext cx="295128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Вертикальн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Горизонтальн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240" indent="-32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Century Gothic"/>
              </a:rPr>
              <a:t>Восстающая скважина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20" descr=""/>
          <p:cNvPicPr/>
          <p:nvPr/>
        </p:nvPicPr>
        <p:blipFill>
          <a:blip r:embed="rId3"/>
          <a:stretch/>
        </p:blipFill>
        <p:spPr>
          <a:xfrm>
            <a:off x="539640" y="4395960"/>
            <a:ext cx="4753080" cy="20574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6"/>
          <p:cNvSpPr/>
          <p:nvPr/>
        </p:nvSpPr>
        <p:spPr>
          <a:xfrm>
            <a:off x="1222920" y="55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27"/>
          <p:cNvSpPr/>
          <p:nvPr/>
        </p:nvSpPr>
        <p:spPr>
          <a:xfrm>
            <a:off x="2918520" y="5189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28"/>
          <p:cNvSpPr/>
          <p:nvPr/>
        </p:nvSpPr>
        <p:spPr>
          <a:xfrm>
            <a:off x="4718520" y="554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12" descr="http://pics.livejournal.com/shimerli/pic/0012k2ak"/>
          <p:cNvPicPr/>
          <p:nvPr/>
        </p:nvPicPr>
        <p:blipFill>
          <a:blip r:embed="rId4"/>
          <a:stretch/>
        </p:blipFill>
        <p:spPr>
          <a:xfrm>
            <a:off x="5364000" y="48988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6227640" y="4970520"/>
            <a:ext cx="2952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Набор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Падение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Стабилизация зенитного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2" descr="http://cs418428.vk.me/v418428164/7160/Czqz88dA4RI.jpg"/>
          <p:cNvPicPr/>
          <p:nvPr/>
        </p:nvPicPr>
        <p:blipFill>
          <a:blip r:embed="rId5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58920" y="620640"/>
            <a:ext cx="58244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Century Gothic"/>
              </a:rPr>
              <a:t>	</a:t>
            </a:r>
            <a:r>
              <a:rPr b="1" i="1" lang="ru-RU" sz="2600" spc="-1" strike="noStrike">
                <a:solidFill>
                  <a:srgbClr val="c00000"/>
                </a:solidFill>
                <a:latin typeface="Century Gothic"/>
              </a:rPr>
              <a:t>Азимут скважины α</a:t>
            </a:r>
            <a:r>
              <a:rPr b="0" lang="ru-RU" sz="2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угол между направлением на север и горизонтальной проекцией оси скважины, или касательной к ней, измеренный по часовой стрелк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Rectangle 17"/>
          <p:cNvSpPr/>
          <p:nvPr/>
        </p:nvSpPr>
        <p:spPr>
          <a:xfrm>
            <a:off x="3203640" y="1989000"/>
            <a:ext cx="576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зимут скважины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яется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еделах от 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 36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агнит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магнитного мериди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тин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географического меридиана. Угол между магнитным и географическими меридианом называе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клонен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словный азиму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яется от направления, принятого условно за север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27"/>
          <p:cNvGrpSpPr/>
          <p:nvPr/>
        </p:nvGrpSpPr>
        <p:grpSpPr>
          <a:xfrm>
            <a:off x="755640" y="765000"/>
            <a:ext cx="2303640" cy="2303280"/>
            <a:chOff x="755640" y="765000"/>
            <a:chExt cx="2303640" cy="2303280"/>
          </a:xfrm>
        </p:grpSpPr>
        <p:sp>
          <p:nvSpPr>
            <p:cNvPr id="378" name="Freeform 9"/>
            <p:cNvSpPr/>
            <p:nvPr/>
          </p:nvSpPr>
          <p:spPr>
            <a:xfrm>
              <a:off x="798120" y="1359360"/>
              <a:ext cx="2261160" cy="16340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1634040"/>
                <a:gd name="textAreaBottom" fmla="*/ 1634400 h 1634040"/>
              </a:gdLst>
              <a:ahLst/>
              <a:rect l="textAreaLeft" t="textAreaTop" r="textAreaRight" b="textAreaBottom"/>
              <a:pathLst>
                <a:path w="1545" h="1111">
                  <a:moveTo>
                    <a:pt x="1545" y="0"/>
                  </a:moveTo>
                  <a:cubicBezTo>
                    <a:pt x="1480" y="13"/>
                    <a:pt x="1299" y="14"/>
                    <a:pt x="1156" y="66"/>
                  </a:cubicBezTo>
                  <a:cubicBezTo>
                    <a:pt x="1013" y="118"/>
                    <a:pt x="835" y="211"/>
                    <a:pt x="689" y="311"/>
                  </a:cubicBezTo>
                  <a:cubicBezTo>
                    <a:pt x="543" y="411"/>
                    <a:pt x="393" y="533"/>
                    <a:pt x="278" y="666"/>
                  </a:cubicBezTo>
                  <a:cubicBezTo>
                    <a:pt x="163" y="799"/>
                    <a:pt x="58" y="1018"/>
                    <a:pt x="0" y="1111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755640" y="2991600"/>
              <a:ext cx="75960" cy="76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1"/>
            <p:cNvSpPr/>
            <p:nvPr/>
          </p:nvSpPr>
          <p:spPr>
            <a:xfrm flipV="1">
              <a:off x="828360" y="1054440"/>
              <a:ext cx="2177640" cy="1341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1860480" y="837000"/>
              <a:ext cx="0" cy="162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rc 23"/>
            <p:cNvSpPr/>
            <p:nvPr/>
          </p:nvSpPr>
          <p:spPr>
            <a:xfrm>
              <a:off x="1876680" y="1503360"/>
              <a:ext cx="232560" cy="774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25"/>
            <p:cNvSpPr/>
            <p:nvPr/>
          </p:nvSpPr>
          <p:spPr>
            <a:xfrm>
              <a:off x="1818000" y="1092600"/>
              <a:ext cx="491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1416960" y="76500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"/>
          <p:cNvSpPr/>
          <p:nvPr/>
        </p:nvSpPr>
        <p:spPr>
          <a:xfrm>
            <a:off x="0" y="25596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рмины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40"/>
          <p:cNvGrpSpPr/>
          <p:nvPr/>
        </p:nvGrpSpPr>
        <p:grpSpPr>
          <a:xfrm>
            <a:off x="468360" y="3284640"/>
            <a:ext cx="2440440" cy="1512360"/>
            <a:chOff x="468360" y="3284640"/>
            <a:chExt cx="2440440" cy="1512360"/>
          </a:xfrm>
        </p:grpSpPr>
        <p:sp>
          <p:nvSpPr>
            <p:cNvPr id="387" name="Text Box 19"/>
            <p:cNvSpPr/>
            <p:nvPr/>
          </p:nvSpPr>
          <p:spPr>
            <a:xfrm>
              <a:off x="1885320" y="3284640"/>
              <a:ext cx="40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518760" y="3977640"/>
              <a:ext cx="2324160" cy="76356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22" h="572">
                  <a:moveTo>
                    <a:pt x="1922" y="195"/>
                  </a:moveTo>
                  <a:cubicBezTo>
                    <a:pt x="1842" y="168"/>
                    <a:pt x="1555" y="62"/>
                    <a:pt x="1436" y="31"/>
                  </a:cubicBezTo>
                  <a:cubicBezTo>
                    <a:pt x="1317" y="0"/>
                    <a:pt x="1268" y="12"/>
                    <a:pt x="1208" y="9"/>
                  </a:cubicBezTo>
                  <a:cubicBezTo>
                    <a:pt x="1148" y="6"/>
                    <a:pt x="1127" y="10"/>
                    <a:pt x="1076" y="15"/>
                  </a:cubicBezTo>
                  <a:cubicBezTo>
                    <a:pt x="1025" y="20"/>
                    <a:pt x="1014" y="7"/>
                    <a:pt x="900" y="39"/>
                  </a:cubicBezTo>
                  <a:cubicBezTo>
                    <a:pt x="786" y="71"/>
                    <a:pt x="539" y="117"/>
                    <a:pt x="389" y="206"/>
                  </a:cubicBezTo>
                  <a:cubicBezTo>
                    <a:pt x="239" y="295"/>
                    <a:pt x="81" y="496"/>
                    <a:pt x="0" y="572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8360" y="4727880"/>
              <a:ext cx="63000" cy="6912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1022040" y="3381840"/>
              <a:ext cx="1080" cy="119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2"/>
            <p:cNvSpPr/>
            <p:nvPr/>
          </p:nvSpPr>
          <p:spPr>
            <a:xfrm>
              <a:off x="950760" y="3663720"/>
              <a:ext cx="4060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>
              <a:off x="648360" y="3309840"/>
              <a:ext cx="40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5"/>
            <p:cNvSpPr/>
            <p:nvPr/>
          </p:nvSpPr>
          <p:spPr>
            <a:xfrm flipV="1">
              <a:off x="489960" y="3842640"/>
              <a:ext cx="1089360" cy="69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rc 16"/>
            <p:cNvSpPr/>
            <p:nvPr/>
          </p:nvSpPr>
          <p:spPr>
            <a:xfrm>
              <a:off x="1022040" y="4050720"/>
              <a:ext cx="120600" cy="66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7"/>
            <p:cNvSpPr/>
            <p:nvPr/>
          </p:nvSpPr>
          <p:spPr>
            <a:xfrm>
              <a:off x="2272680" y="3341880"/>
              <a:ext cx="0" cy="1141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8"/>
            <p:cNvSpPr/>
            <p:nvPr/>
          </p:nvSpPr>
          <p:spPr>
            <a:xfrm>
              <a:off x="2262600" y="3631320"/>
              <a:ext cx="4060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"/>
            <p:cNvSpPr/>
            <p:nvPr/>
          </p:nvSpPr>
          <p:spPr>
            <a:xfrm>
              <a:off x="1717920" y="3826800"/>
              <a:ext cx="1190880" cy="36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Arc 21"/>
            <p:cNvSpPr/>
            <p:nvPr/>
          </p:nvSpPr>
          <p:spPr>
            <a:xfrm rot="1144800">
              <a:off x="2257560" y="3930120"/>
              <a:ext cx="120600" cy="66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39"/>
          <p:cNvGrpSpPr/>
          <p:nvPr/>
        </p:nvGrpSpPr>
        <p:grpSpPr>
          <a:xfrm>
            <a:off x="395280" y="4869000"/>
            <a:ext cx="2649960" cy="1537560"/>
            <a:chOff x="395280" y="4869000"/>
            <a:chExt cx="2649960" cy="1537560"/>
          </a:xfrm>
        </p:grpSpPr>
        <p:sp>
          <p:nvSpPr>
            <p:cNvPr id="400" name="Freeform 24"/>
            <p:cNvSpPr/>
            <p:nvPr/>
          </p:nvSpPr>
          <p:spPr>
            <a:xfrm>
              <a:off x="436320" y="5248800"/>
              <a:ext cx="2552400" cy="790200"/>
            </a:xfrm>
            <a:custGeom>
              <a:avLst/>
              <a:gdLst>
                <a:gd name="textAreaLeft" fmla="*/ 0 w 2552400"/>
                <a:gd name="textAreaRight" fmla="*/ 2552760 w 255240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1922" h="601">
                  <a:moveTo>
                    <a:pt x="1922" y="0"/>
                  </a:moveTo>
                  <a:cubicBezTo>
                    <a:pt x="1864" y="54"/>
                    <a:pt x="1662" y="249"/>
                    <a:pt x="1573" y="323"/>
                  </a:cubicBezTo>
                  <a:cubicBezTo>
                    <a:pt x="1484" y="397"/>
                    <a:pt x="1443" y="413"/>
                    <a:pt x="1385" y="443"/>
                  </a:cubicBezTo>
                  <a:cubicBezTo>
                    <a:pt x="1327" y="473"/>
                    <a:pt x="1281" y="485"/>
                    <a:pt x="1225" y="503"/>
                  </a:cubicBezTo>
                  <a:cubicBezTo>
                    <a:pt x="1169" y="521"/>
                    <a:pt x="1110" y="540"/>
                    <a:pt x="1049" y="551"/>
                  </a:cubicBezTo>
                  <a:cubicBezTo>
                    <a:pt x="988" y="562"/>
                    <a:pt x="953" y="568"/>
                    <a:pt x="861" y="571"/>
                  </a:cubicBezTo>
                  <a:cubicBezTo>
                    <a:pt x="769" y="574"/>
                    <a:pt x="641" y="601"/>
                    <a:pt x="498" y="569"/>
                  </a:cubicBezTo>
                  <a:cubicBezTo>
                    <a:pt x="355" y="537"/>
                    <a:pt x="103" y="416"/>
                    <a:pt x="0" y="377"/>
                  </a:cubicBezTo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25"/>
            <p:cNvSpPr/>
            <p:nvPr/>
          </p:nvSpPr>
          <p:spPr>
            <a:xfrm>
              <a:off x="395280" y="5709960"/>
              <a:ext cx="69120" cy="68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6"/>
            <p:cNvSpPr/>
            <p:nvPr/>
          </p:nvSpPr>
          <p:spPr>
            <a:xfrm>
              <a:off x="1038240" y="5005800"/>
              <a:ext cx="1080" cy="1180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27"/>
            <p:cNvSpPr/>
            <p:nvPr/>
          </p:nvSpPr>
          <p:spPr>
            <a:xfrm>
              <a:off x="1097640" y="5498280"/>
              <a:ext cx="4460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8"/>
            <p:cNvSpPr/>
            <p:nvPr/>
          </p:nvSpPr>
          <p:spPr>
            <a:xfrm>
              <a:off x="680760" y="4918680"/>
              <a:ext cx="44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9"/>
            <p:cNvSpPr/>
            <p:nvPr/>
          </p:nvSpPr>
          <p:spPr>
            <a:xfrm>
              <a:off x="438480" y="5822280"/>
              <a:ext cx="1315800" cy="377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>
              <a:off x="2485440" y="4943520"/>
              <a:ext cx="0" cy="1123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2437920" y="5061960"/>
              <a:ext cx="445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ru-RU" sz="2500" spc="-1" strike="noStrike" baseline="-25000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2104560" y="4869000"/>
              <a:ext cx="445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4"/>
            <p:cNvSpPr/>
            <p:nvPr/>
          </p:nvSpPr>
          <p:spPr>
            <a:xfrm flipV="1">
              <a:off x="1982520" y="5362200"/>
              <a:ext cx="1062720" cy="690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rc 36"/>
            <p:cNvSpPr/>
            <p:nvPr/>
          </p:nvSpPr>
          <p:spPr>
            <a:xfrm>
              <a:off x="1040400" y="5796720"/>
              <a:ext cx="246960" cy="2628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fill="none" w="27912" h="22525">
                  <a:moveTo>
                    <a:pt x="-1" y="942"/>
                  </a:moveTo>
                  <a:cubicBezTo>
                    <a:pt x="2045" y="317"/>
                    <a:pt x="4172" y="-1"/>
                    <a:pt x="6312" y="0"/>
                  </a:cubicBezTo>
                  <a:cubicBezTo>
                    <a:pt x="18241" y="0"/>
                    <a:pt x="27912" y="9670"/>
                    <a:pt x="27912" y="21600"/>
                  </a:cubicBezTo>
                  <a:cubicBezTo>
                    <a:pt x="27912" y="21908"/>
                    <a:pt x="27905" y="22216"/>
                    <a:pt x="27892" y="22525"/>
                  </a:cubicBezTo>
                </a:path>
                <a:path stroke="0" w="27912" h="22525">
                  <a:moveTo>
                    <a:pt x="-1" y="942"/>
                  </a:moveTo>
                  <a:cubicBezTo>
                    <a:pt x="2045" y="317"/>
                    <a:pt x="4172" y="-1"/>
                    <a:pt x="6312" y="0"/>
                  </a:cubicBezTo>
                  <a:cubicBezTo>
                    <a:pt x="18241" y="0"/>
                    <a:pt x="27912" y="9670"/>
                    <a:pt x="27912" y="21600"/>
                  </a:cubicBezTo>
                  <a:cubicBezTo>
                    <a:pt x="27912" y="21908"/>
                    <a:pt x="27905" y="22216"/>
                    <a:pt x="27892" y="22525"/>
                  </a:cubicBezTo>
                  <a:lnTo>
                    <a:pt x="6312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rc 38"/>
            <p:cNvSpPr/>
            <p:nvPr/>
          </p:nvSpPr>
          <p:spPr>
            <a:xfrm>
              <a:off x="2488320" y="5426280"/>
              <a:ext cx="254880" cy="1260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Box 39"/>
          <p:cNvSpPr/>
          <p:nvPr/>
        </p:nvSpPr>
        <p:spPr>
          <a:xfrm>
            <a:off x="118944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0"/>
          <p:cNvSpPr/>
          <p:nvPr/>
        </p:nvSpPr>
        <p:spPr>
          <a:xfrm>
            <a:off x="162144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2" descr="http://pics.livejournal.com/shimerli/pic/0012k2ak"/>
          <p:cNvPicPr/>
          <p:nvPr/>
        </p:nvPicPr>
        <p:blipFill>
          <a:blip r:embed="rId1"/>
          <a:stretch/>
        </p:blipFill>
        <p:spPr>
          <a:xfrm>
            <a:off x="3419640" y="4653000"/>
            <a:ext cx="1657080" cy="1655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4932360" y="4898880"/>
            <a:ext cx="38163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Искривление вправо по азим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Искривление влево по азим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679240" y="63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7813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http://cs418428.vk.me/v418428164/7160/Czqz88dA4RI.jpg"/>
          <p:cNvPicPr/>
          <p:nvPr/>
        </p:nvPicPr>
        <p:blipFill>
          <a:blip r:embed="rId2"/>
          <a:stretch/>
        </p:blipFill>
        <p:spPr>
          <a:xfrm>
            <a:off x="0" y="0"/>
            <a:ext cx="687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5:18:27Z</dcterms:created>
  <dc:creator>none</dc:creator>
  <dc:description/>
  <dc:language>en-US</dc:language>
  <cp:lastModifiedBy>User</cp:lastModifiedBy>
  <dcterms:modified xsi:type="dcterms:W3CDTF">2015-06-11T04:22:13Z</dcterms:modified>
  <cp:revision>221</cp:revision>
  <dc:subject/>
  <dc:title>Титульный</dc:title>
</cp:coreProperties>
</file>