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F1E4-40F9-412E-B8DB-7E30AB7FE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900A-98A3-4EA8-B2AE-BE580CA9B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F337-AF53-48DC-88C9-C2A9EBF14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BF31-72D1-44DE-B2E6-370B4A1E4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10404-C68D-4E80-8DAF-D0EFC6593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6708B-9569-4EDF-B53C-769AF4B89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C03A8-42A7-42B3-AAE6-91A0FB996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E16A5-6EB8-4A8B-A9F8-70BE0E3FB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81330-E21E-4340-A6AF-1F2A09FFD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6CEC1-8D8D-45F7-8E31-E6480D90C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905EB-5B6A-4699-92D9-1CEFA19F7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D2BC-BA81-468C-B1CB-6F7815373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48A68-8D78-4C0D-933F-E43AD8D15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13247-4CA4-42AA-9FD2-6A2F5919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21652-C12B-41C9-9E7C-B84F50DA5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05532-841F-4542-90C6-EC6B13B8B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55EC9-AC9F-4825-99CB-C0C84D010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6A24-183F-4FF3-AED8-840325FB1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65EF-9152-4E16-8665-E6DD38E36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AB61-01F6-444C-885D-47403583C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C569-BA2E-4A66-80E6-193C1B6B2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E42E-8E65-457D-87C8-B2A824C1C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0A28-8D46-48C8-A0AB-AA4AF1104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F94D-061A-497D-A146-7578FF777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44C57-7B63-40FF-BA06-647B7DD9A9B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FDBC8-2D06-4728-BE53-6DF06B28A3B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npath.ru/wonders/nature/view/auyantepui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vodopad.nm.ru/Great/Niagara.htm" TargetMode="External"/><Relationship Id="rId2" Type="http://schemas.openxmlformats.org/officeDocument/2006/relationships/hyperlink" Target="http://vodopad.nm.ru/Great/Victoria.htm" TargetMode="External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15476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чебный проект учащихся 7 класс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БОУ «СОШ с. Таловка Калининского района Саратов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Picture 4" descr="Парана"/>
          <p:cNvPicPr/>
          <p:nvPr/>
        </p:nvPicPr>
        <p:blipFill>
          <a:blip r:embed="rId1"/>
          <a:stretch/>
        </p:blipFill>
        <p:spPr>
          <a:xfrm>
            <a:off x="1332000" y="1700280"/>
            <a:ext cx="6694560" cy="3959280"/>
          </a:xfrm>
          <a:prstGeom prst="rect">
            <a:avLst/>
          </a:prstGeom>
          <a:ln w="57240">
            <a:solidFill>
              <a:srgbClr val="000099"/>
            </a:solidFill>
            <a:miter/>
          </a:ln>
        </p:spPr>
      </p:pic>
      <p:sp>
        <p:nvSpPr>
          <p:cNvPr id="213" name="WordArt 6"/>
          <p:cNvSpPr txBox="1"/>
          <p:nvPr/>
        </p:nvSpPr>
        <p:spPr>
          <a:xfrm>
            <a:off x="611280" y="189000"/>
            <a:ext cx="7772400" cy="1736640"/>
          </a:xfrm>
          <a:prstGeom prst="rect">
            <a:avLst/>
          </a:prstGeom>
        </p:spPr>
        <p:txBody>
          <a:bodyPr wrap="none" lIns="90000" rIns="90000" tIns="46800" bIns="46800" anchor="b" anchorCtr="1">
            <a:prstTxWarp prst="textDoubleWave1">
              <a:avLst>
                <a:gd name="adj1" fmla="val 2778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Гидрография</a:t>
            </a:r>
            <a:endParaRPr b="0" lang="en-US" sz="1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арана на всем своем протяжении часто преодолевает многочисленные пороги, образуя при этом красивые водопады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ети – Кедас – это несколько водопадов и порогов в нижнем течении реки Пара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4" descr="парана"/>
          <p:cNvPicPr/>
          <p:nvPr/>
        </p:nvPicPr>
        <p:blipFill>
          <a:blip r:embed="rId1"/>
          <a:stretch/>
        </p:blipFill>
        <p:spPr>
          <a:xfrm>
            <a:off x="4857840" y="2286000"/>
            <a:ext cx="4071960" cy="42861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5" descr="800px-Barragem_Sete_Quedas_2_Mairipor"/>
          <p:cNvPicPr/>
          <p:nvPr/>
        </p:nvPicPr>
        <p:blipFill>
          <a:blip r:embed="rId2"/>
          <a:stretch/>
        </p:blipFill>
        <p:spPr>
          <a:xfrm>
            <a:off x="214200" y="2286000"/>
            <a:ext cx="442908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РИНОКО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риноко - третья по длине река в Южной Америке, при впадении в Атлантический океан образует обширную дельту. Каждая из протоков имеет свой цвет и состав воды, и свою экосистему, поэтому реки делятся на "черные" и "белые". В дельте Ориноко обитают огромные популяции птиц (более 350 видов), более 120 видов млекопитающих, в том числе обезьян, более 1300 видов растений. Любителей экстрима увлечет возможность плавания в реках, населенных пираньями. Интересно знакомство с бытом и традициями индейских племен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ельта реки Ориноко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4" descr="delta-del-orinoco[2]"/>
          <p:cNvPicPr/>
          <p:nvPr/>
        </p:nvPicPr>
        <p:blipFill>
          <a:blip r:embed="rId1"/>
          <a:stretch/>
        </p:blipFill>
        <p:spPr>
          <a:xfrm>
            <a:off x="285840" y="1357200"/>
            <a:ext cx="85723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 реке можно повстречать красивейшие места</a:t>
            </a:r>
            <a:br>
              <a:rPr sz="28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ид на бере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Picture 4" descr="1262872597"/>
          <p:cNvPicPr/>
          <p:nvPr/>
        </p:nvPicPr>
        <p:blipFill>
          <a:blip r:embed="rId1"/>
          <a:stretch/>
        </p:blipFill>
        <p:spPr>
          <a:xfrm>
            <a:off x="285840" y="1339920"/>
            <a:ext cx="8572320" cy="52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В Южной Америке находится самый высокий водопад в мире — Анхель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На материке располагается и самый мощный водопад — Игуасу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WordArt 5"/>
          <p:cNvSpPr txBox="1"/>
          <p:nvPr/>
        </p:nvSpPr>
        <p:spPr>
          <a:xfrm>
            <a:off x="457200" y="277920"/>
            <a:ext cx="8229600" cy="11397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допады</a:t>
            </a:r>
            <a:endParaRPr b="0" lang="en-US" sz="16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50" name="Picture 6" descr="i[3]"/>
          <p:cNvPicPr/>
          <p:nvPr/>
        </p:nvPicPr>
        <p:blipFill>
          <a:blip r:embed="rId3"/>
          <a:stretch/>
        </p:blipFill>
        <p:spPr>
          <a:xfrm>
            <a:off x="4932360" y="1557360"/>
            <a:ext cx="4048200" cy="30351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7" descr="игуасу"/>
          <p:cNvPicPr/>
          <p:nvPr/>
        </p:nvPicPr>
        <p:blipFill>
          <a:blip r:embed="rId4"/>
          <a:stretch/>
        </p:blipFill>
        <p:spPr>
          <a:xfrm>
            <a:off x="357120" y="3860640"/>
            <a:ext cx="4330800" cy="27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ОДОПАД  АНХЕЛЬ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допад Анхель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Angel Falls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 считается самым высоким водопадом в мире высота падения воды составляет 1054 метра, расположен в Венесуэле. Водопад входит в состав национального парка Канайм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точником водопада Анхель является река Чурун и столовая гора (или тепуи – гора с плоской вершиной) под названием </a:t>
            </a:r>
            <a:r>
              <a:rPr b="0" lang="ru-RU" sz="24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Ауянтепу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первые водопад Анхель был обнаружен в 1910 году Эрнесто Ла Крусом. А известен стал после того как Джеймс Энджел (Angel) приземлился на самолете на его вершин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допад назван в его честь. Энджел (Angel) по-испански звучит как Анхел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ИД  ВОДОПАДА  АНХЕЛЬ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0800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допад по высот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21 раз превосходи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соту прославленног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иагарского водопа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мериканцы называю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го « восьмым чуд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вет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Picture 4" descr="image007"/>
          <p:cNvPicPr/>
          <p:nvPr/>
        </p:nvPicPr>
        <p:blipFill>
          <a:blip r:embed="rId1"/>
          <a:stretch/>
        </p:blipFill>
        <p:spPr>
          <a:xfrm>
            <a:off x="3071880" y="1357200"/>
            <a:ext cx="585792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ХЕЛЬ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Picture 4" descr="image019"/>
          <p:cNvPicPr/>
          <p:nvPr/>
        </p:nvPicPr>
        <p:blipFill>
          <a:blip r:embed="rId1"/>
          <a:stretch/>
        </p:blipFill>
        <p:spPr>
          <a:xfrm>
            <a:off x="214200" y="1143000"/>
            <a:ext cx="3786480" cy="55008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5" descr="nature-042"/>
          <p:cNvPicPr/>
          <p:nvPr/>
        </p:nvPicPr>
        <p:blipFill>
          <a:blip r:embed="rId2"/>
          <a:stretch/>
        </p:blipFill>
        <p:spPr>
          <a:xfrm>
            <a:off x="4214880" y="1143000"/>
            <a:ext cx="47149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ОДОПАД  ИГУАСУ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85480" y="2356920"/>
            <a:ext cx="86994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допад Игуасу - один из самых больших в мире и самых известных водопадов. Он расположен приблизительно в 24 километрах от того места, где река Игуасу впадает в Парану и находится на границе Аргентины и Бразили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4"/>
          <p:cNvSpPr/>
          <p:nvPr/>
        </p:nvSpPr>
        <p:spPr>
          <a:xfrm>
            <a:off x="642960" y="3795840"/>
            <a:ext cx="8501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Игуасу состоит из 275 водопадов более чем 3 км общей ширины и 80 м высоты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то делает его шире, чем водопад Виктория, выше, чем Ниагарский водопад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красивее, чем каждый из них. Слово "Игуасу" на местном языке означае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"большая вода"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допад Игуасу - мировая достопримечательнос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амую глубокую часть водопада называют 'Гарганта до Диабло', или 'Горло Дьявола'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Picture 5" descr="IGUAZU_PARAGUAY"/>
          <p:cNvPicPr/>
          <p:nvPr/>
        </p:nvPicPr>
        <p:blipFill>
          <a:blip r:embed="rId1"/>
          <a:stretch/>
        </p:blipFill>
        <p:spPr>
          <a:xfrm>
            <a:off x="250920" y="142920"/>
            <a:ext cx="4106880" cy="22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ec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допад Игуасу - один из самых захватывающих водопадов в мире. Река Игуасу извергает в среднем 1700 кубических метров воды в секунду, больше чем </a:t>
            </a:r>
            <a:r>
              <a:rPr b="0" lang="ru-RU" sz="18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Ниагарский водопад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ru-RU" sz="18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водопад Виктори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вместе взятые. 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6" name="kart" descr="Водопад Игуасу - панорама"/>
          <p:cNvPicPr/>
          <p:nvPr/>
        </p:nvPicPr>
        <p:blipFill>
          <a:blip r:embed="rId3"/>
          <a:stretch/>
        </p:blipFill>
        <p:spPr>
          <a:xfrm>
            <a:off x="285840" y="1484280"/>
            <a:ext cx="8643960" cy="52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ВНУТРЕННИЕ ВОДЫ  ЮЖНОЙ АМЕРИКИ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ак как Южная Америка самый влажный материк планеты, речной сток в два раза больше, чем в среднем на Земле. Крупнейшие речные системы материка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Амазонк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Ориноко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Паран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относятся к бассейну Атлантического океана. Протекающие по низменностям реки очень широки и полноводны, имеют многочисленные притоки. Питание рек преимущественно дождевое, иногда грунтовое. Реки, протекая по плоскогорьям (вернее начинаясь), образуют многочисленные пороги и водопады. В речной системе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Ориноко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находится самый высокий водопад на Земле –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Анхель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его высота 1054 м. В системе реки Парана находится водопад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Игуасу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– один из самых красивейших водопадов Земли, его составляют 275 падающих струй и протоков. Реки бассейна Тихого океана – очень бурные, с большой скоростью течения, имеющие много порогов и водопадов, – не столь значительны по своим размерам, но очень многочисленны. Так же, как и у рек востока материка, в питании западных рек преобладает дождевое питание, и лишь на юге преимущественно – ледников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зёра-старицы наиболее многочисленны в поймах равнинных рек (Амазонки, Ориноко, Параны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зеро-лагуна Маракайбо – самое большое из таких озёр Земли, находится на севере материк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ктоническое озеро Титикака – самое высокогорное из крупных озёр мира, оно расположено на высоте 3812 м над уровнем моря, а его глубина достигает 304 м, температура воды не поднимается выше 11–12 °С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Андах распространено современное оледенение, на севере ледники лежат на высоте 5000 м, а на юге некоторые ледники спускаются с гор к водам Тихого океа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допад был открыт в 1541г. испанским конкистадором доном Альваро Нуньесом Касесо де Вака, отправившимся в южноамериканские джунгли на поиски золота и приключений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8" name="kart" descr="Водопад Игуасу - каскад"/>
          <p:cNvPicPr/>
          <p:nvPr/>
        </p:nvPicPr>
        <p:blipFill>
          <a:blip r:embed="rId1"/>
          <a:stretch/>
        </p:blipFill>
        <p:spPr>
          <a:xfrm>
            <a:off x="142920" y="1628640"/>
            <a:ext cx="3666960" cy="50151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5" descr="игуасу"/>
          <p:cNvPicPr/>
          <p:nvPr/>
        </p:nvPicPr>
        <p:blipFill>
          <a:blip r:embed="rId2"/>
          <a:stretch/>
        </p:blipFill>
        <p:spPr>
          <a:xfrm>
            <a:off x="3929040" y="1643040"/>
            <a:ext cx="500076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 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допад Игуасу - одна из самых больших мировых достопримечательностей. Тысячи людей со всех континентов ежедневно толпятся на мостках, построенных на берегах реки Игуасу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1" name="Picture 4" descr="Водопад Игуасу - Горло Дьявола"/>
          <p:cNvPicPr/>
          <p:nvPr/>
        </p:nvPicPr>
        <p:blipFill>
          <a:blip r:embed="rId1"/>
          <a:stretch/>
        </p:blipFill>
        <p:spPr>
          <a:xfrm>
            <a:off x="214200" y="1714680"/>
            <a:ext cx="871560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ЗЕРО  ТИТИКАКА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итикака - не только крупнейшее озеро Южной Америки, но и самое высокое из судоходных озёр в мире. Озеро расположено на высоте 3820м над уровнем моря, на границе Перу и Боливии, на плоскогорье Альтиплано, причём Перу принадлежитоколо 60%, а Боливии около 40% его площади. Средняя глубина озера 150м, максимальная 287м; температура воды в центре озера практически неизменна и составляет 10-12"С, но у берегов озеро нередко замерзает ночью.Проще говоря, купание в Титикаке удовольствия не доставляет.</a:t>
            </a:r>
            <a:br>
              <a:rPr sz="2000"/>
            </a:b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Picture 4" descr="Озеро Титикака и окружающие его ландшафты"/>
          <p:cNvPicPr/>
          <p:nvPr/>
        </p:nvPicPr>
        <p:blipFill>
          <a:blip r:embed="rId1"/>
          <a:stretch/>
        </p:blipFill>
        <p:spPr>
          <a:xfrm>
            <a:off x="642960" y="4005360"/>
            <a:ext cx="800100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229600" cy="812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Характеристика озера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95280" y="785520"/>
            <a:ext cx="8229600" cy="50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наменитое озеро Титикака располагается на границе Боливии и Перу, находится на высоте 3812 метров над уровнем моря и является самым высокогорным судоходным водоемом в мире. Средняя глубина озера около 100 метров, максимальная 281 метр, а площадь озера составляет около 8290 км², из которых более половины принадлежат территориям Перу. По показателю общего объема воды Титикака занимает первое место среди всех озер Южной Америки</a:t>
            </a:r>
            <a:br>
              <a:rPr sz="1800"/>
            </a:b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Picture 4" descr="Lake%20Titicaca"/>
          <p:cNvPicPr/>
          <p:nvPr/>
        </p:nvPicPr>
        <p:blipFill>
          <a:blip r:embed="rId1"/>
          <a:stretch/>
        </p:blipFill>
        <p:spPr>
          <a:xfrm>
            <a:off x="285840" y="2714760"/>
            <a:ext cx="857232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ревние народности Анд и местные жители, поддерживающие до сих пор традиции предков, считают это озеро святым. Титикака и его окрестные территории объявлены национальным заповедником, здесь обитает множество разновидностей  птиц, более 10 видов рыб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95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Picture 4" descr="Waters%20of%20Lake%20Titicaca"/>
          <p:cNvPicPr/>
          <p:nvPr/>
        </p:nvPicPr>
        <p:blipFill>
          <a:blip r:embed="rId1"/>
          <a:stretch/>
        </p:blipFill>
        <p:spPr>
          <a:xfrm>
            <a:off x="214200" y="1643040"/>
            <a:ext cx="4357800" cy="250020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5" descr="Clouds%20over%20Lake%20Titicaca"/>
          <p:cNvPicPr/>
          <p:nvPr/>
        </p:nvPicPr>
        <p:blipFill>
          <a:blip r:embed="rId2"/>
          <a:stretch/>
        </p:blipFill>
        <p:spPr>
          <a:xfrm>
            <a:off x="4929120" y="1643040"/>
            <a:ext cx="4000680" cy="50007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7" descr="Титикака - самое высокогорное судоходное озеро мира"/>
          <p:cNvPicPr/>
          <p:nvPr/>
        </p:nvPicPr>
        <p:blipFill>
          <a:blip r:embed="rId3"/>
          <a:stretch/>
        </p:blipFill>
        <p:spPr>
          <a:xfrm>
            <a:off x="214200" y="4286160"/>
            <a:ext cx="442908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Южная Америка может гордиться своими красивейшими гидроресурсами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Picture 4" descr="24748"/>
          <p:cNvPicPr/>
          <p:nvPr/>
        </p:nvPicPr>
        <p:blipFill>
          <a:blip r:embed="rId1"/>
          <a:stretch/>
        </p:blipFill>
        <p:spPr>
          <a:xfrm>
            <a:off x="4500720" y="1143000"/>
            <a:ext cx="4429080" cy="307188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5" descr="5"/>
          <p:cNvPicPr/>
          <p:nvPr/>
        </p:nvPicPr>
        <p:blipFill>
          <a:blip r:embed="rId2"/>
          <a:stretch/>
        </p:blipFill>
        <p:spPr>
          <a:xfrm>
            <a:off x="214200" y="1143000"/>
            <a:ext cx="4071960" cy="307188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6" descr="3"/>
          <p:cNvPicPr/>
          <p:nvPr/>
        </p:nvPicPr>
        <p:blipFill>
          <a:blip r:embed="rId3"/>
          <a:stretch/>
        </p:blipFill>
        <p:spPr>
          <a:xfrm>
            <a:off x="4500720" y="4437000"/>
            <a:ext cx="4429080" cy="218304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7" descr="39144426_1233693008_1688"/>
          <p:cNvPicPr/>
          <p:nvPr/>
        </p:nvPicPr>
        <p:blipFill>
          <a:blip r:embed="rId4"/>
          <a:stretch/>
        </p:blipFill>
        <p:spPr>
          <a:xfrm>
            <a:off x="179280" y="4429080"/>
            <a:ext cx="414972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Наиболее важными речными системами в Южной Америке являются Амазонка , Ориноко и Паран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Большинство озер находятся в Андах, крупнейшим из которых и высочайшим в мире судоходным озером является Титикака, на границе Боливии и Перу. Самым большим по площади является озеро Маракайбо в Венесуэле, оно также и одно из самых древних на планете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WordArt 3"/>
          <p:cNvSpPr txBox="1"/>
          <p:nvPr/>
        </p:nvSpPr>
        <p:spPr>
          <a:xfrm>
            <a:off x="457200" y="277920"/>
            <a:ext cx="8229600" cy="11397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100000">
                      <a:srgbClr val="3399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еки Южной Америки</a:t>
            </a:r>
            <a:endParaRPr b="0" lang="en-US" sz="16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100000">
                    <a:srgbClr val="3399ff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18" name="Picture 4" descr="delta-del-orinoco[2]"/>
          <p:cNvPicPr/>
          <p:nvPr/>
        </p:nvPicPr>
        <p:blipFill>
          <a:blip r:embed="rId3"/>
          <a:stretch/>
        </p:blipFill>
        <p:spPr>
          <a:xfrm>
            <a:off x="4788000" y="1484280"/>
            <a:ext cx="3816360" cy="2592360"/>
          </a:xfrm>
          <a:prstGeom prst="rect">
            <a:avLst/>
          </a:prstGeom>
          <a:ln w="57240">
            <a:solidFill>
              <a:srgbClr val="000099"/>
            </a:solidFill>
            <a:miter/>
          </a:ln>
        </p:spPr>
      </p:pic>
      <p:pic>
        <p:nvPicPr>
          <p:cNvPr id="219" name="Picture 5" descr="Амазонка"/>
          <p:cNvPicPr/>
          <p:nvPr/>
        </p:nvPicPr>
        <p:blipFill>
          <a:blip r:embed="rId4"/>
          <a:stretch/>
        </p:blipFill>
        <p:spPr>
          <a:xfrm>
            <a:off x="4788000" y="4292640"/>
            <a:ext cx="3887640" cy="2376360"/>
          </a:xfrm>
          <a:prstGeom prst="rect">
            <a:avLst/>
          </a:prstGeom>
          <a:ln w="5724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cc"/>
                </a:solidFill>
                <a:latin typeface="Arial"/>
              </a:rPr>
              <a:t>АМАЗОНКА</a:t>
            </a:r>
            <a:br>
              <a:rPr sz="2800"/>
            </a:br>
            <a:r>
              <a:rPr b="1" lang="ru-RU" sz="2800" spc="-1" strike="noStrike">
                <a:solidFill>
                  <a:srgbClr val="00ffcc"/>
                </a:solidFill>
                <a:latin typeface="Arial"/>
              </a:rPr>
              <a:t>самая полноводная и длинная река в мире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1" name="Picture 4" descr="Amazonas 1086 AS"/>
          <p:cNvPicPr/>
          <p:nvPr/>
        </p:nvPicPr>
        <p:blipFill>
          <a:blip r:embed="rId1"/>
          <a:srcRect l="0" t="0" r="0" b="-77"/>
          <a:stretch/>
        </p:blipFill>
        <p:spPr>
          <a:xfrm>
            <a:off x="539640" y="1628640"/>
            <a:ext cx="802980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ХАРАКТЕРИСТИКА  РЕКИ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мазонка является величайшей рекой в мире по размерам бассейна, водоносности и длине. Образуется она слиянием рек Мараньон и Укаяли. Длина от главного истока Мараньона 6437 км, от открытого в конце 20 в. истока Апачета — ок. 7000 км, от истока Укаяли свыше 7000 км. Площадь бассейна 7180 тыс. км кв (по другим данным 6915 тыс. км кв). Большая часть бассейна Амазонки принадлежит Бразилии, юго-западные и западные районы — Боливии, Перу, Эквадору и Колумбии. Протекая большей частью по Амазонской низменности в субширотном направлении близ экватора, Амазонка впадает в Атлантический океан, образуя самую большую в мире дельту (площадью свыше 100 тыс. км кв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АМАЗОНКА ИЗ КОСМОСА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5" name="Picture 4" descr="Amazon_kosmos"/>
          <p:cNvPicPr/>
          <p:nvPr/>
        </p:nvPicPr>
        <p:blipFill>
          <a:blip r:embed="rId1"/>
          <a:stretch/>
        </p:blipFill>
        <p:spPr>
          <a:xfrm>
            <a:off x="250920" y="1125360"/>
            <a:ext cx="3948120" cy="53038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amazon space"/>
          <p:cNvPicPr/>
          <p:nvPr/>
        </p:nvPicPr>
        <p:blipFill>
          <a:blip r:embed="rId2"/>
          <a:stretch/>
        </p:blipFill>
        <p:spPr>
          <a:xfrm>
            <a:off x="4572000" y="1143000"/>
            <a:ext cx="4357800" cy="529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МАЗОНКА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ды Амазонки богаты жизнью. В тихих заводях и протоках растет кувшинка виктория – регия с плавающими листьями диаметром до 2 м. Среди рыб наиболее известны хищные пираньи, электрические угри, акулы, пирарука длиной 4 м. В реке живут кайманы(крокодилы), а также пресноводные дельфины.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8" name="Picture 4" descr="Amazonas 1309 FB"/>
          <p:cNvPicPr/>
          <p:nvPr/>
        </p:nvPicPr>
        <p:blipFill>
          <a:blip r:embed="rId1"/>
          <a:stretch/>
        </p:blipFill>
        <p:spPr>
          <a:xfrm>
            <a:off x="214200" y="1928880"/>
            <a:ext cx="3786480" cy="47149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" descr="31489909"/>
          <p:cNvPicPr/>
          <p:nvPr/>
        </p:nvPicPr>
        <p:blipFill>
          <a:blip r:embed="rId2"/>
          <a:stretch/>
        </p:blipFill>
        <p:spPr>
          <a:xfrm>
            <a:off x="4214880" y="1919160"/>
            <a:ext cx="471492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АРАНА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арана — вторая после Амазонки по длине река в Южной Америке. Протекает по территории Парагвая, Бразилии и Аргентины. Длина от истока Паранаибы 4380 км. При впадении В Атлантический океан образует дельту 60 км шириной. До города Росарио осуществляется морское судоходство. Образует часть естественной границы между Парагваем и Аргентиной. Коренное население называет (матерью моря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текает по территории Южная Америка, Бразилия, Парагвай, Аргентин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сток Слияние рек Паранаиба и Рио-Гранд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стье Залив Ла-Плата, Атлантический океан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ассейн Атлантический океан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лина 2570, от истоков Паранаибы 4380 к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лощадь бассейна 2663000 км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ысота устья 0 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сход воды 17 500 м³/с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звание Парана происходит от индейского слова Паранапано, что значило «река несчастья».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итание реки главным образом дождевое. Уровень воды неравномерный, часто случаются паводки и наводнения.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3" name="Picture 4" descr="parana_river"/>
          <p:cNvPicPr/>
          <p:nvPr/>
        </p:nvPicPr>
        <p:blipFill>
          <a:blip r:embed="rId1"/>
          <a:stretch/>
        </p:blipFill>
        <p:spPr>
          <a:xfrm>
            <a:off x="4714920" y="1773360"/>
            <a:ext cx="4143240" cy="21952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" descr="Parana"/>
          <p:cNvPicPr/>
          <p:nvPr/>
        </p:nvPicPr>
        <p:blipFill>
          <a:blip r:embed="rId2"/>
          <a:stretch/>
        </p:blipFill>
        <p:spPr>
          <a:xfrm>
            <a:off x="179280" y="1773360"/>
            <a:ext cx="4084920" cy="47988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7" descr="r_p_b5dcac52721a04f11f46b6fec648cfd3"/>
          <p:cNvPicPr/>
          <p:nvPr/>
        </p:nvPicPr>
        <p:blipFill>
          <a:blip r:embed="rId3"/>
          <a:stretch/>
        </p:blipFill>
        <p:spPr>
          <a:xfrm>
            <a:off x="4714920" y="4214880"/>
            <a:ext cx="414324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17:16:32Z</dcterms:created>
  <dc:creator>UserXP</dc:creator>
  <dc:description/>
  <dc:language>en-US</dc:language>
  <cp:lastModifiedBy>Пользователь Windows</cp:lastModifiedBy>
  <dcterms:modified xsi:type="dcterms:W3CDTF">2015-03-25T17:55:42Z</dcterms:modified>
  <cp:revision>7</cp:revision>
  <dc:subject/>
  <dc:title>Слайд 1</dc:title>
</cp:coreProperties>
</file>