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532-9601-4F72-8D1E-ABAF50CE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331-E663-4C84-A1AF-A4E392BA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3F6-6E4F-4F95-B917-979EB3A0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081-9DCA-4E78-B2D5-C6275022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94F6-AAD8-46DF-AA11-40A0349E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D033-8FE9-4A84-9542-A72F402C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CB88-F97E-43B2-92E2-628E2FB4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6FEC-291F-4680-849E-34702B06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E047-41DB-4F67-86C6-6B0D65E9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ED9C-8ADB-45BB-8033-1D3FC851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1217-E913-4AC2-9DB8-63A2D07E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393-7697-4D3C-A1BF-49079154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02F9-838A-43D0-A12E-3C93BAF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4F1D-5F23-4579-8A31-DF51E40A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5CFD-0610-488D-B389-1523263F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E320-C4D7-499F-B081-2DAB8D9B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54A2-BB65-435D-90DE-F9C00405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040-6EAD-4F2F-A9C9-69A5A05B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8CB-9384-42C3-9D59-4AC6DAF9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505-8DC8-46DD-950A-1E99646A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D1C-EEC7-4752-B25F-AA6D42A2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FB0-7129-46CC-A0FD-EE9AEE85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F4F-26DD-4843-8EB8-2FD1C319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1F2-1E7F-4FC3-8931-2917D12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1806-6F32-479C-9F0A-013C1DA805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6C7D-A3F7-4E29-B323-982D6BE8BB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npath.ru/wonders/nature/view/auyantepui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vodopad.nm.ru/Great/Niagara.htm" TargetMode="External"/><Relationship Id="rId2" Type="http://schemas.openxmlformats.org/officeDocument/2006/relationships/hyperlink" Target="http://vodopad.nm.ru/Great/Victoria.htm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бный проект учащихся 7 кла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БОУ «СОШ с. Таловка Калининского района Саратов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Парана"/>
          <p:cNvPicPr/>
          <p:nvPr/>
        </p:nvPicPr>
        <p:blipFill>
          <a:blip r:embed="rId1"/>
          <a:stretch/>
        </p:blipFill>
        <p:spPr>
          <a:xfrm>
            <a:off x="1332000" y="1700280"/>
            <a:ext cx="6694560" cy="39592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213" name="WordArt 6"/>
          <p:cNvSpPr txBox="1"/>
          <p:nvPr/>
        </p:nvSpPr>
        <p:spPr>
          <a:xfrm>
            <a:off x="611280" y="189000"/>
            <a:ext cx="7772400" cy="17366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DoubleWave1">
              <a:avLst>
                <a:gd name="adj1" fmla="val 277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дрография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на на всем своем протяжении часто преодолевает многочисленные пороги, образуя при этом красивые водопад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ти – Кедас – это несколько водопадов и порогов в нижнем течении реки Пар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парана"/>
          <p:cNvPicPr/>
          <p:nvPr/>
        </p:nvPicPr>
        <p:blipFill>
          <a:blip r:embed="rId1"/>
          <a:stretch/>
        </p:blipFill>
        <p:spPr>
          <a:xfrm>
            <a:off x="4857840" y="2286000"/>
            <a:ext cx="4071960" cy="4286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800px-Barragem_Sete_Quedas_2_Mairipor"/>
          <p:cNvPicPr/>
          <p:nvPr/>
        </p:nvPicPr>
        <p:blipFill>
          <a:blip r:embed="rId2"/>
          <a:stretch/>
        </p:blipFill>
        <p:spPr>
          <a:xfrm>
            <a:off x="214200" y="2286000"/>
            <a:ext cx="4429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ИНОКО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ноко - третья по длине река в Южной Америке, при впадении в Атлантический океан образует обширную дельту. Каждая из протоков имеет свой цвет и состав воды, и свою экосистему, поэтому реки делятся на "черные" и "белые". В дельте Ориноко обитают огромные популяции птиц (более 350 видов), более 120 видов млекопитающих, в том числе обезьян, более 1300 видов растений. Любителей экстрима увлечет возможность плавания в реках, населенных пираньями. Интересно знакомство с бытом и традициями индейских племе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льта реки Ориноко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delta-del-orinoco[2]"/>
          <p:cNvPicPr/>
          <p:nvPr/>
        </p:nvPicPr>
        <p:blipFill>
          <a:blip r:embed="rId1"/>
          <a:stretch/>
        </p:blipFill>
        <p:spPr>
          <a:xfrm>
            <a:off x="285840" y="1357200"/>
            <a:ext cx="85723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реке можно повстречать красивейшие места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 на бере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1262872597"/>
          <p:cNvPicPr/>
          <p:nvPr/>
        </p:nvPicPr>
        <p:blipFill>
          <a:blip r:embed="rId1"/>
          <a:stretch/>
        </p:blipFill>
        <p:spPr>
          <a:xfrm>
            <a:off x="285840" y="1339920"/>
            <a:ext cx="85723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Южной Америке находится самый высокий водопад в мире — Анхе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материке располагается и самый мощный водопад — Игуас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WordArt 5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допады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0" name="Picture 6" descr="i[3]"/>
          <p:cNvPicPr/>
          <p:nvPr/>
        </p:nvPicPr>
        <p:blipFill>
          <a:blip r:embed="rId3"/>
          <a:stretch/>
        </p:blipFill>
        <p:spPr>
          <a:xfrm>
            <a:off x="4932360" y="1557360"/>
            <a:ext cx="4048200" cy="3035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игуасу"/>
          <p:cNvPicPr/>
          <p:nvPr/>
        </p:nvPicPr>
        <p:blipFill>
          <a:blip r:embed="rId4"/>
          <a:stretch/>
        </p:blipFill>
        <p:spPr>
          <a:xfrm>
            <a:off x="357120" y="3860640"/>
            <a:ext cx="433080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ДОПАД  АНХЕЛ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допад Анх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Angel Fall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считается самым высоким водопадом в мире высота падения воды составляет 1054 метра, расположен в Венесуэле. Водопад входит в состав национального парка Канай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ом водопада Анхель является река Чурун и столовая гора (или тепуи – гора с плоской вершиной) под названием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Ауянтепу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первые водопад Анхель был обнаружен в 1910 году Эрнесто Ла Крусом. А известен стал после того как Джеймс Энджел (Angel) приземлился на самолете на его верш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опад назван в его честь. Энджел (Angel) по-испански звучит как Анх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Д  ВОДОПАДА  АНХЕЛ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опад по высо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21 раз превосход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ту прославлен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агарского водопа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мериканцы наз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го « восьмым чуд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image007"/>
          <p:cNvPicPr/>
          <p:nvPr/>
        </p:nvPicPr>
        <p:blipFill>
          <a:blip r:embed="rId1"/>
          <a:stretch/>
        </p:blipFill>
        <p:spPr>
          <a:xfrm>
            <a:off x="3071880" y="1357200"/>
            <a:ext cx="58579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ХЕЛ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image019"/>
          <p:cNvPicPr/>
          <p:nvPr/>
        </p:nvPicPr>
        <p:blipFill>
          <a:blip r:embed="rId1"/>
          <a:stretch/>
        </p:blipFill>
        <p:spPr>
          <a:xfrm>
            <a:off x="214200" y="1143000"/>
            <a:ext cx="3786480" cy="5500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nature-042"/>
          <p:cNvPicPr/>
          <p:nvPr/>
        </p:nvPicPr>
        <p:blipFill>
          <a:blip r:embed="rId2"/>
          <a:stretch/>
        </p:blipFill>
        <p:spPr>
          <a:xfrm>
            <a:off x="4214880" y="1143000"/>
            <a:ext cx="47149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ДОПАД  ИГУАС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5480" y="2356920"/>
            <a:ext cx="86994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пад Игуасу - один из самых больших в мире и самых известных водопадов. Он расположен приблизительно в 24 километрах от того места, где река Игуасу впадает в Парану и находится на границе Аргентины и Бразил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642960" y="37958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Игуасу состоит из 275 водопадов более чем 3 км общей ширины и 80 м высо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делает его шире, чем водопад Виктория, выше, чем Ниагарский водопа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красивее, чем каждый из них. Слово "Игуасу" на местном языке означ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большая вода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пад Игуасу - мировая достопримеча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ую глубокую часть водопада называют 'Гарганта до Диабло', или 'Горло Дьявола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IGUAZU_PARAGUAY"/>
          <p:cNvPicPr/>
          <p:nvPr/>
        </p:nvPicPr>
        <p:blipFill>
          <a:blip r:embed="rId1"/>
          <a:stretch/>
        </p:blipFill>
        <p:spPr>
          <a:xfrm>
            <a:off x="250920" y="142920"/>
            <a:ext cx="41068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допад Игуасу - один из самых захватывающих водопадов в мире. Река Игуасу извергает в среднем 1700 кубических метров воды в секунду, больше чем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Ниагарский водопа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водопад Викто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месте взятые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kart" descr="Водопад Игуасу - панорама"/>
          <p:cNvPicPr/>
          <p:nvPr/>
        </p:nvPicPr>
        <p:blipFill>
          <a:blip r:embed="rId3"/>
          <a:stretch/>
        </p:blipFill>
        <p:spPr>
          <a:xfrm>
            <a:off x="285840" y="1484280"/>
            <a:ext cx="864396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НУТРЕННИЕ ВОДЫ  ЮЖНОЙ АМЕРИК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Южная Америка самый влажный материк планеты, речной сток в два раза больше, чем в среднем на Земле. Крупнейшие речные системы матери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мазон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ринок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ара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тносятся к бассейну Атлантического океана. Протекающие по низменностям реки очень широки и полноводны, имеют многочисленные притоки. Питание рек преимущественно дождевое, иногда грунтовое. Реки, протекая по плоскогорьям (вернее начинаясь), образуют многочисленные пороги и водопады. В речной систем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ринок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ходится самый высокий водопад на Земле –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нхе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его высота 1054 м. В системе реки Парана находится водопад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гуас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один из самых красивейших водопадов Земли, его составляют 275 падающих струй и протоков. Реки бассейна Тихого океана – очень бурные, с большой скоростью течения, имеющие много порогов и водопадов, – не столь значительны по своим размерам, но очень многочисленны. Так же, как и у рек востока материка, в питании западных рек преобладает дождевое питание, и лишь на юге преимущественно – леднико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ёра-старицы наиболее многочисленны в поймах равнинных рек (Амазонки, Ориноко, Паран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еро-лагуна Маракайбо – самое большое из таких озёр Земли, находится на севере матери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тоническое озеро Титикака – самое высокогорное из крупных озёр мира, оно расположено на высоте 3812 м над уровнем моря, а его глубина достигает 304 м, температура воды не поднимается выше 11–12 °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ндах распространено современное оледенение, на севере ледники лежат на высоте 5000 м, а на юге некоторые ледники спускаются с гор к водам Тихого оке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допад был открыт в 1541г. испанским конкистадором доном Альваро Нуньесом Касесо де Вака, отправившимся в южноамериканские джунгли на поиски золота и приключений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kart" descr="Водопад Игуасу - каскад"/>
          <p:cNvPicPr/>
          <p:nvPr/>
        </p:nvPicPr>
        <p:blipFill>
          <a:blip r:embed="rId1"/>
          <a:stretch/>
        </p:blipFill>
        <p:spPr>
          <a:xfrm>
            <a:off x="142920" y="1628640"/>
            <a:ext cx="3666960" cy="5015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игуасу"/>
          <p:cNvPicPr/>
          <p:nvPr/>
        </p:nvPicPr>
        <p:blipFill>
          <a:blip r:embed="rId2"/>
          <a:stretch/>
        </p:blipFill>
        <p:spPr>
          <a:xfrm>
            <a:off x="3929040" y="164304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допад Игуасу - одна из самых больших мировых достопримечательностей. Тысячи людей со всех континентов ежедневно толпятся на мостках, построенных на берегах реки Игуасу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4" descr="Водопад Игуасу - Горло Дьявола"/>
          <p:cNvPicPr/>
          <p:nvPr/>
        </p:nvPicPr>
        <p:blipFill>
          <a:blip r:embed="rId1"/>
          <a:stretch/>
        </p:blipFill>
        <p:spPr>
          <a:xfrm>
            <a:off x="214200" y="1714680"/>
            <a:ext cx="87156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ЗЕРО  ТИТИКАК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тикака - не только крупнейшее озеро Южной Америки, но и самое высокое из судоходных озёр в мире. Озеро расположено на высоте 3820м над уровнем моря, на границе Перу и Боливии, на плоскогорье Альтиплано, причём Перу принадлежитоколо 60%, а Боливии около 40% его площади. Средняя глубина озера 150м, максимальная 287м; температура воды в центре озера практически неизменна и составляет 10-12"С, но у берегов озеро нередко замерзает ночью.Проще говоря, купание в Титикаке удовольствия не доставляет.</a:t>
            </a: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Озеро Титикака и окружающие его ландшафты"/>
          <p:cNvPicPr/>
          <p:nvPr/>
        </p:nvPicPr>
        <p:blipFill>
          <a:blip r:embed="rId1"/>
          <a:stretch/>
        </p:blipFill>
        <p:spPr>
          <a:xfrm>
            <a:off x="642960" y="4005360"/>
            <a:ext cx="80010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812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арактеристика озер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78552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менитое озеро Титикака располагается на границе Боливии и Перу, находится на высоте 3812 метров над уровнем моря и является самым высокогорным судоходным водоемом в мире. Средняя глубина озера около 100 метров, максимальная 281 метр, а площадь озера составляет около 8290 км², из которых более половины принадлежат территориям Перу. По показателю общего объема воды Титикака занимает первое место среди всех озер Южной Америки</a:t>
            </a:r>
            <a:br>
              <a:rPr sz="18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Lake%20Titicaca"/>
          <p:cNvPicPr/>
          <p:nvPr/>
        </p:nvPicPr>
        <p:blipFill>
          <a:blip r:embed="rId1"/>
          <a:stretch/>
        </p:blipFill>
        <p:spPr>
          <a:xfrm>
            <a:off x="285840" y="2714760"/>
            <a:ext cx="8572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ие народности Анд и местные жители, поддерживающие до сих пор традиции предков, считают это озеро святым. Титикака и его окрестные территории объявлены национальным заповедником, здесь обитает множество разновидностей  птиц, более 10 видов рыб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Waters%20of%20Lake%20Titicaca"/>
          <p:cNvPicPr/>
          <p:nvPr/>
        </p:nvPicPr>
        <p:blipFill>
          <a:blip r:embed="rId1"/>
          <a:stretch/>
        </p:blipFill>
        <p:spPr>
          <a:xfrm>
            <a:off x="214200" y="1643040"/>
            <a:ext cx="4357800" cy="2500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Clouds%20over%20Lake%20Titicaca"/>
          <p:cNvPicPr/>
          <p:nvPr/>
        </p:nvPicPr>
        <p:blipFill>
          <a:blip r:embed="rId2"/>
          <a:stretch/>
        </p:blipFill>
        <p:spPr>
          <a:xfrm>
            <a:off x="4929120" y="1643040"/>
            <a:ext cx="4000680" cy="5000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Титикака - самое высокогорное судоходное озеро мира"/>
          <p:cNvPicPr/>
          <p:nvPr/>
        </p:nvPicPr>
        <p:blipFill>
          <a:blip r:embed="rId3"/>
          <a:stretch/>
        </p:blipFill>
        <p:spPr>
          <a:xfrm>
            <a:off x="214200" y="4286160"/>
            <a:ext cx="44290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Южная Америка может гордиться своими красивейшими гидроресурсам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24748"/>
          <p:cNvPicPr/>
          <p:nvPr/>
        </p:nvPicPr>
        <p:blipFill>
          <a:blip r:embed="rId1"/>
          <a:stretch/>
        </p:blipFill>
        <p:spPr>
          <a:xfrm>
            <a:off x="4500720" y="1143000"/>
            <a:ext cx="4429080" cy="3071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5"/>
          <p:cNvPicPr/>
          <p:nvPr/>
        </p:nvPicPr>
        <p:blipFill>
          <a:blip r:embed="rId2"/>
          <a:stretch/>
        </p:blipFill>
        <p:spPr>
          <a:xfrm>
            <a:off x="214200" y="114300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3"/>
          <p:cNvPicPr/>
          <p:nvPr/>
        </p:nvPicPr>
        <p:blipFill>
          <a:blip r:embed="rId3"/>
          <a:stretch/>
        </p:blipFill>
        <p:spPr>
          <a:xfrm>
            <a:off x="4500720" y="4437000"/>
            <a:ext cx="4429080" cy="218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39144426_1233693008_1688"/>
          <p:cNvPicPr/>
          <p:nvPr/>
        </p:nvPicPr>
        <p:blipFill>
          <a:blip r:embed="rId4"/>
          <a:stretch/>
        </p:blipFill>
        <p:spPr>
          <a:xfrm>
            <a:off x="179280" y="4429080"/>
            <a:ext cx="4149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иболее важными речными системами в Южной Америке являются Амазонка , Ориноко и Пара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ольшинство озер находятся в Андах, крупнейшим из которых и высочайшим в мире судоходным озером является Титикака, на границе Боливии и Перу. Самым большим по площади является озеро Маракайбо в Венесуэле, оно также и одно из самых древних на плане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и Южной Америки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8" name="Picture 4" descr="delta-del-orinoco[2]"/>
          <p:cNvPicPr/>
          <p:nvPr/>
        </p:nvPicPr>
        <p:blipFill>
          <a:blip r:embed="rId3"/>
          <a:stretch/>
        </p:blipFill>
        <p:spPr>
          <a:xfrm>
            <a:off x="4788000" y="1484280"/>
            <a:ext cx="3816360" cy="259236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219" name="Picture 5" descr="Амазонка"/>
          <p:cNvPicPr/>
          <p:nvPr/>
        </p:nvPicPr>
        <p:blipFill>
          <a:blip r:embed="rId4"/>
          <a:stretch/>
        </p:blipFill>
        <p:spPr>
          <a:xfrm>
            <a:off x="4788000" y="4292640"/>
            <a:ext cx="3887640" cy="237636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АМАЗОНКА</a:t>
            </a:r>
            <a:br>
              <a:rPr sz="2800"/>
            </a:b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самая полноводная и длинная река в мир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4" descr="Amazonas 1086 AS"/>
          <p:cNvPicPr/>
          <p:nvPr/>
        </p:nvPicPr>
        <p:blipFill>
          <a:blip r:embed="rId1"/>
          <a:srcRect l="0" t="0" r="0" b="-77"/>
          <a:stretch/>
        </p:blipFill>
        <p:spPr>
          <a:xfrm>
            <a:off x="539640" y="1628640"/>
            <a:ext cx="80298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ХАРАКТЕРИСТИКА  РЕКИ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азонка является величайшей рекой в мире по размерам бассейна, водоносности и длине. Образуется она слиянием рек Мараньон и Укаяли. Длина от главного истока Мараньона 6437 км, от открытого в конце 20 в. истока Апачета — ок. 7000 км, от истока Укаяли свыше 7000 км. Площадь бассейна 7180 тыс. км кв (по другим данным 6915 тыс. км кв). Большая часть бассейна Амазонки принадлежит Бразилии, юго-западные и западные районы — Боливии, Перу, Эквадору и Колумбии. Протекая большей частью по Амазонской низменности в субширотном направлении близ экватора, Амазонка впадает в Атлантический океан, образуя самую большую в мире дельту (площадью свыше 100 тыс. км к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МАЗОНКА ИЗ КОСМОС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4" descr="Amazon_kosmos"/>
          <p:cNvPicPr/>
          <p:nvPr/>
        </p:nvPicPr>
        <p:blipFill>
          <a:blip r:embed="rId1"/>
          <a:stretch/>
        </p:blipFill>
        <p:spPr>
          <a:xfrm>
            <a:off x="250920" y="1125360"/>
            <a:ext cx="3948120" cy="5303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amazon space"/>
          <p:cNvPicPr/>
          <p:nvPr/>
        </p:nvPicPr>
        <p:blipFill>
          <a:blip r:embed="rId2"/>
          <a:stretch/>
        </p:blipFill>
        <p:spPr>
          <a:xfrm>
            <a:off x="4572000" y="1143000"/>
            <a:ext cx="43578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МАЗОНК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ы Амазонки богаты жизнью. В тихих заводях и протоках растет кувшинка виктория – регия с плавающими листьями диаметром до 2 м. Среди рыб наиболее известны хищные пираньи, электрические угри, акулы, пирарука длиной 4 м. В реке живут кайманы(крокодилы), а также пресноводные дельфины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4" descr="Amazonas 1309 FB"/>
          <p:cNvPicPr/>
          <p:nvPr/>
        </p:nvPicPr>
        <p:blipFill>
          <a:blip r:embed="rId1"/>
          <a:stretch/>
        </p:blipFill>
        <p:spPr>
          <a:xfrm>
            <a:off x="214200" y="1928880"/>
            <a:ext cx="3786480" cy="4714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31489909"/>
          <p:cNvPicPr/>
          <p:nvPr/>
        </p:nvPicPr>
        <p:blipFill>
          <a:blip r:embed="rId2"/>
          <a:stretch/>
        </p:blipFill>
        <p:spPr>
          <a:xfrm>
            <a:off x="4214880" y="1919160"/>
            <a:ext cx="4714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Н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на — вторая после Амазонки по длине река в Южной Америке. Протекает по территории Парагвая, Бразилии и Аргентины. Длина от истока Паранаибы 4380 км. При впадении В Атлантический океан образует дельту 60 км шириной. До города Росарио осуществляется морское судоходство. Образует часть естественной границы между Парагваем и Аргентиной. Коренное население называет (матерью моря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екает по территории Южная Америка, Бразилия, Парагвай, Аргенти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к Слияние рек Паранаиба и Рио-Гран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ье Залив Ла-Плата, Атлантический оке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ассейн Атлантический оке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ина 2570, от истоков Паранаибы 4380 к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щадь бассейна 2663000 км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сота устья 0 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ход воды 17 500 м³/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звание Парана происходит от индейского слова Паранапано, что значило «река несчастья»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тание реки главным образом дождевое. Уровень воды неравномерный, часто случаются паводки и наводнения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4" descr="parana_river"/>
          <p:cNvPicPr/>
          <p:nvPr/>
        </p:nvPicPr>
        <p:blipFill>
          <a:blip r:embed="rId1"/>
          <a:stretch/>
        </p:blipFill>
        <p:spPr>
          <a:xfrm>
            <a:off x="4714920" y="1773360"/>
            <a:ext cx="4143240" cy="2195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Parana"/>
          <p:cNvPicPr/>
          <p:nvPr/>
        </p:nvPicPr>
        <p:blipFill>
          <a:blip r:embed="rId2"/>
          <a:stretch/>
        </p:blipFill>
        <p:spPr>
          <a:xfrm>
            <a:off x="179280" y="1773360"/>
            <a:ext cx="4084920" cy="4798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r_p_b5dcac52721a04f11f46b6fec648cfd3"/>
          <p:cNvPicPr/>
          <p:nvPr/>
        </p:nvPicPr>
        <p:blipFill>
          <a:blip r:embed="rId3"/>
          <a:stretch/>
        </p:blipFill>
        <p:spPr>
          <a:xfrm>
            <a:off x="4714920" y="4214880"/>
            <a:ext cx="41432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7:16:32Z</dcterms:created>
  <dc:creator>UserXP</dc:creator>
  <dc:description/>
  <dc:language>en-US</dc:language>
  <cp:lastModifiedBy>Пользователь Windows</cp:lastModifiedBy>
  <dcterms:modified xsi:type="dcterms:W3CDTF">2015-03-25T17:55:42Z</dcterms:modified>
  <cp:revision>7</cp:revision>
  <dc:subject/>
  <dc:title>Слайд 1</dc:title>
</cp:coreProperties>
</file>