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D71-0737-4013-8697-980C0C12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EF7-EC5E-4210-B042-6D2C1DA5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D79-0B55-4013-9569-A20A47C1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9AA-EC4B-4192-93BE-1ECB3CCD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E38-BBFC-4171-A1C4-CCB8CBB1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933-B086-4C51-B7DA-1D720B0B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1D4-CA61-47C4-856C-AC46DDEE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871-D6EF-4289-B36C-854D8D1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AA9-03AA-414D-9447-3107D273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8D7-07DB-4677-8296-771E296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DBE-04CF-43AC-BB97-D4325AE7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7BD-53DD-4D8D-BF62-53D9F70B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EFAA-69D6-4634-A23B-3F93B74F7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971640" y="1989000"/>
            <a:ext cx="7345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ллюзии зрени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21520" cy="4664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сихолог и дизайнер Акиоши Китаока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«Невероятные зме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ереоценка вертикальных л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572000" y="1844640"/>
            <a:ext cx="0" cy="18003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3708360" y="3645000"/>
            <a:ext cx="1727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340000" y="458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линия длиннее вертикальная или горизонтальная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Следящие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2857680" cy="4429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4427640" y="3357720"/>
            <a:ext cx="44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рачки глаз на портрете помещены в середине разреза глаз. Именно такими мы видим глаза, смотрящие на нас. Когда мы отходим в сторону от портрета, зрачки, конечно, своего положения не меняют – остаются посреди глаз, а так как все лицо мы продолжаем видеть в прежнем положении по отношению к нам, то нам и кажется, что портрет повернул голову и следит за нам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Цвета и контр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2735280" cy="2722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619280" y="494172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ающий фон влияет на восприятие цвета. Цвет кажется более насыщенным, если окружающий фон окантован темными рамк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826920" y="54936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бы глаз наш не способен был поддаваться никаким обманам, не существовало бы живописи, архитектуры, скульптуры и мы лишены были бы всех наслаждений изобразительных искусств. Мы не смогли бы понимать оптические иллюзии в окружающем нас мире и применить в своей жизн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4967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332000" y="76500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Наши глаза познавать не умеют природу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едметов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А потому,  не навязывай им заблуждений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рассудка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ревний поэт Лукреций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476360" y="3716280"/>
            <a:ext cx="70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«Видимое   не    всегда    соответствует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                                     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действительному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. Копер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ричины иллюз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ши глаза так воспринимают идущий от предмета свет, что в мозг приходит ошибочная информ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 нарушении передачи информационных сигналов по нервам происходят сбои, что опять же приводит к ошибочному восприят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озг не всегда правильно реагирует на сигналы, приходящие от гл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71640" y="3213000"/>
            <a:ext cx="41767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ллюзия восприятия размера (ирради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6720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ллюзия восприятии глубин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2643120" cy="3021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484360" y="49417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здесь кубов 6 или 7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Слепое пятно (опыт Мариот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1763640" y="2349360"/>
            <a:ext cx="6121440" cy="1368360"/>
            <a:chOff x="1763640" y="2349360"/>
            <a:chExt cx="6121440" cy="1368360"/>
          </a:xfrm>
        </p:grpSpPr>
        <p:sp>
          <p:nvSpPr>
            <p:cNvPr id="54" name="Rectangle 7"/>
            <p:cNvSpPr/>
            <p:nvPr/>
          </p:nvSpPr>
          <p:spPr>
            <a:xfrm>
              <a:off x="1763640" y="2349360"/>
              <a:ext cx="6121440" cy="1368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9"/>
            <p:cNvSpPr/>
            <p:nvPr/>
          </p:nvSpPr>
          <p:spPr>
            <a:xfrm>
              <a:off x="2050920" y="2781360"/>
              <a:ext cx="503280" cy="50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2843280" y="2638440"/>
              <a:ext cx="865080" cy="79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1"/>
            <p:cNvSpPr/>
            <p:nvPr/>
          </p:nvSpPr>
          <p:spPr>
            <a:xfrm>
              <a:off x="3924360" y="2781360"/>
              <a:ext cx="503280" cy="50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7524720" y="256536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>
              <a:off x="7380360" y="270972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7"/>
          <p:cNvSpPr/>
          <p:nvPr/>
        </p:nvSpPr>
        <p:spPr>
          <a:xfrm>
            <a:off x="1547640" y="4365720"/>
            <a:ext cx="640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рыв правый глаз, смотрите левым на верхний крестик  с расстояния 20 - 25 с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 заметите, что правый маленький кружок исчезает совершен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Эффект последействия </a:t>
            </a:r>
            <a:br>
              <a:rPr sz="2800"/>
            </a:b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(иллюзии фотонегатив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744720" cy="3244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716360" y="1989000"/>
            <a:ext cx="3959280" cy="36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2705040" cy="3097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Зрительные иск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4248000" cy="2583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179280" y="4705200"/>
            <a:ext cx="8642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ажения, вызываемые фоном. Сюрпризы штриховки. При множестве гипотез убедительного объяснения этим иллюзиям пока нет. По одной из версий, места пересечений оказываются в "поле зрения" нескольких ганглиозных клеток, одни сигнализируют мозгу: "горизонтальная", соседние перебивают их: "диагональная". Из-за наложений сигналов, возможно, и возникают подобные иллюз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ллюзия восприятия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927600" cy="4032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042920" y="5734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инство иллюзий движения построены на регулярном повторе разных по яркости или цвету фрагмент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3:55:53Z</dcterms:created>
  <dc:creator>Customer</dc:creator>
  <dc:description/>
  <dc:language>en-US</dc:language>
  <cp:lastModifiedBy>Марина Щербакова</cp:lastModifiedBy>
  <dcterms:modified xsi:type="dcterms:W3CDTF">2015-10-13T21:36:18Z</dcterms:modified>
  <cp:revision>6</cp:revision>
  <dc:subject/>
  <dc:title>Зрительные иллюзии</dc:title>
</cp:coreProperties>
</file>