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430-2DAC-46A7-A916-17B12F3E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9A0-C28B-4393-885D-51E675E2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F37-B854-4FD6-95A2-68A269BD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503-45C4-416B-B50F-95D95FF3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950-3D7F-4981-8F6F-635696C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5A7-B078-43F7-9271-E4BD3F1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C10-4DF2-43BE-B575-2709104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30F-6B30-4C8A-BA84-2F91AE3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E95-7067-4341-9EB8-2C0A456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D85-5D03-4530-A04B-2AC98AC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FF3-FA70-46F7-8170-8666C11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3C5-1299-47BB-84D5-E7528A1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F94-5168-4D86-81E6-28D0EB7F4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971640" y="1989000"/>
            <a:ext cx="734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люзии зрени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21520" cy="4664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сихолог и дизайнер Акиоши Китаока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«Невероятные зме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ереоценка вертикальных 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572000" y="1844640"/>
            <a:ext cx="0" cy="1800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708360" y="3645000"/>
            <a:ext cx="1727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34000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линия длиннее вертикальная или горизонтальная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ледящие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427640" y="335772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рачки глаз на портрете помещены в середине разреза глаз. Именно такими мы видим глаза, смотрящие на нас. Когда мы отходим в сторону от портрета, зрачки, конечно, своего положения не меняют – остаются посреди глаз, а так как все лицо мы продолжаем видеть в прежнем положении по отношению к нам, то нам и кажется, что портрет повернул голову и следит за н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вета и контр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2735280" cy="2722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619280" y="494172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й фон влияет на восприятие цвета. Цвет кажется более насыщенным, если окружающий фон окантован темными рамк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549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глаз наш не способен был поддаваться никаким обманам, не существовало бы живописи, архитектуры, скульптуры и мы лишены были бы всех наслаждений изобразительных искусств. Мы не смогли бы понимать оптические иллюзии в окружающем нас мире и применить в своей жиз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967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332000" y="76500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Наши глаза познавать не умеют природу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едметов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 потому,  не навязывай им заблуждений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рассудк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ревний поэт Лукреций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76360" y="371628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Видимое   не    всегда    соответствует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действительному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. Копер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ичины иллюз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ши глаза так воспринимают идущий от предмета свет, что в мозг приходит ошибоч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 нарушении передачи информационных сигналов по нервам происходят сбои, что опять же приводит к ошибочному восприя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озг не всегда правильно реагирует на сигналы, приходящие от гл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71640" y="3213000"/>
            <a:ext cx="41767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я размера (ирради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72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и глубин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643120" cy="302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484360" y="4941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здесь кубов 6 или 7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лепое пятно (опыт Мариот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763640" y="2349360"/>
            <a:ext cx="6121440" cy="1368360"/>
            <a:chOff x="1763640" y="2349360"/>
            <a:chExt cx="6121440" cy="1368360"/>
          </a:xfrm>
        </p:grpSpPr>
        <p:sp>
          <p:nvSpPr>
            <p:cNvPr id="54" name="Rectangle 7"/>
            <p:cNvSpPr/>
            <p:nvPr/>
          </p:nvSpPr>
          <p:spPr>
            <a:xfrm>
              <a:off x="1763640" y="2349360"/>
              <a:ext cx="6121440" cy="1368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2050920" y="2781360"/>
              <a:ext cx="503280" cy="5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2843280" y="2638440"/>
              <a:ext cx="86508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3924360" y="2781360"/>
              <a:ext cx="503280" cy="5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7524720" y="25653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7380360" y="270972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7"/>
          <p:cNvSpPr/>
          <p:nvPr/>
        </p:nvSpPr>
        <p:spPr>
          <a:xfrm>
            <a:off x="1547640" y="4365720"/>
            <a:ext cx="640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ыв правый глаз, смотрите левым на верхний крестик  с расстояния 20 - 25 с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заметите, что правый маленький кружок исчезает совершен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Эффект последействия 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иллюзии фотонегатив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3244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716360" y="1989000"/>
            <a:ext cx="395928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705040" cy="309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рительные иск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4248000" cy="2583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79280" y="4705200"/>
            <a:ext cx="8642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ажения, вызываемые фоном. Сюрпризы штриховки. При множестве гипотез убедительного объяснения этим иллюзиям пока нет. По одной из версий, места пересечений оказываются в "поле зрения" нескольких ганглиозных клеток, одни сигнализируют мозгу: "горизонтальная", соседние перебивают их: "диагональная". Из-за наложений сигналов, возможно, и возникают подобные иллюз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я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7600" cy="4032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042920" y="5734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нство иллюзий движения построены на регулярном повторе разных по яркости или цвету фрагмен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55:53Z</dcterms:created>
  <dc:creator>Customer</dc:creator>
  <dc:description/>
  <dc:language>en-US</dc:language>
  <cp:lastModifiedBy>Марина Щербакова</cp:lastModifiedBy>
  <dcterms:modified xsi:type="dcterms:W3CDTF">2015-10-13T21:36:18Z</dcterms:modified>
  <cp:revision>6</cp:revision>
  <dc:subject/>
  <dc:title>Зрительные иллюзии</dc:title>
</cp:coreProperties>
</file>