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ind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E0E-17AE-4AD1-B47F-6B9956B4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209-CFA0-4D0F-A91B-DA09ED3C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0B5-94C1-41E3-82CE-24CC287C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24F-F24A-46D8-A48C-A6E4392E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91F1-4021-4A8B-BCC6-86FA9C4C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D688-5591-4C36-AD79-55446CC8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92D1-3762-483B-95B6-0720FC1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56BC-54B3-4792-9F48-6BE3913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9A87-EB04-4F0F-8263-ADA8CD1D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AA3C-70FE-472B-9D62-9A66A7B2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B583-0B8F-4F65-AC2D-0F050B9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0E5-D16D-4220-BA5F-D2ADB13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391A-20ED-47FF-BBFC-7B7B481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5E24-67E1-4A78-A45B-06E2E57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478-831F-4200-B41A-A02B3F49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9CD6-CCD4-43DF-A265-FF5BF66B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C14-30F3-4189-BEA4-B39CC701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C1B-5F8C-462B-ABC7-425810D8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F1D-F27C-4B9D-A9D6-726D2AC9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F2B-95AD-4347-B899-6D6D0B88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106-73A2-4D5E-8AFA-E61E179C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252-EDD6-4A55-ADCF-2431824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5D0-078B-4FAF-B441-4274EA0C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9B7-E006-45E9-8864-4881B9E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77D7-D1B6-44CC-ACD4-1B7D1B64AC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FA0C-4380-4A3E-BA92-C78EBF7314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6"/>
          <p:cNvSpPr txBox="1"/>
          <p:nvPr/>
        </p:nvSpPr>
        <p:spPr>
          <a:xfrm>
            <a:off x="1042920" y="1700280"/>
            <a:ext cx="7559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084480" y="5084640"/>
            <a:ext cx="573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БДОУ № 32 Колпинский район Санкт-Петербур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атели: Соловьёва Е.Н., Флорова М.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Прямоугольник 1" descr=""/>
          <p:cNvPicPr/>
          <p:nvPr/>
        </p:nvPicPr>
        <p:blipFill>
          <a:blip r:embed="rId1"/>
          <a:stretch/>
        </p:blipFill>
        <p:spPr>
          <a:xfrm>
            <a:off x="6480" y="476280"/>
            <a:ext cx="8961480" cy="9255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914040" y="43657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ентация для детей младшего дошкольного возрас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http://festival.1september.ru/articles/632747/img1.jpg"/>
          <p:cNvPicPr/>
          <p:nvPr/>
        </p:nvPicPr>
        <p:blipFill>
          <a:blip r:embed="rId2"/>
          <a:stretch/>
        </p:blipFill>
        <p:spPr>
          <a:xfrm>
            <a:off x="2543040" y="1459080"/>
            <a:ext cx="38880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Вол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004_58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1332000" y="1844640"/>
            <a:ext cx="669600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х зверей она хитрей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бка рыжая на ней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ышный хвост-ее крас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т зверь лесной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Лис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73_00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ли занят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Дать представление о том ,как дикие животные в лесу готовятся к зиме(белка запасает грибы ,орех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зайца линяет шерсть ;медведь накапливает жир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Рассказать о жилищах диких животных (белка живет в дупле,а медведь спит в берлоге и т. 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Активизировать и обогащать словарь путем подбора описательных прилагате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Продолжать работу по формированию грамматически правильной реч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9"/>
          <p:cNvSpPr txBox="1"/>
          <p:nvPr/>
        </p:nvSpPr>
        <p:spPr>
          <a:xfrm>
            <a:off x="250920" y="981000"/>
            <a:ext cx="86421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ленький,беленьк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полю скачет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шки прячет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Poor Richard"/>
              </a:rPr>
              <a:t>Заяц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" descr="zaic_b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6"/>
          <p:cNvSpPr txBox="1"/>
          <p:nvPr/>
        </p:nvSpPr>
        <p:spPr>
          <a:xfrm>
            <a:off x="684360" y="333360"/>
            <a:ext cx="640872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н в берлоге спит зимо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 большущею сосной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когда придет весна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ыпается от сн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Медвед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9" descr="beer-23"/>
          <p:cNvPicPr/>
          <p:nvPr/>
        </p:nvPicPr>
        <p:blipFill>
          <a:blip r:embed="rId1"/>
          <a:stretch/>
        </p:blipFill>
        <p:spPr>
          <a:xfrm>
            <a:off x="684360" y="1628640"/>
            <a:ext cx="7524720" cy="47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87280" y="1341360"/>
            <a:ext cx="72010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дупле жи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 орешки грызет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Бел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belka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5"/>
          <p:cNvSpPr txBox="1"/>
          <p:nvPr/>
        </p:nvSpPr>
        <p:spPr>
          <a:xfrm>
            <a:off x="1547640" y="1413000"/>
            <a:ext cx="6626520" cy="51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зимой холод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одит злой,голодны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4:36:52Z</dcterms:created>
  <dc:creator>User 2</dc:creator>
  <dc:description/>
  <dc:language>en-US</dc:language>
  <cp:lastModifiedBy>Марина</cp:lastModifiedBy>
  <dcterms:modified xsi:type="dcterms:W3CDTF">2015-10-14T11:43:00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