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wind.wav" ContentType="audio/x-wav"/>
  <Override PartName="/ppt/media/image7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63A4-D9A7-45C0-A544-B0A6C3537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8AD1-69F8-4F69-AF58-B959FAA25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2F25-E2F2-42F1-814C-79FE2C929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DD90-CE7B-4DDD-99F6-B0D2E572F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8A939-5378-42C4-9BBE-636C56767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C07F1-5847-4387-B5EE-3E01F95A6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EE346-09B7-4010-AE65-F18649438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1714C-4E9B-4B36-BDDB-CDAA37A9B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C5745-6352-4F9D-BE62-E12485753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306F2-A9E4-4BC2-84AE-22FDBE217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C9C60-5EF4-45C4-B14D-DA8AE0B5D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02EA-9C6D-4F31-B959-85B35A661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2A7AE-15B4-4939-83FA-EEDD6E41C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05F16-732B-4B0C-ABA9-AB73C12DE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F4CBD-E8BA-4C3B-A8F7-0C8F26AC2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FA331-4572-414E-9B9C-5051AD3BC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CFA35-632F-48E0-AC63-C15F60248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8CE5-5283-4C97-BA35-8DA568E91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65ED-A3FA-48EC-AD66-7C3B59899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40BA-2593-444F-9FA8-12DD92063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611C-F45C-426E-8E2D-CF79DCD8F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A89F-5F89-45C0-A5F3-BC33CBB49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9FAA-ED43-481E-9EAD-A13DAF128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4421-0AA1-4562-B2D9-4AAB4D70D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734A7-6DF7-4140-92AA-DBBBABE4BEA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370A6-C9BC-4543-A2CA-1CAC5612CED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WordArt 6"/>
          <p:cNvSpPr txBox="1"/>
          <p:nvPr/>
        </p:nvSpPr>
        <p:spPr>
          <a:xfrm>
            <a:off x="1042920" y="1700280"/>
            <a:ext cx="7559640" cy="29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21" name="Text Box 7"/>
          <p:cNvSpPr/>
          <p:nvPr/>
        </p:nvSpPr>
        <p:spPr>
          <a:xfrm>
            <a:off x="3084480" y="5084640"/>
            <a:ext cx="5735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БДОУ № 32 Колпинский район Санкт-Петербург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оспитатели: Соловьёва Е.Н., Флорова М.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Прямоугольник 1" descr=""/>
          <p:cNvPicPr/>
          <p:nvPr/>
        </p:nvPicPr>
        <p:blipFill>
          <a:blip r:embed="rId1"/>
          <a:stretch/>
        </p:blipFill>
        <p:spPr>
          <a:xfrm>
            <a:off x="6480" y="476280"/>
            <a:ext cx="8961480" cy="925560"/>
          </a:xfrm>
          <a:prstGeom prst="rect">
            <a:avLst/>
          </a:prstGeom>
          <a:ln w="0">
            <a:noFill/>
          </a:ln>
        </p:spPr>
      </p:pic>
      <p:sp>
        <p:nvSpPr>
          <p:cNvPr id="123" name="TextBox 2"/>
          <p:cNvSpPr/>
          <p:nvPr/>
        </p:nvSpPr>
        <p:spPr>
          <a:xfrm>
            <a:off x="914040" y="4365720"/>
            <a:ext cx="56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езентация для детей младшего дошкольного возраст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Picture 5" descr="http://festival.1september.ru/articles/632747/img1.jpg"/>
          <p:cNvPicPr/>
          <p:nvPr/>
        </p:nvPicPr>
        <p:blipFill>
          <a:blip r:embed="rId2"/>
          <a:stretch/>
        </p:blipFill>
        <p:spPr>
          <a:xfrm>
            <a:off x="2543040" y="1459080"/>
            <a:ext cx="3888000" cy="28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42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eec94"/>
                </a:solidFill>
                <a:latin typeface="Times New Roman"/>
              </a:rPr>
              <a:t>Волк</a:t>
            </a: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Picture 4" descr="004_58"/>
          <p:cNvPicPr/>
          <p:nvPr/>
        </p:nvPicPr>
        <p:blipFill>
          <a:blip r:embed="rId1"/>
          <a:stretch/>
        </p:blipFill>
        <p:spPr>
          <a:xfrm>
            <a:off x="468360" y="1557360"/>
            <a:ext cx="820728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4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68360" y="1844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WordArt 7"/>
          <p:cNvSpPr txBox="1"/>
          <p:nvPr/>
        </p:nvSpPr>
        <p:spPr>
          <a:xfrm>
            <a:off x="1332000" y="1844640"/>
            <a:ext cx="6696000" cy="432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Всех зверей она хитрей,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Шубка рыжая на ней,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ышный хвост-ее краса.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Этот зверь лесной?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eec94"/>
                </a:solidFill>
                <a:latin typeface="Times New Roman"/>
              </a:rPr>
              <a:t>Лиса</a:t>
            </a: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Picture 4" descr="73_00"/>
          <p:cNvPicPr/>
          <p:nvPr/>
        </p:nvPicPr>
        <p:blipFill>
          <a:blip r:embed="rId1"/>
          <a:stretch/>
        </p:blipFill>
        <p:spPr>
          <a:xfrm>
            <a:off x="468360" y="1628640"/>
            <a:ext cx="8207280" cy="45370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0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1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8229600" cy="164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Цели занятия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.Дать представление о том ,как дикие животные в лесу готовятся к зиме(белка запасает грибы ,орехи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 зайца линяет шерсть ;медведь накапливает жир и т.д.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.Рассказать о жилищах диких животных (белка живет в дупле,а медведь спит в берлоге и т. д.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3.Активизировать и обогащать словарь путем подбора описательных прилагательных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4. Продолжать работу по формированию грамматически правильной речи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WordArt 9"/>
          <p:cNvSpPr txBox="1"/>
          <p:nvPr/>
        </p:nvSpPr>
        <p:spPr>
          <a:xfrm>
            <a:off x="250920" y="981000"/>
            <a:ext cx="8642160" cy="554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366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аленький,беленький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о полю скачет,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Ушки прячет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8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8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8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8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eec94"/>
                </a:solidFill>
                <a:latin typeface="Poor Richard"/>
              </a:rPr>
              <a:t>Заяц</a:t>
            </a:r>
            <a:endParaRPr b="1" lang="en-US" sz="8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Picture 5" descr="zaic_b"/>
          <p:cNvPicPr/>
          <p:nvPr/>
        </p:nvPicPr>
        <p:blipFill>
          <a:blip r:embed="rId1"/>
          <a:stretch/>
        </p:blipFill>
        <p:spPr>
          <a:xfrm>
            <a:off x="1403280" y="1628640"/>
            <a:ext cx="6553440" cy="446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WordArt 6"/>
          <p:cNvSpPr txBox="1"/>
          <p:nvPr/>
        </p:nvSpPr>
        <p:spPr>
          <a:xfrm>
            <a:off x="684360" y="333360"/>
            <a:ext cx="6408720" cy="5143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Он в берлоге спит зимой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од большущею сосной,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А когда придет весна,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росыпается от сна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eec94"/>
                </a:solidFill>
                <a:latin typeface="Times New Roman"/>
              </a:rPr>
              <a:t>Медведь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3" name="Picture 9" descr="beer-23"/>
          <p:cNvPicPr/>
          <p:nvPr/>
        </p:nvPicPr>
        <p:blipFill>
          <a:blip r:embed="rId1"/>
          <a:stretch/>
        </p:blipFill>
        <p:spPr>
          <a:xfrm>
            <a:off x="684360" y="1628640"/>
            <a:ext cx="7524720" cy="471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WordArt 5"/>
          <p:cNvSpPr txBox="1"/>
          <p:nvPr/>
        </p:nvSpPr>
        <p:spPr>
          <a:xfrm>
            <a:off x="1187280" y="1341360"/>
            <a:ext cx="7201080" cy="439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 дупле живет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Да орешки грызет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eec94"/>
                </a:solidFill>
                <a:latin typeface="Times New Roman"/>
              </a:rPr>
              <a:t>Белка</a:t>
            </a: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Picture 4" descr="belka"/>
          <p:cNvPicPr/>
          <p:nvPr/>
        </p:nvPicPr>
        <p:blipFill>
          <a:blip r:embed="rId1"/>
          <a:stretch/>
        </p:blipFill>
        <p:spPr>
          <a:xfrm>
            <a:off x="468360" y="1628640"/>
            <a:ext cx="820728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8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8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8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8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WordArt 5"/>
          <p:cNvSpPr txBox="1"/>
          <p:nvPr/>
        </p:nvSpPr>
        <p:spPr>
          <a:xfrm>
            <a:off x="1547640" y="1413000"/>
            <a:ext cx="6626520" cy="5184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Он зимой холодно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Ходит злой,голодный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5T04:36:52Z</dcterms:created>
  <dc:creator>User 2</dc:creator>
  <dc:description/>
  <dc:language>en-US</dc:language>
  <cp:lastModifiedBy>Марина</cp:lastModifiedBy>
  <dcterms:modified xsi:type="dcterms:W3CDTF">2015-10-14T11:43:00Z</dcterms:modified>
  <cp:revision>20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