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736-2E33-4C9E-BDBF-3C64F0AB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8F0-88F9-4CC6-83F1-E929E5BC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EF7-8364-43F3-9DB6-DFC08509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FFB-B8AD-418C-A8F7-DCDB5CEA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9B93A-7A14-422A-8A3C-57E787A7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012A4-D7FB-4932-9D2B-B436859A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E83D7-426A-4E99-ADB2-1944AB99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9CD4C-455C-4BA6-AF1C-B444405A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94FFD-C667-4240-AC42-56FC08D4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F15D2-5191-474B-B73A-9E70F7DA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BD555-8DCB-4C0D-8A11-FF0163B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67F-2FA6-4D37-A508-604EC0F4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BFCBA-E88E-4A3E-B718-745C92C4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99D44-B4F8-4899-B5A0-47439E2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87AA-5B05-47C0-8D05-8E1FB7AF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264EA-3D8D-455A-9293-2C1B5C6D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E939D-AAC2-49DF-8132-DE59E3A1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C6A-24E6-4B84-AF94-03DFFADA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196-A5D2-44F3-A6F9-15BEA4D0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5EE-3AB2-49A5-A622-CA1361A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28D-4F5D-45E4-A7C9-3DDF5F78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095-49A1-4475-84A2-045B22C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6E4-C645-4A22-A330-42CE85D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A74-BB6F-4829-938F-A2F0846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C855-BE6D-4F44-ACAD-836D0B0C8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DCAD-3530-4D88-97F2-A13DCAD6D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Книги – это добрые волшебники. Они всегда готовы рассказать о любой стране и о любом народе, о том, что было тысячу лет назад, и том, как мы штурмуем космос, как изучаем морские глубины… Книги ответят на любой вопрос, помогут в любом деле. Недаром мы называем из верными друзьями, добрыми советчи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468360" y="-515880"/>
            <a:ext cx="9936360" cy="74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-109440"/>
            <a:ext cx="9290160" cy="71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96720" y="-409680"/>
            <a:ext cx="9721800" cy="72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612720" y="-272880"/>
            <a:ext cx="975672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54072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96720" y="-52560"/>
            <a:ext cx="954072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089000" cy="1089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1935360" cy="229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238140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284720" y="404640"/>
            <a:ext cx="1752480" cy="288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516720" y="3429000"/>
            <a:ext cx="22622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7393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-27288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6048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ы представляем вашему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ниманию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«Книгу добр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27288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541440" y="-272880"/>
            <a:ext cx="968544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-324000" y="-241200"/>
            <a:ext cx="946800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324000" y="-272880"/>
            <a:ext cx="9468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36360" y="-324000"/>
            <a:ext cx="9612000" cy="72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51958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72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14480" y="6308640"/>
            <a:ext cx="43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аем над иллюстрациями кни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4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5:25:44Z</dcterms:created>
  <dc:creator>anna</dc:creator>
  <dc:description/>
  <dc:language>en-US</dc:language>
  <cp:lastModifiedBy>anna</cp:lastModifiedBy>
  <dcterms:modified xsi:type="dcterms:W3CDTF">2015-02-04T16:06:27Z</dcterms:modified>
  <cp:revision>5</cp:revision>
  <dc:subject/>
  <dc:title>Книги – это добрые волшебники. Они всегда готовы рассказать о любой стране и о любом народе, о том, что было тысячу лет назад, и том, как мы штурмуем космос, как изучаем морские глубины… Книги ответят на любой вопрос, помогут в любом деле. Недаром мы называем из верными друзьями, добрыми советчиками.</dc:title>
</cp:coreProperties>
</file>