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0.jpeg" ContentType="image/jpeg"/>
  <Override PartName="/ppt/media/image19.gif" ContentType="image/gif"/>
  <Override PartName="/ppt/media/image21.jpeg" ContentType="image/jpeg"/>
  <Override PartName="/ppt/media/image17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AB1-5423-4E7A-82AE-57B76026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C4E-F71C-477D-B4F6-8EDF7342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625-2FBE-48B4-A3F3-7C342C3C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B4C-E6E8-4867-BFFA-75421809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A8979-8E23-41D4-A882-79A33128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B1D3F-8EC8-4F1E-BECC-17DCBCEA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FBAA1-27C8-4595-B9B1-A8BCBD81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738E3-562F-45EF-8AF5-522ACE33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F38FE-DDDE-4023-A0D7-9E9E11AD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DDDC4-DD7E-4B27-B8BE-1CDE9C52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5D8B2-C2B1-4CC5-95D6-AFBE0AA1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98C-D10A-42B7-80D9-A37D90A5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3FE1C-AA1E-498B-9278-30388324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C1C83-7236-4BC0-98A6-25EECF2D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5DAF5-F771-49F7-A549-28997ED8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E0E56-6334-4390-A2A6-6713E714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900AA-9165-44D1-9B09-21B47DC7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8A5-A94F-4E41-BD99-8E3C2D7A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A23-1885-47D9-9C67-DF870543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2DA-A243-45D5-A8A2-E3C70157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E8A-F180-49CB-9189-575C55EA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DD2-844E-41C4-A7C3-3789D045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501-5714-4DEC-A9E6-7959290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02C-E2E3-48D9-BEDE-97C630CB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5A38-4427-4D74-B0CE-FD00FD409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3241-93E9-4862-8F89-6B372E742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Книги – это добрые волшебники. Они всегда готовы рассказать о любой стране и о любом народе, о том, что было тысячу лет назад, и том, как мы штурмуем космос, как изучаем морские глубины… Книги ответят на любой вопрос, помогут в любом деле. Недаром мы называем из верными друзьями, добрыми советчи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468360" y="-515880"/>
            <a:ext cx="9936360" cy="74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-109440"/>
            <a:ext cx="9290160" cy="71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396720" y="-409680"/>
            <a:ext cx="9721800" cy="72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612720" y="-272880"/>
            <a:ext cx="975672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540720" cy="71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96720" y="-52560"/>
            <a:ext cx="9540720" cy="71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5516640"/>
            <a:ext cx="1089000" cy="1089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26920" y="692280"/>
            <a:ext cx="1935360" cy="229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238140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284720" y="404640"/>
            <a:ext cx="1752480" cy="288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516720" y="3429000"/>
            <a:ext cx="22622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7393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-27288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6048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ы представляем вашему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ниманию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«Книгу добр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-27288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541440" y="-272880"/>
            <a:ext cx="9685440" cy="72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-324000" y="-241200"/>
            <a:ext cx="946800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324000" y="-272880"/>
            <a:ext cx="9468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-36360" y="-324000"/>
            <a:ext cx="9612000" cy="72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24000" y="1341360"/>
            <a:ext cx="519588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72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14480" y="6308640"/>
            <a:ext cx="43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ботаем над иллюстрациями кни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54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15:25:44Z</dcterms:created>
  <dc:creator>anna</dc:creator>
  <dc:description/>
  <dc:language>en-US</dc:language>
  <cp:lastModifiedBy>anna</cp:lastModifiedBy>
  <dcterms:modified xsi:type="dcterms:W3CDTF">2015-02-04T16:06:27Z</dcterms:modified>
  <cp:revision>5</cp:revision>
  <dc:subject/>
  <dc:title>Книги – это добрые волшебники. Они всегда готовы рассказать о любой стране и о любом народе, о том, что было тысячу лет назад, и том, как мы штурмуем космос, как изучаем морские глубины… Книги ответят на любой вопрос, помогут в любом деле. Недаром мы называем из верными друзьями, добрыми советчиками.</dc:title>
</cp:coreProperties>
</file>