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D77-85E4-4EC9-9270-70062C91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218-029A-42B4-9044-1896F02D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FF6-A6D5-413B-9636-D697FE49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11D-5F99-4179-B684-E18BC56B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4C7-DFE3-49AC-BF5D-CD01C732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10E-ADEA-42F0-AC40-632D38F9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72F-E39C-414E-9D36-9F9AEB30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C91-3A1C-453C-B0F8-03464462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340-6883-4D00-A4EC-ACC8057D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7B4-43CF-45BC-8FAC-2DBE2C2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814-CFA2-4237-ADA6-FBEBD23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550-652C-456D-95B1-884CA07C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35E2-E025-46A7-9F18-80CC9F9E3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-29160"/>
            <a:ext cx="77054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Экономическая теория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наука о ведении домашнего хозяйства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умение сохранять и увеличивать капит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наука о поведении людей в процессе производства, обмена, распределения материальных бла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знания о последствиях о последствиях научно-технического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Необходимым признаком рыночной экономики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вободное ценообразование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высокое качество   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использование ресурсосберегающ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внешнеэкономическая деятельность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Основу традиционной экономической системы состав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вободное распределение ресурсов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директивное ценообраз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распределение ресурсов государством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использование ресурсов в соответствии с обыча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49280" y="423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45680" y="1216080"/>
            <a:ext cx="86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ите соответствия между названиями издержек и их характерист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Ы ИЗДЕРЖЕК                                           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амортизация                                                     1.неявные из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иобретение сырья                                        2.явные (бухгалтер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выплаты, которые могли быть получены       постоянные из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самостоятельно используемый ресурс,         3.явные (бухгалтер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бы собственник вложил его в чужое           переменные из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 арендная плата фирмы за по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) оплата труда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) расходы на тару и упако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06160" y="3333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8120" y="119700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ановите причинно – следственные свя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5880" y="2467080"/>
            <a:ext cx="601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Дорогой кре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Уменьшение денежной массы в обра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Уменьшение кол-ва денег у б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Сокращение числа заемщ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Увеличение нормы обязательных резер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Снижение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Спад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9548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93280" y="3524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26920" y="9075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3141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187280" y="1267920"/>
            <a:ext cx="57636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050920" y="1267920"/>
            <a:ext cx="5050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547640" y="20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71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6564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53280" y="11444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41640" y="10731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42000" y="1073160"/>
            <a:ext cx="445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исунке отражено изм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ложения тропических фр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Д1 переместилась в Д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 – цена товара, М –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вязано с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Уменьшением затрат произв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57280" y="33051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42720" y="3808440"/>
            <a:ext cx="429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Повыш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Повышением пошлин на 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Высоким урожаем троп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830160"/>
            <a:ext cx="7543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Рост спроса на компьютеры, сотовые телефоны, аудио- видеоаппаратуру отражает ситуацию, сложившуюся на рын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фондовом;         б) капиталов;              в) труда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товаров и усл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Государственный бюджет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государственный орган, отвечающий за распределение финансовых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распределение доходов и расходов государства на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разница между доходами и расходами государ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годовой план сбора налогов государ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К прямым налог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налоги на имущество;    б) пошлины;     в) акцизы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партийные взн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321840"/>
            <a:ext cx="7416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Что относится к характеристикам рыночной эконо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частная собственность на средства произво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уравнительное распределение производимых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государственное регулирование цено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централизованное планирование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При наличии дефицита на рынке товаров и услуг производителю максимально выгод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увеличить и цену, и выпуск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уменьшить и цену, и выпуск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уменьшить цену и увеличить выпуск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увеличить цену и уменьшить выпуск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Как называется ежегодный доход владельцев акц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заработная плата;     б) дивиденд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предпринимательский доход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банковский проц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369720"/>
            <a:ext cx="792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Верны ли следующие су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Потребитель в рыночной экономике участвует в формировании рыночного спр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Цену товаров и услуг на рынке устанавливает производитель без участия потреб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верно только А;        б) верно только Б;    в) верны оба суждения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оба суждения неве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Проблемы экономического роста, роли государства в экономике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макроэкономика  2)микроэкономика  3)протекционизм  4)мерканти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 Сумма рыночных цен всех конечных продуктов (товаров и услуг), созданных производителями данной страны в течение года как внутри страны, так и за рубеж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ВВП          2)НД          3)ВНП          4)Т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847440"/>
            <a:ext cx="727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.Вставьте  пропущенные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Увеличение ВВП за счёт расширения масштабов использования ресурсов – это … рос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Экономический цикл состоит из подъёма, спада, … и ожи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 Совокупность институтов, служб, предприятий, обслуживающих рынок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монополия   2)валютная биржа   3)инфраструктура   4)конку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 Доход, который приносит такой фактор производства, как зем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капитал         2)процент        3) зарплата           4)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58920" y="654120"/>
            <a:ext cx="698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. Помещение, в котором располагается фирма, является собственностью владельца -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внутренние издержки 2)внешние издержки 3)экономическая прибыль 4)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 Увеличение или уменьшение налогов – это пример политики государ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фискальной   2)монет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правов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 Эмиссия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замена денежных знаков  2)уровень инфляции   3)выпуск денежных 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68360"/>
            <a:ext cx="748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. Приём депозитов в банке – это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активная опер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пассивная опер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нейтральная оп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. Политика государства, направленная на защиту интересов внутренних производителей от иностранных конкур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глобализация  2)меркантилизм  3)экономические санкции  4)протекцио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699920"/>
            <a:ext cx="848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Экспорт Нидерландов в 2001 году был равен 240 650 млн долл, а импорт – 120 230 млн долл. Подсчитайте сальдо внешнеторгового баланса страны. Является ли оно положительным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78360" y="2811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80" y="3716280"/>
            <a:ext cx="908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Все приведенные ниже термины , за исключением одного, Характеризуют понятие «измерители экономической деятельности». Укажите термин, относящийся к другому понят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ловой внутренний продукт, национальный доход,  расчет на душу населения, число налогов, индекс инф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1000" y="191160"/>
            <a:ext cx="8793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«В современной экономике действуют три главных_____________(1): производители экономического продукта, его потребители и ____________(2). Между ними происходит весьма интенсивный _________(3) товарами, услугами, денежными средствами, информацией. Государство обеспечивает определенную упорядоченность экономических процессов, их правовое _______(4), защиту прав и интересов отдельных участников экономических отношений. В тоже время государство выступает как весьма крупный __________(5) товаров, услуг, информации. В тоже время государство является_________(6), оно приобретает у производителей военную технику для армии ,продукты питания, для гос.запас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потреб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)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) су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) 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)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) произ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7:05:15Z</dcterms:created>
  <dc:creator>USER</dc:creator>
  <dc:description/>
  <dc:language>en-US</dc:language>
  <cp:lastModifiedBy>USER</cp:lastModifiedBy>
  <dcterms:modified xsi:type="dcterms:W3CDTF">2013-12-02T17:33:59Z</dcterms:modified>
  <cp:revision>3</cp:revision>
  <dc:subject/>
  <dc:title>Слайд 1</dc:title>
</cp:coreProperties>
</file>