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2BFF-C2AB-4A74-95B0-FC4ECC2B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E567-ACFD-417A-B6A8-38B3E02F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FE9C-B3BE-46BA-A1F9-164D0BE1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61D2-A9D1-4957-8E4F-4DA3D01C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2944-5192-4505-B54E-BECAFAC3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D447-6B94-4D49-AB5A-7F771040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DF6A-F9F2-456B-BEE6-AD9399AC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BC14-F9E6-4C32-A197-8E3F1751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E268-0835-43EF-9870-27A19A44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DAC5-887B-45B7-BC17-95B8D608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F436-172B-401F-BE29-2ED0794A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8EAA-ECC0-4954-8837-2CF2C691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F8AA-5BFD-494F-B606-B2A4EF7EC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-29160"/>
            <a:ext cx="77054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Экономическая теория э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наука о ведении домашнего хозяйства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умение сохранять и увеличивать капита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) наука о поведении людей в процессе производства, обмена, распределения материальных бла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) знания о последствиях о последствиях научно-технического прогр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Необходимым признаком рыночной экономики явл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свободное ценообразование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высокое качество    проду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) использование ресурсосберегающих технолог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) внешнеэкономическая деятельность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Основу традиционной экономической системы составля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свободное распределение ресурсов;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директивное ценообраз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) распределение ресурсов государством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) использование ресурсов в соответствии с обыча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249280" y="42372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ние№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445680" y="1216080"/>
            <a:ext cx="8600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ановите соответствия между названиями издержек и их характерист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МЕРЫ ИЗДЕРЖЕК                                            НАЗ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амортизация                                                     1.неявные издер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приобретение сырья                                        2.явные (бухгалтер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выплаты, которые могли быть получены       постоянные издер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 самостоятельно используемый ресурс,         3.явные (бухгалтер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бы собственник вложил его в чужое           переменные издер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) арендная плата фирмы за поме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) оплата труда рабо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) расходы на тару и упаков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206160" y="33336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ние №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618120" y="1197000"/>
            <a:ext cx="53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тановите причинно – следственные связ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05880" y="2467080"/>
            <a:ext cx="6010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Дорогой кред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Уменьшение денежной массы в обращ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Уменьшение кол-ва денег у бан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Сокращение числа заемщ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Увеличение нормы обязательных резер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Снижение инфля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Спад 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095480" y="5248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393280" y="35244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ние №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826920" y="9075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3141720"/>
            <a:ext cx="208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187280" y="1267920"/>
            <a:ext cx="57636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050920" y="1267920"/>
            <a:ext cx="50508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547640" y="20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712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65640" y="3160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53280" y="114444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41640" y="107316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42000" y="1073160"/>
            <a:ext cx="445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рисунке отражено изме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ложения тропических фру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ния Д1 переместилась в Д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 – цена товара, М – колич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связано с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Уменьшением затрат произв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57280" y="330516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ру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42720" y="3808440"/>
            <a:ext cx="429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Повышением доходов потреб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Повышением пошлин на им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ру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Высоким урожаем тропиче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ру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9640" y="830160"/>
            <a:ext cx="7543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Рост спроса на компьютеры, сотовые телефоны, аудио- видеоаппаратуру отражает ситуацию, сложившуюся на рын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фондовом;         б) капиталов;              в) труда;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) товаров и услу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Государственный бюджет – э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государственный орган, отвечающий за распределение финансовых сред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распределение доходов и расходов государства на г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) разница между доходами и расходами государ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) годовой план сбора налогов государ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К прямым налог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налоги на имущество;    б) пошлины;     в) акцизы;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) партийные взн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321840"/>
            <a:ext cx="7416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Что относится к характеристикам рыночной эконом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 частная собственность на средства производ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) уравнительное распределение производимых проду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) государственное регулирование цено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) централизованное планирование произво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При наличии дефицита на рынке товаров и услуг производителю максимально выгод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 увеличить и цену, и выпуск проду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) уменьшить и цену, и выпуск проду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) уменьшить цену и увеличить выпуск проду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) увеличить цену и уменьшить выпуск проду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. Как называется ежегодный доход владельцев акц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 заработная плата;     б) дивиденд;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) предпринимательский доход;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) банковский проц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369720"/>
            <a:ext cx="7920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 Верны ли следующие суж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. Потребитель в рыночной экономике участвует в формировании рыночного спро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. Цену товаров и услуг на рынке устанавливает производитель без участия потреб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 верно только А;        б) верно только Б;    в) верны оба суждения;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) оба суждения невер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. Проблемы экономического роста, роли государства в экономике изу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макроэкономика  2)микроэкономика  3)протекционизм  4)мерканти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 Сумма рыночных цен всех конечных продуктов (товаров и услуг), созданных производителями данной страны в течение года как внутри страны, так и за рубеж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ВВП          2)НД          3)ВНП          4)ТЭ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42920" y="847440"/>
            <a:ext cx="7274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.Вставьте  пропущенные сл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Увеличение ВВП за счёт расширения масштабов использования ресурсов – это … рост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Экономический цикл состоит из подъёма, спада, … и ожи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. Совокупность институтов, служб, предприятий, обслуживающих рынок – э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монополия   2)валютная биржа   3)инфраструктура   4)конкур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. Доход, который приносит такой фактор производства, как земл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капитал         2)процент        3) зарплата           4)р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58920" y="654120"/>
            <a:ext cx="6985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. Помещение, в котором располагается фирма, является собственностью владельца -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внутренние издержки 2)внешние издержки 3)экономическая прибыль 4)эффе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. Увеличение или уменьшение налогов – это пример политики государ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фискальной   2)монетар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правового регул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. Эмиссия –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замена денежных знаков  2)уровень инфляции   3)выпуск денежных зн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468360"/>
            <a:ext cx="7489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. Приём депозитов в банке – это 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активная опер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пассивная опер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нейтральная опе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. Политика государства, направленная на защиту интересов внутренних производителей от иностранных конкурен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глобализация  2)меркантилизм  3)экономические санкции  4)протекцио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1699920"/>
            <a:ext cx="848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Экспорт Нидерландов в 2001 году был равен 240 650 млн долл, а импорт – 120 230 млн долл. Подсчитайте сальдо внешнеторгового баланса страны. Является ли оно положительным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78360" y="28116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сть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480" y="3716280"/>
            <a:ext cx="9083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Все приведенные ниже термины , за исключением одного, Характеризуют понятие «измерители экономической деятельности». Укажите термин, относящийся к другому понят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ловой внутренний продукт, национальный доход,  расчет на душу населения, число налогов, индекс инфля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1000" y="191160"/>
            <a:ext cx="8793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«В современной экономике действуют три главных_____________(1): производители экономического продукта, его потребители и ____________(2). Между ними происходит весьма интенсивный _________(3) товарами, услугами, денежными средствами, информацией. Государство обеспечивает определенную упорядоченность экономических процессов, их правовое _______(4), защиту прав и интересов отдельных участников экономических отношений. В тоже время государство выступает как весьма крупный __________(5) товаров, услуг, информации. В тоже время государство является_________(6), оно приобретает у производителей военную технику для армии ,продукты питания, для гос.запасов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регул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об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пред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потреб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) 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) субъ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) с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) объ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) произ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17:05:15Z</dcterms:created>
  <dc:creator>USER</dc:creator>
  <dc:description/>
  <dc:language>en-US</dc:language>
  <cp:lastModifiedBy>USER</cp:lastModifiedBy>
  <dcterms:modified xsi:type="dcterms:W3CDTF">2013-12-02T17:33:59Z</dcterms:modified>
  <cp:revision>3</cp:revision>
  <dc:subject/>
  <dc:title>Слайд 1</dc:title>
</cp:coreProperties>
</file>