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468-9AB7-44BE-8604-5FCFA56D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628-EA20-4158-9075-D67392F2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3BA-7162-452A-9C3F-D18C12D0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B03-D6D1-4C8F-A283-7F8A99F4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412-2920-4112-B3EA-3C437BDD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DE1-0051-4649-86C0-336D801C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30A-1377-47A3-9179-EA4F5875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7AB-1461-463E-AB44-402631E4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877-C2C2-4149-89F7-2231A0CC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8B2-BC97-4833-9091-4FAD191D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531-2BBE-4E57-8808-248B2F4F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20F-A2BF-4230-9577-F5C94D04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8771-2823-40C1-9E2A-9E4784E766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 Light"/>
              </a:rPr>
              <a:t>                     </a:t>
            </a:r>
            <a:r>
              <a:rPr b="0" lang="ru-RU" sz="6600" spc="-1" strike="noStrike">
                <a:solidFill>
                  <a:srgbClr val="000000"/>
                </a:solidFill>
                <a:latin typeface="Calibri Light"/>
              </a:rPr>
              <a:t>Красная книга.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2195640" y="1690560"/>
            <a:ext cx="78008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65480" y="406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Амурский тигр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157320" y="1641600"/>
            <a:ext cx="6554520" cy="37144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5753160" y="1889280"/>
            <a:ext cx="608148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68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хота тигр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217440" y="1587600"/>
            <a:ext cx="7156440" cy="47862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2"/>
          <a:stretch/>
        </p:blipFill>
        <p:spPr>
          <a:xfrm>
            <a:off x="5673600" y="1690560"/>
            <a:ext cx="61200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2095560" y="1679400"/>
            <a:ext cx="78786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75240" y="239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Монгол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166680" y="1565280"/>
            <a:ext cx="6846840" cy="4351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2"/>
          <a:stretch/>
        </p:blipFill>
        <p:spPr>
          <a:xfrm>
            <a:off x="5688000" y="2376360"/>
            <a:ext cx="57736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6084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Снежный барс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276120" y="1611360"/>
            <a:ext cx="6593040" cy="41194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5827680" y="1481040"/>
            <a:ext cx="60595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1"/>
          <a:stretch/>
        </p:blipFill>
        <p:spPr>
          <a:xfrm>
            <a:off x="404640" y="365040"/>
            <a:ext cx="113364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416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хота снежного барс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Объект 3" descr=""/>
          <p:cNvPicPr/>
          <p:nvPr/>
        </p:nvPicPr>
        <p:blipFill>
          <a:blip r:embed="rId1"/>
          <a:stretch/>
        </p:blipFill>
        <p:spPr>
          <a:xfrm>
            <a:off x="125280" y="1825560"/>
            <a:ext cx="6599520" cy="4351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5508720" y="2633760"/>
            <a:ext cx="56689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164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Камышовый кот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Объект 5" descr=""/>
          <p:cNvPicPr/>
          <p:nvPr/>
        </p:nvPicPr>
        <p:blipFill>
          <a:blip r:embed="rId1"/>
          <a:stretch/>
        </p:blipFill>
        <p:spPr>
          <a:xfrm>
            <a:off x="252360" y="1555920"/>
            <a:ext cx="5802480" cy="43513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5506920" y="3200400"/>
            <a:ext cx="624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8166240" cy="45734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"/>
          <p:cNvPicPr/>
          <p:nvPr/>
        </p:nvPicPr>
        <p:blipFill>
          <a:blip r:embed="rId2"/>
          <a:stretch/>
        </p:blipFill>
        <p:spPr>
          <a:xfrm>
            <a:off x="7419960" y="2286000"/>
            <a:ext cx="44496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0" y="41400"/>
            <a:ext cx="1219212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24160" y="324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3792600" y="324000"/>
            <a:ext cx="459252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1700280" y="1406520"/>
            <a:ext cx="8586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622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Дальневосточный Леопард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530280" y="1517760"/>
            <a:ext cx="6962760" cy="4351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2"/>
          <a:stretch/>
        </p:blipFill>
        <p:spPr>
          <a:xfrm>
            <a:off x="6854760" y="1690560"/>
            <a:ext cx="49579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tretch/>
        </p:blipFill>
        <p:spPr>
          <a:xfrm>
            <a:off x="0" y="365040"/>
            <a:ext cx="1219212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1"/>
          <a:stretch/>
        </p:blipFill>
        <p:spPr>
          <a:xfrm>
            <a:off x="76320" y="163440"/>
            <a:ext cx="7010280" cy="43513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6334200" y="1530360"/>
            <a:ext cx="5019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Питер Скотт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6386400" y="441360"/>
            <a:ext cx="4627800" cy="5870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208080" y="2390760"/>
            <a:ext cx="630720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629080" y="290520"/>
            <a:ext cx="83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азгадайте ребу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3625920" y="1490760"/>
            <a:ext cx="50623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0" y="344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 Light"/>
              </a:rPr>
              <a:t>Красный волк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11120" y="1670040"/>
            <a:ext cx="4989600" cy="3979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029200" y="2503440"/>
            <a:ext cx="53658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040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Волчат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995400" y="1666800"/>
            <a:ext cx="4949640" cy="4351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5516640" y="1825560"/>
            <a:ext cx="66754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имой                                              Лето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5462640" y="1690560"/>
            <a:ext cx="6729480" cy="4440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0" y="1690560"/>
            <a:ext cx="6491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27520" y="1252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 Light"/>
              </a:rPr>
              <a:t>Черная крыса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369720" y="1189080"/>
            <a:ext cx="6228000" cy="4141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2"/>
          <a:stretch/>
        </p:blipFill>
        <p:spPr>
          <a:xfrm>
            <a:off x="5899320" y="2089080"/>
            <a:ext cx="535284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86080" y="344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Гнездо черной крыс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Объект 9" descr=""/>
          <p:cNvPicPr/>
          <p:nvPr/>
        </p:nvPicPr>
        <p:blipFill>
          <a:blip r:embed="rId1"/>
          <a:stretch/>
        </p:blipFill>
        <p:spPr>
          <a:xfrm>
            <a:off x="2481120" y="1457280"/>
            <a:ext cx="66326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9T14:26:26Z</dcterms:created>
  <dc:creator>A412hi Eldorado</dc:creator>
  <dc:description/>
  <dc:language>en-US</dc:language>
  <cp:lastModifiedBy>ШК489</cp:lastModifiedBy>
  <dcterms:modified xsi:type="dcterms:W3CDTF">2015-10-13T13:32:28Z</dcterms:modified>
  <cp:revision>36</cp:revision>
  <dc:subject/>
  <dc:title>12  18  1  19  15  1  33</dc:title>
</cp:coreProperties>
</file>