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76A-4AA0-4243-8FFF-19C6B994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3ED8-863D-4296-A58A-2E46A0C6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4549-7C18-4E1F-A213-F808BB63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F5D7-1DC3-47D5-B364-6181BCB5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B49-3E40-4F76-BF5B-4ECFF7D4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08C9-AD4B-46E2-9179-A9040D83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C44-EF86-46A8-AC3A-86D2933B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A68-AAD0-4D18-908F-7F1F0297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A370-E02A-4867-BA46-22F6221E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87B-E1AB-4699-A4B5-B2804B52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EE4-0C53-4F86-BE16-59C27E86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EFC8-0147-4339-ACB7-E2EEC887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E1A2-B9AA-4E94-9C5B-85B2C90F8C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 Light"/>
              </a:rPr>
              <a:t>                     </a:t>
            </a:r>
            <a:r>
              <a:rPr b="0" lang="ru-RU" sz="6600" spc="-1" strike="noStrike">
                <a:solidFill>
                  <a:srgbClr val="000000"/>
                </a:solidFill>
                <a:latin typeface="Calibri Light"/>
              </a:rPr>
              <a:t>Красная книга.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Объект 3" descr=""/>
          <p:cNvPicPr/>
          <p:nvPr/>
        </p:nvPicPr>
        <p:blipFill>
          <a:blip r:embed="rId1"/>
          <a:stretch/>
        </p:blipFill>
        <p:spPr>
          <a:xfrm>
            <a:off x="2195640" y="1690560"/>
            <a:ext cx="78008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65480" y="4064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Амурский тигр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157320" y="1641600"/>
            <a:ext cx="6554520" cy="37144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5753160" y="1889280"/>
            <a:ext cx="608148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068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хота тигра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Объект 3" descr=""/>
          <p:cNvPicPr/>
          <p:nvPr/>
        </p:nvPicPr>
        <p:blipFill>
          <a:blip r:embed="rId1"/>
          <a:stretch/>
        </p:blipFill>
        <p:spPr>
          <a:xfrm>
            <a:off x="217440" y="1587600"/>
            <a:ext cx="7156440" cy="47862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"/>
          <p:cNvPicPr/>
          <p:nvPr/>
        </p:nvPicPr>
        <p:blipFill>
          <a:blip r:embed="rId2"/>
          <a:stretch/>
        </p:blipFill>
        <p:spPr>
          <a:xfrm>
            <a:off x="5673600" y="1690560"/>
            <a:ext cx="61200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>
            <a:off x="2095560" y="1679400"/>
            <a:ext cx="78786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75240" y="239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Монголы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166680" y="1565280"/>
            <a:ext cx="6846840" cy="4351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"/>
          <p:cNvPicPr/>
          <p:nvPr/>
        </p:nvPicPr>
        <p:blipFill>
          <a:blip r:embed="rId2"/>
          <a:stretch/>
        </p:blipFill>
        <p:spPr>
          <a:xfrm>
            <a:off x="5688000" y="2376360"/>
            <a:ext cx="577368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6084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Снежный барс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276120" y="1611360"/>
            <a:ext cx="6593040" cy="41194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"/>
          <p:cNvPicPr/>
          <p:nvPr/>
        </p:nvPicPr>
        <p:blipFill>
          <a:blip r:embed="rId2"/>
          <a:stretch/>
        </p:blipFill>
        <p:spPr>
          <a:xfrm>
            <a:off x="5827680" y="1481040"/>
            <a:ext cx="60595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" name="Объект 3" descr=""/>
          <p:cNvPicPr/>
          <p:nvPr/>
        </p:nvPicPr>
        <p:blipFill>
          <a:blip r:embed="rId1"/>
          <a:stretch/>
        </p:blipFill>
        <p:spPr>
          <a:xfrm>
            <a:off x="404640" y="365040"/>
            <a:ext cx="1133640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5416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хота снежного барса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Объект 3" descr=""/>
          <p:cNvPicPr/>
          <p:nvPr/>
        </p:nvPicPr>
        <p:blipFill>
          <a:blip r:embed="rId1"/>
          <a:stretch/>
        </p:blipFill>
        <p:spPr>
          <a:xfrm>
            <a:off x="125280" y="1825560"/>
            <a:ext cx="6599520" cy="43513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"/>
          <p:cNvPicPr/>
          <p:nvPr/>
        </p:nvPicPr>
        <p:blipFill>
          <a:blip r:embed="rId2"/>
          <a:stretch/>
        </p:blipFill>
        <p:spPr>
          <a:xfrm>
            <a:off x="5508720" y="2633760"/>
            <a:ext cx="56689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164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Камышовый кот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" name="Объект 5" descr=""/>
          <p:cNvPicPr/>
          <p:nvPr/>
        </p:nvPicPr>
        <p:blipFill>
          <a:blip r:embed="rId1"/>
          <a:stretch/>
        </p:blipFill>
        <p:spPr>
          <a:xfrm>
            <a:off x="252360" y="1555920"/>
            <a:ext cx="5802480" cy="43513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5506920" y="3200400"/>
            <a:ext cx="6242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8166240" cy="45734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"/>
          <p:cNvPicPr/>
          <p:nvPr/>
        </p:nvPicPr>
        <p:blipFill>
          <a:blip r:embed="rId2"/>
          <a:stretch/>
        </p:blipFill>
        <p:spPr>
          <a:xfrm>
            <a:off x="7419960" y="2286000"/>
            <a:ext cx="44496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Объект 3" descr=""/>
          <p:cNvPicPr/>
          <p:nvPr/>
        </p:nvPicPr>
        <p:blipFill>
          <a:blip r:embed="rId1"/>
          <a:stretch/>
        </p:blipFill>
        <p:spPr>
          <a:xfrm>
            <a:off x="0" y="41400"/>
            <a:ext cx="1219212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24160" y="3240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3792600" y="324000"/>
            <a:ext cx="459252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" name="Объект 3" descr=""/>
          <p:cNvPicPr/>
          <p:nvPr/>
        </p:nvPicPr>
        <p:blipFill>
          <a:blip r:embed="rId1"/>
          <a:stretch/>
        </p:blipFill>
        <p:spPr>
          <a:xfrm>
            <a:off x="1700280" y="1406520"/>
            <a:ext cx="8586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622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Дальневосточный Леопард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3" name="Объект 3" descr=""/>
          <p:cNvPicPr/>
          <p:nvPr/>
        </p:nvPicPr>
        <p:blipFill>
          <a:blip r:embed="rId1"/>
          <a:stretch/>
        </p:blipFill>
        <p:spPr>
          <a:xfrm>
            <a:off x="530280" y="1517760"/>
            <a:ext cx="6962760" cy="43513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"/>
          <p:cNvPicPr/>
          <p:nvPr/>
        </p:nvPicPr>
        <p:blipFill>
          <a:blip r:embed="rId2"/>
          <a:stretch/>
        </p:blipFill>
        <p:spPr>
          <a:xfrm>
            <a:off x="6854760" y="1690560"/>
            <a:ext cx="49579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6" name="Объект 3" descr=""/>
          <p:cNvPicPr/>
          <p:nvPr/>
        </p:nvPicPr>
        <p:blipFill>
          <a:blip r:embed="rId1"/>
          <a:stretch/>
        </p:blipFill>
        <p:spPr>
          <a:xfrm>
            <a:off x="0" y="365040"/>
            <a:ext cx="1219212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" name="Объект 3" descr=""/>
          <p:cNvPicPr/>
          <p:nvPr/>
        </p:nvPicPr>
        <p:blipFill>
          <a:blip r:embed="rId1"/>
          <a:stretch/>
        </p:blipFill>
        <p:spPr>
          <a:xfrm>
            <a:off x="76320" y="163440"/>
            <a:ext cx="7010280" cy="43513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"/>
          <p:cNvPicPr/>
          <p:nvPr/>
        </p:nvPicPr>
        <p:blipFill>
          <a:blip r:embed="rId2"/>
          <a:stretch/>
        </p:blipFill>
        <p:spPr>
          <a:xfrm>
            <a:off x="6334200" y="1530360"/>
            <a:ext cx="50194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Питер Скотт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6386400" y="441360"/>
            <a:ext cx="4627800" cy="58705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tretch/>
        </p:blipFill>
        <p:spPr>
          <a:xfrm>
            <a:off x="208080" y="2390760"/>
            <a:ext cx="630720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629080" y="290520"/>
            <a:ext cx="83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Разгадайте ребу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3625920" y="1490760"/>
            <a:ext cx="506232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0" y="344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 Light"/>
              </a:rPr>
              <a:t>Красный волк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11120" y="1670040"/>
            <a:ext cx="4989600" cy="3979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029200" y="2503440"/>
            <a:ext cx="53658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0040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Волчата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995400" y="1666800"/>
            <a:ext cx="4949640" cy="4351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5516640" y="1825560"/>
            <a:ext cx="667548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имой                                              Летом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5462640" y="1690560"/>
            <a:ext cx="6729480" cy="44402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"/>
          <p:cNvPicPr/>
          <p:nvPr/>
        </p:nvPicPr>
        <p:blipFill>
          <a:blip r:embed="rId2"/>
          <a:stretch/>
        </p:blipFill>
        <p:spPr>
          <a:xfrm>
            <a:off x="0" y="1690560"/>
            <a:ext cx="6491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27520" y="1252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 Light"/>
              </a:rPr>
              <a:t>Черная крыса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369720" y="1189080"/>
            <a:ext cx="6228000" cy="41418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"/>
          <p:cNvPicPr/>
          <p:nvPr/>
        </p:nvPicPr>
        <p:blipFill>
          <a:blip r:embed="rId2"/>
          <a:stretch/>
        </p:blipFill>
        <p:spPr>
          <a:xfrm>
            <a:off x="5899320" y="2089080"/>
            <a:ext cx="535284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86080" y="344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Гнездо черной крысы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" name="Объект 9" descr=""/>
          <p:cNvPicPr/>
          <p:nvPr/>
        </p:nvPicPr>
        <p:blipFill>
          <a:blip r:embed="rId1"/>
          <a:stretch/>
        </p:blipFill>
        <p:spPr>
          <a:xfrm>
            <a:off x="2481120" y="1457280"/>
            <a:ext cx="66326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9T14:26:26Z</dcterms:created>
  <dc:creator>A412hi Eldorado</dc:creator>
  <dc:description/>
  <dc:language>en-US</dc:language>
  <cp:lastModifiedBy>ШК489</cp:lastModifiedBy>
  <dcterms:modified xsi:type="dcterms:W3CDTF">2015-10-13T13:32:28Z</dcterms:modified>
  <cp:revision>36</cp:revision>
  <dc:subject/>
  <dc:title>12  18  1  19  15  1  33</dc:title>
</cp:coreProperties>
</file>