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8647-67F6-4452-90FB-F127159E5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740880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3358440"/>
            <a:ext cx="740880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44C0-E75D-4C1D-A678-C63085D48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B47F-7F62-46E4-8DBB-547201722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0066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0066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33584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33584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33584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6966-F21A-477E-B675-0E729F92E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9F88C-FF34-45E2-8A70-9E041DF4F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006640"/>
            <a:ext cx="7408800" cy="25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0F177-F77F-4F30-B31C-30E5237CD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740880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01678-D068-402E-AB22-8A3B81C94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5BDFF-8A43-4655-BA5A-AA00AB253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57CF6-D77C-4FDC-9BD2-730F19F4D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5416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38217-7D05-431F-90D3-83FC52568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E39DC-352E-4244-927F-C5DD33374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006640"/>
            <a:ext cx="7408800" cy="25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ADC0-E38C-4146-AFF2-16AD852CB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9D622-EF83-4459-906F-F80C1FFA2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3358440"/>
            <a:ext cx="740880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5596A-29DA-490C-BD36-2E475A56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740880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3358440"/>
            <a:ext cx="740880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7CF8F-3CD3-41E1-99A3-52B148111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84FAE-14DE-4C00-8FAC-E5A835D3F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0066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0066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33584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33584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33584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458BB-F508-4B30-81FF-3CDCFD37C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57BDB-0287-4B68-B8A6-164C4DC9C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006640"/>
            <a:ext cx="7408800" cy="25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D5D1B-EC09-4252-8D65-561FCF76B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740880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71FFF-EAD4-47FE-A956-E13ECC086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A68A0-79FB-4739-BD78-3EE78770D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0499D-10B4-4112-AAC4-789B1416C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740880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9C83-4AB6-411B-9DAE-414C0E2F5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5416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8212E-F7FD-42A9-9350-ECCA18C82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0E5E1-4AAD-47AE-9568-D82436DC4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D3571-54F7-4098-86B7-C3AC1B1AA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3358440"/>
            <a:ext cx="740880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06C15-9E59-4964-9523-1D58B7C8E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740880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3358440"/>
            <a:ext cx="740880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B358C-123A-46DF-976C-486019BAD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64924-1854-4851-AFB8-559A690BF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0066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0066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33584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33584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33584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72D00-3499-4AE0-A73F-0B6070027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FAF32-5061-4CAF-9455-FCD666685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006640"/>
            <a:ext cx="7408800" cy="25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F9BE4-9716-4D03-AF97-01F412E0C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740880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70A0F-F2AD-463A-B26B-2518FF1B6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E159-6CF7-4FC2-BAB1-E9A329CEB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7B22A-BD1D-443B-8E68-2C222F23D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01AEA-9E99-48F0-ACF2-C35376C63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5416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22085-1D6A-4D62-87C1-7B3A38725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D0795-1626-4EB1-B327-34B19B998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0305A-F2F5-42ED-BE64-F6AEB34A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3358440"/>
            <a:ext cx="740880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44391-5060-4887-A1E7-71082947F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740880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3358440"/>
            <a:ext cx="740880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C38F0-96C8-4A9F-834B-5519D5486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67E2F-B97B-4A4B-A82D-94CFBCDED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0066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0066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33584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33584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33584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3A0A4-CB11-420E-8A58-2C010ED4A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8E3343-44CC-4561-85D6-6EA2B1A09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C6F9-75A1-4879-95F9-5B88171F7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006640"/>
            <a:ext cx="7408800" cy="25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49CF8-7F70-4033-A559-7A1DF2617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740880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DBF52-CE95-4D7C-9C9D-7E9DA8D78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7FFF42-91AC-4A90-9EB3-EEAC50CC2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2BE8E-F38C-4AF7-B3D9-354BFEA76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5416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DE6E5-2870-4765-83F4-34B585540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FE9E25-F788-4A96-9586-9F0581902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212F51-C326-453B-97A7-9E60F3D90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3358440"/>
            <a:ext cx="740880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65A04-3F8F-4C47-A277-86EBB1591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740880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3358440"/>
            <a:ext cx="740880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5A5389-8C25-4ED8-B9C1-382FF0084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45458A-56BB-4667-ABB7-E4D4AE16A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5416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132D-9313-4382-9302-D11C57A2E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0066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0066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33584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33584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33584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2BCB6-86A2-40F5-9262-5541FF374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09CD3F-A4A2-468C-A9A7-D29E356F9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006640"/>
            <a:ext cx="7408800" cy="25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2EB371-BDF0-4489-8EB3-A025C2783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740880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DB31D9-DE79-4CE6-94E1-A5EE2B122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BF74D3-ED0C-41D8-85B2-69F2F36E5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394F85-4A42-4D11-9EFA-2277BAFAA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5416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1527EC-0F2C-48B1-95CE-A8D5C79E0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FA8DE6-BE0D-4A74-A969-15D39FFA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F3FD2D-EDA2-4EC9-B076-53D48BAA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3358440"/>
            <a:ext cx="740880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F80FAD-EEE9-4FA6-A517-56B80F96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A23D-36E4-4325-877B-A84A95601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740880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3358440"/>
            <a:ext cx="740880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63E1A-8688-4099-B6AB-802454D0E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78811-8DA9-4CAD-8540-4DFE5B268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0066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0066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33584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33584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33584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F4297A-5AF4-44A2-888B-C0E2644FA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9A39B6-5DA4-4969-ABE6-611DCE426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006640"/>
            <a:ext cx="7408800" cy="25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B1ACB1-F65B-4387-B730-AB85D686B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740880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B116ED-C0DE-43C7-84BF-90E8BB6D2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E4AD9A-1408-4EEB-A76D-7F9A43032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333AC4-BB75-4FE5-8312-131FC6441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5416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83B943-EC0B-419E-B3F6-79AD6FCB7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B3B64E-2DDE-4429-A1C8-48E821EDB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C355-8629-468A-BDF5-66DA94D4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39A2B3-F6EB-4841-AA86-844B544D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3358440"/>
            <a:ext cx="740880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E9E247-FBE7-46A7-8E60-4E5A9EE06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740880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3358440"/>
            <a:ext cx="740880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516470-5A38-4B34-80DD-1B641E352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13D240-D7A4-459C-B7F7-3F34B8D00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0066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0066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33584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33584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33584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CA3B64-0B3A-4BDB-BD63-F12213BDF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3358440"/>
            <a:ext cx="740880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D8FD-C83F-4767-A791-4F4D38D72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171360"/>
            <a:ext cx="8696160" cy="18511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258920"/>
            <a:ext cx="8723520" cy="998640"/>
            <a:chOff x="210960" y="1258920"/>
            <a:chExt cx="8723520" cy="998640"/>
          </a:xfrm>
        </p:grpSpPr>
        <p:sp>
          <p:nvSpPr>
            <p:cNvPr id="2" name="Freeform 14"/>
            <p:cNvSpPr/>
            <p:nvPr/>
          </p:nvSpPr>
          <p:spPr>
            <a:xfrm>
              <a:off x="6046920" y="1367640"/>
              <a:ext cx="2876400" cy="5360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271160"/>
              <a:ext cx="5544720" cy="6382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280520"/>
              <a:ext cx="5468040" cy="58140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270440"/>
              <a:ext cx="3308040" cy="48924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258920"/>
              <a:ext cx="8723520" cy="99864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4687920"/>
            <a:ext cx="3786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4687920"/>
            <a:ext cx="3786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4687920"/>
            <a:ext cx="116208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2A089-2B76-4444-A643-481C00E186F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006640"/>
            <a:ext cx="740880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23560" indent="-2235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472320" indent="-2239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701640" indent="-187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937080" indent="-187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198800" indent="-187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198800" indent="-1872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198800" indent="-1872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171360"/>
            <a:ext cx="8696160" cy="452592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4014720"/>
            <a:ext cx="8723520" cy="1000080"/>
            <a:chOff x="210960" y="4014720"/>
            <a:chExt cx="8723520" cy="1000080"/>
          </a:xfrm>
        </p:grpSpPr>
        <p:sp>
          <p:nvSpPr>
            <p:cNvPr id="50" name="Freeform 14"/>
            <p:cNvSpPr/>
            <p:nvPr/>
          </p:nvSpPr>
          <p:spPr>
            <a:xfrm>
              <a:off x="6054480" y="4123800"/>
              <a:ext cx="2880000" cy="5371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4026960"/>
              <a:ext cx="5551920" cy="63936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4036320"/>
              <a:ext cx="5475240" cy="5821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4026240"/>
              <a:ext cx="3312360" cy="489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4014720"/>
              <a:ext cx="8723520" cy="100008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006640"/>
            <a:ext cx="740880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23560" indent="-2235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472320" indent="-2239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701640" indent="-187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937080" indent="-187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198800" indent="-187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198800" indent="-1872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198800" indent="-1872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4687920"/>
            <a:ext cx="3786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4687920"/>
            <a:ext cx="3786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4687920"/>
            <a:ext cx="116208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ADE9B-9048-4912-B595-C4C64FA017D1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171360"/>
            <a:ext cx="8696160" cy="35528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3152880"/>
            <a:ext cx="2876400" cy="53496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3056040"/>
            <a:ext cx="5545080" cy="63792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3065400"/>
            <a:ext cx="5467320" cy="58104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3056040"/>
            <a:ext cx="3306600" cy="4888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3043080"/>
            <a:ext cx="8723520" cy="99864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006640"/>
            <a:ext cx="740880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23560" indent="-2235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472320" indent="-2239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701640" indent="-187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937080" indent="-187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198800" indent="-187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198800" indent="-1872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198800" indent="-1872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4687920"/>
            <a:ext cx="3786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4687920"/>
            <a:ext cx="3786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4687920"/>
            <a:ext cx="116208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7C676-FEA3-4F63-AC3F-2068DB6287E4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171360"/>
            <a:ext cx="8696160" cy="106992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534960"/>
            <a:ext cx="8723520" cy="998640"/>
            <a:chOff x="210960" y="534960"/>
            <a:chExt cx="8723520" cy="998640"/>
          </a:xfrm>
        </p:grpSpPr>
        <p:sp>
          <p:nvSpPr>
            <p:cNvPr id="145" name="Freeform 14"/>
            <p:cNvSpPr/>
            <p:nvPr/>
          </p:nvSpPr>
          <p:spPr>
            <a:xfrm>
              <a:off x="6046920" y="643680"/>
              <a:ext cx="2876400" cy="5360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547200"/>
              <a:ext cx="5544720" cy="6382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556560"/>
              <a:ext cx="5468040" cy="58140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546480"/>
              <a:ext cx="3308040" cy="48924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534960"/>
              <a:ext cx="8723520" cy="99864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006640"/>
            <a:ext cx="740880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23560" indent="-2235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472320" indent="-2239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701640" indent="-187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937080" indent="-187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198800" indent="-187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198800" indent="-1872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198800" indent="-1872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4687920"/>
            <a:ext cx="3786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4687920"/>
            <a:ext cx="3786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4687920"/>
            <a:ext cx="116208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B0C89-12D7-44B4-9891-484102F345CE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171360"/>
            <a:ext cx="8696160" cy="106992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534960"/>
            <a:ext cx="8723520" cy="1000080"/>
            <a:chOff x="210960" y="534960"/>
            <a:chExt cx="8723520" cy="1000080"/>
          </a:xfrm>
        </p:grpSpPr>
        <p:sp>
          <p:nvSpPr>
            <p:cNvPr id="193" name="Freeform 14"/>
            <p:cNvSpPr/>
            <p:nvPr/>
          </p:nvSpPr>
          <p:spPr>
            <a:xfrm>
              <a:off x="6054480" y="644040"/>
              <a:ext cx="2880000" cy="5371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547200"/>
              <a:ext cx="5551920" cy="63936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556560"/>
              <a:ext cx="5475240" cy="5821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546480"/>
              <a:ext cx="3312360" cy="489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534960"/>
              <a:ext cx="8723520" cy="100008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006640"/>
            <a:ext cx="740880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23560" indent="-2235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472320" indent="-2239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701640" indent="-187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937080" indent="-187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198800" indent="-187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198800" indent="-1872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198800" indent="-1872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4687920"/>
            <a:ext cx="3786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4687920"/>
            <a:ext cx="3786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4687920"/>
            <a:ext cx="116208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BE579-3319-4AF9-B83D-99275E0CFA1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171360"/>
            <a:ext cx="8696160" cy="452592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4014720"/>
            <a:ext cx="8723520" cy="1000080"/>
            <a:chOff x="210960" y="4014720"/>
            <a:chExt cx="8723520" cy="1000080"/>
          </a:xfrm>
        </p:grpSpPr>
        <p:sp>
          <p:nvSpPr>
            <p:cNvPr id="241" name="Freeform 14"/>
            <p:cNvSpPr/>
            <p:nvPr/>
          </p:nvSpPr>
          <p:spPr>
            <a:xfrm>
              <a:off x="6054480" y="4123800"/>
              <a:ext cx="2880000" cy="5371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4026960"/>
              <a:ext cx="5551920" cy="63936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4036320"/>
              <a:ext cx="5475240" cy="5821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4026240"/>
              <a:ext cx="3312360" cy="489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4014720"/>
              <a:ext cx="8723520" cy="100008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006640"/>
            <a:ext cx="740880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23560" indent="-2235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472320" indent="-2239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701640" indent="-187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937080" indent="-187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198800" indent="-187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198800" indent="-1872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198800" indent="-1872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4687920"/>
            <a:ext cx="3786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4687920"/>
            <a:ext cx="3786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4687920"/>
            <a:ext cx="116208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24034-C6E1-4454-9779-03BFE32CC57A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171360"/>
            <a:ext cx="8696160" cy="106992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534960"/>
            <a:ext cx="8723520" cy="1000080"/>
            <a:chOff x="210960" y="534960"/>
            <a:chExt cx="8723520" cy="1000080"/>
          </a:xfrm>
        </p:grpSpPr>
        <p:sp>
          <p:nvSpPr>
            <p:cNvPr id="289" name="Freeform 14"/>
            <p:cNvSpPr/>
            <p:nvPr/>
          </p:nvSpPr>
          <p:spPr>
            <a:xfrm>
              <a:off x="6054480" y="644040"/>
              <a:ext cx="2880000" cy="5371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547200"/>
              <a:ext cx="5551920" cy="63936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556560"/>
              <a:ext cx="5475240" cy="5821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546480"/>
              <a:ext cx="3312360" cy="489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534960"/>
              <a:ext cx="8723520" cy="100008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006640"/>
            <a:ext cx="740880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23560" indent="-2235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472320" indent="-2239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701640" indent="-187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937080" indent="-187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198800" indent="-187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198800" indent="-1872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198800" indent="-1872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4687920"/>
            <a:ext cx="3786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4687920"/>
            <a:ext cx="3786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4687920"/>
            <a:ext cx="116208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94976-66EC-4A24-A8D0-891C5355404E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10920" y="626760"/>
            <a:ext cx="7846920" cy="36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900" spc="-1" strike="noStrike">
                <a:solidFill>
                  <a:srgbClr val="ffffff"/>
                </a:solidFill>
                <a:latin typeface="Candara"/>
              </a:rPr>
              <a:t>Международное географическое разделение труда и мировое хозяйство</a:t>
            </a:r>
            <a:endParaRPr b="0" lang="en-US" sz="5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1988360" y="3219120"/>
            <a:ext cx="1513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00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401" name="Прямоугольник 4"/>
          <p:cNvSpPr/>
          <p:nvPr/>
        </p:nvSpPr>
        <p:spPr>
          <a:xfrm>
            <a:off x="-9360" y="-17640"/>
            <a:ext cx="4932360" cy="501840"/>
          </a:xfrm>
          <a:prstGeom prst="rect">
            <a:avLst/>
          </a:prstGeom>
          <a:solidFill>
            <a:srgbClr val="1c527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Прямоугольник 5"/>
          <p:cNvSpPr/>
          <p:nvPr/>
        </p:nvSpPr>
        <p:spPr>
          <a:xfrm>
            <a:off x="7037280" y="-17640"/>
            <a:ext cx="2116080" cy="490680"/>
          </a:xfrm>
          <a:prstGeom prst="rect">
            <a:avLst/>
          </a:prstGeom>
          <a:solidFill>
            <a:srgbClr val="1c527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Прямоугольник 6"/>
          <p:cNvSpPr/>
          <p:nvPr/>
        </p:nvSpPr>
        <p:spPr>
          <a:xfrm>
            <a:off x="1547640" y="-17640"/>
            <a:ext cx="6048720" cy="696960"/>
          </a:xfrm>
          <a:prstGeom prst="rect">
            <a:avLst/>
          </a:prstGeom>
          <a:solidFill>
            <a:srgbClr val="1c527f"/>
          </a:solidFill>
          <a:ln w="0">
            <a:noFill/>
          </a:ln>
          <a:effectLst>
            <a:outerShdw dist="38160" dir="5400000" blurRad="0" rotWithShape="0">
              <a:srgbClr val="000000">
                <a:alpha val="9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Segoe UI Light"/>
                <a:ea typeface="Segoe UI Light"/>
              </a:rPr>
              <a:t>Глобализац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Прямоугольник 8"/>
          <p:cNvSpPr/>
          <p:nvPr/>
        </p:nvSpPr>
        <p:spPr>
          <a:xfrm>
            <a:off x="-9360" y="1063800"/>
            <a:ext cx="9162720" cy="366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5" name="Рисунок 2" descr=""/>
          <p:cNvPicPr/>
          <p:nvPr/>
        </p:nvPicPr>
        <p:blipFill>
          <a:blip r:embed="rId2"/>
          <a:stretch/>
        </p:blipFill>
        <p:spPr>
          <a:xfrm>
            <a:off x="755640" y="1268280"/>
            <a:ext cx="3129120" cy="2095560"/>
          </a:xfrm>
          <a:prstGeom prst="rect">
            <a:avLst/>
          </a:prstGeom>
          <a:ln w="0">
            <a:noFill/>
          </a:ln>
        </p:spPr>
      </p:pic>
      <p:pic>
        <p:nvPicPr>
          <p:cNvPr id="406" name="Рисунок 7" descr=""/>
          <p:cNvPicPr/>
          <p:nvPr/>
        </p:nvPicPr>
        <p:blipFill>
          <a:blip r:embed="rId3"/>
          <a:stretch/>
        </p:blipFill>
        <p:spPr>
          <a:xfrm>
            <a:off x="5076720" y="1425600"/>
            <a:ext cx="2254320" cy="1781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Рисунок 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371600" y="2666880"/>
            <a:ext cx="6400800" cy="11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Прямоугольник 6"/>
          <p:cNvSpPr/>
          <p:nvPr/>
        </p:nvSpPr>
        <p:spPr>
          <a:xfrm>
            <a:off x="1042920" y="3573360"/>
            <a:ext cx="7415280" cy="1422360"/>
          </a:xfrm>
          <a:prstGeom prst="rect">
            <a:avLst/>
          </a:prstGeom>
          <a:solidFill>
            <a:srgbClr val="1c527f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Прямоугольник 7"/>
          <p:cNvSpPr/>
          <p:nvPr/>
        </p:nvSpPr>
        <p:spPr>
          <a:xfrm>
            <a:off x="2050920" y="3016080"/>
            <a:ext cx="6289920" cy="183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Прямоугольник 8"/>
          <p:cNvSpPr/>
          <p:nvPr/>
        </p:nvSpPr>
        <p:spPr>
          <a:xfrm>
            <a:off x="2646360" y="3056040"/>
            <a:ext cx="5184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527f"/>
                </a:solidFill>
                <a:latin typeface="Segoe UI Light"/>
                <a:ea typeface="Segoe UI Light"/>
              </a:rPr>
              <a:t>Международное географическое разделение труда —</a:t>
            </a:r>
            <a:r>
              <a:rPr b="0" lang="ru-RU" sz="2000" spc="-1" strike="noStrike">
                <a:solidFill>
                  <a:srgbClr val="1c527f"/>
                </a:solidFill>
                <a:latin typeface="Segoe UI Light"/>
                <a:ea typeface="Segoe UI Light"/>
              </a:rPr>
              <a:t> разделение стран по производству определённых видов товаров и услуг и обмен произведённой продукци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Прямоугольник с двумя усеченными противолежащими углами 9"/>
          <p:cNvSpPr/>
          <p:nvPr/>
        </p:nvSpPr>
        <p:spPr>
          <a:xfrm>
            <a:off x="684360" y="3016080"/>
            <a:ext cx="1726920" cy="1830600"/>
          </a:xfrm>
          <a:custGeom>
            <a:avLst/>
            <a:gdLst/>
            <a:ahLst/>
            <a:rect l="l" t="t" r="r" b="b"/>
            <a:pathLst>
              <a:path w="1727200" h="1830388">
                <a:moveTo>
                  <a:pt x="0" y="0"/>
                </a:moveTo>
                <a:lnTo>
                  <a:pt x="1439328" y="0"/>
                </a:lnTo>
                <a:lnTo>
                  <a:pt x="1727200" y="287872"/>
                </a:lnTo>
                <a:lnTo>
                  <a:pt x="1727200" y="1830388"/>
                </a:lnTo>
                <a:lnTo>
                  <a:pt x="1727200" y="1830388"/>
                </a:lnTo>
                <a:lnTo>
                  <a:pt x="287872" y="1830388"/>
                </a:lnTo>
                <a:lnTo>
                  <a:pt x="0" y="1542516"/>
                </a:lnTo>
                <a:lnTo>
                  <a:pt x="0" y="0"/>
                </a:lnTo>
                <a:close/>
              </a:path>
            </a:pathLst>
          </a:custGeom>
          <a:solidFill>
            <a:srgbClr val="1c52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3" name="Рисунок 10" descr=""/>
          <p:cNvPicPr/>
          <p:nvPr/>
        </p:nvPicPr>
        <p:blipFill>
          <a:blip r:embed="rId2"/>
          <a:stretch/>
        </p:blipFill>
        <p:spPr>
          <a:xfrm>
            <a:off x="1014480" y="3257640"/>
            <a:ext cx="1201680" cy="1201680"/>
          </a:xfrm>
          <a:prstGeom prst="rect">
            <a:avLst/>
          </a:prstGeom>
          <a:ln w="0">
            <a:noFill/>
          </a:ln>
        </p:spPr>
      </p:pic>
      <p:sp>
        <p:nvSpPr>
          <p:cNvPr id="344" name="Прямоугольник 12"/>
          <p:cNvSpPr/>
          <p:nvPr/>
        </p:nvSpPr>
        <p:spPr>
          <a:xfrm>
            <a:off x="984240" y="485640"/>
            <a:ext cx="7586640" cy="1590840"/>
          </a:xfrm>
          <a:prstGeom prst="rect">
            <a:avLst/>
          </a:prstGeom>
          <a:solidFill>
            <a:srgbClr val="073e87"/>
          </a:solidFill>
          <a:ln w="0">
            <a:noFill/>
          </a:ln>
          <a:effectLst>
            <a:outerShdw dist="114356" dir="8997856" blurRad="0" rotWithShape="0">
              <a:srgbClr val="00000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5" name="Рисунок 13" descr=""/>
          <p:cNvPicPr/>
          <p:nvPr/>
        </p:nvPicPr>
        <p:blipFill>
          <a:blip r:embed="rId3"/>
          <a:stretch/>
        </p:blipFill>
        <p:spPr>
          <a:xfrm>
            <a:off x="181080" y="369720"/>
            <a:ext cx="2300040" cy="1932120"/>
          </a:xfrm>
          <a:prstGeom prst="rect">
            <a:avLst/>
          </a:prstGeom>
          <a:ln w="0">
            <a:noFill/>
          </a:ln>
        </p:spPr>
      </p:pic>
      <p:pic>
        <p:nvPicPr>
          <p:cNvPr id="346" name="Рисунок 14" descr=""/>
          <p:cNvPicPr/>
          <p:nvPr/>
        </p:nvPicPr>
        <p:blipFill>
          <a:blip r:embed="rId4"/>
          <a:stretch/>
        </p:blipFill>
        <p:spPr>
          <a:xfrm>
            <a:off x="216000" y="533520"/>
            <a:ext cx="2041560" cy="1852560"/>
          </a:xfrm>
          <a:prstGeom prst="rect">
            <a:avLst/>
          </a:prstGeom>
          <a:ln w="0">
            <a:noFill/>
          </a:ln>
        </p:spPr>
      </p:pic>
      <p:pic>
        <p:nvPicPr>
          <p:cNvPr id="347" name="Рисунок 15" descr=""/>
          <p:cNvPicPr/>
          <p:nvPr/>
        </p:nvPicPr>
        <p:blipFill>
          <a:blip r:embed="rId5"/>
          <a:stretch/>
        </p:blipFill>
        <p:spPr>
          <a:xfrm>
            <a:off x="4641840" y="504720"/>
            <a:ext cx="1906560" cy="1862280"/>
          </a:xfrm>
          <a:prstGeom prst="rect">
            <a:avLst/>
          </a:prstGeom>
          <a:ln w="0">
            <a:noFill/>
          </a:ln>
        </p:spPr>
      </p:pic>
      <p:pic>
        <p:nvPicPr>
          <p:cNvPr id="348" name="Рисунок 16" descr=""/>
          <p:cNvPicPr/>
          <p:nvPr/>
        </p:nvPicPr>
        <p:blipFill>
          <a:blip r:embed="rId6"/>
          <a:stretch/>
        </p:blipFill>
        <p:spPr>
          <a:xfrm>
            <a:off x="6627960" y="485640"/>
            <a:ext cx="1984320" cy="1900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0" name="Рисунок 3" descr=""/>
          <p:cNvPicPr/>
          <p:nvPr/>
        </p:nvPicPr>
        <p:blipFill>
          <a:blip r:embed="rId1"/>
          <a:stretch/>
        </p:blipFill>
        <p:spPr>
          <a:xfrm>
            <a:off x="0" y="-30240"/>
            <a:ext cx="9144000" cy="5175360"/>
          </a:xfrm>
          <a:prstGeom prst="rect">
            <a:avLst/>
          </a:prstGeom>
          <a:ln w="0">
            <a:noFill/>
          </a:ln>
        </p:spPr>
      </p:pic>
      <p:sp>
        <p:nvSpPr>
          <p:cNvPr id="351" name="Прямоугольник 5"/>
          <p:cNvSpPr/>
          <p:nvPr/>
        </p:nvSpPr>
        <p:spPr>
          <a:xfrm>
            <a:off x="-9360" y="-17640"/>
            <a:ext cx="4932360" cy="501840"/>
          </a:xfrm>
          <a:prstGeom prst="rect">
            <a:avLst/>
          </a:prstGeom>
          <a:solidFill>
            <a:srgbClr val="1c527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Прямоугольник 6"/>
          <p:cNvSpPr/>
          <p:nvPr/>
        </p:nvSpPr>
        <p:spPr>
          <a:xfrm>
            <a:off x="7037280" y="-17640"/>
            <a:ext cx="2116080" cy="490680"/>
          </a:xfrm>
          <a:prstGeom prst="rect">
            <a:avLst/>
          </a:prstGeom>
          <a:solidFill>
            <a:srgbClr val="1c527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Прямоугольник 7"/>
          <p:cNvSpPr/>
          <p:nvPr/>
        </p:nvSpPr>
        <p:spPr>
          <a:xfrm>
            <a:off x="1547640" y="-17640"/>
            <a:ext cx="6048720" cy="858960"/>
          </a:xfrm>
          <a:prstGeom prst="rect">
            <a:avLst/>
          </a:prstGeom>
          <a:solidFill>
            <a:srgbClr val="1c527f"/>
          </a:solidFill>
          <a:ln w="0">
            <a:noFill/>
          </a:ln>
          <a:effectLst>
            <a:outerShdw dist="38160" dir="5400000" blurRad="0" rotWithShape="0">
              <a:srgbClr val="000000">
                <a:alpha val="9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Segoe UI Light"/>
                <a:ea typeface="Segoe UI Light"/>
              </a:rPr>
              <a:t>Факторы отраслей производст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Скругленный прямоугольник 8"/>
          <p:cNvSpPr/>
          <p:nvPr/>
        </p:nvSpPr>
        <p:spPr>
          <a:xfrm>
            <a:off x="1963800" y="1174680"/>
            <a:ext cx="5059440" cy="792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5840">
            <a:solidFill>
              <a:srgbClr val="1c52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c527f"/>
                </a:solidFill>
                <a:latin typeface="Segoe UI Light"/>
                <a:ea typeface="Segoe UI Light"/>
              </a:rPr>
              <a:t>Природно-ресурсны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Скругленный прямоугольник 9"/>
          <p:cNvSpPr/>
          <p:nvPr/>
        </p:nvSpPr>
        <p:spPr>
          <a:xfrm>
            <a:off x="1963800" y="2139840"/>
            <a:ext cx="5059440" cy="792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5840">
            <a:solidFill>
              <a:srgbClr val="1c52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c527f"/>
                </a:solidFill>
                <a:latin typeface="Segoe UI Light"/>
                <a:ea typeface="Segoe UI Light"/>
              </a:rPr>
              <a:t>Социально-экономически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7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58" name="Прямоугольник 4"/>
          <p:cNvSpPr/>
          <p:nvPr/>
        </p:nvSpPr>
        <p:spPr>
          <a:xfrm>
            <a:off x="34920" y="339840"/>
            <a:ext cx="9144000" cy="2062080"/>
          </a:xfrm>
          <a:prstGeom prst="rect">
            <a:avLst/>
          </a:prstGeom>
          <a:solidFill>
            <a:srgbClr val="073e87"/>
          </a:solidFill>
          <a:ln w="0">
            <a:noFill/>
          </a:ln>
          <a:effectLst>
            <a:outerShdw dist="114356" dir="8997856" blurRad="0" rotWithShape="0">
              <a:srgbClr val="00000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" name="Рисунок 5" descr=""/>
          <p:cNvPicPr/>
          <p:nvPr/>
        </p:nvPicPr>
        <p:blipFill>
          <a:blip r:embed="rId2"/>
          <a:stretch/>
        </p:blipFill>
        <p:spPr>
          <a:xfrm>
            <a:off x="225360" y="304920"/>
            <a:ext cx="2300400" cy="1931760"/>
          </a:xfrm>
          <a:prstGeom prst="rect">
            <a:avLst/>
          </a:prstGeom>
          <a:ln w="0">
            <a:noFill/>
          </a:ln>
        </p:spPr>
      </p:pic>
      <p:pic>
        <p:nvPicPr>
          <p:cNvPr id="360" name="Рисунок 6" descr=""/>
          <p:cNvPicPr/>
          <p:nvPr/>
        </p:nvPicPr>
        <p:blipFill>
          <a:blip r:embed="rId3"/>
          <a:stretch/>
        </p:blipFill>
        <p:spPr>
          <a:xfrm>
            <a:off x="2579760" y="426960"/>
            <a:ext cx="2039760" cy="1852560"/>
          </a:xfrm>
          <a:prstGeom prst="rect">
            <a:avLst/>
          </a:prstGeom>
          <a:ln w="0">
            <a:noFill/>
          </a:ln>
        </p:spPr>
      </p:pic>
      <p:pic>
        <p:nvPicPr>
          <p:cNvPr id="361" name="Рисунок 7" descr=""/>
          <p:cNvPicPr/>
          <p:nvPr/>
        </p:nvPicPr>
        <p:blipFill>
          <a:blip r:embed="rId4"/>
          <a:stretch/>
        </p:blipFill>
        <p:spPr>
          <a:xfrm>
            <a:off x="4687920" y="438120"/>
            <a:ext cx="1905120" cy="1863720"/>
          </a:xfrm>
          <a:prstGeom prst="rect">
            <a:avLst/>
          </a:prstGeom>
          <a:ln w="0">
            <a:noFill/>
          </a:ln>
        </p:spPr>
      </p:pic>
      <p:pic>
        <p:nvPicPr>
          <p:cNvPr id="362" name="Рисунок 8" descr=""/>
          <p:cNvPicPr/>
          <p:nvPr/>
        </p:nvPicPr>
        <p:blipFill>
          <a:blip r:embed="rId5"/>
          <a:stretch/>
        </p:blipFill>
        <p:spPr>
          <a:xfrm>
            <a:off x="6672240" y="420840"/>
            <a:ext cx="1986120" cy="1900080"/>
          </a:xfrm>
          <a:prstGeom prst="rect">
            <a:avLst/>
          </a:prstGeom>
          <a:ln w="0">
            <a:noFill/>
          </a:ln>
        </p:spPr>
      </p:pic>
      <p:sp>
        <p:nvSpPr>
          <p:cNvPr id="363" name="Прямоугольник 2"/>
          <p:cNvSpPr/>
          <p:nvPr/>
        </p:nvSpPr>
        <p:spPr>
          <a:xfrm>
            <a:off x="2195640" y="2930400"/>
            <a:ext cx="5310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c527f"/>
                </a:solidFill>
                <a:latin typeface="Segoe UI Light"/>
                <a:ea typeface="Calibri"/>
              </a:rPr>
              <a:t>Разные страны специализируются на различных отраслях производства и, следовательно, играют определённые роли в мировом географическом разделении труд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5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366" name="Рисунок 2" descr=""/>
          <p:cNvPicPr/>
          <p:nvPr/>
        </p:nvPicPr>
        <p:blipFill>
          <a:blip r:embed="rId2"/>
          <a:stretch/>
        </p:blipFill>
        <p:spPr>
          <a:xfrm>
            <a:off x="5435640" y="484200"/>
            <a:ext cx="3076560" cy="3075120"/>
          </a:xfrm>
          <a:prstGeom prst="rect">
            <a:avLst/>
          </a:prstGeom>
          <a:ln w="0">
            <a:noFill/>
          </a:ln>
        </p:spPr>
      </p:pic>
      <p:sp>
        <p:nvSpPr>
          <p:cNvPr id="367" name="Прямоугольник 4"/>
          <p:cNvSpPr/>
          <p:nvPr/>
        </p:nvSpPr>
        <p:spPr>
          <a:xfrm>
            <a:off x="1187280" y="627120"/>
            <a:ext cx="3780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527f"/>
                </a:solidFill>
                <a:latin typeface="Segoe UI Light"/>
                <a:ea typeface="Calibri"/>
              </a:rPr>
              <a:t>На рубеже </a:t>
            </a:r>
            <a:r>
              <a:rPr b="1" lang="en-US" sz="1800" spc="-1" strike="noStrike">
                <a:solidFill>
                  <a:srgbClr val="1c527f"/>
                </a:solidFill>
                <a:latin typeface="Segoe UI Light"/>
                <a:ea typeface="Calibri"/>
              </a:rPr>
              <a:t>XIX</a:t>
            </a:r>
            <a:r>
              <a:rPr b="1" lang="ru-RU" sz="1800" spc="-1" strike="noStrike">
                <a:solidFill>
                  <a:srgbClr val="1c527f"/>
                </a:solidFill>
                <a:latin typeface="Segoe UI Light"/>
                <a:ea typeface="Calibri"/>
              </a:rPr>
              <a:t>‒</a:t>
            </a:r>
            <a:r>
              <a:rPr b="1" lang="en-US" sz="1800" spc="-1" strike="noStrike">
                <a:solidFill>
                  <a:srgbClr val="1c527f"/>
                </a:solidFill>
                <a:latin typeface="Segoe UI Light"/>
                <a:ea typeface="Calibri"/>
              </a:rPr>
              <a:t>XX</a:t>
            </a:r>
            <a:r>
              <a:rPr b="1" lang="ru-RU" sz="1800" spc="-1" strike="noStrike">
                <a:solidFill>
                  <a:srgbClr val="1c527f"/>
                </a:solidFill>
                <a:latin typeface="Segoe UI Light"/>
                <a:ea typeface="Calibri"/>
              </a:rPr>
              <a:t> вв. </a:t>
            </a:r>
            <a:r>
              <a:rPr b="0" lang="ru-RU" sz="1800" spc="-1" strike="noStrike">
                <a:solidFill>
                  <a:srgbClr val="1c527f"/>
                </a:solidFill>
                <a:latin typeface="Segoe UI Light"/>
                <a:ea typeface="Calibri"/>
              </a:rPr>
              <a:t>началась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c527f"/>
                </a:solidFill>
                <a:latin typeface="Segoe UI Light"/>
                <a:ea typeface="Calibri"/>
              </a:rPr>
              <a:t>эволюция международног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c527f"/>
                </a:solidFill>
                <a:latin typeface="Segoe UI Light"/>
                <a:ea typeface="Calibri"/>
              </a:rPr>
              <a:t>географического разделени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c527f"/>
                </a:solidFill>
                <a:latin typeface="Segoe UI Light"/>
                <a:ea typeface="Calibri"/>
              </a:rPr>
              <a:t>труда, которое привело к слиянию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c527f"/>
                </a:solidFill>
                <a:latin typeface="Segoe UI Light"/>
                <a:ea typeface="Calibri"/>
              </a:rPr>
              <a:t>национальных хозяйств стран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c527f"/>
                </a:solidFill>
                <a:latin typeface="Segoe UI Light"/>
                <a:ea typeface="Calibri"/>
              </a:rPr>
              <a:t>мира в единое мировое хозяйство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Рисунок 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1371600" y="2666880"/>
            <a:ext cx="6400800" cy="11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0" name="Прямоугольник 6"/>
          <p:cNvSpPr/>
          <p:nvPr/>
        </p:nvSpPr>
        <p:spPr>
          <a:xfrm>
            <a:off x="1042920" y="3573360"/>
            <a:ext cx="7415280" cy="1422360"/>
          </a:xfrm>
          <a:prstGeom prst="rect">
            <a:avLst/>
          </a:prstGeom>
          <a:solidFill>
            <a:srgbClr val="1c527f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1" name="Рисунок 1" descr=""/>
          <p:cNvPicPr/>
          <p:nvPr/>
        </p:nvPicPr>
        <p:blipFill>
          <a:blip r:embed="rId2"/>
          <a:stretch/>
        </p:blipFill>
        <p:spPr>
          <a:xfrm>
            <a:off x="1692360" y="22320"/>
            <a:ext cx="5651280" cy="2868480"/>
          </a:xfrm>
          <a:prstGeom prst="rect">
            <a:avLst/>
          </a:prstGeom>
          <a:ln w="0">
            <a:noFill/>
          </a:ln>
        </p:spPr>
      </p:pic>
      <p:sp>
        <p:nvSpPr>
          <p:cNvPr id="372" name="Прямоугольник 7"/>
          <p:cNvSpPr/>
          <p:nvPr/>
        </p:nvSpPr>
        <p:spPr>
          <a:xfrm>
            <a:off x="2050920" y="2643120"/>
            <a:ext cx="6289920" cy="220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Прямоугольник 8"/>
          <p:cNvSpPr/>
          <p:nvPr/>
        </p:nvSpPr>
        <p:spPr>
          <a:xfrm>
            <a:off x="2646360" y="3056040"/>
            <a:ext cx="54864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527f"/>
                </a:solidFill>
                <a:latin typeface="Segoe UI Light"/>
                <a:ea typeface="Segoe UI Light"/>
              </a:rPr>
              <a:t>Мировое хозяйство —</a:t>
            </a:r>
            <a:r>
              <a:rPr b="0" lang="ru-RU" sz="2000" spc="-1" strike="noStrike">
                <a:solidFill>
                  <a:srgbClr val="1c527f"/>
                </a:solidFill>
                <a:latin typeface="Segoe UI Light"/>
                <a:ea typeface="Segoe UI Light"/>
              </a:rPr>
              <a:t> это совокупность исторически сложившихся национальных хозяйств мира, связанных между собой системой международного разделения труд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c527f"/>
                </a:solidFill>
                <a:latin typeface="Segoe UI Light"/>
                <a:ea typeface="Segoe UI Light"/>
              </a:rPr>
              <a:t>и всемирных экономических отношен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Прямоугольник с двумя усеченными противолежащими углами 9"/>
          <p:cNvSpPr/>
          <p:nvPr/>
        </p:nvSpPr>
        <p:spPr>
          <a:xfrm>
            <a:off x="684360" y="2643120"/>
            <a:ext cx="1726920" cy="2203560"/>
          </a:xfrm>
          <a:custGeom>
            <a:avLst/>
            <a:gdLst/>
            <a:ahLst/>
            <a:rect l="l" t="t" r="r" b="b"/>
            <a:pathLst>
              <a:path w="1727200" h="2203450">
                <a:moveTo>
                  <a:pt x="0" y="0"/>
                </a:moveTo>
                <a:lnTo>
                  <a:pt x="1439328" y="0"/>
                </a:lnTo>
                <a:lnTo>
                  <a:pt x="1727200" y="287872"/>
                </a:lnTo>
                <a:lnTo>
                  <a:pt x="1727200" y="2203450"/>
                </a:lnTo>
                <a:lnTo>
                  <a:pt x="1727200" y="2203450"/>
                </a:lnTo>
                <a:lnTo>
                  <a:pt x="287872" y="2203450"/>
                </a:lnTo>
                <a:lnTo>
                  <a:pt x="0" y="1915578"/>
                </a:lnTo>
                <a:lnTo>
                  <a:pt x="0" y="0"/>
                </a:lnTo>
                <a:close/>
              </a:path>
            </a:pathLst>
          </a:custGeom>
          <a:solidFill>
            <a:srgbClr val="1c52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5" name="Рисунок 10" descr=""/>
          <p:cNvPicPr/>
          <p:nvPr/>
        </p:nvPicPr>
        <p:blipFill>
          <a:blip r:embed="rId3"/>
          <a:stretch/>
        </p:blipFill>
        <p:spPr>
          <a:xfrm>
            <a:off x="960480" y="3084480"/>
            <a:ext cx="1201680" cy="1200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Рисунок 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1371600" y="2666880"/>
            <a:ext cx="6400800" cy="11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8" name="Прямоугольник 6"/>
          <p:cNvSpPr/>
          <p:nvPr/>
        </p:nvSpPr>
        <p:spPr>
          <a:xfrm>
            <a:off x="1042920" y="3573360"/>
            <a:ext cx="7415280" cy="1422360"/>
          </a:xfrm>
          <a:prstGeom prst="rect">
            <a:avLst/>
          </a:prstGeom>
          <a:solidFill>
            <a:srgbClr val="1c527f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Прямоугольник 7"/>
          <p:cNvSpPr/>
          <p:nvPr/>
        </p:nvSpPr>
        <p:spPr>
          <a:xfrm>
            <a:off x="2050920" y="3051000"/>
            <a:ext cx="6289920" cy="179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Прямоугольник 8"/>
          <p:cNvSpPr/>
          <p:nvPr/>
        </p:nvSpPr>
        <p:spPr>
          <a:xfrm>
            <a:off x="2633760" y="3219480"/>
            <a:ext cx="5484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527f"/>
                </a:solidFill>
                <a:latin typeface="Segoe UI Light"/>
                <a:ea typeface="Segoe UI Light"/>
              </a:rPr>
              <a:t>Транснациональные корпорации (ТНК)</a:t>
            </a:r>
            <a:r>
              <a:rPr b="0" lang="ru-RU" sz="2400" spc="-1" strike="noStrike">
                <a:solidFill>
                  <a:srgbClr val="1c527f"/>
                </a:solidFill>
                <a:latin typeface="Segoe UI Light"/>
                <a:ea typeface="Segoe UI Light"/>
              </a:rPr>
              <a:t> — это компании, владеющие предприятиями в нескольких стран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Прямоугольник с двумя усеченными противолежащими углами 9"/>
          <p:cNvSpPr/>
          <p:nvPr/>
        </p:nvSpPr>
        <p:spPr>
          <a:xfrm>
            <a:off x="684360" y="3051000"/>
            <a:ext cx="1584000" cy="1795680"/>
          </a:xfrm>
          <a:custGeom>
            <a:avLst/>
            <a:gdLst/>
            <a:ahLst/>
            <a:rect l="l" t="t" r="r" b="b"/>
            <a:pathLst>
              <a:path w="1584325" h="1795463">
                <a:moveTo>
                  <a:pt x="0" y="0"/>
                </a:moveTo>
                <a:lnTo>
                  <a:pt x="1320266" y="0"/>
                </a:lnTo>
                <a:lnTo>
                  <a:pt x="1584325" y="264059"/>
                </a:lnTo>
                <a:lnTo>
                  <a:pt x="1584325" y="1795463"/>
                </a:lnTo>
                <a:lnTo>
                  <a:pt x="1584325" y="1795463"/>
                </a:lnTo>
                <a:lnTo>
                  <a:pt x="264059" y="1795463"/>
                </a:lnTo>
                <a:lnTo>
                  <a:pt x="0" y="1531404"/>
                </a:lnTo>
                <a:lnTo>
                  <a:pt x="0" y="0"/>
                </a:lnTo>
                <a:close/>
              </a:path>
            </a:pathLst>
          </a:custGeom>
          <a:solidFill>
            <a:srgbClr val="1c52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2" name="Рисунок 10" descr=""/>
          <p:cNvPicPr/>
          <p:nvPr/>
        </p:nvPicPr>
        <p:blipFill>
          <a:blip r:embed="rId2"/>
          <a:stretch/>
        </p:blipFill>
        <p:spPr>
          <a:xfrm>
            <a:off x="965160" y="3241800"/>
            <a:ext cx="1200240" cy="1199880"/>
          </a:xfrm>
          <a:prstGeom prst="rect">
            <a:avLst/>
          </a:prstGeom>
          <a:ln w="0">
            <a:noFill/>
          </a:ln>
        </p:spPr>
      </p:pic>
      <p:pic>
        <p:nvPicPr>
          <p:cNvPr id="383" name="Рисунок 12" descr=""/>
          <p:cNvPicPr/>
          <p:nvPr/>
        </p:nvPicPr>
        <p:blipFill>
          <a:blip r:embed="rId3"/>
          <a:stretch/>
        </p:blipFill>
        <p:spPr>
          <a:xfrm>
            <a:off x="3419640" y="42840"/>
            <a:ext cx="3278160" cy="2058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85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86" name="Прямоугольник 2"/>
          <p:cNvSpPr/>
          <p:nvPr/>
        </p:nvSpPr>
        <p:spPr>
          <a:xfrm>
            <a:off x="755640" y="700200"/>
            <a:ext cx="4572000" cy="43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527f"/>
                </a:solidFill>
                <a:latin typeface="Segoe UI Light"/>
                <a:ea typeface="Times New Roman"/>
              </a:rPr>
              <a:t>Наиболее крупные ТНК мира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buClr>
                <a:srgbClr val="1c527f"/>
              </a:buClr>
              <a:buFont typeface="Segoe UI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527f"/>
                </a:solidFill>
                <a:latin typeface="Segoe UI Light"/>
                <a:ea typeface="Times New Roman"/>
              </a:rPr>
              <a:t>Exxon Mobil</a:t>
            </a:r>
            <a:r>
              <a:rPr b="0" lang="ru-RU" sz="1800" spc="-1" strike="noStrike">
                <a:solidFill>
                  <a:srgbClr val="1c527f"/>
                </a:solidFill>
                <a:latin typeface="Segoe UI Light"/>
                <a:ea typeface="Times New Roman"/>
              </a:rPr>
              <a:t>, </a:t>
            </a:r>
            <a:r>
              <a:rPr b="0" lang="en-US" sz="1800" spc="-1" strike="noStrike">
                <a:solidFill>
                  <a:srgbClr val="1c527f"/>
                </a:solidFill>
                <a:latin typeface="Segoe UI Light"/>
                <a:ea typeface="Calibri"/>
              </a:rPr>
              <a:t>Shell Group</a:t>
            </a:r>
            <a:r>
              <a:rPr b="0" lang="ru-RU" sz="1800" spc="-1" strike="noStrike">
                <a:solidFill>
                  <a:srgbClr val="1c527f"/>
                </a:solidFill>
                <a:latin typeface="Segoe UI Light"/>
                <a:ea typeface="Calibri"/>
              </a:rPr>
              <a:t>, </a:t>
            </a:r>
            <a:r>
              <a:rPr b="0" lang="en-US" sz="1800" spc="-1" strike="noStrike">
                <a:solidFill>
                  <a:srgbClr val="1c527f"/>
                </a:solidFill>
                <a:latin typeface="Segoe UI Light"/>
                <a:ea typeface="Calibri"/>
              </a:rPr>
              <a:t>British Petroleum</a:t>
            </a:r>
            <a:r>
              <a:rPr b="0" lang="ru-RU" sz="1800" spc="-1" strike="noStrike">
                <a:solidFill>
                  <a:srgbClr val="1c527f"/>
                </a:solidFill>
                <a:latin typeface="Segoe UI Light"/>
                <a:ea typeface="Calibri"/>
              </a:rPr>
              <a:t> </a:t>
            </a:r>
            <a:r>
              <a:rPr b="1" lang="ru-RU" sz="1800" spc="-1" strike="noStrike">
                <a:solidFill>
                  <a:srgbClr val="1c527f"/>
                </a:solidFill>
                <a:latin typeface="Segoe UI Light"/>
                <a:ea typeface="Calibri"/>
              </a:rPr>
              <a:t>—</a:t>
            </a:r>
            <a:r>
              <a:rPr b="0" lang="ru-RU" sz="1800" spc="-1" strike="noStrike">
                <a:solidFill>
                  <a:srgbClr val="1c527f"/>
                </a:solidFill>
                <a:latin typeface="Segoe UI Light"/>
                <a:ea typeface="Calibri"/>
              </a:rPr>
              <a:t> </a:t>
            </a:r>
            <a:r>
              <a:rPr b="0" lang="ru-RU" sz="1800" spc="-1" strike="noStrike">
                <a:solidFill>
                  <a:srgbClr val="1c527f"/>
                </a:solidFill>
                <a:latin typeface="Segoe UI Light"/>
                <a:ea typeface="Times New Roman"/>
              </a:rPr>
              <a:t>компании, занимающиеся горнодобывающей промышленностью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buClr>
                <a:srgbClr val="1c527f"/>
              </a:buClr>
              <a:buFont typeface="Segoe UI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buClr>
                <a:srgbClr val="1c527f"/>
              </a:buClr>
              <a:buFont typeface="Segoe UI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c527f"/>
                </a:solidFill>
                <a:latin typeface="Segoe UI Light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1c527f"/>
                </a:solidFill>
                <a:latin typeface="Segoe UI Light"/>
                <a:ea typeface="Times New Roman"/>
              </a:rPr>
              <a:t>Toyota, </a:t>
            </a:r>
            <a:r>
              <a:rPr b="0" lang="ru-RU" sz="1800" spc="-1" strike="noStrike">
                <a:solidFill>
                  <a:srgbClr val="1c527f"/>
                </a:solidFill>
                <a:latin typeface="Segoe UI Light"/>
                <a:ea typeface="Calibri"/>
              </a:rPr>
              <a:t>Ford, Volkswagen </a:t>
            </a:r>
            <a:r>
              <a:rPr b="1" lang="ru-RU" sz="1800" spc="-1" strike="noStrike">
                <a:solidFill>
                  <a:srgbClr val="1c527f"/>
                </a:solidFill>
                <a:latin typeface="Segoe UI Light"/>
                <a:ea typeface="Segoe UI Light"/>
              </a:rPr>
              <a:t>—</a:t>
            </a:r>
            <a:r>
              <a:rPr b="0" lang="ru-RU" sz="1800" spc="-1" strike="noStrike">
                <a:solidFill>
                  <a:srgbClr val="1c527f"/>
                </a:solidFill>
                <a:latin typeface="Segoe UI Light"/>
                <a:ea typeface="Calibri"/>
              </a:rPr>
              <a:t> машиностроительные компан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buClr>
                <a:srgbClr val="1c527f"/>
              </a:buClr>
              <a:buFont typeface="Segoe UI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buClr>
                <a:srgbClr val="1c527f"/>
              </a:buClr>
              <a:buFont typeface="Segoe UI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c527f"/>
                </a:solidFill>
                <a:latin typeface="Segoe UI Light"/>
                <a:ea typeface="Times New Roman"/>
              </a:rPr>
              <a:t>Nestlе, Рер</a:t>
            </a:r>
            <a:r>
              <a:rPr b="0" lang="en-US" sz="1800" spc="-1" strike="noStrike">
                <a:solidFill>
                  <a:srgbClr val="1c527f"/>
                </a:solidFill>
                <a:latin typeface="Segoe UI Light"/>
                <a:ea typeface="Times New Roman"/>
              </a:rPr>
              <a:t>si</a:t>
            </a:r>
            <a:r>
              <a:rPr b="0" lang="ru-RU" sz="1800" spc="-1" strike="noStrike">
                <a:solidFill>
                  <a:srgbClr val="1c527f"/>
                </a:solidFill>
                <a:latin typeface="Segoe UI Light"/>
                <a:ea typeface="Times New Roman"/>
              </a:rPr>
              <a:t>, </a:t>
            </a:r>
            <a:r>
              <a:rPr b="0" lang="ru-RU" sz="1800" spc="-1" strike="noStrike">
                <a:solidFill>
                  <a:srgbClr val="1c527f"/>
                </a:solidFill>
                <a:latin typeface="Segoe UI Light"/>
                <a:ea typeface="Calibri"/>
              </a:rPr>
              <a:t>Danone</a:t>
            </a:r>
            <a:r>
              <a:rPr b="0" lang="ru-RU" sz="1800" spc="-1" strike="noStrike">
                <a:solidFill>
                  <a:srgbClr val="1c527f"/>
                </a:solidFill>
                <a:latin typeface="Segoe UI Light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1c527f"/>
                </a:solidFill>
                <a:latin typeface="Segoe UI Light"/>
                <a:ea typeface="Segoe UI Light"/>
              </a:rPr>
              <a:t>—</a:t>
            </a:r>
            <a:r>
              <a:rPr b="0" lang="ru-RU" sz="1800" spc="-1" strike="noStrike">
                <a:solidFill>
                  <a:srgbClr val="1c527f"/>
                </a:solidFill>
                <a:latin typeface="Segoe UI Light"/>
                <a:ea typeface="Times New Roman"/>
              </a:rPr>
              <a:t> концерны по производству продуктов пита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7" name="Рисунок 4" descr=""/>
          <p:cNvPicPr/>
          <p:nvPr/>
        </p:nvPicPr>
        <p:blipFill>
          <a:blip r:embed="rId2"/>
          <a:stretch/>
        </p:blipFill>
        <p:spPr>
          <a:xfrm>
            <a:off x="5940360" y="1768320"/>
            <a:ext cx="2452680" cy="1606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89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90" name="Скругленный прямоугольник 2"/>
          <p:cNvSpPr/>
          <p:nvPr/>
        </p:nvSpPr>
        <p:spPr>
          <a:xfrm>
            <a:off x="2208240" y="411120"/>
            <a:ext cx="4680000" cy="100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5840">
            <a:solidFill>
              <a:srgbClr val="1c52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c527f"/>
                </a:solidFill>
                <a:latin typeface="Segoe UI Light"/>
                <a:ea typeface="Segoe UI Light"/>
              </a:rPr>
              <a:t>Интеграционные объедин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1" name="Группа 10"/>
          <p:cNvGrpSpPr/>
          <p:nvPr/>
        </p:nvGrpSpPr>
        <p:grpSpPr>
          <a:xfrm>
            <a:off x="874800" y="1419120"/>
            <a:ext cx="2509920" cy="1522440"/>
            <a:chOff x="874800" y="1419120"/>
            <a:chExt cx="2509920" cy="1522440"/>
          </a:xfrm>
        </p:grpSpPr>
        <p:cxnSp>
          <p:nvCxnSpPr>
            <p:cNvPr id="392" name="Прямая со стрелкой 5"/>
            <p:cNvCxnSpPr/>
            <p:nvPr/>
          </p:nvCxnSpPr>
          <p:spPr>
            <a:xfrm>
              <a:off x="2458800" y="1419120"/>
              <a:ext cx="1080" cy="721440"/>
            </a:xfrm>
            <a:prstGeom prst="straightConnector1">
              <a:avLst/>
            </a:prstGeom>
            <a:ln w="9360">
              <a:solidFill>
                <a:srgbClr val="1c527f"/>
              </a:solidFill>
              <a:miter/>
              <a:tailEnd len="med" type="triangle" w="med"/>
            </a:ln>
          </p:spPr>
        </p:cxnSp>
        <p:sp>
          <p:nvSpPr>
            <p:cNvPr id="393" name="Скругленный прямоугольник 7"/>
            <p:cNvSpPr/>
            <p:nvPr/>
          </p:nvSpPr>
          <p:spPr>
            <a:xfrm>
              <a:off x="874800" y="2149200"/>
              <a:ext cx="2509920" cy="792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5840">
              <a:solidFill>
                <a:srgbClr val="1c52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1c527f"/>
                  </a:solidFill>
                  <a:latin typeface="Segoe UI Light"/>
                  <a:ea typeface="Segoe UI Light"/>
                </a:rPr>
                <a:t>Региональные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4" name="Группа 12"/>
          <p:cNvGrpSpPr/>
          <p:nvPr/>
        </p:nvGrpSpPr>
        <p:grpSpPr>
          <a:xfrm>
            <a:off x="5840280" y="1419120"/>
            <a:ext cx="2509920" cy="1513080"/>
            <a:chOff x="5840280" y="1419120"/>
            <a:chExt cx="2509920" cy="1513080"/>
          </a:xfrm>
        </p:grpSpPr>
        <p:cxnSp>
          <p:nvCxnSpPr>
            <p:cNvPr id="395" name="Прямая со стрелкой 6"/>
            <p:cNvCxnSpPr/>
            <p:nvPr/>
          </p:nvCxnSpPr>
          <p:spPr>
            <a:xfrm>
              <a:off x="6608160" y="1419120"/>
              <a:ext cx="1080" cy="721440"/>
            </a:xfrm>
            <a:prstGeom prst="straightConnector1">
              <a:avLst/>
            </a:prstGeom>
            <a:ln w="9360">
              <a:solidFill>
                <a:srgbClr val="1c527f"/>
              </a:solidFill>
              <a:miter/>
              <a:tailEnd len="med" type="triangle" w="med"/>
            </a:ln>
          </p:spPr>
        </p:cxnSp>
        <p:sp>
          <p:nvSpPr>
            <p:cNvPr id="396" name="Скругленный прямоугольник 8"/>
            <p:cNvSpPr/>
            <p:nvPr/>
          </p:nvSpPr>
          <p:spPr>
            <a:xfrm>
              <a:off x="5840280" y="2139840"/>
              <a:ext cx="2509920" cy="792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5840">
              <a:solidFill>
                <a:srgbClr val="1c52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1c527f"/>
                  </a:solidFill>
                  <a:latin typeface="Segoe UI Light"/>
                  <a:ea typeface="Segoe UI Light"/>
                </a:rPr>
                <a:t>Отраслевые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7" name="Прямоугольник 9"/>
          <p:cNvSpPr/>
          <p:nvPr/>
        </p:nvSpPr>
        <p:spPr>
          <a:xfrm>
            <a:off x="971640" y="30970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c527f"/>
                </a:solidFill>
                <a:latin typeface="Segoe UI Light"/>
                <a:ea typeface="Calibri"/>
              </a:rPr>
              <a:t>ЕС, НАФТА, СНГ и др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Прямоугольник 11"/>
          <p:cNvSpPr/>
          <p:nvPr/>
        </p:nvSpPr>
        <p:spPr>
          <a:xfrm>
            <a:off x="5867280" y="30607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c527f"/>
                </a:solidFill>
                <a:latin typeface="Segoe UI Light"/>
                <a:ea typeface="Calibri"/>
              </a:rPr>
              <a:t>ОПЕК, ЕОУС,ЕВРАТ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5T08:42:57Z</dcterms:created>
  <dc:creator>Пользователь</dc:creator>
  <dc:description/>
  <dc:language>en-US</dc:language>
  <cp:lastModifiedBy>Пользователь</cp:lastModifiedBy>
  <dcterms:modified xsi:type="dcterms:W3CDTF">2015-10-14T15:57:55Z</dcterms:modified>
  <cp:revision>278</cp:revision>
  <dc:subject/>
  <dc:title>Презентация PowerPoint</dc:title>
</cp:coreProperties>
</file>