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B2DD-7DEC-4962-ACB9-E7ED757D8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0452-7C20-4573-8556-5968A4E7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B8C6-E955-4AA3-8D29-CB9CB46BE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B946-4D64-465F-B87B-F3CA78441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2F6B-77B6-4CE5-AB1D-A205FE910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ABE1-411D-4073-8F6F-1D08BAB8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6F22-B84E-4E18-8003-2EDA7FF2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A97A-7E22-4B67-8CA8-E1C17EA7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C2CD-D6CC-4705-9B96-CD3E0422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5416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A23A-2528-44B3-91BE-9FFF5F4D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2425-E56E-484B-8994-767ECA23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75DE-BD97-4544-ABB4-014C5085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64962-D1A6-4751-9287-270A419D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75BA-E7EF-4672-82BC-7606E77A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56CE-0A76-4F85-B945-868E2A8E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E7EE-640C-43A6-9731-F585A23AC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EBC7-1742-4BCD-8EEA-AB8AB9132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E2CF6-A940-46A6-9643-35C224B6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EB007-510E-477E-8246-1E59C51A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65D0F-C31A-4DE4-88DE-C710D8D1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9EC94-189D-4274-9819-278F274F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AF06B-8DD5-4832-B3EA-C2BAE191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010F-E241-41A4-8FA5-822A6046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5416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1AE40-58DD-48F1-B9F5-AA5D8CBF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26C4E-7B12-4677-A389-DBF41CEF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AE214-D3E1-415C-A765-449B0A89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1B128-EC7C-494D-896A-7CF9B014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01F87-2B03-4D09-916B-D509ADD4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01981-3787-4A11-AA18-ABB7B94A8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C8844-4E59-4571-BDC1-98EA2B68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52D35-B6B4-42D0-9A67-C0FB8E5CB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4C605-B019-40E2-9EAA-25718E6B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392C4-D750-403C-8DA4-C070382E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0CC6-159F-4864-AE19-36DFDC55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0248A-94AB-4FC7-A98D-D933233B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E1E45-093E-4B77-95B9-FDBF0B80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5416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B618C-45F8-4BC8-BE35-A4B8E613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72E44-2A74-4C1F-99FB-6BA58439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E5DA0-1B55-4A63-B3DB-BDD663B0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9E8D1-A5BE-4DFA-A9A5-46695916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B53EE-03FE-4CA4-98C0-7B3FD900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0247F-1705-4568-B155-81AE5C705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15FBD-EFE1-4F9C-A14D-1E15CAB51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9D1EA-FBFE-4B2A-9C9B-8DF611D0A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6F1D-8758-4DC0-AABF-FE31773B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A4BE5-7DAE-46EB-91AB-E15E2FD4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1B3E2-680A-4E78-9189-C8DC312B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2D967-7BA6-4083-AFB4-ACCDD656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C730A-0F0A-4385-BC75-C7A02FEF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5416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05192-E89B-4042-93C8-3CA35577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FDBE9-2605-4726-B3FB-4D5B66D6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C6D54-29CB-4404-92D9-42942A16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4E75C-2347-4026-918F-92A985CF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6EEF0-15FC-4D3C-967B-2F53E41F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80BAA-EC67-4119-8559-D1BD8779A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5416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C458-78CC-4299-AB4A-F5F796E8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39810-E72A-4F60-BE2F-95B01E087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665AE-B9D7-4089-B303-BFA440846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E63EE-A3F4-4559-ADAE-76B9E367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F94CC-9FA7-4C2F-B9FF-F4DE9A3D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F08F3-8B5A-4E0D-AA90-7408EA28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BDA21-4BAE-45F8-8C01-86BE166E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5416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B2DEF-FB4E-45C3-8DAB-F8F0E281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C8E1B-BB7A-4EC8-825D-C67AC804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CEB9E-D774-4155-AC9D-64A03437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8A64C-0784-4CCF-A74B-673FF109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54F6-220C-478E-BB33-E09196ED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120D1-56C0-4599-9E0C-F7BC114E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1432F-0509-4A36-BFB5-84AF95A89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ADEF9-B9F9-455F-9017-3514524A8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22839-DC31-4BAD-ADF2-77DEC1FF2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F1B1D-2E68-4DA5-8750-C3A228E5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7F117-4F46-4F27-AE8E-6F1676B3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A889D-5DBD-4DB4-84D3-6890380F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448DE-ACDC-4DE4-8369-68116DCB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5416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03391-926C-40ED-AF6A-64A0AF1D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8BF73-B305-4E07-97BD-3E81A41F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A156-6D25-4234-832A-EB67F475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21273-4D3B-4F88-9287-F4D40BB0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E207F-4B1F-46C7-8C9A-0BFB587C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B2CDB-E2BC-4996-9B76-42446DBE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15166-8096-4585-84C7-8C0B92FF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20161-3D37-4B29-898E-73ED43698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ACA4-0ABF-4D88-A0C9-128B761F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171360"/>
            <a:ext cx="8696160" cy="18511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258920"/>
            <a:ext cx="8723520" cy="998640"/>
            <a:chOff x="210960" y="1258920"/>
            <a:chExt cx="8723520" cy="998640"/>
          </a:xfrm>
        </p:grpSpPr>
        <p:sp>
          <p:nvSpPr>
            <p:cNvPr id="2" name="Freeform 14"/>
            <p:cNvSpPr/>
            <p:nvPr/>
          </p:nvSpPr>
          <p:spPr>
            <a:xfrm>
              <a:off x="6046920" y="1367640"/>
              <a:ext cx="2876400" cy="5360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271160"/>
              <a:ext cx="5544720" cy="6382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280520"/>
              <a:ext cx="5468040" cy="5814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270440"/>
              <a:ext cx="3308040" cy="48924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258920"/>
              <a:ext cx="8723520" cy="99864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4687920"/>
            <a:ext cx="11620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F973-D55F-48A0-AF01-EB6E8B5FE14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472320" indent="-223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70164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3708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19880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171360"/>
            <a:ext cx="8696160" cy="452592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4014720"/>
            <a:ext cx="8723520" cy="1000080"/>
            <a:chOff x="210960" y="4014720"/>
            <a:chExt cx="8723520" cy="1000080"/>
          </a:xfrm>
        </p:grpSpPr>
        <p:sp>
          <p:nvSpPr>
            <p:cNvPr id="50" name="Freeform 14"/>
            <p:cNvSpPr/>
            <p:nvPr/>
          </p:nvSpPr>
          <p:spPr>
            <a:xfrm>
              <a:off x="6054480" y="4123800"/>
              <a:ext cx="2880000" cy="5371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4026960"/>
              <a:ext cx="5551920" cy="63936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4036320"/>
              <a:ext cx="5475240" cy="5821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4026240"/>
              <a:ext cx="3312360" cy="489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4014720"/>
              <a:ext cx="8723520" cy="100008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472320" indent="-223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70164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3708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19880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4687920"/>
            <a:ext cx="11620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9189-00A3-4D59-9787-D5FC158B190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171360"/>
            <a:ext cx="8696160" cy="35528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3152880"/>
            <a:ext cx="2876400" cy="53496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3056040"/>
            <a:ext cx="5545080" cy="63792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3065400"/>
            <a:ext cx="5467320" cy="58104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3056040"/>
            <a:ext cx="3306600" cy="4888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3043080"/>
            <a:ext cx="8723520" cy="99864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472320" indent="-223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70164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3708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19880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4687920"/>
            <a:ext cx="11620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683F-8C87-45B0-80BF-C2FB6AE4F78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171360"/>
            <a:ext cx="8696160" cy="106992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534960"/>
            <a:ext cx="8723520" cy="998640"/>
            <a:chOff x="210960" y="534960"/>
            <a:chExt cx="8723520" cy="998640"/>
          </a:xfrm>
        </p:grpSpPr>
        <p:sp>
          <p:nvSpPr>
            <p:cNvPr id="145" name="Freeform 14"/>
            <p:cNvSpPr/>
            <p:nvPr/>
          </p:nvSpPr>
          <p:spPr>
            <a:xfrm>
              <a:off x="6046920" y="643680"/>
              <a:ext cx="2876400" cy="5360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547200"/>
              <a:ext cx="5544720" cy="6382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556560"/>
              <a:ext cx="5468040" cy="5814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546480"/>
              <a:ext cx="3308040" cy="48924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534960"/>
              <a:ext cx="8723520" cy="99864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472320" indent="-223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70164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3708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19880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4687920"/>
            <a:ext cx="11620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BEAF-490B-4AF6-A5C3-41F550B3821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171360"/>
            <a:ext cx="8696160" cy="106992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534960"/>
            <a:ext cx="8723520" cy="1000080"/>
            <a:chOff x="210960" y="534960"/>
            <a:chExt cx="8723520" cy="1000080"/>
          </a:xfrm>
        </p:grpSpPr>
        <p:sp>
          <p:nvSpPr>
            <p:cNvPr id="193" name="Freeform 14"/>
            <p:cNvSpPr/>
            <p:nvPr/>
          </p:nvSpPr>
          <p:spPr>
            <a:xfrm>
              <a:off x="6054480" y="644040"/>
              <a:ext cx="2880000" cy="5371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547200"/>
              <a:ext cx="5551920" cy="63936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556560"/>
              <a:ext cx="5475240" cy="5821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546480"/>
              <a:ext cx="3312360" cy="489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534960"/>
              <a:ext cx="8723520" cy="100008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472320" indent="-223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70164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3708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19880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4687920"/>
            <a:ext cx="11620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3690-60A1-4060-BEAD-E6A1B76F021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171360"/>
            <a:ext cx="8696160" cy="452592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4014720"/>
            <a:ext cx="8723520" cy="1000080"/>
            <a:chOff x="210960" y="4014720"/>
            <a:chExt cx="8723520" cy="1000080"/>
          </a:xfrm>
        </p:grpSpPr>
        <p:sp>
          <p:nvSpPr>
            <p:cNvPr id="241" name="Freeform 14"/>
            <p:cNvSpPr/>
            <p:nvPr/>
          </p:nvSpPr>
          <p:spPr>
            <a:xfrm>
              <a:off x="6054480" y="4123800"/>
              <a:ext cx="2880000" cy="5371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4026960"/>
              <a:ext cx="5551920" cy="63936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4036320"/>
              <a:ext cx="5475240" cy="5821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4026240"/>
              <a:ext cx="3312360" cy="489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4014720"/>
              <a:ext cx="8723520" cy="100008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472320" indent="-223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70164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3708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19880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4687920"/>
            <a:ext cx="11620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F609-00F6-48C9-9833-9399242EB00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171360"/>
            <a:ext cx="8696160" cy="106992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534960"/>
            <a:ext cx="8723520" cy="1000080"/>
            <a:chOff x="210960" y="534960"/>
            <a:chExt cx="8723520" cy="1000080"/>
          </a:xfrm>
        </p:grpSpPr>
        <p:sp>
          <p:nvSpPr>
            <p:cNvPr id="289" name="Freeform 14"/>
            <p:cNvSpPr/>
            <p:nvPr/>
          </p:nvSpPr>
          <p:spPr>
            <a:xfrm>
              <a:off x="6054480" y="644040"/>
              <a:ext cx="2880000" cy="5371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547200"/>
              <a:ext cx="5551920" cy="63936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556560"/>
              <a:ext cx="5475240" cy="5821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546480"/>
              <a:ext cx="3312360" cy="489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534960"/>
              <a:ext cx="8723520" cy="100008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472320" indent="-223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70164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3708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19880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4687920"/>
            <a:ext cx="11620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BA45-7B52-4C7E-8F97-C65A3AAD8CD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10920" y="626760"/>
            <a:ext cx="7846920" cy="36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ffffff"/>
                </a:solidFill>
                <a:latin typeface="Candara"/>
              </a:rPr>
              <a:t>Международное географическое разделение труда и мировое хозяйство</a:t>
            </a:r>
            <a:endParaRPr b="0" lang="en-US" sz="5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1988360" y="3219120"/>
            <a:ext cx="1513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0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4"/>
          <p:cNvSpPr/>
          <p:nvPr/>
        </p:nvSpPr>
        <p:spPr>
          <a:xfrm>
            <a:off x="-9360" y="-17640"/>
            <a:ext cx="4932360" cy="501840"/>
          </a:xfrm>
          <a:prstGeom prst="rect">
            <a:avLst/>
          </a:prstGeom>
          <a:solidFill>
            <a:srgbClr val="1c527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Прямоугольник 5"/>
          <p:cNvSpPr/>
          <p:nvPr/>
        </p:nvSpPr>
        <p:spPr>
          <a:xfrm>
            <a:off x="7037280" y="-17640"/>
            <a:ext cx="2116080" cy="490680"/>
          </a:xfrm>
          <a:prstGeom prst="rect">
            <a:avLst/>
          </a:prstGeom>
          <a:solidFill>
            <a:srgbClr val="1c527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Прямоугольник 6"/>
          <p:cNvSpPr/>
          <p:nvPr/>
        </p:nvSpPr>
        <p:spPr>
          <a:xfrm>
            <a:off x="1547640" y="-17640"/>
            <a:ext cx="6048720" cy="696960"/>
          </a:xfrm>
          <a:prstGeom prst="rect">
            <a:avLst/>
          </a:prstGeom>
          <a:solidFill>
            <a:srgbClr val="1c527f"/>
          </a:solidFill>
          <a:ln w="0">
            <a:noFill/>
          </a:ln>
          <a:effectLst>
            <a:outerShdw dist="38160" dir="5400000" blurRad="0" rotWithShape="0">
              <a:srgbClr val="000000">
                <a:alpha val="9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Segoe UI Light"/>
                <a:ea typeface="Segoe UI Light"/>
              </a:rPr>
              <a:t>Глобализ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Прямоугольник 8"/>
          <p:cNvSpPr/>
          <p:nvPr/>
        </p:nvSpPr>
        <p:spPr>
          <a:xfrm>
            <a:off x="-9360" y="1063800"/>
            <a:ext cx="9162720" cy="36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Рисунок 2" descr=""/>
          <p:cNvPicPr/>
          <p:nvPr/>
        </p:nvPicPr>
        <p:blipFill>
          <a:blip r:embed="rId2"/>
          <a:stretch/>
        </p:blipFill>
        <p:spPr>
          <a:xfrm>
            <a:off x="755640" y="1268280"/>
            <a:ext cx="3129120" cy="209556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7" descr=""/>
          <p:cNvPicPr/>
          <p:nvPr/>
        </p:nvPicPr>
        <p:blipFill>
          <a:blip r:embed="rId3"/>
          <a:stretch/>
        </p:blipFill>
        <p:spPr>
          <a:xfrm>
            <a:off x="5076720" y="1425600"/>
            <a:ext cx="225432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Рисунок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400800" cy="11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Прямоугольник 6"/>
          <p:cNvSpPr/>
          <p:nvPr/>
        </p:nvSpPr>
        <p:spPr>
          <a:xfrm>
            <a:off x="1042920" y="3573360"/>
            <a:ext cx="7415280" cy="1422360"/>
          </a:xfrm>
          <a:prstGeom prst="rect">
            <a:avLst/>
          </a:prstGeom>
          <a:solidFill>
            <a:srgbClr val="1c527f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Прямоугольник 7"/>
          <p:cNvSpPr/>
          <p:nvPr/>
        </p:nvSpPr>
        <p:spPr>
          <a:xfrm>
            <a:off x="2050920" y="3016080"/>
            <a:ext cx="6289920" cy="183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Прямоугольник 8"/>
          <p:cNvSpPr/>
          <p:nvPr/>
        </p:nvSpPr>
        <p:spPr>
          <a:xfrm>
            <a:off x="2646360" y="3056040"/>
            <a:ext cx="518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527f"/>
                </a:solidFill>
                <a:latin typeface="Segoe UI Light"/>
                <a:ea typeface="Segoe UI Light"/>
              </a:rPr>
              <a:t>Международное географическое разделение труда —</a:t>
            </a:r>
            <a:r>
              <a:rPr b="0" lang="ru-RU" sz="2000" spc="-1" strike="noStrike">
                <a:solidFill>
                  <a:srgbClr val="1c527f"/>
                </a:solidFill>
                <a:latin typeface="Segoe UI Light"/>
                <a:ea typeface="Segoe UI Light"/>
              </a:rPr>
              <a:t> разделение стран по производству определённых видов товаров и услуг и обмен произведённой продукци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Прямоугольник с двумя усеченными противолежащими углами 9"/>
          <p:cNvSpPr/>
          <p:nvPr/>
        </p:nvSpPr>
        <p:spPr>
          <a:xfrm>
            <a:off x="684360" y="3016080"/>
            <a:ext cx="1726920" cy="1830600"/>
          </a:xfrm>
          <a:custGeom>
            <a:avLst/>
            <a:gdLst/>
            <a:ahLst/>
            <a:rect l="l" t="t" r="r" b="b"/>
            <a:pathLst>
              <a:path w="1727200" h="1830388">
                <a:moveTo>
                  <a:pt x="0" y="0"/>
                </a:moveTo>
                <a:lnTo>
                  <a:pt x="1439328" y="0"/>
                </a:lnTo>
                <a:lnTo>
                  <a:pt x="1727200" y="287872"/>
                </a:lnTo>
                <a:lnTo>
                  <a:pt x="1727200" y="1830388"/>
                </a:lnTo>
                <a:lnTo>
                  <a:pt x="1727200" y="1830388"/>
                </a:lnTo>
                <a:lnTo>
                  <a:pt x="287872" y="1830388"/>
                </a:lnTo>
                <a:lnTo>
                  <a:pt x="0" y="1542516"/>
                </a:lnTo>
                <a:lnTo>
                  <a:pt x="0" y="0"/>
                </a:lnTo>
                <a:close/>
              </a:path>
            </a:pathLst>
          </a:custGeom>
          <a:solidFill>
            <a:srgbClr val="1c52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Рисунок 10" descr=""/>
          <p:cNvPicPr/>
          <p:nvPr/>
        </p:nvPicPr>
        <p:blipFill>
          <a:blip r:embed="rId2"/>
          <a:stretch/>
        </p:blipFill>
        <p:spPr>
          <a:xfrm>
            <a:off x="1014480" y="3257640"/>
            <a:ext cx="1201680" cy="1201680"/>
          </a:xfrm>
          <a:prstGeom prst="rect">
            <a:avLst/>
          </a:prstGeom>
          <a:ln w="0">
            <a:noFill/>
          </a:ln>
        </p:spPr>
      </p:pic>
      <p:sp>
        <p:nvSpPr>
          <p:cNvPr id="344" name="Прямоугольник 12"/>
          <p:cNvSpPr/>
          <p:nvPr/>
        </p:nvSpPr>
        <p:spPr>
          <a:xfrm>
            <a:off x="984240" y="485640"/>
            <a:ext cx="7586640" cy="1590840"/>
          </a:xfrm>
          <a:prstGeom prst="rect">
            <a:avLst/>
          </a:prstGeom>
          <a:solidFill>
            <a:srgbClr val="073e87"/>
          </a:solidFill>
          <a:ln w="0">
            <a:noFill/>
          </a:ln>
          <a:effectLst>
            <a:outerShdw dist="114356" dir="8997856" blurRad="0" rotWithShape="0">
              <a:srgbClr val="00000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5" name="Рисунок 13" descr=""/>
          <p:cNvPicPr/>
          <p:nvPr/>
        </p:nvPicPr>
        <p:blipFill>
          <a:blip r:embed="rId3"/>
          <a:stretch/>
        </p:blipFill>
        <p:spPr>
          <a:xfrm>
            <a:off x="181080" y="369720"/>
            <a:ext cx="2300040" cy="193212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14" descr=""/>
          <p:cNvPicPr/>
          <p:nvPr/>
        </p:nvPicPr>
        <p:blipFill>
          <a:blip r:embed="rId4"/>
          <a:stretch/>
        </p:blipFill>
        <p:spPr>
          <a:xfrm>
            <a:off x="216000" y="533520"/>
            <a:ext cx="2041560" cy="185256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15" descr=""/>
          <p:cNvPicPr/>
          <p:nvPr/>
        </p:nvPicPr>
        <p:blipFill>
          <a:blip r:embed="rId5"/>
          <a:stretch/>
        </p:blipFill>
        <p:spPr>
          <a:xfrm>
            <a:off x="4641840" y="504720"/>
            <a:ext cx="1906560" cy="186228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16" descr=""/>
          <p:cNvPicPr/>
          <p:nvPr/>
        </p:nvPicPr>
        <p:blipFill>
          <a:blip r:embed="rId6"/>
          <a:stretch/>
        </p:blipFill>
        <p:spPr>
          <a:xfrm>
            <a:off x="6627960" y="485640"/>
            <a:ext cx="1984320" cy="1900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0" name="Рисунок 3" descr="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5175360"/>
          </a:xfrm>
          <a:prstGeom prst="rect">
            <a:avLst/>
          </a:prstGeom>
          <a:ln w="0">
            <a:noFill/>
          </a:ln>
        </p:spPr>
      </p:pic>
      <p:sp>
        <p:nvSpPr>
          <p:cNvPr id="351" name="Прямоугольник 5"/>
          <p:cNvSpPr/>
          <p:nvPr/>
        </p:nvSpPr>
        <p:spPr>
          <a:xfrm>
            <a:off x="-9360" y="-17640"/>
            <a:ext cx="4932360" cy="501840"/>
          </a:xfrm>
          <a:prstGeom prst="rect">
            <a:avLst/>
          </a:prstGeom>
          <a:solidFill>
            <a:srgbClr val="1c527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Прямоугольник 6"/>
          <p:cNvSpPr/>
          <p:nvPr/>
        </p:nvSpPr>
        <p:spPr>
          <a:xfrm>
            <a:off x="7037280" y="-17640"/>
            <a:ext cx="2116080" cy="490680"/>
          </a:xfrm>
          <a:prstGeom prst="rect">
            <a:avLst/>
          </a:prstGeom>
          <a:solidFill>
            <a:srgbClr val="1c527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Прямоугольник 7"/>
          <p:cNvSpPr/>
          <p:nvPr/>
        </p:nvSpPr>
        <p:spPr>
          <a:xfrm>
            <a:off x="1547640" y="-17640"/>
            <a:ext cx="6048720" cy="858960"/>
          </a:xfrm>
          <a:prstGeom prst="rect">
            <a:avLst/>
          </a:prstGeom>
          <a:solidFill>
            <a:srgbClr val="1c527f"/>
          </a:solidFill>
          <a:ln w="0">
            <a:noFill/>
          </a:ln>
          <a:effectLst>
            <a:outerShdw dist="38160" dir="5400000" blurRad="0" rotWithShape="0">
              <a:srgbClr val="000000">
                <a:alpha val="9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egoe UI Light"/>
                <a:ea typeface="Segoe UI Light"/>
              </a:rPr>
              <a:t>Факторы отраслей производ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Скругленный прямоугольник 8"/>
          <p:cNvSpPr/>
          <p:nvPr/>
        </p:nvSpPr>
        <p:spPr>
          <a:xfrm>
            <a:off x="1963800" y="1174680"/>
            <a:ext cx="5059440" cy="79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1c52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c527f"/>
                </a:solidFill>
                <a:latin typeface="Segoe UI Light"/>
                <a:ea typeface="Segoe UI Light"/>
              </a:rPr>
              <a:t>Природно-ресурсны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Скругленный прямоугольник 9"/>
          <p:cNvSpPr/>
          <p:nvPr/>
        </p:nvSpPr>
        <p:spPr>
          <a:xfrm>
            <a:off x="1963800" y="2139840"/>
            <a:ext cx="5059440" cy="79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1c52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c527f"/>
                </a:solidFill>
                <a:latin typeface="Segoe UI Light"/>
                <a:ea typeface="Segoe UI Light"/>
              </a:rPr>
              <a:t>Социально-экономическ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7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4"/>
          <p:cNvSpPr/>
          <p:nvPr/>
        </p:nvSpPr>
        <p:spPr>
          <a:xfrm>
            <a:off x="34920" y="339840"/>
            <a:ext cx="9144000" cy="2062080"/>
          </a:xfrm>
          <a:prstGeom prst="rect">
            <a:avLst/>
          </a:prstGeom>
          <a:solidFill>
            <a:srgbClr val="073e87"/>
          </a:solidFill>
          <a:ln w="0">
            <a:noFill/>
          </a:ln>
          <a:effectLst>
            <a:outerShdw dist="114356" dir="8997856" blurRad="0" rotWithShape="0">
              <a:srgbClr val="00000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Рисунок 5" descr=""/>
          <p:cNvPicPr/>
          <p:nvPr/>
        </p:nvPicPr>
        <p:blipFill>
          <a:blip r:embed="rId2"/>
          <a:stretch/>
        </p:blipFill>
        <p:spPr>
          <a:xfrm>
            <a:off x="225360" y="304920"/>
            <a:ext cx="2300400" cy="193176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6" descr=""/>
          <p:cNvPicPr/>
          <p:nvPr/>
        </p:nvPicPr>
        <p:blipFill>
          <a:blip r:embed="rId3"/>
          <a:stretch/>
        </p:blipFill>
        <p:spPr>
          <a:xfrm>
            <a:off x="2579760" y="426960"/>
            <a:ext cx="2039760" cy="185256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7" descr=""/>
          <p:cNvPicPr/>
          <p:nvPr/>
        </p:nvPicPr>
        <p:blipFill>
          <a:blip r:embed="rId4"/>
          <a:stretch/>
        </p:blipFill>
        <p:spPr>
          <a:xfrm>
            <a:off x="4687920" y="438120"/>
            <a:ext cx="1905120" cy="186372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8" descr=""/>
          <p:cNvPicPr/>
          <p:nvPr/>
        </p:nvPicPr>
        <p:blipFill>
          <a:blip r:embed="rId5"/>
          <a:stretch/>
        </p:blipFill>
        <p:spPr>
          <a:xfrm>
            <a:off x="6672240" y="420840"/>
            <a:ext cx="1986120" cy="1900080"/>
          </a:xfrm>
          <a:prstGeom prst="rect">
            <a:avLst/>
          </a:prstGeom>
          <a:ln w="0">
            <a:noFill/>
          </a:ln>
        </p:spPr>
      </p:pic>
      <p:sp>
        <p:nvSpPr>
          <p:cNvPr id="363" name="Прямоугольник 2"/>
          <p:cNvSpPr/>
          <p:nvPr/>
        </p:nvSpPr>
        <p:spPr>
          <a:xfrm>
            <a:off x="2195640" y="2930400"/>
            <a:ext cx="5310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527f"/>
                </a:solidFill>
                <a:latin typeface="Segoe UI Light"/>
                <a:ea typeface="Calibri"/>
              </a:rPr>
              <a:t>Разные страны специализируются на различных отраслях производства и, следовательно, играют определённые роли в мировом географическом разделении тру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5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2" descr=""/>
          <p:cNvPicPr/>
          <p:nvPr/>
        </p:nvPicPr>
        <p:blipFill>
          <a:blip r:embed="rId2"/>
          <a:stretch/>
        </p:blipFill>
        <p:spPr>
          <a:xfrm>
            <a:off x="5435640" y="484200"/>
            <a:ext cx="3076560" cy="3075120"/>
          </a:xfrm>
          <a:prstGeom prst="rect">
            <a:avLst/>
          </a:prstGeom>
          <a:ln w="0">
            <a:noFill/>
          </a:ln>
        </p:spPr>
      </p:pic>
      <p:sp>
        <p:nvSpPr>
          <p:cNvPr id="367" name="Прямоугольник 4"/>
          <p:cNvSpPr/>
          <p:nvPr/>
        </p:nvSpPr>
        <p:spPr>
          <a:xfrm>
            <a:off x="1187280" y="627120"/>
            <a:ext cx="3780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527f"/>
                </a:solidFill>
                <a:latin typeface="Segoe UI Light"/>
                <a:ea typeface="Calibri"/>
              </a:rPr>
              <a:t>На рубеже </a:t>
            </a:r>
            <a:r>
              <a:rPr b="1" lang="en-US" sz="1800" spc="-1" strike="noStrike">
                <a:solidFill>
                  <a:srgbClr val="1c527f"/>
                </a:solidFill>
                <a:latin typeface="Segoe UI Light"/>
                <a:ea typeface="Calibri"/>
              </a:rPr>
              <a:t>XIX</a:t>
            </a:r>
            <a:r>
              <a:rPr b="1" lang="ru-RU" sz="1800" spc="-1" strike="noStrike">
                <a:solidFill>
                  <a:srgbClr val="1c527f"/>
                </a:solidFill>
                <a:latin typeface="Segoe UI Light"/>
                <a:ea typeface="Calibri"/>
              </a:rPr>
              <a:t>‒</a:t>
            </a:r>
            <a:r>
              <a:rPr b="1" lang="en-US" sz="1800" spc="-1" strike="noStrike">
                <a:solidFill>
                  <a:srgbClr val="1c527f"/>
                </a:solidFill>
                <a:latin typeface="Segoe UI Light"/>
                <a:ea typeface="Calibri"/>
              </a:rPr>
              <a:t>XX</a:t>
            </a:r>
            <a:r>
              <a:rPr b="1" lang="ru-RU" sz="1800" spc="-1" strike="noStrike">
                <a:solidFill>
                  <a:srgbClr val="1c527f"/>
                </a:solidFill>
                <a:latin typeface="Segoe UI Light"/>
                <a:ea typeface="Calibri"/>
              </a:rPr>
              <a:t> вв. </a:t>
            </a:r>
            <a:r>
              <a:rPr b="0" lang="ru-RU" sz="1800" spc="-1" strike="noStrike">
                <a:solidFill>
                  <a:srgbClr val="1c527f"/>
                </a:solidFill>
                <a:latin typeface="Segoe UI Light"/>
                <a:ea typeface="Calibri"/>
              </a:rPr>
              <a:t>началас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527f"/>
                </a:solidFill>
                <a:latin typeface="Segoe UI Light"/>
                <a:ea typeface="Calibri"/>
              </a:rPr>
              <a:t>эволюция международног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527f"/>
                </a:solidFill>
                <a:latin typeface="Segoe UI Light"/>
                <a:ea typeface="Calibri"/>
              </a:rPr>
              <a:t>географического разделен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527f"/>
                </a:solidFill>
                <a:latin typeface="Segoe UI Light"/>
                <a:ea typeface="Calibri"/>
              </a:rPr>
              <a:t>труда, которое привело к слиянию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527f"/>
                </a:solidFill>
                <a:latin typeface="Segoe UI Light"/>
                <a:ea typeface="Calibri"/>
              </a:rPr>
              <a:t>национальных хозяйств стран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527f"/>
                </a:solidFill>
                <a:latin typeface="Segoe UI Light"/>
                <a:ea typeface="Calibri"/>
              </a:rPr>
              <a:t>мира в единое мировое хозяйство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Рисунок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400800" cy="11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0" name="Прямоугольник 6"/>
          <p:cNvSpPr/>
          <p:nvPr/>
        </p:nvSpPr>
        <p:spPr>
          <a:xfrm>
            <a:off x="1042920" y="3573360"/>
            <a:ext cx="7415280" cy="1422360"/>
          </a:xfrm>
          <a:prstGeom prst="rect">
            <a:avLst/>
          </a:prstGeom>
          <a:solidFill>
            <a:srgbClr val="1c527f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Рисунок 1" descr=""/>
          <p:cNvPicPr/>
          <p:nvPr/>
        </p:nvPicPr>
        <p:blipFill>
          <a:blip r:embed="rId2"/>
          <a:stretch/>
        </p:blipFill>
        <p:spPr>
          <a:xfrm>
            <a:off x="1692360" y="22320"/>
            <a:ext cx="5651280" cy="286848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оугольник 7"/>
          <p:cNvSpPr/>
          <p:nvPr/>
        </p:nvSpPr>
        <p:spPr>
          <a:xfrm>
            <a:off x="2050920" y="2643120"/>
            <a:ext cx="6289920" cy="220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Прямоугольник 8"/>
          <p:cNvSpPr/>
          <p:nvPr/>
        </p:nvSpPr>
        <p:spPr>
          <a:xfrm>
            <a:off x="2646360" y="3056040"/>
            <a:ext cx="5486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527f"/>
                </a:solidFill>
                <a:latin typeface="Segoe UI Light"/>
                <a:ea typeface="Segoe UI Light"/>
              </a:rPr>
              <a:t>Мировое хозяйство —</a:t>
            </a:r>
            <a:r>
              <a:rPr b="0" lang="ru-RU" sz="2000" spc="-1" strike="noStrike">
                <a:solidFill>
                  <a:srgbClr val="1c527f"/>
                </a:solidFill>
                <a:latin typeface="Segoe UI Light"/>
                <a:ea typeface="Segoe UI Light"/>
              </a:rPr>
              <a:t> это совокупность исторически сложившихся национальных хозяйств мира, связанных между собой системой международного разделения труд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527f"/>
                </a:solidFill>
                <a:latin typeface="Segoe UI Light"/>
                <a:ea typeface="Segoe UI Light"/>
              </a:rPr>
              <a:t>и всемирных экономических отнош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Прямоугольник с двумя усеченными противолежащими углами 9"/>
          <p:cNvSpPr/>
          <p:nvPr/>
        </p:nvSpPr>
        <p:spPr>
          <a:xfrm>
            <a:off x="684360" y="2643120"/>
            <a:ext cx="1726920" cy="2203560"/>
          </a:xfrm>
          <a:custGeom>
            <a:avLst/>
            <a:gdLst/>
            <a:ahLst/>
            <a:rect l="l" t="t" r="r" b="b"/>
            <a:pathLst>
              <a:path w="1727200" h="2203450">
                <a:moveTo>
                  <a:pt x="0" y="0"/>
                </a:moveTo>
                <a:lnTo>
                  <a:pt x="1439328" y="0"/>
                </a:lnTo>
                <a:lnTo>
                  <a:pt x="1727200" y="287872"/>
                </a:lnTo>
                <a:lnTo>
                  <a:pt x="1727200" y="2203450"/>
                </a:lnTo>
                <a:lnTo>
                  <a:pt x="1727200" y="2203450"/>
                </a:lnTo>
                <a:lnTo>
                  <a:pt x="287872" y="2203450"/>
                </a:lnTo>
                <a:lnTo>
                  <a:pt x="0" y="1915578"/>
                </a:lnTo>
                <a:lnTo>
                  <a:pt x="0" y="0"/>
                </a:lnTo>
                <a:close/>
              </a:path>
            </a:pathLst>
          </a:custGeom>
          <a:solidFill>
            <a:srgbClr val="1c52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Рисунок 10" descr=""/>
          <p:cNvPicPr/>
          <p:nvPr/>
        </p:nvPicPr>
        <p:blipFill>
          <a:blip r:embed="rId3"/>
          <a:stretch/>
        </p:blipFill>
        <p:spPr>
          <a:xfrm>
            <a:off x="960480" y="3084480"/>
            <a:ext cx="1201680" cy="1200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Рисунок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400800" cy="11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8" name="Прямоугольник 6"/>
          <p:cNvSpPr/>
          <p:nvPr/>
        </p:nvSpPr>
        <p:spPr>
          <a:xfrm>
            <a:off x="1042920" y="3573360"/>
            <a:ext cx="7415280" cy="1422360"/>
          </a:xfrm>
          <a:prstGeom prst="rect">
            <a:avLst/>
          </a:prstGeom>
          <a:solidFill>
            <a:srgbClr val="1c527f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Прямоугольник 7"/>
          <p:cNvSpPr/>
          <p:nvPr/>
        </p:nvSpPr>
        <p:spPr>
          <a:xfrm>
            <a:off x="2050920" y="3051000"/>
            <a:ext cx="6289920" cy="17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Прямоугольник 8"/>
          <p:cNvSpPr/>
          <p:nvPr/>
        </p:nvSpPr>
        <p:spPr>
          <a:xfrm>
            <a:off x="2633760" y="3219480"/>
            <a:ext cx="548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527f"/>
                </a:solidFill>
                <a:latin typeface="Segoe UI Light"/>
                <a:ea typeface="Segoe UI Light"/>
              </a:rPr>
              <a:t>Транснациональные корпорации (ТНК)</a:t>
            </a:r>
            <a:r>
              <a:rPr b="0" lang="ru-RU" sz="2400" spc="-1" strike="noStrike">
                <a:solidFill>
                  <a:srgbClr val="1c527f"/>
                </a:solidFill>
                <a:latin typeface="Segoe UI Light"/>
                <a:ea typeface="Segoe UI Light"/>
              </a:rPr>
              <a:t> — это компании, владеющие предприятиями в нескольких стран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Прямоугольник с двумя усеченными противолежащими углами 9"/>
          <p:cNvSpPr/>
          <p:nvPr/>
        </p:nvSpPr>
        <p:spPr>
          <a:xfrm>
            <a:off x="684360" y="3051000"/>
            <a:ext cx="1584000" cy="1795680"/>
          </a:xfrm>
          <a:custGeom>
            <a:avLst/>
            <a:gdLst/>
            <a:ahLst/>
            <a:rect l="l" t="t" r="r" b="b"/>
            <a:pathLst>
              <a:path w="1584325" h="1795463">
                <a:moveTo>
                  <a:pt x="0" y="0"/>
                </a:moveTo>
                <a:lnTo>
                  <a:pt x="1320266" y="0"/>
                </a:lnTo>
                <a:lnTo>
                  <a:pt x="1584325" y="264059"/>
                </a:lnTo>
                <a:lnTo>
                  <a:pt x="1584325" y="1795463"/>
                </a:lnTo>
                <a:lnTo>
                  <a:pt x="1584325" y="1795463"/>
                </a:lnTo>
                <a:lnTo>
                  <a:pt x="264059" y="1795463"/>
                </a:lnTo>
                <a:lnTo>
                  <a:pt x="0" y="1531404"/>
                </a:lnTo>
                <a:lnTo>
                  <a:pt x="0" y="0"/>
                </a:lnTo>
                <a:close/>
              </a:path>
            </a:pathLst>
          </a:custGeom>
          <a:solidFill>
            <a:srgbClr val="1c52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Рисунок 10" descr=""/>
          <p:cNvPicPr/>
          <p:nvPr/>
        </p:nvPicPr>
        <p:blipFill>
          <a:blip r:embed="rId2"/>
          <a:stretch/>
        </p:blipFill>
        <p:spPr>
          <a:xfrm>
            <a:off x="965160" y="3241800"/>
            <a:ext cx="1200240" cy="119988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12" descr=""/>
          <p:cNvPicPr/>
          <p:nvPr/>
        </p:nvPicPr>
        <p:blipFill>
          <a:blip r:embed="rId3"/>
          <a:stretch/>
        </p:blipFill>
        <p:spPr>
          <a:xfrm>
            <a:off x="3419640" y="42840"/>
            <a:ext cx="3278160" cy="2058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5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86" name="Прямоугольник 2"/>
          <p:cNvSpPr/>
          <p:nvPr/>
        </p:nvSpPr>
        <p:spPr>
          <a:xfrm>
            <a:off x="755640" y="700200"/>
            <a:ext cx="4572000" cy="43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527f"/>
                </a:solidFill>
                <a:latin typeface="Segoe UI Light"/>
                <a:ea typeface="Times New Roman"/>
              </a:rPr>
              <a:t>Наиболее крупные ТНК мир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buClr>
                <a:srgbClr val="1c527f"/>
              </a:buClr>
              <a:buFont typeface="Segoe U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527f"/>
                </a:solidFill>
                <a:latin typeface="Segoe UI Light"/>
                <a:ea typeface="Times New Roman"/>
              </a:rPr>
              <a:t>Exxon Mobil</a:t>
            </a:r>
            <a:r>
              <a:rPr b="0" lang="ru-RU" sz="1800" spc="-1" strike="noStrike">
                <a:solidFill>
                  <a:srgbClr val="1c527f"/>
                </a:solidFill>
                <a:latin typeface="Segoe UI Light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1c527f"/>
                </a:solidFill>
                <a:latin typeface="Segoe UI Light"/>
                <a:ea typeface="Calibri"/>
              </a:rPr>
              <a:t>Shell Group</a:t>
            </a:r>
            <a:r>
              <a:rPr b="0" lang="ru-RU" sz="1800" spc="-1" strike="noStrike">
                <a:solidFill>
                  <a:srgbClr val="1c527f"/>
                </a:solidFill>
                <a:latin typeface="Segoe UI Light"/>
                <a:ea typeface="Calibri"/>
              </a:rPr>
              <a:t>, </a:t>
            </a:r>
            <a:r>
              <a:rPr b="0" lang="en-US" sz="1800" spc="-1" strike="noStrike">
                <a:solidFill>
                  <a:srgbClr val="1c527f"/>
                </a:solidFill>
                <a:latin typeface="Segoe UI Light"/>
                <a:ea typeface="Calibri"/>
              </a:rPr>
              <a:t>British Petroleum</a:t>
            </a:r>
            <a:r>
              <a:rPr b="0" lang="ru-RU" sz="1800" spc="-1" strike="noStrike">
                <a:solidFill>
                  <a:srgbClr val="1c527f"/>
                </a:solidFill>
                <a:latin typeface="Segoe UI Light"/>
                <a:ea typeface="Calibri"/>
              </a:rPr>
              <a:t> </a:t>
            </a:r>
            <a:r>
              <a:rPr b="1" lang="ru-RU" sz="1800" spc="-1" strike="noStrike">
                <a:solidFill>
                  <a:srgbClr val="1c527f"/>
                </a:solidFill>
                <a:latin typeface="Segoe UI Light"/>
                <a:ea typeface="Calibri"/>
              </a:rPr>
              <a:t>—</a:t>
            </a:r>
            <a:r>
              <a:rPr b="0" lang="ru-RU" sz="1800" spc="-1" strike="noStrike">
                <a:solidFill>
                  <a:srgbClr val="1c527f"/>
                </a:solidFill>
                <a:latin typeface="Segoe UI Light"/>
                <a:ea typeface="Calibri"/>
              </a:rPr>
              <a:t> </a:t>
            </a:r>
            <a:r>
              <a:rPr b="0" lang="ru-RU" sz="1800" spc="-1" strike="noStrike">
                <a:solidFill>
                  <a:srgbClr val="1c527f"/>
                </a:solidFill>
                <a:latin typeface="Segoe UI Light"/>
                <a:ea typeface="Times New Roman"/>
              </a:rPr>
              <a:t>компании, занимающиеся горнодобывающей промышленность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buClr>
                <a:srgbClr val="1c527f"/>
              </a:buClr>
              <a:buFont typeface="Segoe U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buClr>
                <a:srgbClr val="1c527f"/>
              </a:buClr>
              <a:buFont typeface="Segoe U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527f"/>
                </a:solidFill>
                <a:latin typeface="Segoe UI Light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1c527f"/>
                </a:solidFill>
                <a:latin typeface="Segoe UI Light"/>
                <a:ea typeface="Times New Roman"/>
              </a:rPr>
              <a:t>Toyota, </a:t>
            </a:r>
            <a:r>
              <a:rPr b="0" lang="ru-RU" sz="1800" spc="-1" strike="noStrike">
                <a:solidFill>
                  <a:srgbClr val="1c527f"/>
                </a:solidFill>
                <a:latin typeface="Segoe UI Light"/>
                <a:ea typeface="Calibri"/>
              </a:rPr>
              <a:t>Ford, Volkswagen </a:t>
            </a:r>
            <a:r>
              <a:rPr b="1" lang="ru-RU" sz="1800" spc="-1" strike="noStrike">
                <a:solidFill>
                  <a:srgbClr val="1c527f"/>
                </a:solidFill>
                <a:latin typeface="Segoe UI Light"/>
                <a:ea typeface="Segoe UI Light"/>
              </a:rPr>
              <a:t>—</a:t>
            </a:r>
            <a:r>
              <a:rPr b="0" lang="ru-RU" sz="1800" spc="-1" strike="noStrike">
                <a:solidFill>
                  <a:srgbClr val="1c527f"/>
                </a:solidFill>
                <a:latin typeface="Segoe UI Light"/>
                <a:ea typeface="Calibri"/>
              </a:rPr>
              <a:t> машиностроительные компан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buClr>
                <a:srgbClr val="1c527f"/>
              </a:buClr>
              <a:buFont typeface="Segoe U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buClr>
                <a:srgbClr val="1c527f"/>
              </a:buClr>
              <a:buFont typeface="Segoe U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527f"/>
                </a:solidFill>
                <a:latin typeface="Segoe UI Light"/>
                <a:ea typeface="Times New Roman"/>
              </a:rPr>
              <a:t>Nestlе, Рер</a:t>
            </a:r>
            <a:r>
              <a:rPr b="0" lang="en-US" sz="1800" spc="-1" strike="noStrike">
                <a:solidFill>
                  <a:srgbClr val="1c527f"/>
                </a:solidFill>
                <a:latin typeface="Segoe UI Light"/>
                <a:ea typeface="Times New Roman"/>
              </a:rPr>
              <a:t>si</a:t>
            </a:r>
            <a:r>
              <a:rPr b="0" lang="ru-RU" sz="1800" spc="-1" strike="noStrike">
                <a:solidFill>
                  <a:srgbClr val="1c527f"/>
                </a:solidFill>
                <a:latin typeface="Segoe UI Light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1c527f"/>
                </a:solidFill>
                <a:latin typeface="Segoe UI Light"/>
                <a:ea typeface="Calibri"/>
              </a:rPr>
              <a:t>Danone</a:t>
            </a:r>
            <a:r>
              <a:rPr b="0" lang="ru-RU" sz="1800" spc="-1" strike="noStrike">
                <a:solidFill>
                  <a:srgbClr val="1c527f"/>
                </a:solidFill>
                <a:latin typeface="Segoe UI Light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1c527f"/>
                </a:solidFill>
                <a:latin typeface="Segoe UI Light"/>
                <a:ea typeface="Segoe UI Light"/>
              </a:rPr>
              <a:t>—</a:t>
            </a:r>
            <a:r>
              <a:rPr b="0" lang="ru-RU" sz="1800" spc="-1" strike="noStrike">
                <a:solidFill>
                  <a:srgbClr val="1c527f"/>
                </a:solidFill>
                <a:latin typeface="Segoe UI Light"/>
                <a:ea typeface="Times New Roman"/>
              </a:rPr>
              <a:t> концерны по производству продуктов пит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Рисунок 4" descr=""/>
          <p:cNvPicPr/>
          <p:nvPr/>
        </p:nvPicPr>
        <p:blipFill>
          <a:blip r:embed="rId2"/>
          <a:stretch/>
        </p:blipFill>
        <p:spPr>
          <a:xfrm>
            <a:off x="5940360" y="1768320"/>
            <a:ext cx="2452680" cy="1606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90" name="Скругленный прямоугольник 2"/>
          <p:cNvSpPr/>
          <p:nvPr/>
        </p:nvSpPr>
        <p:spPr>
          <a:xfrm>
            <a:off x="2208240" y="411120"/>
            <a:ext cx="46800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1c52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527f"/>
                </a:solidFill>
                <a:latin typeface="Segoe UI Light"/>
                <a:ea typeface="Segoe UI Light"/>
              </a:rPr>
              <a:t>Интеграционные объедин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1" name="Группа 10"/>
          <p:cNvGrpSpPr/>
          <p:nvPr/>
        </p:nvGrpSpPr>
        <p:grpSpPr>
          <a:xfrm>
            <a:off x="874800" y="1419120"/>
            <a:ext cx="2509920" cy="1522440"/>
            <a:chOff x="874800" y="1419120"/>
            <a:chExt cx="2509920" cy="1522440"/>
          </a:xfrm>
        </p:grpSpPr>
        <p:cxnSp>
          <p:nvCxnSpPr>
            <p:cNvPr id="392" name="Прямая со стрелкой 5"/>
            <p:cNvCxnSpPr/>
            <p:nvPr/>
          </p:nvCxnSpPr>
          <p:spPr>
            <a:xfrm>
              <a:off x="2458800" y="1419120"/>
              <a:ext cx="1080" cy="721440"/>
            </a:xfrm>
            <a:prstGeom prst="straightConnector1">
              <a:avLst/>
            </a:prstGeom>
            <a:ln w="9360">
              <a:solidFill>
                <a:srgbClr val="1c527f"/>
              </a:solidFill>
              <a:miter/>
              <a:tailEnd len="med" type="triangle" w="med"/>
            </a:ln>
          </p:spPr>
        </p:cxnSp>
        <p:sp>
          <p:nvSpPr>
            <p:cNvPr id="393" name="Скругленный прямоугольник 7"/>
            <p:cNvSpPr/>
            <p:nvPr/>
          </p:nvSpPr>
          <p:spPr>
            <a:xfrm>
              <a:off x="874800" y="2149200"/>
              <a:ext cx="2509920" cy="792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5840">
              <a:solidFill>
                <a:srgbClr val="1c52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c527f"/>
                  </a:solidFill>
                  <a:latin typeface="Segoe UI Light"/>
                  <a:ea typeface="Segoe UI Light"/>
                </a:rPr>
                <a:t>Региональные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4" name="Группа 12"/>
          <p:cNvGrpSpPr/>
          <p:nvPr/>
        </p:nvGrpSpPr>
        <p:grpSpPr>
          <a:xfrm>
            <a:off x="5840280" y="1419120"/>
            <a:ext cx="2509920" cy="1513080"/>
            <a:chOff x="5840280" y="1419120"/>
            <a:chExt cx="2509920" cy="1513080"/>
          </a:xfrm>
        </p:grpSpPr>
        <p:cxnSp>
          <p:nvCxnSpPr>
            <p:cNvPr id="395" name="Прямая со стрелкой 6"/>
            <p:cNvCxnSpPr/>
            <p:nvPr/>
          </p:nvCxnSpPr>
          <p:spPr>
            <a:xfrm>
              <a:off x="6608160" y="1419120"/>
              <a:ext cx="1080" cy="721440"/>
            </a:xfrm>
            <a:prstGeom prst="straightConnector1">
              <a:avLst/>
            </a:prstGeom>
            <a:ln w="9360">
              <a:solidFill>
                <a:srgbClr val="1c527f"/>
              </a:solidFill>
              <a:miter/>
              <a:tailEnd len="med" type="triangle" w="med"/>
            </a:ln>
          </p:spPr>
        </p:cxnSp>
        <p:sp>
          <p:nvSpPr>
            <p:cNvPr id="396" name="Скругленный прямоугольник 8"/>
            <p:cNvSpPr/>
            <p:nvPr/>
          </p:nvSpPr>
          <p:spPr>
            <a:xfrm>
              <a:off x="5840280" y="2139840"/>
              <a:ext cx="2509920" cy="792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5840">
              <a:solidFill>
                <a:srgbClr val="1c52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c527f"/>
                  </a:solidFill>
                  <a:latin typeface="Segoe UI Light"/>
                  <a:ea typeface="Segoe UI Light"/>
                </a:rPr>
                <a:t>Отраслевые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7" name="Прямоугольник 9"/>
          <p:cNvSpPr/>
          <p:nvPr/>
        </p:nvSpPr>
        <p:spPr>
          <a:xfrm>
            <a:off x="971640" y="30970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527f"/>
                </a:solidFill>
                <a:latin typeface="Segoe UI Light"/>
                <a:ea typeface="Calibri"/>
              </a:rPr>
              <a:t>ЕС, НАФТА, СНГ и д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Прямоугольник 11"/>
          <p:cNvSpPr/>
          <p:nvPr/>
        </p:nvSpPr>
        <p:spPr>
          <a:xfrm>
            <a:off x="5867280" y="30607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527f"/>
                </a:solidFill>
                <a:latin typeface="Segoe UI Light"/>
                <a:ea typeface="Calibri"/>
              </a:rPr>
              <a:t>ОПЕК, ЕОУС,ЕВРАТ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5T08:42:57Z</dcterms:created>
  <dc:creator>Пользователь</dc:creator>
  <dc:description/>
  <dc:language>en-US</dc:language>
  <cp:lastModifiedBy>Пользователь</cp:lastModifiedBy>
  <dcterms:modified xsi:type="dcterms:W3CDTF">2015-10-14T15:57:55Z</dcterms:modified>
  <cp:revision>278</cp:revision>
  <dc:subject/>
  <dc:title>Презентация PowerPoint</dc:title>
</cp:coreProperties>
</file>