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2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.png" ContentType="image/png"/>
  <Override PartName="/ppt/media/image12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4360" cy="3411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E6E0A-8471-42F0-A6D6-AAF9A2CF7B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262C0-DCC0-4031-A6AC-F4EE34A4F5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46985-3551-4273-849E-47749F79457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39A57-CF8D-488C-8EA1-079849ABEAE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482D4-3310-4E4E-BE79-DC1D3E905B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C577F-5D7E-4F42-8A8F-016C8F76D91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8A2C2-7347-46D6-8160-02D62BA0E89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4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66370-D547-45F2-8575-256335DD8DF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D1EAC-23EF-4644-AFCB-54FC50EACD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8F412-6495-4BE0-A1C7-3F3DC5BF9CE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1485C-3637-40B6-879E-9D5EF4778C6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8C54A-FE0B-4555-922F-804DA7A146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32012-1971-4CF7-9D54-F763DE1A693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A514C-2FA6-4FEE-AB75-DE779672553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1B857-0EF6-4484-85A2-3D5E666D233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8250F-56E0-4FFC-8819-93AB83CD1E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C8BC1-14F7-4F41-B510-3B23E92313E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D4913-FAB8-4E46-9276-85D5DAA10EA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56737-911E-4433-BC3E-8953B49FB0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7E7FA-CB78-4C15-89D3-D87683D3972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BA96B-3EA5-40BE-800D-2DABB9219C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27DA2-D596-4B06-A938-5CBD11167F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C7A98-68EA-4C9A-81A6-A48BF913AE0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3AF72-54A6-4887-9474-D981F07096E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3E088-221B-45CA-A9A6-B0055A76C0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BE23D-CD1B-4C4C-96AE-A7B464FF409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4ED99-2A41-40A0-8D13-27757F41D71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B8533-F137-47AB-AB9C-937C62712D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5BB80-8D93-47FA-8B15-841EA3C5459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405C2-C9DB-4C97-9731-04E26837B2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2530C-A62D-4CA1-AEAD-01579535805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861D9-B34D-4349-9C04-52B01D7FE7A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F1D4C-7DFC-49E2-84CB-5F68B6259D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5A565-59FA-401E-A8B5-02C35D2FD43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7C0F4-04F9-43A6-8F38-74CF656846D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F26F9-024A-4FC1-A56A-53CA4C5DD7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0149C-9313-4374-B323-D190661BB81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6F29F-AF39-4CE8-AEEF-0B0FD12F29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ED483-D109-4BC3-903A-6C9E0F1E66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DED68-B798-4BA4-86F1-E6FE9C895D6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2FD98-25F6-44D3-9623-14AEEE94DE8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628B-343E-4D4C-BDCE-1D04B440D6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A1A6-9318-44ED-A1F2-9B0380DF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27A8-DCAE-4280-B940-48B6699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8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14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8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14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D7F6-AE61-40BE-BEDC-53DF404511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95E51-D4F8-480C-8394-024F79AEE2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24CCC-2E77-44B4-97C1-67EA67EF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8D598-2D20-49C4-B94E-22FC0C80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42CB6-64CB-4C83-92CC-A0326E8B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FEB8C-E5D0-4A28-85BF-AAAA0830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840960"/>
            <a:ext cx="70074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FF036-3F75-41D9-8B97-258AB4C2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7320C-3668-402D-9384-5E13C2FF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0E6D-C91C-414F-948A-51737B75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24F54-01EF-4AA6-9040-8B9F4393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7E7E6-E4F0-49AF-85DE-F8EF170C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681F3-475B-43F0-B4E6-26F3CFD1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867B3-7E8B-4F75-95C4-988DCB5A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28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14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28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14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4FF83-7E91-4D20-9F9E-6E1440E1E9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422E-AAAF-45A2-8345-A71C2D11AA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D4DA-8EF9-4ECE-85F3-967CCD30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1412-BAA7-4FD9-808B-B31E73DE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72D4-5783-475B-BE08-D4E77D10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D363-914A-4CCA-BA15-65263D17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90BB6-6D66-42B1-AE52-1BA561C6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840960"/>
            <a:ext cx="70074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B684-92E3-4B75-BAAA-455DFFD7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D4B9-0052-4EBF-B5AA-6CAD2140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B3AF-A171-43F3-B663-7D203A18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DB29-62A6-4821-9DA5-46FDFDC6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4EEA-F8EC-4576-97F2-A2A6C17A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DF2E-02FB-41FF-9F5C-01549281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28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14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28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14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A937-ED03-4173-B528-A9E90B4E73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D1942-EC84-4D91-85BB-22C5484437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F0ABF-7749-443A-8660-69D0A8A4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FD6BE-7662-4FB2-B14C-2CD3FB92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7B30-F84D-4901-9EF0-4F648836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49CB7-7D1C-46CC-9AB6-D2DAA186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C7D6E-6919-4440-8CDF-606663CA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840960"/>
            <a:ext cx="70074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A0B89-97A2-4606-B5F9-1A51AC1C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BC6F8-CF2F-4515-B8D4-E295990E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5D8B7-9BF9-42FF-A2FA-D02244B8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F858D-5988-4ABE-BA63-C902A0DA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A6188-2689-4D08-A3D1-718473DC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84531-A8E5-4C15-B775-61E519C3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28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14200" y="23238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28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14200" y="4147200"/>
            <a:ext cx="217656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1CC64-EB36-400D-8AC4-926273F828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ACA9-AE58-4FF9-93AC-790D6251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840960"/>
            <a:ext cx="70074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0B8B-2E33-45B8-AB40-4494FFFC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B05B-A7FA-40B5-9377-79567A39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06480" y="41472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DDD73-DFA3-4040-9239-27B36854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06480" y="2323800"/>
            <a:ext cx="32986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47200"/>
            <a:ext cx="67597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7FB1-66A6-41F8-A851-E1DCB99D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8383"/>
            </a:gs>
            <a:gs pos="100000">
              <a:srgbClr val="cfcf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160880" y="-181800"/>
            <a:ext cx="17651160" cy="11196000"/>
            <a:chOff x="-4160880" y="-181800"/>
            <a:chExt cx="17651160" cy="11196000"/>
          </a:xfrm>
        </p:grpSpPr>
        <p:grpSp>
          <p:nvGrpSpPr>
            <p:cNvPr id="1" name=""/>
            <p:cNvGrpSpPr/>
            <p:nvPr/>
          </p:nvGrpSpPr>
          <p:grpSpPr>
            <a:xfrm>
              <a:off x="-3128760" y="-144720"/>
              <a:ext cx="15508800" cy="10715040"/>
              <a:chOff x="-3128760" y="-144720"/>
              <a:chExt cx="15508800" cy="10715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3128760" y="-144360"/>
                <a:ext cx="4247640" cy="10706040"/>
                <a:chOff x="-3128760" y="-144360"/>
                <a:chExt cx="4247640" cy="10706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-1574280" y="-144360"/>
                  <a:ext cx="269316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-3128760" y="-144360"/>
                  <a:ext cx="75312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-2737800" y="-144360"/>
                  <a:ext cx="127008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-2408400" y="-144360"/>
                <a:ext cx="4245480" cy="10706040"/>
                <a:chOff x="-2408400" y="-144360"/>
                <a:chExt cx="4245480" cy="107060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-856800" y="-144360"/>
                  <a:ext cx="269388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-2408400" y="-144360"/>
                  <a:ext cx="75276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-2022480" y="-144360"/>
                  <a:ext cx="127044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8136000" y="-144720"/>
                <a:ext cx="4244040" cy="10706040"/>
                <a:chOff x="8136000" y="-144720"/>
                <a:chExt cx="4244040" cy="10706040"/>
              </a:xfrm>
            </p:grpSpPr>
            <p:sp>
              <p:nvSpPr>
                <p:cNvPr id="11" name=""/>
                <p:cNvSpPr/>
                <p:nvPr/>
              </p:nvSpPr>
              <p:spPr>
                <a:xfrm rot="10800000">
                  <a:off x="8136000" y="-144720"/>
                  <a:ext cx="269604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 rot="10800000">
                  <a:off x="11626920" y="-144720"/>
                  <a:ext cx="75312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rot="10800000">
                  <a:off x="10725840" y="-144720"/>
                  <a:ext cx="1269720" cy="10706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"/>
              <p:cNvSpPr/>
              <p:nvPr/>
            </p:nvSpPr>
            <p:spPr>
              <a:xfrm>
                <a:off x="3342960" y="-144360"/>
                <a:ext cx="4768200" cy="1071468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87040" y="-144360"/>
                <a:ext cx="751320" cy="1071468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181240" y="-144360"/>
                <a:ext cx="1271520" cy="1071468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-3145320" y="7741800"/>
              <a:ext cx="15522480" cy="181224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3145320" y="5277960"/>
              <a:ext cx="15522480" cy="13698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-3168360" y="8685360"/>
              <a:ext cx="5078520" cy="18720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-3145320" y="8129880"/>
              <a:ext cx="15522480" cy="22878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00400" y="7889400"/>
              <a:ext cx="11846880" cy="266472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00000">
              <a:off x="1976400" y="4316040"/>
              <a:ext cx="2696040" cy="2150640"/>
            </a:xfrm>
            <a:prstGeom prst="hexagon">
              <a:avLst>
                <a:gd name="adj" fmla="val 3103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00000">
              <a:off x="3207960" y="6297480"/>
              <a:ext cx="2696400" cy="2152080"/>
            </a:xfrm>
            <a:prstGeom prst="hexagon">
              <a:avLst>
                <a:gd name="adj" fmla="val 31016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00000">
              <a:off x="3224520" y="2329920"/>
              <a:ext cx="2698200" cy="2150280"/>
            </a:xfrm>
            <a:prstGeom prst="hexagon">
              <a:avLst>
                <a:gd name="adj" fmla="val 3106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00000">
              <a:off x="1941840" y="348120"/>
              <a:ext cx="2696400" cy="2150280"/>
            </a:xfrm>
            <a:prstGeom prst="hexagon">
              <a:avLst>
                <a:gd name="adj" fmla="val 31041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00000">
              <a:off x="4470120" y="8268840"/>
              <a:ext cx="2700000" cy="2152080"/>
            </a:xfrm>
            <a:prstGeom prst="hexagon">
              <a:avLst>
                <a:gd name="adj" fmla="val 3105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00000">
              <a:off x="-3765600" y="6420240"/>
              <a:ext cx="2119680" cy="214740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"/>
            <p:cNvSpPr/>
            <p:nvPr/>
          </p:nvSpPr>
          <p:spPr>
            <a:xfrm rot="1800000">
              <a:off x="-3073680" y="8300880"/>
              <a:ext cx="2694600" cy="2150280"/>
            </a:xfrm>
            <a:prstGeom prst="hexagon">
              <a:avLst>
                <a:gd name="adj" fmla="val 31021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"/>
            <p:cNvSpPr/>
            <p:nvPr/>
          </p:nvSpPr>
          <p:spPr>
            <a:xfrm rot="1800000">
              <a:off x="-3021840" y="4299480"/>
              <a:ext cx="2696040" cy="2150640"/>
            </a:xfrm>
            <a:prstGeom prst="hexagon">
              <a:avLst>
                <a:gd name="adj" fmla="val 3103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"/>
            <p:cNvSpPr/>
            <p:nvPr/>
          </p:nvSpPr>
          <p:spPr>
            <a:xfrm rot="1800000">
              <a:off x="-1796760" y="6297120"/>
              <a:ext cx="2696040" cy="2152080"/>
            </a:xfrm>
            <a:prstGeom prst="hexagon">
              <a:avLst>
                <a:gd name="adj" fmla="val 31012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"/>
            <p:cNvSpPr/>
            <p:nvPr/>
          </p:nvSpPr>
          <p:spPr>
            <a:xfrm rot="1800000">
              <a:off x="-549720" y="8315640"/>
              <a:ext cx="2696040" cy="2150280"/>
            </a:xfrm>
            <a:prstGeom prst="hexagon">
              <a:avLst>
                <a:gd name="adj" fmla="val 31037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00000">
              <a:off x="-515160" y="4312800"/>
              <a:ext cx="2698200" cy="2150280"/>
            </a:xfrm>
            <a:prstGeom prst="hexagon">
              <a:avLst>
                <a:gd name="adj" fmla="val 3106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00000">
              <a:off x="-1761840" y="2289600"/>
              <a:ext cx="2694600" cy="2152080"/>
            </a:xfrm>
            <a:prstGeom prst="hexagon">
              <a:avLst>
                <a:gd name="adj" fmla="val 309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00000">
              <a:off x="8455320" y="6337440"/>
              <a:ext cx="2694960" cy="2152080"/>
            </a:xfrm>
            <a:prstGeom prst="hexagon">
              <a:avLst>
                <a:gd name="adj" fmla="val 31028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00000">
              <a:off x="9718920" y="8334000"/>
              <a:ext cx="2694600" cy="2150640"/>
            </a:xfrm>
            <a:prstGeom prst="hexagon">
              <a:avLst>
                <a:gd name="adj" fmla="val 3104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00000">
              <a:off x="9716760" y="4335840"/>
              <a:ext cx="2696400" cy="21520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00000">
              <a:off x="11005200" y="6188040"/>
              <a:ext cx="2086200" cy="214740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00000">
              <a:off x="11011680" y="2205000"/>
              <a:ext cx="2079720" cy="2152080"/>
            </a:xfrm>
            <a:prstGeom prst="pie">
              <a:avLst/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cap="sq"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600" y="219240"/>
            <a:ext cx="2116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1840" y="5850000"/>
            <a:ext cx="35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4649400" y="219240"/>
            <a:ext cx="13143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C9615-F90E-4BDE-B51D-D4DC738B39D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8383"/>
            </a:gs>
            <a:gs pos="100000">
              <a:srgbClr val="cfcf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-4236120" y="-175680"/>
            <a:ext cx="17636400" cy="11160000"/>
            <a:chOff x="-4236120" y="-175680"/>
            <a:chExt cx="17636400" cy="11160000"/>
          </a:xfrm>
        </p:grpSpPr>
        <p:grpSp>
          <p:nvGrpSpPr>
            <p:cNvPr id="84" name=""/>
            <p:cNvGrpSpPr/>
            <p:nvPr/>
          </p:nvGrpSpPr>
          <p:grpSpPr>
            <a:xfrm>
              <a:off x="-3201840" y="-139680"/>
              <a:ext cx="15489000" cy="10684800"/>
              <a:chOff x="-3201840" y="-139680"/>
              <a:chExt cx="15489000" cy="10684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-3201840" y="-139680"/>
                <a:ext cx="4240080" cy="10676160"/>
                <a:chOff x="-3201840" y="-139680"/>
                <a:chExt cx="4240080" cy="10676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-1648440" y="-139680"/>
                  <a:ext cx="26866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-3201840" y="-139680"/>
                  <a:ext cx="7531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-2814120" y="-139680"/>
                  <a:ext cx="12682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-2483640" y="-139680"/>
                <a:ext cx="4241880" cy="10676160"/>
                <a:chOff x="-2483640" y="-139680"/>
                <a:chExt cx="4241880" cy="106761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-936360" y="-139680"/>
                  <a:ext cx="26946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-2483640" y="-139680"/>
                  <a:ext cx="7542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-2098080" y="-139680"/>
                  <a:ext cx="127116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8047440" y="-139680"/>
                <a:ext cx="4239720" cy="10676160"/>
                <a:chOff x="8047440" y="-139680"/>
                <a:chExt cx="4239720" cy="10676160"/>
              </a:xfrm>
            </p:grpSpPr>
            <p:sp>
              <p:nvSpPr>
                <p:cNvPr id="94" name=""/>
                <p:cNvSpPr/>
                <p:nvPr/>
              </p:nvSpPr>
              <p:spPr>
                <a:xfrm rot="10800000">
                  <a:off x="8047440" y="-139680"/>
                  <a:ext cx="269424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10800000">
                  <a:off x="11534760" y="-139680"/>
                  <a:ext cx="7524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10800000">
                  <a:off x="10633680" y="-139680"/>
                  <a:ext cx="12679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3263760" y="-139680"/>
                <a:ext cx="476028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09640" y="-139680"/>
                <a:ext cx="7477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00240" y="-139680"/>
                <a:ext cx="12715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-3223080" y="7727760"/>
              <a:ext cx="15503040" cy="180648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3223080" y="5274000"/>
              <a:ext cx="15503040" cy="13626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3245040" y="8670960"/>
              <a:ext cx="5077800" cy="186624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3223080" y="8110440"/>
              <a:ext cx="15503040" cy="22827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0120" y="7871760"/>
              <a:ext cx="11831040" cy="26589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800000">
              <a:off x="188928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800000">
              <a:off x="31226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800000">
              <a:off x="3137760" y="2329920"/>
              <a:ext cx="2698920" cy="2146320"/>
            </a:xfrm>
            <a:prstGeom prst="hexagon">
              <a:avLst>
                <a:gd name="adj" fmla="val 31128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800000">
              <a:off x="1860840" y="35388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800000">
              <a:off x="4387320" y="8251200"/>
              <a:ext cx="2696040" cy="2146680"/>
            </a:xfrm>
            <a:prstGeom prst="hexagon">
              <a:avLst>
                <a:gd name="adj" fmla="val 31089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800000">
              <a:off x="-3841920" y="6409440"/>
              <a:ext cx="2116080" cy="2143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800000">
              <a:off x="-3149640" y="8281080"/>
              <a:ext cx="2692800" cy="2144880"/>
            </a:xfrm>
            <a:prstGeom prst="hexagon">
              <a:avLst>
                <a:gd name="adj" fmla="val 31078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800000">
              <a:off x="-3099960" y="4295880"/>
              <a:ext cx="2694240" cy="2146320"/>
            </a:xfrm>
            <a:prstGeom prst="hexagon">
              <a:avLst>
                <a:gd name="adj" fmla="val 3107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800000">
              <a:off x="-18698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800000">
              <a:off x="-628560" y="8298000"/>
              <a:ext cx="2697480" cy="2144880"/>
            </a:xfrm>
            <a:prstGeom prst="hexagon">
              <a:avLst>
                <a:gd name="adj" fmla="val 31132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00000">
              <a:off x="-59472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800000">
              <a:off x="-1839960" y="2288520"/>
              <a:ext cx="2697480" cy="2145240"/>
            </a:xfrm>
            <a:prstGeom prst="hexagon">
              <a:avLst>
                <a:gd name="adj" fmla="val 31127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800000">
              <a:off x="8366760" y="63169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00000">
              <a:off x="9628200" y="83113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800000">
              <a:off x="9628200" y="432468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800000">
              <a:off x="10916640" y="6182280"/>
              <a:ext cx="2087640" cy="2143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800000">
              <a:off x="10918440" y="2205360"/>
              <a:ext cx="2082240" cy="2144880"/>
            </a:xfrm>
            <a:prstGeom prst="pie">
              <a:avLst/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cap="sq"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3"/>
          </p:nvPr>
        </p:nvSpPr>
        <p:spPr>
          <a:xfrm>
            <a:off x="4738680" y="1515960"/>
            <a:ext cx="21160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efefe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Arial"/>
                <a:ea typeface="Segoe U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4"/>
          </p:nvPr>
        </p:nvSpPr>
        <p:spPr>
          <a:xfrm>
            <a:off x="4649760" y="5718240"/>
            <a:ext cx="62568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53548a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C2DCD8A-1D03-495E-B768-6DC20D98EC18}" type="slidenum">
              <a:rPr b="0" lang="ru-RU" sz="1200" spc="-1" strike="noStrike">
                <a:solidFill>
                  <a:srgbClr val="53548a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8383"/>
            </a:gs>
            <a:gs pos="100000">
              <a:srgbClr val="cfcf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-4236120" y="-175680"/>
            <a:ext cx="17636400" cy="11160000"/>
            <a:chOff x="-4236120" y="-175680"/>
            <a:chExt cx="17636400" cy="11160000"/>
          </a:xfrm>
        </p:grpSpPr>
        <p:grpSp>
          <p:nvGrpSpPr>
            <p:cNvPr id="168" name=""/>
            <p:cNvGrpSpPr/>
            <p:nvPr/>
          </p:nvGrpSpPr>
          <p:grpSpPr>
            <a:xfrm>
              <a:off x="-3201840" y="-139680"/>
              <a:ext cx="15489000" cy="10684800"/>
              <a:chOff x="-3201840" y="-139680"/>
              <a:chExt cx="15489000" cy="106848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-3201840" y="-139680"/>
                <a:ext cx="4240080" cy="10676160"/>
                <a:chOff x="-3201840" y="-139680"/>
                <a:chExt cx="4240080" cy="106761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-1648440" y="-139680"/>
                  <a:ext cx="26866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-3201840" y="-139680"/>
                  <a:ext cx="7531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-2814120" y="-139680"/>
                  <a:ext cx="12682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-2483640" y="-139680"/>
                <a:ext cx="4241880" cy="10676160"/>
                <a:chOff x="-2483640" y="-139680"/>
                <a:chExt cx="4241880" cy="106761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-936360" y="-139680"/>
                  <a:ext cx="26946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-2483640" y="-139680"/>
                  <a:ext cx="7542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-2098080" y="-139680"/>
                  <a:ext cx="127116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8047440" y="-139680"/>
                <a:ext cx="4239720" cy="10676160"/>
                <a:chOff x="8047440" y="-139680"/>
                <a:chExt cx="4239720" cy="10676160"/>
              </a:xfrm>
            </p:grpSpPr>
            <p:sp>
              <p:nvSpPr>
                <p:cNvPr id="178" name=""/>
                <p:cNvSpPr/>
                <p:nvPr/>
              </p:nvSpPr>
              <p:spPr>
                <a:xfrm rot="10800000">
                  <a:off x="8047440" y="-139680"/>
                  <a:ext cx="269424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0800000">
                  <a:off x="11534760" y="-139680"/>
                  <a:ext cx="7524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0800000">
                  <a:off x="10633680" y="-139680"/>
                  <a:ext cx="12679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3263760" y="-139680"/>
                <a:ext cx="476028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09640" y="-139680"/>
                <a:ext cx="7477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00240" y="-139680"/>
                <a:ext cx="12715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-3223080" y="7727760"/>
              <a:ext cx="15503040" cy="180648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-3223080" y="5274000"/>
              <a:ext cx="15503040" cy="13626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3245040" y="8670960"/>
              <a:ext cx="5077800" cy="186624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-3223080" y="8110440"/>
              <a:ext cx="15503040" cy="22827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120" y="7871760"/>
              <a:ext cx="11831040" cy="26589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800000">
              <a:off x="188928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800000">
              <a:off x="31226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800000">
              <a:off x="3137760" y="2329920"/>
              <a:ext cx="2698920" cy="2146320"/>
            </a:xfrm>
            <a:prstGeom prst="hexagon">
              <a:avLst>
                <a:gd name="adj" fmla="val 31128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00000">
              <a:off x="1860840" y="35388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800000">
              <a:off x="4387320" y="8251200"/>
              <a:ext cx="2696040" cy="2146680"/>
            </a:xfrm>
            <a:prstGeom prst="hexagon">
              <a:avLst>
                <a:gd name="adj" fmla="val 31089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00000">
              <a:off x="-3841920" y="6409440"/>
              <a:ext cx="2116080" cy="2143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00000">
              <a:off x="-3149640" y="8281080"/>
              <a:ext cx="2692800" cy="2144880"/>
            </a:xfrm>
            <a:prstGeom prst="hexagon">
              <a:avLst>
                <a:gd name="adj" fmla="val 31078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00000">
              <a:off x="-3099960" y="4295880"/>
              <a:ext cx="2694240" cy="2146320"/>
            </a:xfrm>
            <a:prstGeom prst="hexagon">
              <a:avLst>
                <a:gd name="adj" fmla="val 3107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800000">
              <a:off x="-18698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800000">
              <a:off x="-628560" y="8298000"/>
              <a:ext cx="2697480" cy="2144880"/>
            </a:xfrm>
            <a:prstGeom prst="hexagon">
              <a:avLst>
                <a:gd name="adj" fmla="val 31132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800000">
              <a:off x="-59472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800000">
              <a:off x="-1839960" y="2288520"/>
              <a:ext cx="2697480" cy="2145240"/>
            </a:xfrm>
            <a:prstGeom prst="hexagon">
              <a:avLst>
                <a:gd name="adj" fmla="val 31127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0000">
              <a:off x="8366760" y="63169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800000">
              <a:off x="9628200" y="83113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800000">
              <a:off x="9628200" y="432468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00000">
              <a:off x="10916640" y="6182280"/>
              <a:ext cx="2087640" cy="2143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00000">
              <a:off x="10918440" y="2205360"/>
              <a:ext cx="2082240" cy="2144880"/>
            </a:xfrm>
            <a:prstGeom prst="pie">
              <a:avLst/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cap="sq"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5"/>
          </p:nvPr>
        </p:nvSpPr>
        <p:spPr>
          <a:xfrm>
            <a:off x="5997600" y="223920"/>
            <a:ext cx="211608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efe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6"/>
          </p:nvPr>
        </p:nvSpPr>
        <p:spPr>
          <a:xfrm>
            <a:off x="4649400" y="223920"/>
            <a:ext cx="1314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200" spc="-1" strike="noStrike">
                <a:solidFill>
                  <a:srgbClr val="fefefe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EB45CDB6-F175-470F-B27F-9971609AE963}" type="slidenum">
              <a:rPr b="0" lang="ru-RU" sz="1200" spc="-1" strike="noStrike">
                <a:solidFill>
                  <a:srgbClr val="fefefe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1840" y="5722920"/>
            <a:ext cx="34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8383"/>
            </a:gs>
            <a:gs pos="100000">
              <a:srgbClr val="cfcf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-4236120" y="-175680"/>
            <a:ext cx="17636400" cy="11160000"/>
            <a:chOff x="-4236120" y="-175680"/>
            <a:chExt cx="17636400" cy="11160000"/>
          </a:xfrm>
        </p:grpSpPr>
        <p:grpSp>
          <p:nvGrpSpPr>
            <p:cNvPr id="252" name=""/>
            <p:cNvGrpSpPr/>
            <p:nvPr/>
          </p:nvGrpSpPr>
          <p:grpSpPr>
            <a:xfrm>
              <a:off x="-3201840" y="-139680"/>
              <a:ext cx="15489000" cy="10684800"/>
              <a:chOff x="-3201840" y="-139680"/>
              <a:chExt cx="15489000" cy="1068480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-3201840" y="-139680"/>
                <a:ext cx="4240080" cy="10676160"/>
                <a:chOff x="-3201840" y="-139680"/>
                <a:chExt cx="4240080" cy="106761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-1648440" y="-139680"/>
                  <a:ext cx="26866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-3201840" y="-139680"/>
                  <a:ext cx="7531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-2814120" y="-139680"/>
                  <a:ext cx="126828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-2483640" y="-139680"/>
                <a:ext cx="4241880" cy="10676160"/>
                <a:chOff x="-2483640" y="-139680"/>
                <a:chExt cx="4241880" cy="106761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-936360" y="-139680"/>
                  <a:ext cx="26946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-2483640" y="-139680"/>
                  <a:ext cx="7542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-2098080" y="-139680"/>
                  <a:ext cx="127116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8047440" y="-139680"/>
                <a:ext cx="4239720" cy="10676160"/>
                <a:chOff x="8047440" y="-139680"/>
                <a:chExt cx="4239720" cy="10676160"/>
              </a:xfrm>
            </p:grpSpPr>
            <p:sp>
              <p:nvSpPr>
                <p:cNvPr id="262" name=""/>
                <p:cNvSpPr/>
                <p:nvPr/>
              </p:nvSpPr>
              <p:spPr>
                <a:xfrm rot="10800000">
                  <a:off x="8047440" y="-139680"/>
                  <a:ext cx="269424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0800000">
                  <a:off x="11534760" y="-139680"/>
                  <a:ext cx="75240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0800000">
                  <a:off x="10633680" y="-139680"/>
                  <a:ext cx="1267920" cy="106761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3263760" y="-139680"/>
                <a:ext cx="476028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709640" y="-139680"/>
                <a:ext cx="7477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00240" y="-139680"/>
                <a:ext cx="1271520" cy="106848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-3223080" y="7727760"/>
              <a:ext cx="15503040" cy="180648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3223080" y="5274000"/>
              <a:ext cx="15503040" cy="136260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3245040" y="8670960"/>
              <a:ext cx="5077800" cy="186624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3223080" y="8110440"/>
              <a:ext cx="15503040" cy="22827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0120" y="7871760"/>
              <a:ext cx="11831040" cy="2658960"/>
            </a:xfrm>
            <a:prstGeom prst="pie">
              <a:avLst/>
            </a:prstGeom>
            <a:noFill/>
            <a:ln cap="sq"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00000">
              <a:off x="188928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00000">
              <a:off x="31226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00000">
              <a:off x="3137760" y="2329920"/>
              <a:ext cx="2698920" cy="2146320"/>
            </a:xfrm>
            <a:prstGeom prst="hexagon">
              <a:avLst>
                <a:gd name="adj" fmla="val 31128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00000">
              <a:off x="1860840" y="35388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00000">
              <a:off x="4387320" y="8251200"/>
              <a:ext cx="2696040" cy="2146680"/>
            </a:xfrm>
            <a:prstGeom prst="hexagon">
              <a:avLst>
                <a:gd name="adj" fmla="val 31089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00000">
              <a:off x="-3841920" y="6409440"/>
              <a:ext cx="2116080" cy="2143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00000">
              <a:off x="-3149640" y="8281080"/>
              <a:ext cx="2692800" cy="2144880"/>
            </a:xfrm>
            <a:prstGeom prst="hexagon">
              <a:avLst>
                <a:gd name="adj" fmla="val 31078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00000">
              <a:off x="-3099960" y="4295880"/>
              <a:ext cx="2694240" cy="2146320"/>
            </a:xfrm>
            <a:prstGeom prst="hexagon">
              <a:avLst>
                <a:gd name="adj" fmla="val 3107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00000">
              <a:off x="-1869840" y="629172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00000">
              <a:off x="-628560" y="8298000"/>
              <a:ext cx="2697480" cy="2144880"/>
            </a:xfrm>
            <a:prstGeom prst="hexagon">
              <a:avLst>
                <a:gd name="adj" fmla="val 31132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00000">
              <a:off x="-594720" y="4310640"/>
              <a:ext cx="2694240" cy="2144880"/>
            </a:xfrm>
            <a:prstGeom prst="hexagon">
              <a:avLst>
                <a:gd name="adj" fmla="val 3109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00000">
              <a:off x="-1839960" y="2288520"/>
              <a:ext cx="2697480" cy="2145240"/>
            </a:xfrm>
            <a:prstGeom prst="hexagon">
              <a:avLst>
                <a:gd name="adj" fmla="val 31127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00000">
              <a:off x="8366760" y="63169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00000">
              <a:off x="9628200" y="831132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00000">
              <a:off x="9628200" y="4324680"/>
              <a:ext cx="2687400" cy="2144880"/>
            </a:xfrm>
            <a:prstGeom prst="hexagon">
              <a:avLst>
                <a:gd name="adj" fmla="val 31045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00000">
              <a:off x="10916640" y="6182280"/>
              <a:ext cx="2087640" cy="2143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00000">
              <a:off x="10918440" y="2205360"/>
              <a:ext cx="2082240" cy="2144880"/>
            </a:xfrm>
            <a:prstGeom prst="pie">
              <a:avLst/>
            </a:prstGeom>
            <a:noFill/>
            <a:ln cap="sq"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cap="sq"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cap="sq" w="3240">
            <a:solidFill>
              <a:srgbClr val="2122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840960"/>
            <a:ext cx="7007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5972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7"/>
          </p:nvPr>
        </p:nvSpPr>
        <p:spPr>
          <a:xfrm>
            <a:off x="5997600" y="223920"/>
            <a:ext cx="211608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efe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41840" y="5722920"/>
            <a:ext cx="34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8"/>
          </p:nvPr>
        </p:nvSpPr>
        <p:spPr>
          <a:xfrm>
            <a:off x="4649400" y="223920"/>
            <a:ext cx="1314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200" spc="-1" strike="noStrike">
                <a:solidFill>
                  <a:srgbClr val="fefefe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B027C145-D50A-40B3-84FB-0990DCBE1B5D}" type="slidenum">
              <a:rPr b="0" lang="ru-RU" sz="1200" spc="-1" strike="noStrike">
                <a:solidFill>
                  <a:srgbClr val="fefefe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572000" y="71280"/>
            <a:ext cx="3470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рушев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ьга Юрьевна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-логопед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школ № 355, 508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овского район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"/>
          <p:cNvSpPr/>
          <p:nvPr/>
        </p:nvSpPr>
        <p:spPr>
          <a:xfrm>
            <a:off x="4680000" y="331164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Музыкотерапия как здоровьесберегающая технолог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в коррекции нарушений реч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у младших школьник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09480" y="60948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28800" y="3643200"/>
            <a:ext cx="7367400" cy="2697120"/>
            <a:chOff x="928800" y="3643200"/>
            <a:chExt cx="7367400" cy="2697120"/>
          </a:xfrm>
        </p:grpSpPr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4695840" y="3643200"/>
              <a:ext cx="3600360" cy="2697120"/>
            </a:xfrm>
            <a:prstGeom prst="rect">
              <a:avLst/>
            </a:prstGeom>
            <a:ln cap="sq" w="9360">
              <a:solidFill>
                <a:srgbClr val="2b4a5e"/>
              </a:solidFill>
              <a:round/>
            </a:ln>
          </p:spPr>
        </p:pic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928800" y="3643200"/>
              <a:ext cx="3601800" cy="2697120"/>
            </a:xfrm>
            <a:prstGeom prst="rect">
              <a:avLst/>
            </a:prstGeom>
            <a:ln cap="sq" w="9360">
              <a:solidFill>
                <a:srgbClr val="2b4a5e"/>
              </a:solidFill>
              <a:round/>
            </a:ln>
          </p:spPr>
        </p:pic>
      </p:grpSp>
      <p:sp>
        <p:nvSpPr>
          <p:cNvPr id="399" name=""/>
          <p:cNvSpPr/>
          <p:nvPr/>
        </p:nvSpPr>
        <p:spPr>
          <a:xfrm>
            <a:off x="863640" y="936720"/>
            <a:ext cx="7429320" cy="100872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4043"/>
                </a:solidFill>
                <a:latin typeface="Times New Roman"/>
              </a:rPr>
              <a:t>При автоматизации изолированного звука </a:t>
            </a:r>
            <a:r>
              <a:rPr b="0" lang="ru-RU" sz="2000" spc="-1" strike="noStrike">
                <a:solidFill>
                  <a:srgbClr val="292a45"/>
                </a:solidFill>
                <a:latin typeface="Times New Roman"/>
              </a:rPr>
              <a:t>работа </a:t>
            </a:r>
            <a:br>
              <a:rPr sz="2000"/>
            </a:br>
            <a:r>
              <a:rPr b="0" lang="ru-RU" sz="2000" spc="-1" strike="noStrike">
                <a:solidFill>
                  <a:srgbClr val="292a45"/>
                </a:solidFill>
                <a:latin typeface="Times New Roman"/>
              </a:rPr>
              <a:t>пойдет быстрее, если связать его с музыкальными образам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92a45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292a45"/>
                </a:solidFill>
                <a:latin typeface="Times New Roman"/>
              </a:rPr>
              <a:t>«Самолеты заводят моторы» А. Жилин – автоматизация  Р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2413080"/>
            <a:ext cx="7358040" cy="100872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4043"/>
                </a:solidFill>
                <a:latin typeface="Times New Roman"/>
              </a:rPr>
              <a:t>Автоматизация звука в слогах, словах фразах и тексте </a:t>
            </a:r>
            <a:r>
              <a:rPr b="0" lang="ru-RU" sz="2000" spc="-1" strike="noStrike">
                <a:solidFill>
                  <a:srgbClr val="292a45"/>
                </a:solidFill>
                <a:latin typeface="Times New Roman"/>
              </a:rPr>
              <a:t>может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</a:rPr>
              <a:t>пройти успешнее, если подключить вокализацию и движение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92a45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292a45"/>
                </a:solidFill>
                <a:latin typeface="Times New Roman"/>
              </a:rPr>
              <a:t>«Заяц Егорка» - автоматизация звука Р в потешк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509840" y="714240"/>
            <a:ext cx="63482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92a4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92a45"/>
                </a:solidFill>
                <a:latin typeface="Times New Roman"/>
              </a:rPr>
              <a:t>Развитие связной реч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"/>
          <p:cNvSpPr/>
          <p:nvPr/>
        </p:nvSpPr>
        <p:spPr>
          <a:xfrm>
            <a:off x="1071720" y="1214280"/>
            <a:ext cx="7072200" cy="64296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ти делятся своими впечатлениями от музыкальных произведений, описывают  и сравнивают герое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"/>
          <p:cNvSpPr/>
          <p:nvPr/>
        </p:nvSpPr>
        <p:spPr>
          <a:xfrm>
            <a:off x="1085760" y="1968480"/>
            <a:ext cx="7058160" cy="222840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зируют  музыку, имеющую разное настроение и музыкальный характер, что актуализирует определенные лексико-семантические групп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дленная, напевная музыка - прилагательные и наречия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одрая, веселая музыка – глагол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инорная музыка развивает лексику грусти и печали,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жорная – радости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071720" y="4334040"/>
            <a:ext cx="7054560" cy="2077920"/>
            <a:chOff x="1071720" y="4334040"/>
            <a:chExt cx="7054560" cy="2077920"/>
          </a:xfrm>
        </p:grpSpPr>
        <p:grpSp>
          <p:nvGrpSpPr>
            <p:cNvPr id="405" name=""/>
            <p:cNvGrpSpPr/>
            <p:nvPr/>
          </p:nvGrpSpPr>
          <p:grpSpPr>
            <a:xfrm>
              <a:off x="4175280" y="4334040"/>
              <a:ext cx="3951000" cy="2077920"/>
              <a:chOff x="4175280" y="4334040"/>
              <a:chExt cx="3951000" cy="2077920"/>
            </a:xfrm>
          </p:grpSpPr>
          <p:pic>
            <p:nvPicPr>
              <p:cNvPr id="406" name="" descr=""/>
              <p:cNvPicPr/>
              <p:nvPr/>
            </p:nvPicPr>
            <p:blipFill>
              <a:blip r:embed="rId2"/>
              <a:srcRect l="0" t="1141" r="0" b="5303"/>
              <a:stretch/>
            </p:blipFill>
            <p:spPr>
              <a:xfrm>
                <a:off x="4175280" y="4334040"/>
                <a:ext cx="1701720" cy="2077920"/>
              </a:xfrm>
              <a:prstGeom prst="rect">
                <a:avLst/>
              </a:prstGeom>
              <a:ln cap="sq" w="9360">
                <a:solidFill>
                  <a:srgbClr val="2b4a5e"/>
                </a:solidFill>
                <a:miter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27840" y="4334040"/>
                <a:ext cx="2098440" cy="2077920"/>
              </a:xfrm>
              <a:prstGeom prst="rect">
                <a:avLst/>
              </a:prstGeom>
              <a:ln cap="sq" w="9360">
                <a:solidFill>
                  <a:srgbClr val="2b4a5e"/>
                </a:solidFill>
                <a:miter/>
              </a:ln>
            </p:spPr>
          </p:pic>
        </p:grpSp>
        <p:pic>
          <p:nvPicPr>
            <p:cNvPr id="408" name="" descr=""/>
            <p:cNvPicPr/>
            <p:nvPr/>
          </p:nvPicPr>
          <p:blipFill>
            <a:blip r:embed="rId4"/>
            <a:srcRect l="0" t="22167" r="0" b="16965"/>
            <a:stretch/>
          </p:blipFill>
          <p:spPr>
            <a:xfrm>
              <a:off x="1071720" y="4357800"/>
              <a:ext cx="2944800" cy="2054160"/>
            </a:xfrm>
            <a:prstGeom prst="rect">
              <a:avLst/>
            </a:prstGeom>
            <a:ln cap="sq" w="9360">
              <a:solidFill>
                <a:srgbClr val="2b4a5e"/>
              </a:solidFill>
              <a:miter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71680" y="714240"/>
            <a:ext cx="8229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</a:rPr>
              <a:t>Музыка и письмо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rcRect l="0" t="4731" r="0" b="0"/>
          <a:stretch/>
        </p:blipFill>
        <p:spPr>
          <a:xfrm>
            <a:off x="2357280" y="3429000"/>
            <a:ext cx="4357800" cy="287496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  <p:sp>
        <p:nvSpPr>
          <p:cNvPr id="411" name=""/>
          <p:cNvSpPr/>
          <p:nvPr/>
        </p:nvSpPr>
        <p:spPr>
          <a:xfrm>
            <a:off x="642960" y="1258920"/>
            <a:ext cx="7858080" cy="70380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Если выработать определенный ритм письма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но станет менее утомительным и более стабильным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"/>
          <p:cNvSpPr/>
          <p:nvPr/>
        </p:nvSpPr>
        <p:spPr>
          <a:xfrm>
            <a:off x="642960" y="2160720"/>
            <a:ext cx="7858080" cy="131364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Целесообразно подобрать музыку, позволяющую выработа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- внутренний ровный ритм у школьников с высокой скоростью письм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- естественное ускорение темпа у медлительных дете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7244" t="70073" r="37267" b="4836"/>
          <a:stretch/>
        </p:blipFill>
        <p:spPr>
          <a:xfrm>
            <a:off x="701640" y="4214880"/>
            <a:ext cx="1441440" cy="1357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6858000" y="3786120"/>
            <a:ext cx="150012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792000"/>
            <a:ext cx="9144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Таким образом,  использование музыкальных средств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в логопедической работе позволяет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значительно улучшить результативность коррекционной работы, </a:t>
            </a:r>
            <a:br>
              <a:rPr sz="2000"/>
            </a:b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разнообразить приемы и методы логопедического воздействия,      </a:t>
            </a:r>
            <a:br>
              <a:rPr sz="2000"/>
            </a:br>
            <a:r>
              <a:rPr b="1" lang="ru-RU" sz="2000" spc="-1" strike="noStrike" u="sng">
                <a:solidFill>
                  <a:srgbClr val="292a45"/>
                </a:solidFill>
                <a:uFillTx/>
                <a:latin typeface="Times New Roman"/>
                <a:ea typeface="Times New Roman"/>
              </a:rPr>
              <a:t>          а также  способствует оздоровлению детей.           </a:t>
            </a:r>
            <a:r>
              <a:rPr b="1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2735280" y="3384720"/>
            <a:ext cx="2519280" cy="217944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  <p:pic>
        <p:nvPicPr>
          <p:cNvPr id="417" name="" descr=""/>
          <p:cNvPicPr/>
          <p:nvPr/>
        </p:nvPicPr>
        <p:blipFill>
          <a:blip r:embed="rId3"/>
          <a:srcRect l="57804" t="0" r="18346" b="80456"/>
          <a:stretch/>
        </p:blipFill>
        <p:spPr>
          <a:xfrm>
            <a:off x="4987800" y="4319640"/>
            <a:ext cx="15638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00720" y="428760"/>
            <a:ext cx="3713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193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rcRect l="2693" t="0" r="4775" b="0"/>
          <a:stretch/>
        </p:blipFill>
        <p:spPr>
          <a:xfrm>
            <a:off x="4643280" y="3071880"/>
            <a:ext cx="3500640" cy="283356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44360" y="6357960"/>
            <a:ext cx="899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"/>
          <p:cNvSpPr/>
          <p:nvPr/>
        </p:nvSpPr>
        <p:spPr>
          <a:xfrm>
            <a:off x="928800" y="3143160"/>
            <a:ext cx="583236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"/>
          <p:cNvSpPr/>
          <p:nvPr/>
        </p:nvSpPr>
        <p:spPr>
          <a:xfrm>
            <a:off x="1042920" y="285840"/>
            <a:ext cx="70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3548a"/>
                </a:solidFill>
                <a:latin typeface="Times New Roman"/>
                <a:ea typeface="Microsoft YaHei"/>
              </a:rPr>
              <a:t>Актуальность выбранного  направл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"/>
          <p:cNvSpPr/>
          <p:nvPr/>
        </p:nvSpPr>
        <p:spPr>
          <a:xfrm>
            <a:off x="714240" y="1857240"/>
            <a:ext cx="7643880" cy="150048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За последние 5 лет значительно возросло количество детей, имеющих хронические заболевания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Это связано с социальными проблемами, экологическими факторами, уменьшением двигательной активности детей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"/>
          <p:cNvSpPr/>
          <p:nvPr/>
        </p:nvSpPr>
        <p:spPr>
          <a:xfrm>
            <a:off x="714240" y="3714840"/>
            <a:ext cx="7643880" cy="178596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охранение и укрепление здоровья детей в процессе воспитания  и обучения - одна из важнейших задач стоящих перед логопедом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Для детей с нарушениями речи это особенно значимо, поскольку эти дети соматически ослаблены, могут иметь хронические заболевания, нарушения в эмоционально-волевой  сфер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7215120" y="5143680"/>
            <a:ext cx="1071720" cy="13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714240"/>
            <a:ext cx="80344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Психолого-педагогические особенности детей 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 нарушениями реч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"/>
          <p:cNvSpPr/>
          <p:nvPr/>
        </p:nvSpPr>
        <p:spPr>
          <a:xfrm>
            <a:off x="1419120" y="2319480"/>
            <a:ext cx="6500880" cy="192852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имание неустойчиво, слабо сформировано произвольное внимани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ъем памяти сужен по сравнению с нормой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ены способности к абстрагированию, обобщению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зок уровень контроля за собственной деятельностью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ти быстро утомляем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042920" y="142920"/>
            <a:ext cx="70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Задачи, стоящие перед логопедом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"/>
          <p:cNvSpPr/>
          <p:nvPr/>
        </p:nvSpPr>
        <p:spPr>
          <a:xfrm>
            <a:off x="642960" y="1500120"/>
            <a:ext cx="7929720" cy="85716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292a45"/>
              </a:buClr>
              <a:buSzPct val="76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Повысить результативность воспитательно-образовательного  процесса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/>
          <p:nvPr/>
        </p:nvSpPr>
        <p:spPr>
          <a:xfrm>
            <a:off x="642960" y="2571840"/>
            <a:ext cx="7929720" cy="50004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92a45"/>
              </a:buClr>
              <a:buSzPct val="76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охранить и укрепить здоровье воспитанников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"/>
          <p:cNvSpPr/>
          <p:nvPr/>
        </p:nvSpPr>
        <p:spPr>
          <a:xfrm>
            <a:off x="642960" y="3286080"/>
            <a:ext cx="7929720" cy="85716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92a45"/>
              </a:buClr>
              <a:buSzPct val="76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тимулировать работоспособность, способствовать  восстановлению сил, снятию напряжения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/>
          <p:nvPr/>
        </p:nvSpPr>
        <p:spPr>
          <a:xfrm>
            <a:off x="642960" y="4429080"/>
            <a:ext cx="7929720" cy="92880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92a45"/>
              </a:buClr>
              <a:buSzPct val="76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оздать благоприятную психоэмоциональную атмосферу, поддержать психологическое здоровье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"/>
          <p:cNvSpPr/>
          <p:nvPr/>
        </p:nvSpPr>
        <p:spPr>
          <a:xfrm>
            <a:off x="642960" y="5572080"/>
            <a:ext cx="7929720" cy="571680"/>
          </a:xfrm>
          <a:prstGeom prst="rect">
            <a:avLst/>
          </a:prstGeom>
          <a:noFill/>
          <a:ln cap="sq" w="936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92a45"/>
              </a:buClr>
              <a:buSzPct val="76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Пропагандировать здоровый образ жизни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214280" y="2449440"/>
            <a:ext cx="6786720" cy="344808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, артикуляционная и пальчиковая гимнастик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ля глаз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гимнастик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отерап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"/>
          <p:cNvSpPr/>
          <p:nvPr/>
        </p:nvSpPr>
        <p:spPr>
          <a:xfrm>
            <a:off x="1214280" y="125892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Приемы здоровьесберегающей технологии 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на логопедических занятия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rcRect l="32110" t="4123" r="44962" b="80545"/>
          <a:stretch/>
        </p:blipFill>
        <p:spPr>
          <a:xfrm>
            <a:off x="5834160" y="4786200"/>
            <a:ext cx="2023920" cy="1214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4857840" y="30718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3786120" y="3071880"/>
            <a:ext cx="928800" cy="4586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7429680" y="1428840"/>
            <a:ext cx="742680" cy="11714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809640" y="2000160"/>
            <a:ext cx="69048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28760" y="642960"/>
            <a:ext cx="82850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Музыка 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в коррекционном процесс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"/>
          <p:cNvSpPr/>
          <p:nvPr/>
        </p:nvSpPr>
        <p:spPr>
          <a:xfrm>
            <a:off x="642960" y="1643040"/>
            <a:ext cx="7858080" cy="78588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узыка значительно обогащает представления  ребенка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сложном материальном и социальном мир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"/>
          <p:cNvSpPr/>
          <p:nvPr/>
        </p:nvSpPr>
        <p:spPr>
          <a:xfrm>
            <a:off x="642960" y="2786040"/>
            <a:ext cx="7858080" cy="78588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могает эффективно добиваться координации различных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делов системы речеобразован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"/>
          <p:cNvSpPr/>
          <p:nvPr/>
        </p:nvSpPr>
        <p:spPr>
          <a:xfrm>
            <a:off x="642960" y="3929040"/>
            <a:ext cx="7858080" cy="71424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0c22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ствует развитию слухового восприятия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сихомоторики   и ритмического чувст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"/>
          <p:cNvSpPr/>
          <p:nvPr/>
        </p:nvSpPr>
        <p:spPr>
          <a:xfrm>
            <a:off x="642960" y="4929120"/>
            <a:ext cx="7858080" cy="50004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тимизирует процесс  коррекции реч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"/>
          <p:cNvSpPr/>
          <p:nvPr/>
        </p:nvSpPr>
        <p:spPr>
          <a:xfrm>
            <a:off x="642960" y="5786280"/>
            <a:ext cx="7858080" cy="42876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ствует улучшению общего эмоционального состояния дете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57960" y="3925800"/>
            <a:ext cx="2143080" cy="150336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428760" y="500040"/>
            <a:ext cx="1857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1280" y="679320"/>
            <a:ext cx="91440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Виды работы над речью 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 использованием музык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"/>
          <p:cNvSpPr/>
          <p:nvPr/>
        </p:nvSpPr>
        <p:spPr>
          <a:xfrm>
            <a:off x="1357200" y="1643040"/>
            <a:ext cx="6643800" cy="159372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Логопедическая ритмика.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результате решения оздоровительных задач у детей с речевыми нарушениям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укрепляется костно-мышечный аппарат,</a:t>
            </a: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 развиваются дыхание, моторные, сенсорные функции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воспитывается чувство равновесия, правильная осанка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rcRect l="0" t="7961" r="0" b="0"/>
          <a:stretch/>
        </p:blipFill>
        <p:spPr>
          <a:xfrm>
            <a:off x="3429000" y="4500720"/>
            <a:ext cx="2786040" cy="192852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  <p:sp>
        <p:nvSpPr>
          <p:cNvPr id="387" name=""/>
          <p:cNvSpPr/>
          <p:nvPr/>
        </p:nvSpPr>
        <p:spPr>
          <a:xfrm>
            <a:off x="1357200" y="3357720"/>
            <a:ext cx="6643800" cy="100008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Пение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особствует выработке правильного дыхания, звукообразования, голосообразования, </a:t>
            </a: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лагоприятно действует на бронхо-легочную систему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7168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Приемы работы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по постановке и автоматизации звуко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"/>
          <p:cNvSpPr/>
          <p:nvPr/>
        </p:nvSpPr>
        <p:spPr>
          <a:xfrm>
            <a:off x="714240" y="2000160"/>
            <a:ext cx="4714920" cy="442908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b4a5e"/>
                </a:solidFill>
                <a:latin typeface="Times New Roman"/>
                <a:ea typeface="Times New Roman"/>
              </a:rPr>
              <a:t>Артикуляторно-музыкальные комплексы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уют навык переключения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 одного движения на другое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 разных темпах и ритма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лучшают кровоснабжение артикуляционных органов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их иннервацию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 веселая песня повышает активность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рустная - астенизирует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Улыбка» В.Шаинский, </a:t>
            </a:r>
            <a:br>
              <a:rPr sz="2000"/>
            </a:b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имнастика для губ и язык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rcRect l="22681" t="0" r="7728" b="0"/>
          <a:stretch/>
        </p:blipFill>
        <p:spPr>
          <a:xfrm>
            <a:off x="5708520" y="2448000"/>
            <a:ext cx="2571840" cy="273348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00040" y="7858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Работа по формированию у детей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 физиологического, а затем и речевого дыхания проводится на материале музыкальных произведений </a:t>
            </a:r>
            <a:br>
              <a:rPr sz="2400"/>
            </a:br>
            <a:r>
              <a:rPr b="1" lang="ru-RU" sz="24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 четкой фразировко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"/>
          <p:cNvSpPr/>
          <p:nvPr/>
        </p:nvSpPr>
        <p:spPr>
          <a:xfrm>
            <a:off x="642960" y="2786040"/>
            <a:ext cx="3500280" cy="3500640"/>
          </a:xfrm>
          <a:prstGeom prst="rect">
            <a:avLst/>
          </a:prstGeom>
          <a:noFill/>
          <a:ln cap="sq" w="9360">
            <a:solidFill>
              <a:srgbClr val="2b4a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Упражнения дыхательной гимнастики направлены </a:t>
            </a:r>
            <a:br>
              <a:rPr sz="2000"/>
            </a:b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на закрепление навыков диафрагмально – речевого дыхания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92a45"/>
                </a:solidFill>
                <a:latin typeface="Times New Roman"/>
                <a:ea typeface="Times New Roman"/>
              </a:rPr>
              <a:t>Способствуют развитию и укреплению грудной клетки, насыщает организм кислородо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. Штраус «Вальс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292640" y="2786040"/>
            <a:ext cx="4280040" cy="3500640"/>
          </a:xfrm>
          <a:prstGeom prst="rect">
            <a:avLst/>
          </a:prstGeom>
          <a:ln cap="sq" w="9360">
            <a:solidFill>
              <a:srgbClr val="2b4a5e"/>
            </a:solidFill>
            <a:round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0" t="22685" r="61483" b="48468"/>
          <a:stretch/>
        </p:blipFill>
        <p:spPr>
          <a:xfrm>
            <a:off x="5643720" y="235728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мануэль</dc:creator>
  <dc:description/>
  <dc:language>en-US</dc:language>
  <cp:lastModifiedBy>IRBIS</cp:lastModifiedBy>
  <dcterms:modified xsi:type="dcterms:W3CDTF">2014-04-20T12:06:26Z</dcterms:modified>
  <cp:revision>368</cp:revision>
  <dc:subject/>
  <dc:title>Презентация PowerPoint</dc:title>
</cp:coreProperties>
</file>