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2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6178-C8F6-4787-9809-0D58B5E3AD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9A7F6-07EF-4CD9-9E4D-4E578DCA81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EA12A-B757-4124-988A-64A99598CF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94060-81F1-4C15-B9BB-D3B1A1967D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41C3A-1E9F-4ACC-ADE7-D1655F480F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7C9D-8E03-46E4-8ABA-7BD7530F6B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50EE7-1502-48B8-85F4-1584644A2F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8CF0-DD34-4E40-BCAD-217450FBFE8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41A8C-E4E7-4B37-BA85-93671B170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0079B-B746-4C88-A63A-012B34B71B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4FEA-D577-41E7-81C1-5EFBFDFDBE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F562B-142E-4950-A450-4E90DEB1A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44D80-213B-46A9-AAAF-1916DFB9A3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D6FF1-B74C-4494-B346-618291483D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6725E-0DCB-4F13-9F81-5B8751DBEF7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C72F3-DC59-4C06-9DF9-22A6B392C1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933F7-A6B4-4D5D-8227-CFB9B5AA81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C2994-0092-49A5-AD6D-2A9DCB86AF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1FAC-FF8E-4AAE-A0BC-F2D345895D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1431-CCB7-4303-A900-7B04210A92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ABD71-9B5D-4FF3-B408-CFD81C56A1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104B2-B408-4B8C-BCF8-8E27265F4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7C099-FB83-4381-805B-5FD4E66E30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62B4-A31D-4983-9613-C1405165D8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69815-B638-494F-8DD8-0AA2A04205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E9D42-E4CB-4CD7-B471-DE26B4D0286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142A8-78E9-4309-8F41-41E205320F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27BD-E83F-4DAB-8D43-37A223A991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7AD6C-F692-4C8C-862F-124C4D2FDE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5B00-90B3-4B6B-BDC4-3594741C23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A7A0-D0A2-4863-8247-BC8BBD0641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2E2AD-B2A1-4E51-8ED1-631886542C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96AF8-3F3E-4F39-A731-41FF47FAF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A7F3E-BEDB-4DF4-90CB-DBE47B54BCB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DB5AC-CA1A-402D-AE1F-6EBE9B2AF8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F514F-29D1-4C10-9941-A6A51FADD8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105BA-C365-4F40-9545-608A5A73C84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60C2-3CEF-4D57-AD25-DFA56AAC8D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1B88-4616-4BCF-8A50-F8CAAD5C3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D3610-D7FF-4B21-A92C-99328BF74E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5CA0-4E6A-450E-8550-7BAECF1113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C90E-98E1-48BA-BCC9-EA9D3C525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5794-8669-4FCD-BC5C-53B72B8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82F4-13BF-4822-ADD4-0B0C39F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CE71-D6B4-488D-86F4-91E69556D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F7A6F-57DA-40B3-B9F2-A732126DC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E4BFE-0F2F-4DB1-A2AF-F96ED53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4CC83-A9BA-402E-B879-9AEEDDB5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193B-7AD0-4A5A-ACCE-DCCDCC8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FF41-CC4E-4E57-8FD6-F8FCAEFC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9FEF4-8A46-43E9-8C7A-B3E7C42D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F70A-CE35-46F5-9815-F507408B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9982-A9FA-41A0-B3A8-C20964CC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33639-9CF3-4BB4-B057-960F46F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AAC5-111D-40A6-8793-4FB663C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15D8-6955-4945-918D-728EEC8D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33F23-9427-49E1-875A-AB1EE82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CCBE6-81BA-4F79-80B2-4012EC2A17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A60D-CD2E-4082-B67B-EAD2AF78E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DEA7-3E59-4326-B2E2-7046756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CFB3-0857-4927-B71F-DB6B429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EA5F-E79F-421D-9A07-A53BABBD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963E-BB31-4468-BFED-41F98A7D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DA41-F3F2-4CEC-B28C-9957A02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0BCB-3264-4551-8084-D910024C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9E7D-DD0D-4204-BF54-F1876EA5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D5A-B3F6-497E-931D-59C58242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455-41EE-4607-9BA2-70CA5B00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E2A-1F71-4476-8A84-2FDDE1DA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D9BC-4A28-4AD9-8556-3C10DD3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3AD-63D1-4C07-882B-4FB9B11E7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55E0B-DA1B-4280-977B-B836AA3BF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904A1-B04A-452C-81FB-F0E0F69F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7BFC1-235E-4BC2-8249-D8090145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CB99-E567-490E-993C-AFCE3881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7CF53-DD77-47AB-881F-61970E6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EA443-9A8C-4845-B8F1-191E1CD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1CCC6-24AB-4BF9-9169-10ABD3CC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B477D-80DB-4A1D-8E69-325790A9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2831A-CDA2-4A1E-B047-CC27A1D5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BF685-7E5D-447E-BF88-81C1AC3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5E353-45DD-4F75-BF70-077D29C9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F40B3-5FDA-43BA-9AEE-85BDE97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4E1D2-46DA-4BF9-9BDF-C943D670B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2F9F-7F6B-4A57-8AB4-858302C1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1C18-F57F-4595-8CE8-2846F40E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3BB2-77A3-4979-A6AF-17B38C7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3B28-67F1-4667-B1DA-C4180E6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4E4D-B58A-41A6-B76F-8FCD35C3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160880" y="-181800"/>
            <a:ext cx="17651160" cy="11196000"/>
            <a:chOff x="-4160880" y="-181800"/>
            <a:chExt cx="17651160" cy="11196000"/>
          </a:xfrm>
        </p:grpSpPr>
        <p:grpSp>
          <p:nvGrpSpPr>
            <p:cNvPr id="1" name=""/>
            <p:cNvGrpSpPr/>
            <p:nvPr/>
          </p:nvGrpSpPr>
          <p:grpSpPr>
            <a:xfrm>
              <a:off x="-3128760" y="-144720"/>
              <a:ext cx="15508800" cy="10715040"/>
              <a:chOff x="-3128760" y="-144720"/>
              <a:chExt cx="15508800" cy="10715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3128760" y="-144360"/>
                <a:ext cx="4247640" cy="10706040"/>
                <a:chOff x="-3128760" y="-144360"/>
                <a:chExt cx="4247640" cy="10706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-1574280" y="-144360"/>
                  <a:ext cx="269316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-3128760" y="-144360"/>
                  <a:ext cx="7531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-2737800" y="-144360"/>
                  <a:ext cx="127008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-2408400" y="-144360"/>
                <a:ext cx="4245480" cy="10706040"/>
                <a:chOff x="-2408400" y="-144360"/>
                <a:chExt cx="4245480" cy="107060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-856800" y="-144360"/>
                  <a:ext cx="269388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-2408400" y="-144360"/>
                  <a:ext cx="75276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-2022480" y="-144360"/>
                  <a:ext cx="127044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8136000" y="-144720"/>
                <a:ext cx="4244040" cy="10706040"/>
                <a:chOff x="8136000" y="-144720"/>
                <a:chExt cx="4244040" cy="10706040"/>
              </a:xfrm>
            </p:grpSpPr>
            <p:sp>
              <p:nvSpPr>
                <p:cNvPr id="11" name=""/>
                <p:cNvSpPr/>
                <p:nvPr/>
              </p:nvSpPr>
              <p:spPr>
                <a:xfrm rot="10800000">
                  <a:off x="8136000" y="-144720"/>
                  <a:ext cx="269604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0800000">
                  <a:off x="11626920" y="-144720"/>
                  <a:ext cx="7531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0800000">
                  <a:off x="10725840" y="-144720"/>
                  <a:ext cx="12697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3342960" y="-144360"/>
                <a:ext cx="476820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87040" y="-144360"/>
                <a:ext cx="75132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181240" y="-144360"/>
                <a:ext cx="127152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-3145320" y="7741800"/>
              <a:ext cx="15522480" cy="1812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3145320" y="5277960"/>
              <a:ext cx="15522480" cy="13698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3168360" y="8685360"/>
              <a:ext cx="5078520" cy="18720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3145320" y="8129880"/>
              <a:ext cx="15522480" cy="22878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0400" y="7889400"/>
              <a:ext cx="11846880" cy="266472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00000">
              <a:off x="1976400" y="4316040"/>
              <a:ext cx="2696040" cy="2150640"/>
            </a:xfrm>
            <a:prstGeom prst="hexagon">
              <a:avLst>
                <a:gd name="adj" fmla="val 3103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00000">
              <a:off x="3207960" y="6297480"/>
              <a:ext cx="2696400" cy="2152080"/>
            </a:xfrm>
            <a:prstGeom prst="hexagon">
              <a:avLst>
                <a:gd name="adj" fmla="val 31016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00000">
              <a:off x="3224520" y="2329920"/>
              <a:ext cx="2698200" cy="2150280"/>
            </a:xfrm>
            <a:prstGeom prst="hexagon">
              <a:avLst>
                <a:gd name="adj" fmla="val 3106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00000">
              <a:off x="1941840" y="348120"/>
              <a:ext cx="2696400" cy="2150280"/>
            </a:xfrm>
            <a:prstGeom prst="hexagon">
              <a:avLst>
                <a:gd name="adj" fmla="val 31041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00000">
              <a:off x="4470120" y="8268840"/>
              <a:ext cx="2700000" cy="2152080"/>
            </a:xfrm>
            <a:prstGeom prst="hexagon">
              <a:avLst>
                <a:gd name="adj" fmla="val 3105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00000">
              <a:off x="-3765600" y="6420240"/>
              <a:ext cx="2119680" cy="214740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800000">
              <a:off x="-3073680" y="8300880"/>
              <a:ext cx="2694600" cy="2150280"/>
            </a:xfrm>
            <a:prstGeom prst="hexagon">
              <a:avLst>
                <a:gd name="adj" fmla="val 31021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800000">
              <a:off x="-3021840" y="4299480"/>
              <a:ext cx="2696040" cy="2150640"/>
            </a:xfrm>
            <a:prstGeom prst="hexagon">
              <a:avLst>
                <a:gd name="adj" fmla="val 3103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800000">
              <a:off x="-1796760" y="6297120"/>
              <a:ext cx="2696040" cy="2152080"/>
            </a:xfrm>
            <a:prstGeom prst="hexagon">
              <a:avLst>
                <a:gd name="adj" fmla="val 3101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800000">
              <a:off x="-549720" y="8315640"/>
              <a:ext cx="2696040" cy="2150280"/>
            </a:xfrm>
            <a:prstGeom prst="hexagon">
              <a:avLst>
                <a:gd name="adj" fmla="val 3103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00000">
              <a:off x="-515160" y="4312800"/>
              <a:ext cx="2698200" cy="2150280"/>
            </a:xfrm>
            <a:prstGeom prst="hexagon">
              <a:avLst>
                <a:gd name="adj" fmla="val 3106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00000">
              <a:off x="-1761840" y="2289600"/>
              <a:ext cx="2694600" cy="2152080"/>
            </a:xfrm>
            <a:prstGeom prst="hexagon">
              <a:avLst>
                <a:gd name="adj" fmla="val 309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00000">
              <a:off x="8455320" y="6337440"/>
              <a:ext cx="2694960" cy="2152080"/>
            </a:xfrm>
            <a:prstGeom prst="hexagon">
              <a:avLst>
                <a:gd name="adj" fmla="val 31028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00000">
              <a:off x="9718920" y="8334000"/>
              <a:ext cx="2694600" cy="215064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00000">
              <a:off x="9716760" y="4335840"/>
              <a:ext cx="2696400" cy="21520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00000">
              <a:off x="11005200" y="6188040"/>
              <a:ext cx="2086200" cy="214740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00000">
              <a:off x="11011680" y="2205000"/>
              <a:ext cx="2079720" cy="21520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600" y="21924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1840" y="5850000"/>
            <a:ext cx="35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4649400" y="219240"/>
            <a:ext cx="1314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8773-2F43-4BBE-A955-D965243561C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84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94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3"/>
          </p:nvPr>
        </p:nvSpPr>
        <p:spPr>
          <a:xfrm>
            <a:off x="4738680" y="1515960"/>
            <a:ext cx="2116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4649760" y="5718240"/>
            <a:ext cx="6256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53548a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D23BF4-8CCE-4334-8AA7-CC022EDCB711}" type="slidenum">
              <a:rPr b="0" lang="ru-RU" sz="1200" spc="-1" strike="noStrike">
                <a:solidFill>
                  <a:srgbClr val="53548a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168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178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5"/>
          </p:nvPr>
        </p:nvSpPr>
        <p:spPr>
          <a:xfrm>
            <a:off x="5997600" y="223920"/>
            <a:ext cx="21160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6"/>
          </p:nvPr>
        </p:nvSpPr>
        <p:spPr>
          <a:xfrm>
            <a:off x="4649400" y="223920"/>
            <a:ext cx="1314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247D7BEA-2EF5-413B-9EDC-F11252D5AB11}" type="slidenum"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252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262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212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5997600" y="223920"/>
            <a:ext cx="21160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8"/>
          </p:nvPr>
        </p:nvSpPr>
        <p:spPr>
          <a:xfrm>
            <a:off x="4649400" y="223920"/>
            <a:ext cx="1314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92752CC2-7A4D-414C-97E5-D409109DFBB1}" type="slidenum"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0" y="71280"/>
            <a:ext cx="347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рушев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ьга Юрьевн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-логопед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кол № 355, 50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ого райо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"/>
          <p:cNvSpPr/>
          <p:nvPr/>
        </p:nvSpPr>
        <p:spPr>
          <a:xfrm>
            <a:off x="4680000" y="331164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Музыкотерапия как здоровьесберегающая технолог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в коррекции нарушений реч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у младших школьн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09480" y="60948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28800" y="3643200"/>
            <a:ext cx="7367400" cy="2697120"/>
            <a:chOff x="928800" y="3643200"/>
            <a:chExt cx="7367400" cy="2697120"/>
          </a:xfrm>
        </p:grpSpPr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4695840" y="3643200"/>
              <a:ext cx="3600360" cy="2697120"/>
            </a:xfrm>
            <a:prstGeom prst="rect">
              <a:avLst/>
            </a:prstGeom>
            <a:ln cap="sq" w="9360">
              <a:solidFill>
                <a:srgbClr val="2b4a5e"/>
              </a:solidFill>
              <a:round/>
            </a:ln>
          </p:spPr>
        </p:pic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928800" y="3643200"/>
              <a:ext cx="3601800" cy="2697120"/>
            </a:xfrm>
            <a:prstGeom prst="rect">
              <a:avLst/>
            </a:prstGeom>
            <a:ln cap="sq" w="9360">
              <a:solidFill>
                <a:srgbClr val="2b4a5e"/>
              </a:solidFill>
              <a:round/>
            </a:ln>
          </p:spPr>
        </p:pic>
      </p:grpSp>
      <p:sp>
        <p:nvSpPr>
          <p:cNvPr id="399" name=""/>
          <p:cNvSpPr/>
          <p:nvPr/>
        </p:nvSpPr>
        <p:spPr>
          <a:xfrm>
            <a:off x="863640" y="936720"/>
            <a:ext cx="7429320" cy="100872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4043"/>
                </a:solidFill>
                <a:latin typeface="Times New Roman"/>
              </a:rPr>
              <a:t>При автоматизации изолированного звука </a:t>
            </a: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работа </a:t>
            </a:r>
            <a:br>
              <a:rPr sz="2000"/>
            </a:b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пойдет быстрее, если связать его с музыкальными образам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«Самолеты заводят моторы» А. Жилин – автоматизация  Р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2413080"/>
            <a:ext cx="7358040" cy="100872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4043"/>
                </a:solidFill>
                <a:latin typeface="Times New Roman"/>
              </a:rPr>
              <a:t>Автоматизация звука в слогах, словах фразах и тексте </a:t>
            </a: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может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пройти успешнее, если подключить вокализацию и движени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«Заяц Егорка» - автоматизация звука Р в потешк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09840" y="714240"/>
            <a:ext cx="63482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92a4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92a45"/>
                </a:solidFill>
                <a:latin typeface="Times New Roman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"/>
          <p:cNvSpPr/>
          <p:nvPr/>
        </p:nvSpPr>
        <p:spPr>
          <a:xfrm>
            <a:off x="1071720" y="1214280"/>
            <a:ext cx="7072200" cy="64296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делятся своими впечатлениями от музыкальных произведений, описывают  и сравнивают геро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"/>
          <p:cNvSpPr/>
          <p:nvPr/>
        </p:nvSpPr>
        <p:spPr>
          <a:xfrm>
            <a:off x="1085760" y="1968480"/>
            <a:ext cx="7058160" cy="22284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зируют  музыку, имеющую разное настроение и музыкальный характер, что актуализирует определенные лексико-семантические групп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дленная, напевная музыка - прилагательные и наречия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драя, веселая музыка – глагол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орная музыка развивает лексику грусти и печали,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жорная – радост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71720" y="4334040"/>
            <a:ext cx="7054560" cy="2077920"/>
            <a:chOff x="1071720" y="4334040"/>
            <a:chExt cx="7054560" cy="2077920"/>
          </a:xfrm>
        </p:grpSpPr>
        <p:grpSp>
          <p:nvGrpSpPr>
            <p:cNvPr id="405" name=""/>
            <p:cNvGrpSpPr/>
            <p:nvPr/>
          </p:nvGrpSpPr>
          <p:grpSpPr>
            <a:xfrm>
              <a:off x="4175280" y="4334040"/>
              <a:ext cx="3951000" cy="2077920"/>
              <a:chOff x="4175280" y="4334040"/>
              <a:chExt cx="3951000" cy="2077920"/>
            </a:xfrm>
          </p:grpSpPr>
          <p:pic>
            <p:nvPicPr>
              <p:cNvPr id="406" name="" descr=""/>
              <p:cNvPicPr/>
              <p:nvPr/>
            </p:nvPicPr>
            <p:blipFill>
              <a:blip r:embed="rId2"/>
              <a:srcRect l="0" t="1141" r="0" b="5303"/>
              <a:stretch/>
            </p:blipFill>
            <p:spPr>
              <a:xfrm>
                <a:off x="4175280" y="4334040"/>
                <a:ext cx="1701720" cy="2077920"/>
              </a:xfrm>
              <a:prstGeom prst="rect">
                <a:avLst/>
              </a:prstGeom>
              <a:ln cap="sq" w="9360">
                <a:solidFill>
                  <a:srgbClr val="2b4a5e"/>
                </a:solidFill>
                <a:miter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27840" y="4334040"/>
                <a:ext cx="2098440" cy="2077920"/>
              </a:xfrm>
              <a:prstGeom prst="rect">
                <a:avLst/>
              </a:prstGeom>
              <a:ln cap="sq" w="9360">
                <a:solidFill>
                  <a:srgbClr val="2b4a5e"/>
                </a:solidFill>
                <a:miter/>
              </a:ln>
            </p:spPr>
          </p:pic>
        </p:grpSp>
        <p:pic>
          <p:nvPicPr>
            <p:cNvPr id="408" name="" descr=""/>
            <p:cNvPicPr/>
            <p:nvPr/>
          </p:nvPicPr>
          <p:blipFill>
            <a:blip r:embed="rId4"/>
            <a:srcRect l="0" t="22167" r="0" b="16965"/>
            <a:stretch/>
          </p:blipFill>
          <p:spPr>
            <a:xfrm>
              <a:off x="1071720" y="4357800"/>
              <a:ext cx="2944800" cy="2054160"/>
            </a:xfrm>
            <a:prstGeom prst="rect">
              <a:avLst/>
            </a:prstGeom>
            <a:ln cap="sq" w="9360">
              <a:solidFill>
                <a:srgbClr val="2b4a5e"/>
              </a:solidFill>
              <a:miter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71680" y="714240"/>
            <a:ext cx="8229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</a:rPr>
              <a:t>Музыка и письмо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rcRect l="0" t="4731" r="0" b="0"/>
          <a:stretch/>
        </p:blipFill>
        <p:spPr>
          <a:xfrm>
            <a:off x="2357280" y="3429000"/>
            <a:ext cx="4357800" cy="28749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sp>
        <p:nvSpPr>
          <p:cNvPr id="411" name=""/>
          <p:cNvSpPr/>
          <p:nvPr/>
        </p:nvSpPr>
        <p:spPr>
          <a:xfrm>
            <a:off x="642960" y="1258920"/>
            <a:ext cx="7858080" cy="7038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Если выработать определенный ритм письма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но станет менее утомительным и более стабильным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"/>
          <p:cNvSpPr/>
          <p:nvPr/>
        </p:nvSpPr>
        <p:spPr>
          <a:xfrm>
            <a:off x="642960" y="2160720"/>
            <a:ext cx="7858080" cy="131364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Целесообразно подобрать музыку, позволяющую выработа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- внутренний ровный ритм у школьников с высокой скоростью письм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- естественное ускорение темпа у медлительных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7244" t="70073" r="37267" b="4836"/>
          <a:stretch/>
        </p:blipFill>
        <p:spPr>
          <a:xfrm>
            <a:off x="701640" y="4214880"/>
            <a:ext cx="1441440" cy="1357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858000" y="3786120"/>
            <a:ext cx="150012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792000"/>
            <a:ext cx="9144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Таким образом,  использование музыкальных средств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в логопедической работе позволяе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значительно улучшить результативность коррекционной работы, </a:t>
            </a:r>
            <a:br>
              <a:rPr sz="2000"/>
            </a:b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разнообразить приемы и методы логопедического воздействия,      </a:t>
            </a:r>
            <a:br>
              <a:rPr sz="2000"/>
            </a:b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а также  способствует оздоровлению детей.           </a:t>
            </a:r>
            <a:r>
              <a:rPr b="1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735280" y="3384720"/>
            <a:ext cx="2519280" cy="217944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417" name="" descr=""/>
          <p:cNvPicPr/>
          <p:nvPr/>
        </p:nvPicPr>
        <p:blipFill>
          <a:blip r:embed="rId3"/>
          <a:srcRect l="57804" t="0" r="18346" b="80456"/>
          <a:stretch/>
        </p:blipFill>
        <p:spPr>
          <a:xfrm>
            <a:off x="4987800" y="4319640"/>
            <a:ext cx="1563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00720" y="428760"/>
            <a:ext cx="3713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9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rcRect l="2693" t="0" r="4775" b="0"/>
          <a:stretch/>
        </p:blipFill>
        <p:spPr>
          <a:xfrm>
            <a:off x="4643280" y="3071880"/>
            <a:ext cx="3500640" cy="28335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4360" y="6357960"/>
            <a:ext cx="899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"/>
          <p:cNvSpPr/>
          <p:nvPr/>
        </p:nvSpPr>
        <p:spPr>
          <a:xfrm>
            <a:off x="928800" y="3143160"/>
            <a:ext cx="58323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28584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Times New Roman"/>
                <a:ea typeface="Microsoft YaHei"/>
              </a:rPr>
              <a:t>Актуальность выбранного  направл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714240" y="1857240"/>
            <a:ext cx="7643880" cy="150048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За последние 5 лет значительно возросло количество детей, имеющих хронические заболевания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Это связано с социальными проблемами, экологическими факторами, уменьшением двигательной активности дете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/>
          <p:nvPr/>
        </p:nvSpPr>
        <p:spPr>
          <a:xfrm>
            <a:off x="714240" y="3714840"/>
            <a:ext cx="7643880" cy="17859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хранение и укрепление здоровья детей в процессе воспитания  и обучения - одна из важнейших задач стоящих перед логопедом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Для детей с нарушениями речи это особенно значимо, поскольку эти дети соматически ослаблены, могут иметь хронические заболевания, нарушения в эмоционально-волевой  сфер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215120" y="5143680"/>
            <a:ext cx="1071720" cy="13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714240"/>
            <a:ext cx="80344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сихолого-педагогические особенности детей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нарушениями реч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"/>
          <p:cNvSpPr/>
          <p:nvPr/>
        </p:nvSpPr>
        <p:spPr>
          <a:xfrm>
            <a:off x="1419120" y="2319480"/>
            <a:ext cx="6500880" cy="192852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имание неустойчиво, слабо сформировано произвольное внимани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м памяти сужен по сравнению с нормой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ы способности к абстрагированию, обобщению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зок уровень контроля за соб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быстро утомляем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42920" y="14292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Задачи, стоящие перед логопедом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"/>
          <p:cNvSpPr/>
          <p:nvPr/>
        </p:nvSpPr>
        <p:spPr>
          <a:xfrm>
            <a:off x="642960" y="1500120"/>
            <a:ext cx="7929720" cy="8571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овысить результативность воспитательно-образовательного  процесса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642960" y="2571840"/>
            <a:ext cx="7929720" cy="50004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хранить и укрепить здоровье воспитанников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642960" y="3286080"/>
            <a:ext cx="7929720" cy="8571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тимулировать работоспособность, способствовать  восстановлению сил, снятию напряжения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/>
          <p:nvPr/>
        </p:nvSpPr>
        <p:spPr>
          <a:xfrm>
            <a:off x="642960" y="4429080"/>
            <a:ext cx="7929720" cy="9288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здать благоприятную психоэмоциональную атмосферу, поддержать психологическое здоровье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"/>
          <p:cNvSpPr/>
          <p:nvPr/>
        </p:nvSpPr>
        <p:spPr>
          <a:xfrm>
            <a:off x="642960" y="5572080"/>
            <a:ext cx="7929720" cy="57168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опагандировать здоровый образ жизн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14280" y="2449440"/>
            <a:ext cx="6786720" cy="3448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, артикуляционная и пальчиковая гимнасти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гимнасти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"/>
          <p:cNvSpPr/>
          <p:nvPr/>
        </p:nvSpPr>
        <p:spPr>
          <a:xfrm>
            <a:off x="1214280" y="125892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иемы здоровьесберегающей технологии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на логопедических занятия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32110" t="4123" r="44962" b="80545"/>
          <a:stretch/>
        </p:blipFill>
        <p:spPr>
          <a:xfrm>
            <a:off x="5834160" y="4786200"/>
            <a:ext cx="2023920" cy="1214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857840" y="30718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3786120" y="3071880"/>
            <a:ext cx="928800" cy="458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7429680" y="1428840"/>
            <a:ext cx="742680" cy="1171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809640" y="2000160"/>
            <a:ext cx="6904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28760" y="642960"/>
            <a:ext cx="8285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Музыка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в коррекционном процесс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1643040"/>
            <a:ext cx="7858080" cy="7858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зыка значительно обогащает представления  ребенка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сложном материальном и социальном мир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"/>
          <p:cNvSpPr/>
          <p:nvPr/>
        </p:nvSpPr>
        <p:spPr>
          <a:xfrm>
            <a:off x="642960" y="2786040"/>
            <a:ext cx="7858080" cy="7858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ет эффективно добиваться координации различных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делов системы речеобразован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"/>
          <p:cNvSpPr/>
          <p:nvPr/>
        </p:nvSpPr>
        <p:spPr>
          <a:xfrm>
            <a:off x="642960" y="3929040"/>
            <a:ext cx="7858080" cy="7142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ствует развитию слухового восприятия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моторики   и ритмического чувст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"/>
          <p:cNvSpPr/>
          <p:nvPr/>
        </p:nvSpPr>
        <p:spPr>
          <a:xfrm>
            <a:off x="642960" y="4929120"/>
            <a:ext cx="7858080" cy="5000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тимизирует процесс  коррекции реч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"/>
          <p:cNvSpPr/>
          <p:nvPr/>
        </p:nvSpPr>
        <p:spPr>
          <a:xfrm>
            <a:off x="642960" y="5786280"/>
            <a:ext cx="7858080" cy="42876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ствует улучшению общего эмоционального состояния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57960" y="3925800"/>
            <a:ext cx="2143080" cy="15033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1280" y="679320"/>
            <a:ext cx="9144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Виды работы над речью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использованием музы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1357200" y="1643040"/>
            <a:ext cx="6643800" cy="159372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Логопедическая ритмика.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результате решения оздоровительных задач у детей с речевыми нарушениям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укрепляется костно-мышечный аппарат,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 развиваются дыхание, моторные, сенсорные функции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воспитывается чувство равновесия, правильная осанка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rcRect l="0" t="7961" r="0" b="0"/>
          <a:stretch/>
        </p:blipFill>
        <p:spPr>
          <a:xfrm>
            <a:off x="3429000" y="4500720"/>
            <a:ext cx="2786040" cy="192852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sp>
        <p:nvSpPr>
          <p:cNvPr id="387" name=""/>
          <p:cNvSpPr/>
          <p:nvPr/>
        </p:nvSpPr>
        <p:spPr>
          <a:xfrm>
            <a:off x="1357200" y="3357720"/>
            <a:ext cx="6643800" cy="1000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Пение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ствует выработке правильного дыхания, звукообразования, голосообразования, 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лагоприятно действует на бронхо-легочную систем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7168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иемы работы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по постановке и автоматизации звук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"/>
          <p:cNvSpPr/>
          <p:nvPr/>
        </p:nvSpPr>
        <p:spPr>
          <a:xfrm>
            <a:off x="714240" y="2000160"/>
            <a:ext cx="4714920" cy="4429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Артикуляторно-музыкальные комплексы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уют навык переключения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одного движения на другое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разных темпах и ритм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лучшают кровоснабжение артикуляционных органов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их иннервацию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веселая песня повышает активность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устная - астенизируе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Улыбка» В.Шаинский, </a:t>
            </a:r>
            <a:br>
              <a:rPr sz="2000"/>
            </a:b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имнастика для губ и язы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rcRect l="22681" t="0" r="7728" b="0"/>
          <a:stretch/>
        </p:blipFill>
        <p:spPr>
          <a:xfrm>
            <a:off x="5708520" y="2448000"/>
            <a:ext cx="2571840" cy="273348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00040" y="7858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Работа по формированию у детей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физиологического, а затем и речевого дыхания проводится на материале музыкальных произведений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четкой фразировк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"/>
          <p:cNvSpPr/>
          <p:nvPr/>
        </p:nvSpPr>
        <p:spPr>
          <a:xfrm>
            <a:off x="642960" y="2786040"/>
            <a:ext cx="3500280" cy="35006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Упражнения дыхательной гимнастики направлены </a:t>
            </a:r>
            <a:br>
              <a:rPr sz="2000"/>
            </a:b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на закрепление навыков диафрагмально – речевого дыхания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пособствуют развитию и укреплению грудной клетки, насыщает организм кислородо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. Штраус «Вальс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292640" y="2786040"/>
            <a:ext cx="4280040" cy="350064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0" t="22685" r="61483" b="48468"/>
          <a:stretch/>
        </p:blipFill>
        <p:spPr>
          <a:xfrm>
            <a:off x="5643720" y="235728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мануэль</dc:creator>
  <dc:description/>
  <dc:language>en-US</dc:language>
  <cp:lastModifiedBy>IRBIS</cp:lastModifiedBy>
  <dcterms:modified xsi:type="dcterms:W3CDTF">2014-04-20T12:06:26Z</dcterms:modified>
  <cp:revision>368</cp:revision>
  <dc:subject/>
  <dc:title>Презентация PowerPoint</dc:title>
</cp:coreProperties>
</file>