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5.jpeg" ContentType="image/jpeg"/>
  <Override PartName="/ppt/media/image14.jpeg" ContentType="image/jpe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10.jpeg" ContentType="image/jpeg"/>
  <Override PartName="/ppt/media/image5.png" ContentType="image/png"/>
  <Override PartName="/ppt/media/image8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D7F5D-BFB7-4C37-AB9B-F44CE8BC327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86CF6-BB70-4399-9D76-2CE6284175BA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1B4AE-237B-487B-BA42-DC9088A7A946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9C8DD-F9A4-4224-AA87-ABEB0FFD55A9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03839-4061-4BA8-898E-12815E512CF9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E490C-7EF0-416D-A4AA-141D5828492D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97529-6859-4306-8A29-D12F65F65A61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C5AC9-834F-4DEA-A004-3B491828B22A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5C22A-25DD-4CFA-A283-F2DE7BF1A4C0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464AC-C220-4FB7-B780-29661E86EBE0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ED287-3212-4C20-B3F0-F8ADEEB9B2B7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DD6E3-B28A-42EE-A32A-84BA8B0F462A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4B0CA-3582-4F05-8C9B-4C82147482EE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1F2F-5A68-45FB-BDBB-D75478693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769A-9949-4048-84CD-3B8AC9F13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C842-8269-499A-952B-6E6B198D3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AE7E-2462-44F2-B0C5-80079663E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94069-7276-4698-9400-0FCB8A33C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FE88F-C9C2-4825-97D5-338C41299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F9817-1811-462B-957D-A41F150FB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66D18-DB40-4794-A45D-9C21CC1BA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2CC7C-D59B-49E0-A4BF-DFD1E44C1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D33A1-CA5E-4D0C-9512-DD174682F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3D19D-BA0B-4B3A-8534-7C9B562B2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D386-6856-4B22-B490-7FBBF1D20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FB6D0-BDAD-4E7B-BE3B-418DF88A8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3994D-CD42-49B1-A470-02ACFAA4C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34261-650E-4ACE-ADE7-5832EB1EE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C9DD9-A9EB-4EBE-9F12-E813C2334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C1E0F-50C1-470F-8287-D32FA5CBB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02CA-C980-4469-9F2B-B42E29D51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DAD4-2777-45AA-80C2-ED552FD6A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3004-98F3-407E-BDD2-ED72A5E5B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5220-F84D-4FF9-90F6-343BDD548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7CE2-E7EE-4AE8-AA17-B9D4C32EE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C996-1AC2-4F1B-AB83-A9F04EF97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3CA3-7A98-477C-8435-F07CEDC2B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941F1-9E56-4551-978F-336B1847D2E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79930-8325-4920-9F4B-3D1790882703}" type="slidenum">
              <a:rPr b="0" lang="ru-RU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paraskeva.ru/shema/dorozka.zip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7d47d"/>
                </a:solidFill>
                <a:latin typeface="Arial"/>
              </a:rPr>
              <a:t>Научно-исследовательский проект на тему: «Русская народная вышивка».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2412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Выполнен ученицей 6 «В» класса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Ромашко Анной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МАОУ «Куровская СОШ № 6»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Руководитель:Арсентьева О.Л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1" name="Picture 7" descr="IMGP1256"/>
          <p:cNvPicPr/>
          <p:nvPr/>
        </p:nvPicPr>
        <p:blipFill>
          <a:blip r:embed="rId1"/>
          <a:stretch/>
        </p:blipFill>
        <p:spPr>
          <a:xfrm>
            <a:off x="4025880" y="2489040"/>
            <a:ext cx="362412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-360" y="333000"/>
            <a:ext cx="8124840" cy="58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5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6" name="Picture 12" descr="http://www.paraskeva.ru/picture/djentlmen.jpg"/>
          <p:cNvPicPr/>
          <p:nvPr/>
        </p:nvPicPr>
        <p:blipFill>
          <a:blip r:embed="rId2"/>
          <a:stretch/>
        </p:blipFill>
        <p:spPr>
          <a:xfrm>
            <a:off x="755640" y="1125360"/>
            <a:ext cx="6513480" cy="46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Заключение.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7710480" cy="63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С помощью вышивки можно украсить различные швейные изделия, картины, ковры и др. Необходимо правильно составить композицию узоров, подобрать по сочетанию цвет нити и ткани, освоить различные операции вышивки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Вышивание способствует развитию эстетических представлений о прекрасном, умению конструировать, моделировать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Ручная вышивка – один из самых интересных и распространенных видов декоративно- прикладного искусства. С ее помощью можно украсить свой быт, одежду, оформить помещение, изготовить такие простые вещи, как салфетки, традиционные свадебные и обычные кухонные полотенца, панно, наволочки на диванные подушки, сувениры в подарок своим родным и близким. Душевное тепло, идущее от этих изделий, передается другим людям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5" descr="IMGP1418"/>
          <p:cNvPicPr/>
          <p:nvPr/>
        </p:nvPicPr>
        <p:blipFill>
          <a:blip r:embed="rId1"/>
          <a:stretch/>
        </p:blipFill>
        <p:spPr>
          <a:xfrm>
            <a:off x="219240" y="357120"/>
            <a:ext cx="7476840" cy="56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7d47d"/>
                </a:solidFill>
                <a:latin typeface="Arial"/>
              </a:rPr>
              <a:t>Цель проекта:</a:t>
            </a:r>
            <a:br>
              <a:rPr sz="3200"/>
            </a:br>
            <a:r>
              <a:rPr b="0" lang="ru-RU" sz="3200" spc="-1" strike="noStrike">
                <a:solidFill>
                  <a:srgbClr val="f7d47d"/>
                </a:solidFill>
                <a:latin typeface="Arial"/>
              </a:rPr>
              <a:t>- изучить историю русской    народной    вышивки .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Задачи :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-познакомиться с историей вышивания, видами вышивки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-подобрать литературу по данному виду промысла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-использовать в работе материалы, найденные в интернете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-изучить национальные особенности русской вышивки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-исследовать незатейливые надписи в вышивании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Обоснование выбора проекта.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Меня зовут Ромашко Анна, мне 11 лет ,я учусь в 6 «В» классе школы № 6 г.Куровское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Мои любимые занятия: вышивание , вязание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В прошлом году я отдыхала в деревне у бабушки и обратила внимание на старинные картины в рамке , полотенца , скатерти, вышитые в стиле русской народной вышивки: крестом ,золотом ,гладью 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Я была так потрясена красотой выполненных работ: сюжетами ,тонким подбором ниток ,и мне захотелось узнать побольше из истории народной вышивки 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Я начала искать подходящую по теме информацию в книгах ,в интернете и очень много узнала для себя нового и хочу поделиться этими находками с вами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История вышивки.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7" name="Picture 6" descr="IMGP1388"/>
          <p:cNvPicPr/>
          <p:nvPr/>
        </p:nvPicPr>
        <p:blipFill>
          <a:blip r:embed="rId1"/>
          <a:stretch/>
        </p:blipFill>
        <p:spPr>
          <a:xfrm>
            <a:off x="384120" y="1598760"/>
            <a:ext cx="3373560" cy="44971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IMGP1393"/>
          <p:cNvPicPr/>
          <p:nvPr/>
        </p:nvPicPr>
        <p:blipFill>
          <a:blip r:embed="rId2"/>
          <a:stretch/>
        </p:blipFill>
        <p:spPr>
          <a:xfrm>
            <a:off x="4154400" y="1598760"/>
            <a:ext cx="3373560" cy="44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Искусство украшения тканей.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263160" y="1268280"/>
            <a:ext cx="361620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400" spc="-1" strike="noStrike">
                <a:solidFill>
                  <a:srgbClr val="2f1311"/>
                </a:solidFill>
                <a:latin typeface="Arial"/>
              </a:rPr>
              <a:t>Рукоделие всегда было на Руси любимым занятием, угодным Богу. Угодным настолько, что ради него крестьянская девушка Феврония Муромская, ставшая княгинею, а потом и монахинею, отсрочила срок своей кончины</a:t>
            </a:r>
            <a:r>
              <a:rPr b="1" lang="ru-RU" sz="2800" spc="-1" strike="noStrike">
                <a:solidFill>
                  <a:srgbClr val="2f1311"/>
                </a:solidFill>
                <a:latin typeface="Arial"/>
              </a:rPr>
              <a:t>.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032000" y="1598760"/>
            <a:ext cx="36176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1311"/>
                </a:solidFill>
                <a:latin typeface="Arial"/>
              </a:rPr>
              <a:t>Вышивка по канве и бисером не была </a:t>
            </a:r>
            <a:br>
              <a:rPr sz="2800"/>
            </a:br>
            <a:r>
              <a:rPr b="1" lang="ru-RU" sz="2800" spc="-1" strike="noStrike">
                <a:solidFill>
                  <a:srgbClr val="2f1311"/>
                </a:solidFill>
                <a:latin typeface="Arial"/>
              </a:rPr>
              <a:t>русским изобретением </a:t>
            </a:r>
            <a:br>
              <a:rPr sz="2800"/>
            </a:br>
            <a:r>
              <a:rPr b="1" lang="ru-RU" sz="2800" spc="-1" strike="noStrike">
                <a:solidFill>
                  <a:srgbClr val="2f1311"/>
                </a:solidFill>
                <a:latin typeface="Arial"/>
              </a:rPr>
              <a:t>и пришла к нам из Европы. </a:t>
            </a:r>
            <a:br>
              <a:rPr sz="2800"/>
            </a:br>
            <a:br>
              <a:rPr sz="3200"/>
            </a:b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Значение мотивов в вышивке.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50560" y="1699920"/>
            <a:ext cx="36162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f1311"/>
                </a:solidFill>
                <a:latin typeface="Arial"/>
              </a:rPr>
              <a:t>Венок</a:t>
            </a: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 - символ дружбы и любви, символ вечности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f1311"/>
                </a:solidFill>
                <a:latin typeface="Arial"/>
              </a:rPr>
              <a:t>Дерево</a:t>
            </a: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 - символ Мирового древа или райского дерева, древа желаний. </a:t>
            </a:r>
            <a:br>
              <a:rPr sz="2000"/>
            </a:b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f1311"/>
                </a:solidFill>
                <a:latin typeface="Arial"/>
              </a:rPr>
              <a:t>Корзина с цветами</a:t>
            </a: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 - символ дружбы и любви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f1311"/>
                </a:solidFill>
                <a:latin typeface="Arial"/>
              </a:rPr>
              <a:t>Цветы</a:t>
            </a: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 - знак любви и дружбы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f1311"/>
                </a:solidFill>
                <a:latin typeface="Arial"/>
              </a:rPr>
              <a:t>Чаша с фруктами</a:t>
            </a: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 - символ изобилия и плодородия </a:t>
            </a:r>
            <a:br>
              <a:rPr sz="2000"/>
            </a:b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   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4" name="Picture 5" descr="Дорожка от Елены Гариповой. Скачать схему (737kb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38560" y="1598760"/>
            <a:ext cx="1603440" cy="44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Рисунки.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2f1311"/>
                </a:solidFill>
                <a:latin typeface="Arial"/>
              </a:rPr>
              <a:t>Воровали не только уже напечатанные - готовые - рисунки, но и «авторские права» на них. Издатели были вынуждены ставить свой «копирайт» - знак авторского права. 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7" name="Picture 7" descr="1erzh"/>
          <p:cNvPicPr/>
          <p:nvPr/>
        </p:nvPicPr>
        <p:blipFill>
          <a:blip r:embed="rId2"/>
          <a:stretch/>
        </p:blipFill>
        <p:spPr>
          <a:xfrm>
            <a:off x="4232160" y="1598760"/>
            <a:ext cx="3218040" cy="44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7d47d"/>
                </a:solidFill>
                <a:latin typeface="Arial"/>
              </a:rPr>
              <a:t>Вышивка в русском стиле.</a:t>
            </a:r>
            <a:endParaRPr b="0" lang="en-US" sz="2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2400" spc="-1" strike="noStrike">
                <a:solidFill>
                  <a:srgbClr val="2f1311"/>
                </a:solidFill>
                <a:latin typeface="Arial"/>
              </a:rPr>
              <a:t>Русская народная вышивка в конце XIX века чуть не исчезла и была возрождена во многом благодаря стараниям дворянства, в частности, княгини </a:t>
            </a:r>
            <a:br>
              <a:rPr sz="2400"/>
            </a:br>
            <a:r>
              <a:rPr b="1" lang="ru-RU" sz="2400" spc="-1" strike="noStrike">
                <a:solidFill>
                  <a:srgbClr val="2f1311"/>
                </a:solidFill>
                <a:latin typeface="Arial"/>
              </a:rPr>
              <a:t>М.К.Тенишевой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0" name="Picture 5" descr="2erzh"/>
          <p:cNvPicPr/>
          <p:nvPr/>
        </p:nvPicPr>
        <p:blipFill>
          <a:blip r:embed="rId1"/>
          <a:stretch/>
        </p:blipFill>
        <p:spPr>
          <a:xfrm>
            <a:off x="4226040" y="1052640"/>
            <a:ext cx="31543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Русский стиль.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Arial"/>
              </a:rPr>
              <a:t>Полотенца в русском стиле </a:t>
            </a:r>
            <a:br>
              <a:rPr sz="2400"/>
            </a:br>
            <a:r>
              <a:rPr b="1" lang="ru-RU" sz="2400" spc="-1" strike="noStrike">
                <a:solidFill>
                  <a:srgbClr val="2f1311"/>
                </a:solidFill>
                <a:latin typeface="Arial"/>
              </a:rPr>
              <a:t>со всякими забавными </a:t>
            </a:r>
            <a:br>
              <a:rPr sz="2400"/>
            </a:br>
            <a:r>
              <a:rPr b="1" lang="ru-RU" sz="2400" spc="-1" strike="noStrike">
                <a:solidFill>
                  <a:srgbClr val="2f1311"/>
                </a:solidFill>
                <a:latin typeface="Arial"/>
              </a:rPr>
              <a:t>надписями типа </a:t>
            </a:r>
            <a:br>
              <a:rPr sz="2400"/>
            </a:br>
            <a:r>
              <a:rPr b="1" lang="ru-RU" sz="2400" spc="-1" strike="noStrike">
                <a:solidFill>
                  <a:srgbClr val="2f1311"/>
                </a:solidFill>
                <a:latin typeface="Arial"/>
              </a:rPr>
              <a:t>«Выпью чаю я </a:t>
            </a:r>
            <a:br>
              <a:rPr sz="2400"/>
            </a:br>
            <a:r>
              <a:rPr b="1" lang="ru-RU" sz="2400" spc="-1" strike="noStrike">
                <a:solidFill>
                  <a:srgbClr val="2f1311"/>
                </a:solidFill>
                <a:latin typeface="Arial"/>
              </a:rPr>
              <a:t>со своей Машей» </a:t>
            </a:r>
            <a:br>
              <a:rPr sz="2400"/>
            </a:br>
            <a:r>
              <a:rPr b="1" lang="ru-RU" sz="2400" spc="-1" strike="noStrike">
                <a:solidFill>
                  <a:srgbClr val="2f1311"/>
                </a:solidFill>
                <a:latin typeface="Arial"/>
              </a:rPr>
              <a:t>или русскими пословицами и поговорками были также очень «модны»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3" name="Picture 9" descr="mantra_1"/>
          <p:cNvPicPr/>
          <p:nvPr/>
        </p:nvPicPr>
        <p:blipFill>
          <a:blip r:embed="rId2"/>
          <a:stretch/>
        </p:blipFill>
        <p:spPr>
          <a:xfrm>
            <a:off x="4032360" y="2295360"/>
            <a:ext cx="3617640" cy="31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30T19:02:12Z</dcterms:created>
  <dc:creator>1</dc:creator>
  <dc:description/>
  <dc:language>en-US</dc:language>
  <cp:lastModifiedBy>Оля</cp:lastModifiedBy>
  <dcterms:modified xsi:type="dcterms:W3CDTF">2015-10-14T19:22:04Z</dcterms:modified>
  <cp:revision>70</cp:revision>
  <dc:subject/>
  <dc:title>Научно-исследовательский проект на тему: «Русская народная вышивка»</dc:title>
</cp:coreProperties>
</file>