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3145-6B84-4E45-BF0E-F4E72000B4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2364-D184-45E3-8A33-E87EB7B7A93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1097-601B-42D3-BB8E-54D51AF5926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3AC8-7853-4445-9266-A702F95D17F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441D-03BE-471C-B291-F751924670A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DD98-158E-48EA-A4F2-D24FAB83133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8ED6-AC5F-4864-BBCF-7203E935B3A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EFD5-FBA2-4DB8-BEE5-5CE8907D0E1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38FD-A426-4545-AE2E-9F41F0465F7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2684-A20A-470A-A5A3-63D24035B52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96DF-B113-4088-8A05-1A4EA0E0F31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A764-0EFB-4912-B3C0-2B1488C6878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A8DF-770D-4C60-B891-3464C9A0CF7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A518-368A-447A-AA84-82250C5A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1866-EFF7-4DC5-BAEE-4B38F328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7DF6-B1F7-4FBF-BBB0-4908BC2B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DF74-F254-48D1-969A-B0BA1A6A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8B30-9500-4E2B-8F6A-517B3004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7C23-D92A-4DBC-B79C-9DFA8268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37C8-0224-4F37-80C4-A719490B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C368-0DB4-4E55-9427-E068F952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C17D-E10D-4ABB-86C8-7BF9A259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38E4-9E68-442E-8BEC-8A9D48D8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15E0-9B9C-4658-A481-5DB1A393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B283-3BEB-41CB-8955-53DBF172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C34A-E853-483F-B442-15A92B7A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7020-B4AF-4F5A-8225-E9CEAEAE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E8D6-2100-431A-96D4-AE09FB54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98EB-A78E-4718-BC7D-C4CC67D9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EF2E-2760-4B67-8E4C-C8A8B94B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E51-7F8E-41A8-A49F-637FCB28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48F6-5FF0-416E-8B3B-D455591E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EC1C-79E7-4260-BFDF-23098AC3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9494-D6F5-4761-BE8E-074249A7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EF8A-A49B-44E4-90DC-BDD12025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C078-2B1A-4247-A392-07382AED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1ED4-BC6D-4D86-9538-526018AA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23D0-3128-4A96-9081-E64B6CCECE2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1B54-B84A-49A0-A280-0021657AA6E9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araskeva.ru/shema/dorozka.zip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Научно-исследовательский проект на тему: «Русская народная вышивка»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ыполнен ученицей 6 «В» класса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омашко Анной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АОУ «Куровская СОШ № 6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уководитель:Арсентьева О.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7" descr="IMGP1256"/>
          <p:cNvPicPr/>
          <p:nvPr/>
        </p:nvPicPr>
        <p:blipFill>
          <a:blip r:embed="rId1"/>
          <a:stretch/>
        </p:blipFill>
        <p:spPr>
          <a:xfrm>
            <a:off x="4025880" y="2489040"/>
            <a:ext cx="36241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-360" y="333000"/>
            <a:ext cx="8124840" cy="58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Picture 12" descr="http://www.paraskeva.ru/picture/djentlmen.jpg"/>
          <p:cNvPicPr/>
          <p:nvPr/>
        </p:nvPicPr>
        <p:blipFill>
          <a:blip r:embed="rId2"/>
          <a:stretch/>
        </p:blipFill>
        <p:spPr>
          <a:xfrm>
            <a:off x="755640" y="1125360"/>
            <a:ext cx="65134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аключение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771048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 помощью вышивки можно украсить различные швейные изделия, картины, ковры и др. Необходимо правильно составить композицию узоров, подобрать по сочетанию цвет нити и ткани, освоить различные операции вышив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ышивание способствует развитию эстетических представлений о прекрасном, умению конструировать, моделироват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учная вышивка – один из самых интересных и распространенных видов декоративно- прикладного искусства. С ее помощью можно украсить свой быт, одежду, оформить помещение, изготовить такие простые вещи, как салфетки, традиционные свадебные и обычные кухонные полотенца, панно, наволочки на диванные подушки, сувениры в подарок своим родным и близким. Душевное тепло, идущее от этих изделий, передается другим людя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IMGP1418"/>
          <p:cNvPicPr/>
          <p:nvPr/>
        </p:nvPicPr>
        <p:blipFill>
          <a:blip r:embed="rId1"/>
          <a:stretch/>
        </p:blipFill>
        <p:spPr>
          <a:xfrm>
            <a:off x="219240" y="357120"/>
            <a:ext cx="747684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Цель проекта: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- изучить историю русской    народной    вышивки 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адачи 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познакомиться с историей вышивания, видами вышивк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подобрать литературу по данному виду промысла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использовать в работе материалы, найденные в интернете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изучить национальные особенности русской вышивк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исследовать незатейливые надписи в вышиван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боснование выбора проекта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еня зовут Ромашко Анна, мне 11 лет ,я учусь в 6 «В» классе школы № 6 г.Куровско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ои любимые занятия: вышивание , вязани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 прошлом году я отдыхала в деревне у бабушки и обратила внимание на старинные картины в рамке , полотенца , скатерти, вышитые в стиле русской народной вышивки: крестом ,золотом ,гладью 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Я была так потрясена красотой выполненных работ: сюжетами ,тонким подбором ниток ,и мне захотелось узнать побольше из истории народной вышивки 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Я начала искать подходящую по теме информацию в книгах ,в интернете и очень много узнала для себя нового и хочу поделиться этими находками с в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стория вышивки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Picture 6" descr="IMGP1388"/>
          <p:cNvPicPr/>
          <p:nvPr/>
        </p:nvPicPr>
        <p:blipFill>
          <a:blip r:embed="rId1"/>
          <a:stretch/>
        </p:blipFill>
        <p:spPr>
          <a:xfrm>
            <a:off x="384120" y="1598760"/>
            <a:ext cx="3373560" cy="4497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IMGP1393"/>
          <p:cNvPicPr/>
          <p:nvPr/>
        </p:nvPicPr>
        <p:blipFill>
          <a:blip r:embed="rId2"/>
          <a:stretch/>
        </p:blipFill>
        <p:spPr>
          <a:xfrm>
            <a:off x="4154400" y="1598760"/>
            <a:ext cx="33735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скусство украшения тканей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63160" y="1268280"/>
            <a:ext cx="36162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Рукоделие всегда было на Руси любимым занятием, угодным Богу. Угодным настолько, что ради него крестьянская девушка Феврония Муромская, ставшая княгинею, а потом и монахинею, отсрочила срок своей кончины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Вышивка по канве и бисером не была </a:t>
            </a:r>
            <a:br>
              <a:rPr sz="2800"/>
            </a:b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русским изобретением </a:t>
            </a:r>
            <a:br>
              <a:rPr sz="2800"/>
            </a:b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и пришла к нам из Европы. 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начение мотивов в вышивке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36162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Венок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- символ дружбы и любви, символ вечност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Дерево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- символ Мирового древа или райского дерева, древа желаний. </a:t>
            </a: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Корзина с цветами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- символ дружбы и любв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Цветы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- знак любви и дружбы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Чаша с фруктами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- символ изобилия и плодородия </a:t>
            </a: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   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5" descr="Дорожка от Елены Гариповой. Скачать схему (737kb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8560" y="1598760"/>
            <a:ext cx="16034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исунки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Воровали не только уже напечатанные - готовые - рисунки, но и «авторские права» на них. Издатели были вынуждены ставить свой «копирайт» - знак авторского права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Picture 7" descr="1erzh"/>
          <p:cNvPicPr/>
          <p:nvPr/>
        </p:nvPicPr>
        <p:blipFill>
          <a:blip r:embed="rId2"/>
          <a:stretch/>
        </p:blipFill>
        <p:spPr>
          <a:xfrm>
            <a:off x="4232160" y="1598760"/>
            <a:ext cx="32180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Вышивка в русском стиле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Русская народная вышивка в конце XIX века чуть не исчезла и была возрождена во многом благодаря стараниям дворянства, в частности, княгини </a:t>
            </a: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М.К.Тенишево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Picture 5" descr="2erzh"/>
          <p:cNvPicPr/>
          <p:nvPr/>
        </p:nvPicPr>
        <p:blipFill>
          <a:blip r:embed="rId1"/>
          <a:stretch/>
        </p:blipFill>
        <p:spPr>
          <a:xfrm>
            <a:off x="4226040" y="1052640"/>
            <a:ext cx="315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усский стиль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олотенца в русском стиле </a:t>
            </a: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о всякими забавными </a:t>
            </a: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адписями типа </a:t>
            </a: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«Выпью чаю я </a:t>
            </a: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о своей Машей» </a:t>
            </a: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или русскими пословицами и поговорками были также очень «модны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Picture 9" descr="mantra_1"/>
          <p:cNvPicPr/>
          <p:nvPr/>
        </p:nvPicPr>
        <p:blipFill>
          <a:blip r:embed="rId2"/>
          <a:stretch/>
        </p:blipFill>
        <p:spPr>
          <a:xfrm>
            <a:off x="4032360" y="2295360"/>
            <a:ext cx="361764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9:02:12Z</dcterms:created>
  <dc:creator>1</dc:creator>
  <dc:description/>
  <dc:language>en-US</dc:language>
  <cp:lastModifiedBy>Оля</cp:lastModifiedBy>
  <dcterms:modified xsi:type="dcterms:W3CDTF">2015-10-14T19:22:04Z</dcterms:modified>
  <cp:revision>70</cp:revision>
  <dc:subject/>
  <dc:title>Научно-исследовательский проект на тему: «Русская народная вышивка»</dc:title>
</cp:coreProperties>
</file>