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17.jpeg" ContentType="image/jpeg"/>
  <Override PartName="/ppt/media/image10.gif" ContentType="image/gif"/>
  <Override PartName="/ppt/media/image13.png" ContentType="image/png"/>
  <Override PartName="/ppt/media/image9.png" ContentType="image/png"/>
  <Override PartName="/ppt/media/image19.gif" ContentType="image/gif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043-CC3C-4FCC-AFB1-9D8E633E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0AE-4D1C-4B4E-A0BA-D690F431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DCBF-FB43-41CB-8403-9B47E6C4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E8C-5AFB-462B-BE77-61B1740D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CFD9-66C0-43CE-9F4F-23C7A98A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65C6-B683-42C7-9C8D-5EA48060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13A-64E5-46BE-8294-E0BD3CCA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1CB-9BD3-41C0-BD24-48A9A7A5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BB6-AD86-40EB-B512-FFB0A70A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081-997B-401A-BCE1-E5C33079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42E-0F06-4276-9C13-121237F6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D0D4-2C0D-4F12-88F4-C76FD44E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2A24-993C-4CD8-B43B-C47B79B47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 чём пойдет речь 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C:\Users\ааа\Desktop\урок\ток 2.jpg"/>
          <p:cNvPicPr/>
          <p:nvPr/>
        </p:nvPicPr>
        <p:blipFill>
          <a:blip r:embed="rId1"/>
          <a:stretch/>
        </p:blipFill>
        <p:spPr>
          <a:xfrm>
            <a:off x="3581280" y="1447920"/>
            <a:ext cx="5021280" cy="267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Users\ааа\Desktop\урок\ток 3.jpeg"/>
          <p:cNvPicPr/>
          <p:nvPr/>
        </p:nvPicPr>
        <p:blipFill>
          <a:blip r:embed="rId2"/>
          <a:stretch/>
        </p:blipFill>
        <p:spPr>
          <a:xfrm>
            <a:off x="4780080" y="3679920"/>
            <a:ext cx="4338360" cy="3254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ааа\Desktop\урок\ток 1.jpg"/>
          <p:cNvPicPr/>
          <p:nvPr/>
        </p:nvPicPr>
        <p:blipFill>
          <a:blip r:embed="rId3"/>
          <a:stretch/>
        </p:blipFill>
        <p:spPr>
          <a:xfrm>
            <a:off x="-20520" y="3365640"/>
            <a:ext cx="487656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Заголовок 5"/>
          <p:cNvSpPr/>
          <p:nvPr/>
        </p:nvSpPr>
        <p:spPr>
          <a:xfrm>
            <a:off x="-36360" y="5791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</a:rPr>
              <a:t>ИСТОЧНИКИ Т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ff"/>
                </a:solidFill>
                <a:latin typeface="Verdana"/>
              </a:rPr>
              <a:t>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ЭЛЕКТРОФОРНАЯ МАШИНА"/>
          <p:cNvPicPr/>
          <p:nvPr/>
        </p:nvPicPr>
        <p:blipFill>
          <a:blip r:embed="rId1"/>
          <a:stretch/>
        </p:blipFill>
        <p:spPr>
          <a:xfrm>
            <a:off x="228600" y="3733920"/>
            <a:ext cx="3276720" cy="297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термоэлемент"/>
          <p:cNvPicPr/>
          <p:nvPr/>
        </p:nvPicPr>
        <p:blipFill>
          <a:blip r:embed="rId2"/>
          <a:stretch/>
        </p:blipFill>
        <p:spPr>
          <a:xfrm>
            <a:off x="5638680" y="1447920"/>
            <a:ext cx="3200400" cy="2681280"/>
          </a:xfrm>
          <a:prstGeom prst="rect">
            <a:avLst/>
          </a:prstGeom>
          <a:ln w="0">
            <a:noFill/>
          </a:ln>
        </p:spPr>
      </p:pic>
      <p:sp>
        <p:nvSpPr>
          <p:cNvPr id="73" name="WordArt 7"/>
          <p:cNvSpPr txBox="1"/>
          <p:nvPr/>
        </p:nvSpPr>
        <p:spPr>
          <a:xfrm>
            <a:off x="762120" y="1752480"/>
            <a:ext cx="4200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ОФОРНА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ШИН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8"/>
          <p:cNvSpPr txBox="1"/>
          <p:nvPr/>
        </p:nvSpPr>
        <p:spPr>
          <a:xfrm>
            <a:off x="4191120" y="5181480"/>
            <a:ext cx="390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ОЭЛЕМЕН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</a:rPr>
              <a:t>ИСТОЧНИКИ Т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9960" y="1622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Verdana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Verdan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ФОТОЭЛЕМЕНТ"/>
          <p:cNvPicPr/>
          <p:nvPr/>
        </p:nvPicPr>
        <p:blipFill>
          <a:blip r:embed="rId1"/>
          <a:stretch/>
        </p:blipFill>
        <p:spPr>
          <a:xfrm>
            <a:off x="4648320" y="1447920"/>
            <a:ext cx="4267080" cy="1884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ГАЛЬВАНИЧЕСКИЙ ЭЛЕМЕНТ"/>
          <p:cNvPicPr/>
          <p:nvPr/>
        </p:nvPicPr>
        <p:blipFill>
          <a:blip r:embed="rId2"/>
          <a:stretch/>
        </p:blipFill>
        <p:spPr>
          <a:xfrm>
            <a:off x="228600" y="4724280"/>
            <a:ext cx="6248520" cy="1981440"/>
          </a:xfrm>
          <a:prstGeom prst="rect">
            <a:avLst/>
          </a:prstGeom>
          <a:ln w="0">
            <a:noFill/>
          </a:ln>
        </p:spPr>
      </p:pic>
      <p:sp>
        <p:nvSpPr>
          <p:cNvPr id="79" name="WordArt 7"/>
          <p:cNvSpPr txBox="1"/>
          <p:nvPr/>
        </p:nvSpPr>
        <p:spPr>
          <a:xfrm>
            <a:off x="228600" y="1676520"/>
            <a:ext cx="4038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ОТОЭЛЕМЕН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228600" y="2819520"/>
            <a:ext cx="449568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762120" y="3886200"/>
            <a:ext cx="7848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ГАЛЬВАНИЧЕСКИЙ ЭЛЕМЕН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</a:rPr>
              <a:t>ИСТОЧНИКИ Т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ГЕНЕРАТОР"/>
          <p:cNvPicPr/>
          <p:nvPr/>
        </p:nvPicPr>
        <p:blipFill>
          <a:blip r:embed="rId1"/>
          <a:stretch/>
        </p:blipFill>
        <p:spPr>
          <a:xfrm>
            <a:off x="1143000" y="1776240"/>
            <a:ext cx="7086600" cy="4038840"/>
          </a:xfrm>
          <a:prstGeom prst="rect">
            <a:avLst/>
          </a:prstGeom>
          <a:ln w="0">
            <a:noFill/>
          </a:ln>
        </p:spPr>
      </p:pic>
      <p:sp>
        <p:nvSpPr>
          <p:cNvPr id="84" name="WordArt 10"/>
          <p:cNvSpPr txBox="1"/>
          <p:nvPr/>
        </p:nvSpPr>
        <p:spPr>
          <a:xfrm>
            <a:off x="2209680" y="6019920"/>
            <a:ext cx="6172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ЕНЕРАТ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edu94"/>
          <p:cNvPicPr/>
          <p:nvPr/>
        </p:nvPicPr>
        <p:blipFill>
          <a:blip r:embed="rId1"/>
          <a:stretch/>
        </p:blipFill>
        <p:spPr>
          <a:xfrm>
            <a:off x="152280" y="228600"/>
            <a:ext cx="1981440" cy="2209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160720" y="-360"/>
            <a:ext cx="698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бота с учебн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ойте учебники на с. 74. На рис 42-45 рассмотрите различные источники тока, найдите информацию и заполните табл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3124080"/>
          <a:ext cx="8077320" cy="3353040"/>
        </p:xfrm>
        <a:graphic>
          <a:graphicData uri="http://schemas.openxmlformats.org/drawingml/2006/table">
            <a:tbl>
              <a:tblPr/>
              <a:tblGrid>
                <a:gridCol w="538200"/>
                <a:gridCol w="2031840"/>
                <a:gridCol w="2711520"/>
                <a:gridCol w="2795760"/>
              </a:tblGrid>
              <a:tr h="155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источник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бразование энерг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источников т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52280" y="152280"/>
          <a:ext cx="8458200" cy="6400800"/>
        </p:xfrm>
        <a:graphic>
          <a:graphicData uri="http://schemas.openxmlformats.org/drawingml/2006/table">
            <a:tbl>
              <a:tblPr/>
              <a:tblGrid>
                <a:gridCol w="633600"/>
                <a:gridCol w="2262240"/>
                <a:gridCol w="2662200"/>
                <a:gridCol w="2900160"/>
              </a:tblGrid>
              <a:tr h="116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иды источ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еобразование энер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звание источников т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хан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ханическая энергия в электрическу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форная машина, генерато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6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яя энергия в электрическу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моэлемен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6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овая энергия в электрическу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элемент, солнечная батаре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4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ая энергия в электрическу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льванический элемент, аккумулятор, батаре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Закрепл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азывается электрическим то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ожет заставить заряженные частицы упорядоченно двига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можно создать электрическое п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искру, возникшую в электрофорной маш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ть электрическим то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Работа с миникроссвор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энергия в солнечных батареях преобразуется в  электрическу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ительная частица, входящая в состав яд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елимая частица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ом веществе при трении о шелк образуется положительный заря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, потерявший или присоединивший элект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ом веществе при трении о шерсть образуется отрицательный заря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е атома находи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граф 32. Вопросы 1-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 №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ий проект «Сделай батарей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я выдается каждому учен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Рефлексия в форме неоконченных фраз и вопро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на уроке я научил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мне было интересн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не понравилось…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изображен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ааа\Desktop\урок\источник1.jpg"/>
          <p:cNvPicPr/>
          <p:nvPr/>
        </p:nvPicPr>
        <p:blipFill>
          <a:blip r:embed="rId2"/>
          <a:stretch/>
        </p:blipFill>
        <p:spPr>
          <a:xfrm>
            <a:off x="533520" y="1219320"/>
            <a:ext cx="5118120" cy="3800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ааа\Desktop\урок\источник2.jpg"/>
          <p:cNvPicPr/>
          <p:nvPr/>
        </p:nvPicPr>
        <p:blipFill>
          <a:blip r:embed="rId3"/>
          <a:stretch/>
        </p:blipFill>
        <p:spPr>
          <a:xfrm>
            <a:off x="4932360" y="3321000"/>
            <a:ext cx="4200480" cy="3571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ема урока: Электрический ток.     Источники т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5"/>
          <p:cNvSpPr/>
          <p:nvPr/>
        </p:nvSpPr>
        <p:spPr>
          <a:xfrm>
            <a:off x="-36360" y="5791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ааа\Desktop\урок\ps1.jpg"/>
          <p:cNvPicPr/>
          <p:nvPr/>
        </p:nvPicPr>
        <p:blipFill>
          <a:blip r:embed="rId1"/>
          <a:stretch/>
        </p:blipFill>
        <p:spPr>
          <a:xfrm>
            <a:off x="2895480" y="1881360"/>
            <a:ext cx="4114800" cy="4481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кие вопросы будут рассматриваться в ходе уро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электрический 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я существования электрического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бывают источники т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81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такое электрический т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ааа\Desktop\урок\0003-004-Elektricheskij-tok-v-metallakh.jpg"/>
          <p:cNvPicPr/>
          <p:nvPr/>
        </p:nvPicPr>
        <p:blipFill>
          <a:blip r:embed="rId1"/>
          <a:stretch/>
        </p:blipFill>
        <p:spPr>
          <a:xfrm>
            <a:off x="1219320" y="1430280"/>
            <a:ext cx="7162560" cy="5454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ЭЛЕКТРИЧЕСКИЙ ТОК –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УПОРЯДОЧЕННОЕ (НАПРАВЛЕННОЕ) ДВИЖЕНИЕ ЗАРЯЖЕННЫХ ЧАС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333840" cy="85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J0236531"/>
          <p:cNvPicPr/>
          <p:nvPr/>
        </p:nvPicPr>
        <p:blipFill>
          <a:blip r:embed="rId1"/>
          <a:stretch/>
        </p:blipFill>
        <p:spPr>
          <a:xfrm>
            <a:off x="152280" y="2590920"/>
            <a:ext cx="2057400" cy="37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j0234266"/>
          <p:cNvPicPr/>
          <p:nvPr/>
        </p:nvPicPr>
        <p:blipFill>
          <a:blip r:embed="rId2"/>
          <a:stretch/>
        </p:blipFill>
        <p:spPr>
          <a:xfrm>
            <a:off x="6553080" y="2362320"/>
            <a:ext cx="259092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WordArt 7"/>
          <p:cNvSpPr txBox="1"/>
          <p:nvPr/>
        </p:nvSpPr>
        <p:spPr>
          <a:xfrm>
            <a:off x="304920" y="228600"/>
            <a:ext cx="83818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ПОЛУЧИТЬ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ЛЕКТРИЧЕСКИЙ ТОК,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ТОРЫЙ СУЩЕСТВОВАЛ Б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ЛИТЕЛЬНОЕ ВРЕМЯ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Условия существования электрического т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свободных электрических заря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электрического п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 электрического т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</a:rPr>
              <a:t>ИСТОЧНИКИ Т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8800" y="5911560"/>
            <a:ext cx="30481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Verdana"/>
              </a:rPr>
              <a:t>       </a:t>
            </a: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Мол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WordArt 9" descr="Бумажный пакет"/>
          <p:cNvPicPr/>
          <p:nvPr/>
        </p:nvPicPr>
        <p:blipFill>
          <a:blip r:embed="rId1"/>
          <a:stretch/>
        </p:blipFill>
        <p:spPr>
          <a:xfrm>
            <a:off x="981000" y="1743120"/>
            <a:ext cx="7334280" cy="78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5410440" cy="3433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ла</cp:lastModifiedBy>
  <dcterms:modified xsi:type="dcterms:W3CDTF">2014-12-17T06:30:02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