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2A1-7404-4666-89A7-99EA240D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DF9-5C2D-4F61-BC0B-2F85400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09F-6A96-42E6-90E5-65C5C44D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808-C6C8-4598-9696-92778EDC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099-B548-42FA-B37C-58F17A9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6EA-3E95-4FE6-B765-CE18DDD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13B-349E-4F57-B0CC-388AC6F0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DD3-BBA2-4F29-A5E4-023D008E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A91-A3F9-48A3-89A7-CF37BC4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EA5-8047-465D-9A58-8C8497D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DC2-574A-4434-8A15-C498A80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DEB-6D68-41FA-936B-AE7B825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173-3248-4B86-BB79-387408046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 чём пойдет реч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ааа\Desktop\урок\ток 2.jpg"/>
          <p:cNvPicPr/>
          <p:nvPr/>
        </p:nvPicPr>
        <p:blipFill>
          <a:blip r:embed="rId1"/>
          <a:stretch/>
        </p:blipFill>
        <p:spPr>
          <a:xfrm>
            <a:off x="3581280" y="1447920"/>
            <a:ext cx="5021280" cy="267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ааа\Desktop\урок\ток 3.jpeg"/>
          <p:cNvPicPr/>
          <p:nvPr/>
        </p:nvPicPr>
        <p:blipFill>
          <a:blip r:embed="rId2"/>
          <a:stretch/>
        </p:blipFill>
        <p:spPr>
          <a:xfrm>
            <a:off x="4780080" y="3679920"/>
            <a:ext cx="4338360" cy="325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ааа\Desktop\урок\ток 1.jpg"/>
          <p:cNvPicPr/>
          <p:nvPr/>
        </p:nvPicPr>
        <p:blipFill>
          <a:blip r:embed="rId3"/>
          <a:stretch/>
        </p:blipFill>
        <p:spPr>
          <a:xfrm>
            <a:off x="-20520" y="3365640"/>
            <a:ext cx="487656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5"/>
          <p:cNvSpPr/>
          <p:nvPr/>
        </p:nvSpPr>
        <p:spPr>
          <a:xfrm>
            <a:off x="-36360" y="579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ЭЛЕКТРОФОРНАЯ МАШИНА"/>
          <p:cNvPicPr/>
          <p:nvPr/>
        </p:nvPicPr>
        <p:blipFill>
          <a:blip r:embed="rId1"/>
          <a:stretch/>
        </p:blipFill>
        <p:spPr>
          <a:xfrm>
            <a:off x="228600" y="3733920"/>
            <a:ext cx="327672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термоэлемент"/>
          <p:cNvPicPr/>
          <p:nvPr/>
        </p:nvPicPr>
        <p:blipFill>
          <a:blip r:embed="rId2"/>
          <a:stretch/>
        </p:blipFill>
        <p:spPr>
          <a:xfrm>
            <a:off x="5638680" y="1447920"/>
            <a:ext cx="3200400" cy="268128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762120" y="1752480"/>
            <a:ext cx="420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ФОРНА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Ш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4191120" y="5181480"/>
            <a:ext cx="390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ОЭЛЕМЕН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960" y="162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ФОТОЭЛЕМЕНТ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188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ГАЛЬВАНИЧЕСКИЙ ЭЛЕМЕНТ"/>
          <p:cNvPicPr/>
          <p:nvPr/>
        </p:nvPicPr>
        <p:blipFill>
          <a:blip r:embed="rId2"/>
          <a:stretch/>
        </p:blipFill>
        <p:spPr>
          <a:xfrm>
            <a:off x="228600" y="4724280"/>
            <a:ext cx="624852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228600" y="1676520"/>
            <a:ext cx="4038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ОТОЭЛЕ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228600" y="2819520"/>
            <a:ext cx="44956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762120" y="3886200"/>
            <a:ext cx="7848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АЛЬВАНИЧЕСКИЙ ЭЛЕ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ГЕНЕРАТОР"/>
          <p:cNvPicPr/>
          <p:nvPr/>
        </p:nvPicPr>
        <p:blipFill>
          <a:blip r:embed="rId1"/>
          <a:stretch/>
        </p:blipFill>
        <p:spPr>
          <a:xfrm>
            <a:off x="1143000" y="1776240"/>
            <a:ext cx="708660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>
            <a:off x="2209680" y="6019920"/>
            <a:ext cx="617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НЕРА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du94"/>
          <p:cNvPicPr/>
          <p:nvPr/>
        </p:nvPicPr>
        <p:blipFill>
          <a:blip r:embed="rId1"/>
          <a:stretch/>
        </p:blipFill>
        <p:spPr>
          <a:xfrm>
            <a:off x="152280" y="228600"/>
            <a:ext cx="198144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60720" y="-360"/>
            <a:ext cx="698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та с учеб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те учебники на с. 74. На рис 42-45 рассмотрите различные источники тока, найдите информацию и заполните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3124080"/>
          <a:ext cx="8077320" cy="3353040"/>
        </p:xfrm>
        <a:graphic>
          <a:graphicData uri="http://schemas.openxmlformats.org/drawingml/2006/table">
            <a:tbl>
              <a:tblPr/>
              <a:tblGrid>
                <a:gridCol w="538200"/>
                <a:gridCol w="2031840"/>
                <a:gridCol w="2711520"/>
                <a:gridCol w="2795760"/>
              </a:tblGrid>
              <a:tr h="15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ание энерг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источников т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280" y="152280"/>
          <a:ext cx="8458200" cy="6400800"/>
        </p:xfrm>
        <a:graphic>
          <a:graphicData uri="http://schemas.openxmlformats.org/drawingml/2006/table">
            <a:tbl>
              <a:tblPr/>
              <a:tblGrid>
                <a:gridCol w="633600"/>
                <a:gridCol w="2262240"/>
                <a:gridCol w="2662200"/>
                <a:gridCol w="2900160"/>
              </a:tblGrid>
              <a:tr h="116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ды источ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образование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ние источников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форная машина, генерат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6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в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, солнечная батаре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4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й элемент, аккумулятор, батаре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Закрепл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зывается электрическим то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заставить заряженные частицы упорядоченно двиг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ожно создать электрическое п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искру, возникшую в электрофорной ма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ть электрическим то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Работа с миникроссвор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энергия в солнечных батареях преобразуется в  электрическ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ая частица, входящая в состав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елимая частица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веществе при трении о шелк образуется положительный за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, потерявший или присоединивший элект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веществе при трении о шерсть образуется отрицательный за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атома наход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 32. Вопросы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ий проект «Сделай батарей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выдается каждому уче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Рефлексия в форме неоконченных фраз и вопро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на уроке 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мне было интерес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е понравилось…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изображе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ааа\Desktop\урок\источник1.jpg"/>
          <p:cNvPicPr/>
          <p:nvPr/>
        </p:nvPicPr>
        <p:blipFill>
          <a:blip r:embed="rId2"/>
          <a:stretch/>
        </p:blipFill>
        <p:spPr>
          <a:xfrm>
            <a:off x="533520" y="1219320"/>
            <a:ext cx="5118120" cy="38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ааа\Desktop\урок\источник2.jpg"/>
          <p:cNvPicPr/>
          <p:nvPr/>
        </p:nvPicPr>
        <p:blipFill>
          <a:blip r:embed="rId3"/>
          <a:stretch/>
        </p:blipFill>
        <p:spPr>
          <a:xfrm>
            <a:off x="4932360" y="3321000"/>
            <a:ext cx="4200480" cy="357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ма урока: Электрический ток.     Источники т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5"/>
          <p:cNvSpPr/>
          <p:nvPr/>
        </p:nvSpPr>
        <p:spPr>
          <a:xfrm>
            <a:off x="-36360" y="579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ааа\Desktop\урок\ps1.jpg"/>
          <p:cNvPicPr/>
          <p:nvPr/>
        </p:nvPicPr>
        <p:blipFill>
          <a:blip r:embed="rId1"/>
          <a:stretch/>
        </p:blipFill>
        <p:spPr>
          <a:xfrm>
            <a:off x="2895480" y="1881360"/>
            <a:ext cx="4114800" cy="448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ие вопросы будут рассматриваться в ходе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существования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источники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электрический 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ааа\Desktop\урок\0003-004-Elektricheskij-tok-v-metallakh.jpg"/>
          <p:cNvPicPr/>
          <p:nvPr/>
        </p:nvPicPr>
        <p:blipFill>
          <a:blip r:embed="rId1"/>
          <a:stretch/>
        </p:blipFill>
        <p:spPr>
          <a:xfrm>
            <a:off x="1219320" y="1430280"/>
            <a:ext cx="7162560" cy="545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ЭЛЕКТРИЧЕСКИЙ ТОК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УПОРЯДОЧЕННОЕ (НАПРАВЛЕННОЕ) ДВИЖЕНИЕ ЗАРЯЖЕННЫХ ЧАС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333840" cy="85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236531"/>
          <p:cNvPicPr/>
          <p:nvPr/>
        </p:nvPicPr>
        <p:blipFill>
          <a:blip r:embed="rId1"/>
          <a:stretch/>
        </p:blipFill>
        <p:spPr>
          <a:xfrm>
            <a:off x="152280" y="2590920"/>
            <a:ext cx="2057400" cy="37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j0234266"/>
          <p:cNvPicPr/>
          <p:nvPr/>
        </p:nvPicPr>
        <p:blipFill>
          <a:blip r:embed="rId2"/>
          <a:stretch/>
        </p:blipFill>
        <p:spPr>
          <a:xfrm>
            <a:off x="6553080" y="2362320"/>
            <a:ext cx="25909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304920" y="228600"/>
            <a:ext cx="8381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ПОЛУЧИТ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ЛЕКТРИЧЕСКИЙ ТОК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ТОРЫЙ СУЩЕСТВОВАЛ Б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ЛИТЕЛЬНОЕ ВРЕМЯ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словия существования электрического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вободных электрических заря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электрического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лектрического 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8800" y="59115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Мол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WordArt 9" descr="Бумажный пакет"/>
          <p:cNvPicPr/>
          <p:nvPr/>
        </p:nvPicPr>
        <p:blipFill>
          <a:blip r:embed="rId1"/>
          <a:stretch/>
        </p:blipFill>
        <p:spPr>
          <a:xfrm>
            <a:off x="981000" y="1743120"/>
            <a:ext cx="7334280" cy="78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410440" cy="343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14-12-17T06:30:02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