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16CAA-9AFE-4A20-8C1C-80C232D5B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1510E-B71F-474D-8F53-8CF3D3209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5AF8B-3549-4732-B8CD-83C62434D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2C875-044F-4630-B5DB-0E288745E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7A84-23F8-46EA-98A1-FFE525849F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36222-AF25-40D3-AD4F-B807E693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7FA4F-0AE9-4D7F-9D46-833159AC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919E-BE2F-48D1-B21A-22330F0B26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4F3FB-E838-4BEF-8F9A-E0D087300C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9C665-4057-40A2-B9C1-41380200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62F32-8DEC-4B88-B908-3F883824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D0364-28C0-4709-8BD5-80615B55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E2F13-F9EB-46D2-8235-F3DF8911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10C6B-F064-4AF4-8D49-E226F2AE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C3893-E2A9-4EBD-ACC3-0869A1C5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D5816-7C04-4E2D-AE54-2B80EC7E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815C9-C73C-4C3B-9F17-46FE8D8D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57698-B8E2-42AA-8EED-18CD37A6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D04B4-5556-4767-91D2-8B856CB7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EE568-0DE2-4080-823E-0D1766FA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8901F-C888-4F00-AB41-B628001C26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471D-DC46-4756-A978-2480AFB49E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F15C-C124-4840-8924-865AB5E2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834F-FEF2-4311-A752-72C3C4C2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9341-0C5D-43E3-A1FA-1D8C50D3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BD69-39FC-44D8-B5A5-19F1459F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10D2-4B1D-459B-9E25-5D1EB7AE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391F-AA7B-4627-B3B8-282DE86C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FB7E-916D-47F0-A4C4-F1AF063D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FB55-DF19-4B37-A597-37A0A81C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5BD0-581B-4551-991E-11221050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AD05-9FEC-4C7E-A716-7754A78D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5918-204F-461B-9DCC-B3D9251B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4C1F-5680-480C-AB76-0B0ABE37F9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3DA5-B601-4E41-8B4D-570E4B3A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403F-CED5-4327-8FCD-C1C36E7D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4865-3FEA-4C61-81D5-756A9202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2FA7-8EC7-4993-9FCD-6C044913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9B32A-256D-450B-8CC9-9B2C4593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BE538-0646-4339-9C11-AE59DFC2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285A5-92DC-4C47-9939-1F01B8F43B60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2FD41-DDD5-4612-878A-96AF28625F86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84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4000"/>
          </a:bodyPr>
          <a:p>
            <a:pPr marL="478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536E5-1869-452F-9D52-F03501672391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15637-07A4-4448-A610-4B285C211F5B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8862D-2EF9-47BE-B339-CCA7748220DA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2E5B8-0F25-4F37-A9A1-9DF7555B6E67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2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едметно-развивающая среда              в детском саду в рамках 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4424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МБДОУ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асловский детский сад «Ягод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аримуллина З.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е: Художественно — эстетическое развитие. </a:t>
            </a:r>
            <a:br>
              <a:rPr sz="1800"/>
            </a:br>
            <a:br>
              <a:rPr sz="1800"/>
            </a:br>
            <a:r>
              <a:rPr b="1" i="1" lang="ru-RU" sz="1800" spc="-1" strike="noStrike" u="sng">
                <a:solidFill>
                  <a:srgbClr val="00664d"/>
                </a:solidFill>
                <a:uFillTx/>
                <a:latin typeface="Arial"/>
              </a:rPr>
              <a:t>В Центре «Творческая мастерская»</a:t>
            </a:r>
            <a:r>
              <a:rPr b="0" lang="ru-RU" sz="1800" spc="-1" strike="noStrike" u="sng">
                <a:solidFill>
                  <a:srgbClr val="2d2db9"/>
                </a:solidFill>
                <a:uFillTx/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d2db9"/>
                </a:solidFill>
                <a:latin typeface="Arial"/>
              </a:rPr>
              <a:t>находится материал и оборудование для художественно-творческой деятельности: рисования, лепки и аппликации. По желанию ребенок может найти и воспользоваться необходимым, для воплощения своих творческих идей, замыслов, фантазии. К данному центру имеется свободный досту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7" descr="P4010088.JPG"/>
          <p:cNvPicPr/>
          <p:nvPr/>
        </p:nvPicPr>
        <p:blipFill>
          <a:blip r:embed="rId1"/>
          <a:stretch/>
        </p:blipFill>
        <p:spPr>
          <a:xfrm>
            <a:off x="468360" y="2781360"/>
            <a:ext cx="4324320" cy="3241440"/>
          </a:xfrm>
          <a:prstGeom prst="rect">
            <a:avLst/>
          </a:prstGeom>
          <a:ln w="0">
            <a:noFill/>
          </a:ln>
        </p:spPr>
      </p:pic>
      <p:pic>
        <p:nvPicPr>
          <p:cNvPr id="155" name="Содержимое 12" descr="P4010095.JPG"/>
          <p:cNvPicPr/>
          <p:nvPr/>
        </p:nvPicPr>
        <p:blipFill>
          <a:blip r:embed="rId2"/>
          <a:stretch/>
        </p:blipFill>
        <p:spPr>
          <a:xfrm>
            <a:off x="5003640" y="2133720"/>
            <a:ext cx="3416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правление: Речевое развитие                                </a:t>
            </a:r>
            <a:r>
              <a:rPr b="1" i="1" lang="ru-RU" sz="1800" spc="-1" strike="noStrike" u="sng">
                <a:solidFill>
                  <a:srgbClr val="009973"/>
                </a:solidFill>
                <a:uFillTx/>
                <a:latin typeface="Arial"/>
              </a:rPr>
              <a:t>Центр «Мир книги»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 играет существенную роль в формировании у детей интереса и любви к художественной литературе. В этом уголке ребенок имеет возможность самостоятельно, по своему вкусу выбрать книгу и спокойно рассмотреть ее с яркими иллюстрациям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4" descr="P4270159.JPG"/>
          <p:cNvPicPr/>
          <p:nvPr/>
        </p:nvPicPr>
        <p:blipFill>
          <a:blip r:embed="rId1"/>
          <a:stretch/>
        </p:blipFill>
        <p:spPr>
          <a:xfrm>
            <a:off x="2246400" y="1700280"/>
            <a:ext cx="38876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 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равление: Познавательное развит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Центр опытно-экспериментальной деятельности.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ем находится материал, для осуществления опытной деятельности:  лупы, колбы, мерные стаканчики, воронки, песочные часы, грунт, камни, семена, крупы и т. Наши маленькие «почемучки» проводят несложные опыты,определяют  свойства различных               природных материалов.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Содержимое 4" descr="P4010087.JPG"/>
          <p:cNvPicPr/>
          <p:nvPr/>
        </p:nvPicPr>
        <p:blipFill>
          <a:blip r:embed="rId1"/>
          <a:stretch/>
        </p:blipFill>
        <p:spPr>
          <a:xfrm>
            <a:off x="1332000" y="2997360"/>
            <a:ext cx="628488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Центр «Природы»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в себя экологическую деятельность. В данном уголке содержатся различные виды комнатных растений, на которых удобно демонстрировать видоизменения частей растения, инструменты по уходу за этими растениями: палочки для рыхления, пульверизатор, лейки и д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мимо комнатных растений, в данном центре оформлены  макеты (пустыня, животный мир, аквариум, скворечник, улей, клетка с птичками и т.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Содержимое 4" descr="P3270439.JPG"/>
          <p:cNvPicPr/>
          <p:nvPr/>
        </p:nvPicPr>
        <p:blipFill>
          <a:blip r:embed="rId1"/>
          <a:stretch/>
        </p:blipFill>
        <p:spPr>
          <a:xfrm>
            <a:off x="1547640" y="2421000"/>
            <a:ext cx="5588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воре зима, а в группе на подоконнике у нас весна. В холодный период года  мы с детьми создаем мини – огород на подоконнике.  Это возможность живого общения детей с растениями. Кто завел такой огород, непременно увлечется еще и экспериментированием, эко-дизайном. Зимний огород я устроила с большой выдумкой: оформила его в виде деревенского двора, декорировала подходящими постройками и декоративными аксессуарам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одержимое 4" descr="P3270081.JPG"/>
          <p:cNvPicPr/>
          <p:nvPr/>
        </p:nvPicPr>
        <p:blipFill>
          <a:blip r:embed="rId1"/>
          <a:stretch/>
        </p:blipFill>
        <p:spPr>
          <a:xfrm>
            <a:off x="611280" y="2133720"/>
            <a:ext cx="75898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Содержимое 6" descr="P3270083.JPG"/>
          <p:cNvPicPr/>
          <p:nvPr/>
        </p:nvPicPr>
        <p:blipFill>
          <a:blip r:embed="rId1"/>
          <a:stretch/>
        </p:blipFill>
        <p:spPr>
          <a:xfrm>
            <a:off x="324000" y="836640"/>
            <a:ext cx="84373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00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конник отличное место для разведения небольшого домашнего огорода. Процесс выращивания на окне свежей зелени несложен и почти не требует материальных затрат, зато сколько удовольствия для детей и пользы. Этот уголок развивает любознательность и наблюдательность у детей, помогает им лучше познать жизнь растени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Содержимое 5" descr="P3270082.JPG"/>
          <p:cNvPicPr/>
          <p:nvPr/>
        </p:nvPicPr>
        <p:blipFill>
          <a:blip r:embed="rId1"/>
          <a:stretch/>
        </p:blipFill>
        <p:spPr>
          <a:xfrm>
            <a:off x="179280" y="2133720"/>
            <a:ext cx="4229280" cy="3170160"/>
          </a:xfrm>
          <a:prstGeom prst="rect">
            <a:avLst/>
          </a:prstGeom>
          <a:ln w="0">
            <a:noFill/>
          </a:ln>
        </p:spPr>
      </p:pic>
      <p:pic>
        <p:nvPicPr>
          <p:cNvPr id="167" name="Содержимое 6" descr="P4010091.JPG"/>
          <p:cNvPicPr/>
          <p:nvPr/>
        </p:nvPicPr>
        <p:blipFill>
          <a:blip r:embed="rId2"/>
          <a:stretch/>
        </p:blipFill>
        <p:spPr>
          <a:xfrm>
            <a:off x="4572000" y="3284640"/>
            <a:ext cx="41338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700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000" spc="-1" strike="noStrike" u="sng">
                <a:solidFill>
                  <a:srgbClr val="2d2db9"/>
                </a:solidFill>
                <a:uFillTx/>
                <a:latin typeface="Arial"/>
              </a:rPr>
              <a:t>«Строительный» (конструктивный) центр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,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ть и сосредоточен на одном месте и занимает немного пространства, он достаточно мобилен. Практичность его состоит в том, что с содержанием строительного уголка (конструктор различного вида, крупный и мелкий конструктор) можно перемещаться в любое место группы и организовывать дан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Содержимое 4" descr="P4010086.JPG"/>
          <p:cNvPicPr/>
          <p:nvPr/>
        </p:nvPicPr>
        <p:blipFill>
          <a:blip r:embed="rId1"/>
          <a:stretch/>
        </p:blipFill>
        <p:spPr>
          <a:xfrm>
            <a:off x="1835280" y="2565360"/>
            <a:ext cx="5346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72880"/>
            <a:ext cx="82170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400" spc="-1" strike="noStrike" u="sng">
                <a:solidFill>
                  <a:srgbClr val="2d2db9"/>
                </a:solidFill>
                <a:uFillTx/>
                <a:latin typeface="Arial"/>
              </a:rPr>
              <a:t>Центр «Дидактических игр» (игротека)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  решает следующие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еленаправленное  формирование у детей интереса к элементарной математической деятельности, воспитание у детей потребности занимать свое свободное время не только интересными, но и требующими умственного напряжения, интеллектуального усилия играми.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одержимое 4" descr="P4010097а.jpg"/>
          <p:cNvPicPr/>
          <p:nvPr/>
        </p:nvPicPr>
        <p:blipFill>
          <a:blip r:embed="rId1"/>
          <a:stretch/>
        </p:blipFill>
        <p:spPr>
          <a:xfrm>
            <a:off x="636480" y="2349360"/>
            <a:ext cx="75344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Направление: Социально-личностное развитие. </a:t>
            </a:r>
            <a:br>
              <a:rPr sz="2000"/>
            </a:b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Игра - основной вид деятельности наших малышей. Яркий, насыщенный игровой центр создает условия для творческой деятельности детей, развивает фантазию, формирует игровые навыки и умения, воспитывает дружеское взаимоотношение между детьми.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 свободном доступе для детей находятся атрибуты для зарождающихся в этом возрасте сюжетно- ролевых иг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40323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Семь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59280" y="2204640"/>
            <a:ext cx="38260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 fontScale="82000"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Больниц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Содержимое 7" descr="P4010094.JPG"/>
          <p:cNvPicPr/>
          <p:nvPr/>
        </p:nvPicPr>
        <p:blipFill>
          <a:blip r:embed="rId1"/>
          <a:stretch/>
        </p:blipFill>
        <p:spPr>
          <a:xfrm>
            <a:off x="5219640" y="2565360"/>
            <a:ext cx="3105360" cy="4143240"/>
          </a:xfrm>
          <a:prstGeom prst="rect">
            <a:avLst/>
          </a:prstGeom>
          <a:ln w="0">
            <a:noFill/>
          </a:ln>
        </p:spPr>
      </p:pic>
      <p:pic>
        <p:nvPicPr>
          <p:cNvPr id="176" name="Содержимое 7" descr="P4270140.JPG"/>
          <p:cNvPicPr/>
          <p:nvPr/>
        </p:nvPicPr>
        <p:blipFill>
          <a:blip r:embed="rId2"/>
          <a:stretch/>
        </p:blipFill>
        <p:spPr>
          <a:xfrm>
            <a:off x="193680" y="3141720"/>
            <a:ext cx="47386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2"/>
          <p:cNvSpPr/>
          <p:nvPr/>
        </p:nvSpPr>
        <p:spPr>
          <a:xfrm>
            <a:off x="539640" y="189000"/>
            <a:ext cx="806472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Предметно-развивающая среда в Д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Особо актуально на сегодняшний день стоит вопрос организации предметно-развивающей среды ДОУ. Это связано с введением Федерального государственного образовательного стандарта (ФГОС) к структуре основной общеобразовательной программы дошкольного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В соответствии с ФГОС программа должна строиться с учетом принципа интеграции образовательных областей и в соответствии с возрастными возможностями и особенностями воспитанников. Решение программных образовательных задач предусматривается не только в совместной де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я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тельности взрослого и детей, но и в самостоятельной деятельности детей, а также при проведении режимных мо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Всем известно, что основной формой работы с дошкольниками и ведущим видом деятельности детей является игра. Именно поэтому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мы воспитатели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испытыва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ем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повышенный интерес к обновлению предметно-развивающей среды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Каф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Содержимое 7" descr="P4010098.JPG"/>
          <p:cNvPicPr/>
          <p:nvPr/>
        </p:nvPicPr>
        <p:blipFill>
          <a:blip r:embed="rId1"/>
          <a:stretch/>
        </p:blipFill>
        <p:spPr>
          <a:xfrm>
            <a:off x="468360" y="1471680"/>
            <a:ext cx="3490920" cy="4654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56000" y="549000"/>
            <a:ext cx="4402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 fontScale="92000"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Парикмахерска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Содержимое 8" descr="P4010085.JPG"/>
          <p:cNvPicPr/>
          <p:nvPr/>
        </p:nvPicPr>
        <p:blipFill>
          <a:blip r:embed="rId2"/>
          <a:stretch/>
        </p:blipFill>
        <p:spPr>
          <a:xfrm>
            <a:off x="4667400" y="1484280"/>
            <a:ext cx="34797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Магазин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Содержимое 7" descr="P4010097.jpg"/>
          <p:cNvPicPr/>
          <p:nvPr/>
        </p:nvPicPr>
        <p:blipFill>
          <a:blip r:embed="rId1"/>
          <a:stretch/>
        </p:blipFill>
        <p:spPr>
          <a:xfrm>
            <a:off x="77760" y="1052640"/>
            <a:ext cx="4422960" cy="2454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58920" y="1267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Гараж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Содержимое 7" descr="P4270165.JPG"/>
          <p:cNvPicPr/>
          <p:nvPr/>
        </p:nvPicPr>
        <p:blipFill>
          <a:blip r:embed="rId2"/>
          <a:stretch/>
        </p:blipFill>
        <p:spPr>
          <a:xfrm>
            <a:off x="4645080" y="2276640"/>
            <a:ext cx="4498920" cy="337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339640" y="76500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Уголок ПДД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Содержимое 7" descr="P4010128.JPG"/>
          <p:cNvPicPr/>
          <p:nvPr/>
        </p:nvPicPr>
        <p:blipFill>
          <a:blip r:embed="rId1"/>
          <a:stretch/>
        </p:blipFill>
        <p:spPr>
          <a:xfrm>
            <a:off x="179280" y="1557360"/>
            <a:ext cx="4518000" cy="33876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1640" y="980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Содержимое 8" descr="P4010129.JPG"/>
          <p:cNvPicPr/>
          <p:nvPr/>
        </p:nvPicPr>
        <p:blipFill>
          <a:blip r:embed="rId2"/>
          <a:stretch/>
        </p:blipFill>
        <p:spPr>
          <a:xfrm>
            <a:off x="4643280" y="3068640"/>
            <a:ext cx="4330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Calibri"/>
              </a:rPr>
              <a:t>Предметно-развивающая среда спортивного з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C:\Users\Зульфира\Desktop\Новая папка\P4270144.JPG"/>
          <p:cNvPicPr/>
          <p:nvPr/>
        </p:nvPicPr>
        <p:blipFill>
          <a:blip r:embed="rId2"/>
          <a:stretch/>
        </p:blipFill>
        <p:spPr>
          <a:xfrm>
            <a:off x="971640" y="1484280"/>
            <a:ext cx="3330360" cy="444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C:\Users\Зульфира\Desktop\Новая папка\P4270145.JPG"/>
          <p:cNvPicPr/>
          <p:nvPr/>
        </p:nvPicPr>
        <p:blipFill>
          <a:blip r:embed="rId3"/>
          <a:stretch/>
        </p:blipFill>
        <p:spPr>
          <a:xfrm>
            <a:off x="4716360" y="1484280"/>
            <a:ext cx="336384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Arial"/>
              </a:rPr>
              <a:t>Кабинет пред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Содержимое 4" descr="P4270152.JPG"/>
          <p:cNvPicPr/>
          <p:nvPr/>
        </p:nvPicPr>
        <p:blipFill>
          <a:blip r:embed="rId1"/>
          <a:stretch/>
        </p:blipFill>
        <p:spPr>
          <a:xfrm>
            <a:off x="1547640" y="692280"/>
            <a:ext cx="6177240" cy="4633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280" y="272880"/>
            <a:ext cx="814572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2d2db9"/>
                </a:solidFill>
                <a:latin typeface="Arial"/>
              </a:rPr>
              <a:t>и татарского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Содержимое 4" descr="P4270156.JPG"/>
          <p:cNvPicPr/>
          <p:nvPr/>
        </p:nvPicPr>
        <p:blipFill>
          <a:blip r:embed="rId1"/>
          <a:stretch/>
        </p:blipFill>
        <p:spPr>
          <a:xfrm>
            <a:off x="1332000" y="981000"/>
            <a:ext cx="6492960" cy="4399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Детям в садике должно быть интересно, с этой целью, чтобы как-то разнообразить прибытие ребенка в детском саду, мы всем коллективом, а также с помощью родителей обустроили сенсорную комнату, а точнее комнату отдыха.  Сенсорная комната - это организованная особым образом окружающая среда, состоящая из множества различного рода стимуляторов, которые воздействуют на органы зрения, слуха, обоняния, осязания и вестибулярные рецепторы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Содержимое 6" descr="P4010108.JPG"/>
          <p:cNvPicPr/>
          <p:nvPr/>
        </p:nvPicPr>
        <p:blipFill>
          <a:blip r:embed="rId1"/>
          <a:stretch/>
        </p:blipFill>
        <p:spPr>
          <a:xfrm>
            <a:off x="1692360" y="2276640"/>
            <a:ext cx="610560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а сенсорная комната содержит следующее оборудование:</a:t>
            </a:r>
            <a:br>
              <a:rPr sz="2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ЯГКАЯ СРЕД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уют, комфорт и безопасность. Главной её целью является создание условий для релаксации и спокойного состоя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Содержимое 8" descr="P4010114.JPG"/>
          <p:cNvPicPr/>
          <p:nvPr/>
        </p:nvPicPr>
        <p:blipFill>
          <a:blip r:embed="rId1"/>
          <a:stretch/>
        </p:blipFill>
        <p:spPr>
          <a:xfrm>
            <a:off x="1476360" y="1628640"/>
            <a:ext cx="61056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АКТИЛЬНАЯ СРЕД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зволяет освоить новые ощущения и развить тактильную чувствительность, учит различать свойства предметов и улучшает зрительно-моторную координацию. Например здесь у нас различные тактильные панели, напольные покрытия, столики для рисования пес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Содержимое 5" descr="P4010118.JPG"/>
          <p:cNvPicPr/>
          <p:nvPr/>
        </p:nvPicPr>
        <p:blipFill>
          <a:blip r:embed="rId1"/>
          <a:stretch/>
        </p:blipFill>
        <p:spPr>
          <a:xfrm>
            <a:off x="179280" y="1916280"/>
            <a:ext cx="4613400" cy="3460680"/>
          </a:xfrm>
          <a:prstGeom prst="rect">
            <a:avLst/>
          </a:prstGeom>
          <a:ln w="0">
            <a:noFill/>
          </a:ln>
        </p:spPr>
      </p:pic>
      <p:pic>
        <p:nvPicPr>
          <p:cNvPr id="208" name="Содержимое 6" descr="P4010111.JPG"/>
          <p:cNvPicPr/>
          <p:nvPr/>
        </p:nvPicPr>
        <p:blipFill>
          <a:blip r:embed="rId2"/>
          <a:stretch/>
        </p:blipFill>
        <p:spPr>
          <a:xfrm>
            <a:off x="4572000" y="3213000"/>
            <a:ext cx="432576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ru-RU" sz="2400" spc="-1" strike="noStrike">
                <a:solidFill>
                  <a:srgbClr val="2d2db9"/>
                </a:solidFill>
                <a:latin typeface="Arial"/>
              </a:rPr>
              <a:t>Также здесь дидактические и настольные игры,  игры и средства для развития мелкой моторики ру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Содержимое 5" descr="P4010112.JPG"/>
          <p:cNvPicPr/>
          <p:nvPr/>
        </p:nvPicPr>
        <p:blipFill>
          <a:blip r:embed="rId1"/>
          <a:stretch/>
        </p:blipFill>
        <p:spPr>
          <a:xfrm>
            <a:off x="179280" y="1916280"/>
            <a:ext cx="4392720" cy="329544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6" descr="P4010113.JPG"/>
          <p:cNvPicPr/>
          <p:nvPr/>
        </p:nvPicPr>
        <p:blipFill>
          <a:blip r:embed="rId2"/>
          <a:stretch/>
        </p:blipFill>
        <p:spPr>
          <a:xfrm>
            <a:off x="4643280" y="1916280"/>
            <a:ext cx="4297680" cy="3224160"/>
          </a:xfrm>
          <a:prstGeom prst="rect">
            <a:avLst/>
          </a:prstGeom>
          <a:ln w="0">
            <a:noFill/>
          </a:ln>
        </p:spPr>
      </p:pic>
      <p:sp>
        <p:nvSpPr>
          <p:cNvPr id="212" name="Дата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7880D-8A93-4FEB-9A2B-966388719645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3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Что такое предметно - развивающая среда?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(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Терминология</a:t>
            </a:r>
            <a:r>
              <a:rPr b="0" lang="ru-RU" sz="3600" spc="-1" strike="noStrike">
                <a:solidFill>
                  <a:srgbClr val="00b050"/>
                </a:solidFill>
                <a:latin typeface="Monotype Corsiv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1116000" y="1628640"/>
            <a:ext cx="70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реда  развития ребёнка в структуре ФГОС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– это комплекс материально-технических, санитарно  -гигиенических, социально- бытовых, общественных, эргономических, эстетических, психолого-педагогических , духовных условий, обеспечивающих организацию жизни детей и взрослых в ДОУ</a:t>
            </a:r>
            <a:r>
              <a:rPr b="1" i="1" lang="en-US" sz="2800" spc="-1" strike="noStrike">
                <a:solidFill>
                  <a:srgbClr val="2d2db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Содержимое 5" descr="P4010117.JPG"/>
          <p:cNvPicPr/>
          <p:nvPr/>
        </p:nvPicPr>
        <p:blipFill>
          <a:blip r:embed="rId1"/>
          <a:stretch/>
        </p:blipFill>
        <p:spPr>
          <a:xfrm>
            <a:off x="250920" y="1125360"/>
            <a:ext cx="5021280" cy="376560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6" descr="P4010110.JPG"/>
          <p:cNvPicPr/>
          <p:nvPr/>
        </p:nvPicPr>
        <p:blipFill>
          <a:blip r:embed="rId2"/>
          <a:stretch/>
        </p:blipFill>
        <p:spPr>
          <a:xfrm>
            <a:off x="5435640" y="765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Дата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151FC-0DDD-4507-B687-E0FBF1C6D6EF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972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</a:rPr>
              <a:t>В сенсорной комнате с помощью различных элементов создаётся ощущение комфорта и безопасности. Спокойная цветовая гамма обстановки, приятные ароматы, тихая нежная музыка - все это создает ощущение покоя, умиротворё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Дата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Содержимое 5" descr="P4010115.JPG"/>
          <p:cNvPicPr/>
          <p:nvPr/>
        </p:nvPicPr>
        <p:blipFill>
          <a:blip r:embed="rId1"/>
          <a:stretch/>
        </p:blipFill>
        <p:spPr>
          <a:xfrm>
            <a:off x="985680" y="1604880"/>
            <a:ext cx="3370320" cy="4496040"/>
          </a:xfrm>
          <a:prstGeom prst="rect">
            <a:avLst/>
          </a:prstGeom>
          <a:ln w="0">
            <a:noFill/>
          </a:ln>
        </p:spPr>
      </p:pic>
      <p:pic>
        <p:nvPicPr>
          <p:cNvPr id="221" name="Содержимое 6" descr="P4010109.JPG"/>
          <p:cNvPicPr/>
          <p:nvPr/>
        </p:nvPicPr>
        <p:blipFill>
          <a:blip r:embed="rId2"/>
          <a:stretch/>
        </p:blipFill>
        <p:spPr>
          <a:xfrm>
            <a:off x="5175360" y="1604880"/>
            <a:ext cx="3284280" cy="4380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"/>
          <p:cNvPicPr/>
          <p:nvPr/>
        </p:nvPicPr>
        <p:blipFill>
          <a:blip r:embed="rId3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8584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Мы работники нашего детского садика стараемся максимально задействовать, использовать  все доступные, пустые помещения и зоны, которые у нас есть.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Например мы обустроили кинозал, где наши дети просматривают обучающие мультфильмы, презен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Содержимое 4" descr="P4010101.JPG"/>
          <p:cNvPicPr/>
          <p:nvPr/>
        </p:nvPicPr>
        <p:blipFill>
          <a:blip r:embed="rId1"/>
          <a:stretch/>
        </p:blipFill>
        <p:spPr>
          <a:xfrm>
            <a:off x="1979640" y="2151000"/>
            <a:ext cx="53719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78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Arial"/>
              </a:rPr>
              <a:t>Музей (Деревенский бы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Содержимое 5" descr="P4270146.JPG"/>
          <p:cNvPicPr/>
          <p:nvPr/>
        </p:nvPicPr>
        <p:blipFill>
          <a:blip r:embed="rId1"/>
          <a:stretch/>
        </p:blipFill>
        <p:spPr>
          <a:xfrm>
            <a:off x="611280" y="692280"/>
            <a:ext cx="4124160" cy="2520720"/>
          </a:xfrm>
          <a:prstGeom prst="rect">
            <a:avLst/>
          </a:prstGeom>
          <a:ln w="0">
            <a:noFill/>
          </a:ln>
        </p:spPr>
      </p:pic>
      <p:pic>
        <p:nvPicPr>
          <p:cNvPr id="227" name="Содержимое 6" descr="P4270147.JPG"/>
          <p:cNvPicPr/>
          <p:nvPr/>
        </p:nvPicPr>
        <p:blipFill>
          <a:blip r:embed="rId2"/>
          <a:stretch/>
        </p:blipFill>
        <p:spPr>
          <a:xfrm>
            <a:off x="5148360" y="1052640"/>
            <a:ext cx="3574800" cy="4767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Зульфира\Desktop\Новая папка\P4270151.JPG"/>
          <p:cNvPicPr/>
          <p:nvPr/>
        </p:nvPicPr>
        <p:blipFill>
          <a:blip r:embed="rId3"/>
          <a:stretch/>
        </p:blipFill>
        <p:spPr>
          <a:xfrm>
            <a:off x="468360" y="3429000"/>
            <a:ext cx="4281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У нас есть большой музыкальный зал, который мы всегда разнообразно украшаем и проводим там наши праздники и различные меро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Содержимое 7" descr="P4270157.JPG"/>
          <p:cNvPicPr/>
          <p:nvPr/>
        </p:nvPicPr>
        <p:blipFill>
          <a:blip r:embed="rId1"/>
          <a:stretch/>
        </p:blipFill>
        <p:spPr>
          <a:xfrm>
            <a:off x="250920" y="1268280"/>
            <a:ext cx="4037040" cy="2521080"/>
          </a:xfrm>
          <a:prstGeom prst="rect">
            <a:avLst/>
          </a:prstGeom>
          <a:ln w="0">
            <a:noFill/>
          </a:ln>
        </p:spPr>
      </p:pic>
      <p:pic>
        <p:nvPicPr>
          <p:cNvPr id="231" name="Содержимое 6" descr="P3070206.JPG"/>
          <p:cNvPicPr/>
          <p:nvPr/>
        </p:nvPicPr>
        <p:blipFill>
          <a:blip r:embed="rId2"/>
          <a:stretch/>
        </p:blipFill>
        <p:spPr>
          <a:xfrm>
            <a:off x="4356000" y="1268280"/>
            <a:ext cx="4503960" cy="2592360"/>
          </a:xfrm>
          <a:prstGeom prst="rect">
            <a:avLst/>
          </a:prstGeom>
          <a:ln w="0">
            <a:noFill/>
          </a:ln>
        </p:spPr>
      </p:pic>
      <p:sp>
        <p:nvSpPr>
          <p:cNvPr id="232" name="Дата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" descr=""/>
          <p:cNvPicPr/>
          <p:nvPr/>
        </p:nvPicPr>
        <p:blipFill>
          <a:blip r:embed="rId3"/>
          <a:stretch/>
        </p:blipFill>
        <p:spPr>
          <a:xfrm>
            <a:off x="0" y="573264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C:\Users\Зульфира\Desktop\PA190524.JPG"/>
          <p:cNvPicPr/>
          <p:nvPr/>
        </p:nvPicPr>
        <p:blipFill>
          <a:blip r:embed="rId4"/>
          <a:stretch/>
        </p:blipFill>
        <p:spPr>
          <a:xfrm>
            <a:off x="2411280" y="3645000"/>
            <a:ext cx="41259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 каждому времени года мы обустраиваем в холле детского сада сезонный природный уголок, который радует глаз наших детей, родителей и г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Содержимое 4" descr="P7250064.JPG"/>
          <p:cNvPicPr/>
          <p:nvPr/>
        </p:nvPicPr>
        <p:blipFill>
          <a:blip r:embed="rId1"/>
          <a:stretch/>
        </p:blipFill>
        <p:spPr>
          <a:xfrm>
            <a:off x="4284720" y="2133720"/>
            <a:ext cx="4414680" cy="331128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5" descr="PC150015.JPG"/>
          <p:cNvPicPr/>
          <p:nvPr/>
        </p:nvPicPr>
        <p:blipFill>
          <a:blip r:embed="rId2"/>
          <a:stretch/>
        </p:blipFill>
        <p:spPr>
          <a:xfrm>
            <a:off x="250920" y="1212840"/>
            <a:ext cx="3716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Часто устраиваем конкурсы поделок для родителей, после чего их творения служат нам как украшением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Содержимое 8" descr="P4010127.JPG"/>
          <p:cNvPicPr/>
          <p:nvPr/>
        </p:nvPicPr>
        <p:blipFill>
          <a:blip r:embed="rId1"/>
          <a:stretch/>
        </p:blipFill>
        <p:spPr>
          <a:xfrm>
            <a:off x="5003640" y="1268280"/>
            <a:ext cx="3673800" cy="4897440"/>
          </a:xfrm>
          <a:prstGeom prst="rect">
            <a:avLst/>
          </a:prstGeom>
          <a:ln w="0">
            <a:noFill/>
          </a:ln>
        </p:spPr>
      </p:pic>
      <p:pic>
        <p:nvPicPr>
          <p:cNvPr id="240" name="Содержимое 6" descr="P1130201.JPG"/>
          <p:cNvPicPr/>
          <p:nvPr/>
        </p:nvPicPr>
        <p:blipFill>
          <a:blip r:embed="rId2"/>
          <a:stretch/>
        </p:blipFill>
        <p:spPr>
          <a:xfrm>
            <a:off x="468360" y="2133720"/>
            <a:ext cx="433692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2"/>
          <p:cNvSpPr/>
          <p:nvPr/>
        </p:nvSpPr>
        <p:spPr>
          <a:xfrm>
            <a:off x="539640" y="549360"/>
            <a:ext cx="7704360" cy="3660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ошкольный возраст - это то время, когда закладывается фундамент всей жизни человека. И если уделять внимание предметно-развивающей среде ребёнка, его сенсорной восприимчивости окружающего мира, это будет способствовать становлению гармоничной, самодостаточной 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Monotype Corsiva"/>
              </a:rPr>
              <a:t>Благодарим за внимание!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Monotype Corsiva"/>
              </a:rPr>
              <a:t>Желаем успеха в профессиональной деятельности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Содержимое 4" descr="P5120265.JPG"/>
          <p:cNvPicPr/>
          <p:nvPr/>
        </p:nvPicPr>
        <p:blipFill>
          <a:blip r:embed="rId1"/>
          <a:stretch/>
        </p:blipFill>
        <p:spPr>
          <a:xfrm>
            <a:off x="1619280" y="1989000"/>
            <a:ext cx="568944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Требования ФГОС                                                          к  предметно - развивающей среде: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7848720" cy="32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 Доступность для воспитанников всех помещений организации, где осуществляется образовательный процесс.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 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 Свободный доступ воспитанников к играм, игрушкам, материалам, пособиям, обеспечивающих все основные виды деятельности. </a:t>
            </a:r>
            <a:r>
              <a:rPr b="1" lang="ru-RU" sz="3200" spc="-1" strike="noStrike">
                <a:solidFill>
                  <a:srgbClr val="3333cc"/>
                </a:solidFill>
                <a:latin typeface="Calibri"/>
              </a:rPr>
              <a:t>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2"/>
          <p:cNvSpPr/>
          <p:nvPr/>
        </p:nvSpPr>
        <p:spPr>
          <a:xfrm>
            <a:off x="755640" y="260280"/>
            <a:ext cx="770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Факторы, которые следует учитывать при организации ПР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Следует всячески ограждать детей от отрицательного влияния игрушек, которые: провоцируют ребенка на агрессивные действия и  вызывают проявление жестокости,  провоцируют игровые сюжеты, связанные с безнравственностью и насилием, выходящим за компетенцию детск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Антропометрические факторы, обеспечивающие соответствие росто-возрасных характеристик параметрам предметной развивающей среды. Мебель должна находиться в соответствии с требованиями САНПиН и 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2"/>
          <p:cNvSpPr/>
          <p:nvPr/>
        </p:nvSpPr>
        <p:spPr>
          <a:xfrm>
            <a:off x="539640" y="333360"/>
            <a:ext cx="799308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Предметная развивающая среда должна способствовать реализации образовательных областей в образовательном процессе, включающ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) совместную партнерскую деятельность взрослого и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) свободную самостоятельную деятельность самих детей в условиях созданной педагогами предметной развивающей образовательной среды, обеспечивающей выбор каждым ребенком деятельности по интересам и позволяющей ему взаимодействовать со сверстниками или действовать индивидуальн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едметно – пространственная развивающая среда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олжн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рганизовываться с учётом требований ФГОС, где чётко прослеживаются все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ять образовательных обла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1258920" y="2708280"/>
            <a:ext cx="684216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1) социально-коммуникативная,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2) познавательная,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3) речевая,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4) художественно-эстетическая,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5) физичес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6AD65-B90B-4AB7-8539-68120C05057A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Примерные центры по образовательным областям в свете требований 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197000"/>
          <a:ext cx="8064360" cy="5491080"/>
        </p:xfrm>
        <a:graphic>
          <a:graphicData uri="http://schemas.openxmlformats.org/drawingml/2006/table">
            <a:tbl>
              <a:tblPr/>
              <a:tblGrid>
                <a:gridCol w="1538280"/>
                <a:gridCol w="1687320"/>
                <a:gridCol w="1613160"/>
                <a:gridCol w="1612800"/>
                <a:gridCol w="161280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циально-комму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ивное развит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знав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ое развит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ечевое развит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Художествен-но-эстетическое развитие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Физическое развит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ПД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пожарной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труда, уголок дежур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игровой активности (центр сюжетно-ролевых иг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«Уголок Природы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сенсорного развит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конструктивной деятель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матема-тического развит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Центр экспериментиро-ва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речевого развития или уголок речи и грамо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«Здравствуй, книжка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опед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ский уго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ИЗО или уголок творче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Центр музыкально-театрализован-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физического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портив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ый уголок «Будь здоров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2"/>
          <p:cNvSpPr/>
          <p:nvPr/>
        </p:nvSpPr>
        <p:spPr>
          <a:xfrm>
            <a:off x="395280" y="189000"/>
            <a:ext cx="8497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При формировании предметно-развивающей среды в наших группах, мы поставили себе цель выполнять это с минимальными экономическими затратами, поскольку не можем рассчитывать на серьезные материальные вложения в оснащение предметной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Мы старались сделать предметно-развивающую среду разнообразной, яркой, информативно богатой, для того чтобы максимально ускорить и облегчить адаптационный период детей в детском саду, создать эмоционально положительную атмосферу в группе, обеспечить индивидуальное гармоничное развитие ребенка. Мы соблюдали принцип зонирования. Благодаря организации различных игровых зон и уголков с помощью открытых стеллажей, не загромождающих помещение. В группе созданы условия для разных видов детской деятельности (игровой, продуктивной и познавательно-исследовательской). Для того, чтобы каждый ребенок смог найти себе дело и занятие по душе и чувствовал себя комфортно, в группе выделены центры определенного вида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0" y="573264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д</dc:creator>
  <dc:description/>
  <dc:language>en-US</dc:language>
  <cp:lastModifiedBy>Айназ</cp:lastModifiedBy>
  <dcterms:modified xsi:type="dcterms:W3CDTF">2015-10-14T20:26:06Z</dcterms:modified>
  <cp:revision>1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1</vt:r8>
  </property>
</Properties>
</file>