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B19B-60ED-4F7A-A511-5E59DD39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7D4C-949E-4979-90E5-E480DF1E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005-8163-4617-B4C3-73B32884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CF8-222A-4B53-AA06-794EF301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1003-87EC-42A5-90C4-71F7F1AD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85F-9749-42A5-A53F-93AC2C1F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30D6-750B-4DDC-AEC9-805819BD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949-49C4-4F64-8222-56AED62C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24B-B1FB-43C7-9363-0ACF1B5D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7268-C4DA-47BC-A96C-D1922AC9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542-2B0D-4255-884C-2AD46559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9228-80B1-4321-9DF7-AA7EA207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D653-B915-4BBD-8AB9-661BE8790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580000" y="3645000"/>
            <a:ext cx="32418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000080" y="3500280"/>
            <a:ext cx="32418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486320" y="499680"/>
            <a:ext cx="4657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 детей с   изображением шм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жнять детей в умении отгадывать зага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олнить словарный запас прилагательными: «мохнатый», «крылатый», «пузатый», «полосаты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осить речь с движением пальцев 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интерес к окружающему ми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одержимое 2"/>
          <p:cNvSpPr/>
          <p:nvPr/>
        </p:nvSpPr>
        <p:spPr>
          <a:xfrm>
            <a:off x="0" y="571680"/>
            <a:ext cx="42148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Группа 6"/>
          <p:cNvGrpSpPr/>
          <p:nvPr/>
        </p:nvGrpSpPr>
        <p:grpSpPr>
          <a:xfrm>
            <a:off x="0" y="1071720"/>
            <a:ext cx="3059280" cy="2070000"/>
            <a:chOff x="0" y="1071720"/>
            <a:chExt cx="3059280" cy="2070000"/>
          </a:xfrm>
        </p:grpSpPr>
        <p:pic>
          <p:nvPicPr>
            <p:cNvPr id="47" name="Picture 2" descr="C:\фильмы для Т\сова.jpg"/>
            <p:cNvPicPr/>
            <p:nvPr/>
          </p:nvPicPr>
          <p:blipFill>
            <a:blip r:embed="rId1"/>
            <a:stretch/>
          </p:blipFill>
          <p:spPr>
            <a:xfrm>
              <a:off x="0" y="1071720"/>
              <a:ext cx="3052440" cy="206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Прямоугольник 5"/>
            <p:cNvSpPr/>
            <p:nvPr/>
          </p:nvSpPr>
          <p:spPr>
            <a:xfrm>
              <a:off x="2658960" y="3043800"/>
              <a:ext cx="400320" cy="9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786200" y="142560"/>
            <a:ext cx="38721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связную речь, пополнить словарный запас прилагательными: «полосатый», «мохнатый», «крылатый», «пузаты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ть развивать общую и мелкую моторику рук. Развивать умение соотносить речь с мелкой моторикой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 активное участие в игре со взрослым и сверстниками в отгадывание зага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ть закреплять навыки количественного и порядкового счета в пределах пяти, путем пальчиковой игры «Пчелка на Елк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одержимое 2"/>
          <p:cNvSpPr/>
          <p:nvPr/>
        </p:nvSpPr>
        <p:spPr>
          <a:xfrm>
            <a:off x="571680" y="785880"/>
            <a:ext cx="3871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:\упр\карандаш.png"/>
          <p:cNvPicPr/>
          <p:nvPr/>
        </p:nvPicPr>
        <p:blipFill>
          <a:blip r:embed="rId1"/>
          <a:stretch/>
        </p:blipFill>
        <p:spPr>
          <a:xfrm>
            <a:off x="285840" y="857160"/>
            <a:ext cx="3171600" cy="3363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, о ком мы сегодня будем гово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шмель"/>
          <p:cNvPicPr/>
          <p:nvPr/>
        </p:nvPicPr>
        <p:blipFill>
          <a:blip r:embed="rId1"/>
          <a:stretch/>
        </p:blipFill>
        <p:spPr>
          <a:xfrm>
            <a:off x="179280" y="1773360"/>
            <a:ext cx="3240360" cy="2484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1"/>
          <p:cNvSpPr/>
          <p:nvPr/>
        </p:nvSpPr>
        <p:spPr>
          <a:xfrm>
            <a:off x="5364000" y="1484280"/>
            <a:ext cx="37800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с цветка к цветку лети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лениво и жужи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хатист, крылат, пуза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костюмчик полосат!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шм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ихотворение «Шмель трудяг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86240" y="856800"/>
            <a:ext cx="3857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ивет он в норке на полянке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мером больше он пчелы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квозь леса он летит делян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 то место, где цветут цвет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удяга шмель без переры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се лето средь цветов снует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 если дождь, то он пугли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 время свой прервёт пол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лезен шмель природе очень –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н для цветов пыльцу несет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у, а когда приходит осень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вой домик отдыхать идет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"/>
          <p:cNvGrpSpPr/>
          <p:nvPr/>
        </p:nvGrpSpPr>
        <p:grpSpPr>
          <a:xfrm>
            <a:off x="214200" y="1643040"/>
            <a:ext cx="2989440" cy="1425600"/>
            <a:chOff x="214200" y="1643040"/>
            <a:chExt cx="2989440" cy="1425600"/>
          </a:xfrm>
        </p:grpSpPr>
        <p:pic>
          <p:nvPicPr>
            <p:cNvPr id="58" name="Picture 4" descr="клевер шмель"/>
            <p:cNvPicPr/>
            <p:nvPr/>
          </p:nvPicPr>
          <p:blipFill>
            <a:blip r:embed="rId1"/>
            <a:stretch/>
          </p:blipFill>
          <p:spPr>
            <a:xfrm>
              <a:off x="214200" y="1643040"/>
              <a:ext cx="29894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5"/>
            <p:cNvSpPr/>
            <p:nvPr/>
          </p:nvSpPr>
          <p:spPr>
            <a:xfrm>
              <a:off x="2979720" y="2949840"/>
              <a:ext cx="223920" cy="118800"/>
            </a:xfrm>
            <a:prstGeom prst="rect">
              <a:avLst/>
            </a:prstGeom>
            <a:solidFill>
              <a:srgbClr val="a68a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ание шм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5445000"/>
            <a:ext cx="2268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заты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крылья"/>
          <p:cNvPicPr/>
          <p:nvPr/>
        </p:nvPicPr>
        <p:blipFill>
          <a:blip r:embed="rId1"/>
          <a:stretch/>
        </p:blipFill>
        <p:spPr>
          <a:xfrm>
            <a:off x="428760" y="121428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4932360" y="1341360"/>
            <a:ext cx="403848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роза-шмель титуль"/>
          <p:cNvPicPr/>
          <p:nvPr/>
        </p:nvPicPr>
        <p:blipFill>
          <a:blip r:embed="rId2"/>
          <a:stretch/>
        </p:blipFill>
        <p:spPr>
          <a:xfrm>
            <a:off x="5857920" y="1143000"/>
            <a:ext cx="2762280" cy="2025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7"/>
          <p:cNvSpPr/>
          <p:nvPr/>
        </p:nvSpPr>
        <p:spPr>
          <a:xfrm>
            <a:off x="6143760" y="571680"/>
            <a:ext cx="22683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хна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0" y="4869000"/>
            <a:ext cx="22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428760" y="642960"/>
            <a:ext cx="22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ылатый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6659640" y="5300640"/>
            <a:ext cx="22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са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Группа 14"/>
          <p:cNvGrpSpPr/>
          <p:nvPr/>
        </p:nvGrpSpPr>
        <p:grpSpPr>
          <a:xfrm>
            <a:off x="2268360" y="3357720"/>
            <a:ext cx="4680000" cy="3119400"/>
            <a:chOff x="2268360" y="3357720"/>
            <a:chExt cx="4680000" cy="3119400"/>
          </a:xfrm>
        </p:grpSpPr>
        <p:pic>
          <p:nvPicPr>
            <p:cNvPr id="70" name="Picture 16" descr="шмель-коасавчик"/>
            <p:cNvPicPr/>
            <p:nvPr/>
          </p:nvPicPr>
          <p:blipFill>
            <a:blip r:embed="rId3"/>
            <a:stretch/>
          </p:blipFill>
          <p:spPr>
            <a:xfrm>
              <a:off x="2268360" y="3357720"/>
              <a:ext cx="4679640" cy="31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Прямоугольник 11"/>
            <p:cNvSpPr/>
            <p:nvPr/>
          </p:nvSpPr>
          <p:spPr>
            <a:xfrm>
              <a:off x="6588000" y="6237720"/>
              <a:ext cx="360360" cy="21564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04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льчиковая гимнас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пальчики"/>
          <p:cNvPicPr/>
          <p:nvPr/>
        </p:nvPicPr>
        <p:blipFill>
          <a:blip r:embed="rId1"/>
          <a:stretch/>
        </p:blipFill>
        <p:spPr>
          <a:xfrm>
            <a:off x="324000" y="1700280"/>
            <a:ext cx="2808000" cy="23493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4788000" y="1341360"/>
            <a:ext cx="40320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мик маленький на елке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м для пчел, а где же пчелки?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до в дом постучать,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, два, три, четыре, пять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Я стучу, стучу по елк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де же, где же эти пчелки?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ли вдруг вылетать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, два, три, четыре, пят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D:\упр\ш4.jpg"/>
          <p:cNvPicPr/>
          <p:nvPr/>
        </p:nvPicPr>
        <p:blipFill>
          <a:blip r:embed="rId1"/>
          <a:stretch/>
        </p:blipFill>
        <p:spPr>
          <a:xfrm>
            <a:off x="4356000" y="2755800"/>
            <a:ext cx="4788000" cy="4102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348000" y="188640"/>
            <a:ext cx="2448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Группа 8"/>
          <p:cNvGrpSpPr/>
          <p:nvPr/>
        </p:nvGrpSpPr>
        <p:grpSpPr>
          <a:xfrm>
            <a:off x="0" y="9720"/>
            <a:ext cx="7673760" cy="5940360"/>
            <a:chOff x="0" y="9720"/>
            <a:chExt cx="7673760" cy="5940360"/>
          </a:xfrm>
        </p:grpSpPr>
        <p:pic>
          <p:nvPicPr>
            <p:cNvPr id="78" name="Picture 2" descr="D:\упр\ш1.jpg"/>
            <p:cNvPicPr/>
            <p:nvPr/>
          </p:nvPicPr>
          <p:blipFill>
            <a:blip r:embed="rId2"/>
            <a:stretch/>
          </p:blipFill>
          <p:spPr>
            <a:xfrm>
              <a:off x="3825000" y="4050000"/>
              <a:ext cx="1569240" cy="15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3" descr="D:\упр\карандаши.jpg"/>
            <p:cNvPicPr/>
            <p:nvPr/>
          </p:nvPicPr>
          <p:blipFill>
            <a:blip r:embed="rId3"/>
            <a:stretch/>
          </p:blipFill>
          <p:spPr>
            <a:xfrm rot="5400000">
              <a:off x="-429480" y="2283840"/>
              <a:ext cx="4095360" cy="32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" descr="D:\упр\ш.jpg"/>
            <p:cNvPicPr/>
            <p:nvPr/>
          </p:nvPicPr>
          <p:blipFill>
            <a:blip r:embed="rId4"/>
            <a:stretch/>
          </p:blipFill>
          <p:spPr>
            <a:xfrm rot="2918400">
              <a:off x="6083640" y="129240"/>
              <a:ext cx="1117080" cy="17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6" descr="D:\упр\ш3.jpg"/>
            <p:cNvPicPr/>
            <p:nvPr/>
          </p:nvPicPr>
          <p:blipFill>
            <a:blip r:embed="rId5"/>
            <a:stretch/>
          </p:blipFill>
          <p:spPr>
            <a:xfrm rot="19308600">
              <a:off x="1015200" y="290520"/>
              <a:ext cx="1307520" cy="1240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D:\упр\учитль дядька.png"/>
          <p:cNvPicPr/>
          <p:nvPr/>
        </p:nvPicPr>
        <p:blipFill>
          <a:blip r:embed="rId1"/>
          <a:stretch/>
        </p:blipFill>
        <p:spPr>
          <a:xfrm>
            <a:off x="2428920" y="1477800"/>
            <a:ext cx="4357800" cy="5380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04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8T16:22:15Z</dcterms:created>
  <dc:creator>1</dc:creator>
  <dc:description/>
  <dc:language>en-US</dc:language>
  <cp:lastModifiedBy>123</cp:lastModifiedBy>
  <dcterms:modified xsi:type="dcterms:W3CDTF">2015-10-14T16:16:37Z</dcterms:modified>
  <cp:revision>30</cp:revision>
  <dc:subject/>
  <dc:title>Слайд 1</dc:title>
</cp:coreProperties>
</file>