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5C8A-0A71-4B1F-8979-B4DB9446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FFD8-AFB5-40F9-8E4A-1C4BBA24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183B-1323-45C4-9857-02819C70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E263-84E9-443A-924B-A74249B8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07CD3-B021-4911-8056-3F471FBE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1BBB6-DEFA-4368-8BC4-97A91D18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461F1-4672-4AA6-979F-84215A1A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34600-E51F-456E-BFDE-D1D03FF6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CBF6C-54FD-4A35-B256-E9059F4D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C7B46-684B-407C-B390-805D33DA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7DA94-9D87-452E-824D-4A6855D8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7D03-8609-4849-8767-02790F85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1A36B-3FE3-49BD-B18E-8E3A508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FC761-79ED-4A91-ABDA-6666DF7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BACBB-D1DF-40AF-92D8-AF4E5A16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9B1A8-118F-41AE-AD08-A4AEED43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A1D68-19A7-466E-B086-0EDD6F70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2789-0215-4E0F-ACBA-DB42FA3E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DC729-E849-4102-8EA6-27649B5F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0A55-F7BE-4491-8A27-326532A5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015A9-6FB8-4537-823B-0EA9C706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BA41-A8B1-47B6-839E-313757CC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9647-D4D4-4287-8B5B-6D408D46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5189-0772-40C4-98E0-A9432A4A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CEAA-D922-401A-9F13-70FC8531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4ED8-C2EA-405A-A629-CE361CAE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E417-BB14-4C08-AEDB-4CB825E1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B128-00C4-4730-A20F-FFAAA4BC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F0257-811A-482A-8B30-6C7000DF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F78DF-1077-4B0D-ACA1-F5823D6C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05B2-7997-4D6A-B7AA-C87D933B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2AC99-687F-45AA-BF39-272966AD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C186E-7A40-4F2C-92F5-C5713E0F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961F-015B-438A-8309-AABE05BB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75C5-DC94-4955-8F57-029AE49E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6B5C-FF92-4E05-AB8E-6C32E15F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9CCB5-C827-4289-B021-466C0F2B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43DF-D682-4EAA-B5E1-51737FDD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4218-FAC1-4607-A2A0-93A5E8AD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C9D92-2881-43DB-B5A0-C48AF4C8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93746-2529-42D2-BFE5-4E69614D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EEE43-EDF4-4594-ACEB-5030C50C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399AA-E776-4B01-B896-8321CECB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0A89-65E2-4638-9257-3816E422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9E9E-1781-43AF-836E-EAEF83C4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732B3-37C6-42CA-8AF8-A8E23CF5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6F517-2B3B-4493-8632-B5818FB5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9521-B719-44A6-A4B8-380AABE0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C7461-2F98-41E2-B041-64EBD4A4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8DC20-31A2-4C97-ABA9-E3516305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91960-957D-44B2-902D-9F096E98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14B1-97B9-4D8E-B574-944EAE60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46BFF-9377-462D-ABC5-0A893F22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0B32A-5978-4770-88B6-5C241564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D317B-F2C3-47F4-9B1A-AA1FDB42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9B4F-BAEE-44D0-AC9E-D81C16AE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2E75-EECC-404D-8596-1D754567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DF49-196E-45D5-B56D-A2A8FEFB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A2F3-87F1-4861-927E-2BE17308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4D25-F793-4066-A212-665CCECB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8F4F-1273-4149-8514-61307127FC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B14-D4E9-430D-BFB7-CEAB92C60C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D916-C112-45A9-963C-5EEB6954C0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36D2-8716-439E-A287-870933755B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D640-73F3-4E18-B86C-3834814B7D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0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Повторительно-обобщающий урок по теме: «Показательная функ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124080" y="4292640"/>
            <a:ext cx="6019920" cy="17524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66ff66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600" spc="-1" strike="noStrike">
                <a:solidFill>
                  <a:srgbClr val="0000cc"/>
                </a:solidFill>
                <a:latin typeface="Georgia"/>
              </a:rPr>
              <a:t>11 класс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j0233962"/>
          <p:cNvPicPr/>
          <p:nvPr/>
        </p:nvPicPr>
        <p:blipFill>
          <a:blip r:embed="rId1"/>
          <a:stretch/>
        </p:blipFill>
        <p:spPr>
          <a:xfrm>
            <a:off x="900000" y="4287960"/>
            <a:ext cx="2214720" cy="215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Решите уравнения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0" lang="ru-RU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х+2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-3</a:t>
            </a:r>
            <a:r>
              <a:rPr b="0" lang="ru-RU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х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=72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0" lang="ru-RU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х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-2</a:t>
            </a:r>
            <a:r>
              <a:rPr b="0" lang="ru-RU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х+1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=48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0" lang="en-US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3x+7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=8</a:t>
            </a:r>
            <a:r>
              <a:rPr b="0" lang="en-US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1-2x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6</a:t>
            </a:r>
            <a:r>
              <a:rPr b="0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3х-2</a:t>
            </a:r>
            <a:r>
              <a:rPr b="0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=6</a:t>
            </a:r>
            <a:r>
              <a:rPr b="0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10-х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7</a:t>
            </a:r>
            <a:r>
              <a:rPr b="0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2</a:t>
            </a:r>
            <a:r>
              <a:rPr b="0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-5х+6</a:t>
            </a:r>
            <a:r>
              <a:rPr b="0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=7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Picture 10" descr="101"/>
          <p:cNvPicPr/>
          <p:nvPr/>
        </p:nvPicPr>
        <p:blipFill>
          <a:blip r:embed="rId1"/>
          <a:stretch/>
        </p:blipFill>
        <p:spPr>
          <a:xfrm>
            <a:off x="11001240" y="4143240"/>
            <a:ext cx="2190960" cy="20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нин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"/>
              <p:cNvSpPr txBox="1"/>
              <p:nvPr/>
            </p:nvSpPr>
            <p:spPr>
              <a:xfrm>
                <a:off x="642960" y="1571760"/>
                <a:ext cx="37148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TextBox 4"/>
          <p:cNvSpPr/>
          <p:nvPr/>
        </p:nvSpPr>
        <p:spPr>
          <a:xfrm>
            <a:off x="4786200" y="1928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 -3,5;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785880" y="3143160"/>
                <a:ext cx="2625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TextBox 6"/>
          <p:cNvSpPr/>
          <p:nvPr/>
        </p:nvSpPr>
        <p:spPr>
          <a:xfrm>
            <a:off x="4714920" y="34290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: 3; 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785880" y="4643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х  - 3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×  5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х  - 3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=0,01 × (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х-1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Box 8"/>
          <p:cNvSpPr/>
          <p:nvPr/>
        </p:nvSpPr>
        <p:spPr>
          <a:xfrm>
            <a:off x="5143680" y="450072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: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767232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cc00"/>
                </a:solidFill>
                <a:latin typeface="Arial"/>
              </a:rPr>
              <a:t>«Знание, добытое без личного усилия, без личного напряжения ,-знание мертвое. Только пропущенное через собственную голову становится твоим достоянием»     </a:t>
            </a:r>
            <a:br>
              <a:rPr sz="2200"/>
            </a:br>
            <a:r>
              <a:rPr b="1" i="1" lang="ru-RU" sz="2200" spc="-1" strike="noStrike">
                <a:solidFill>
                  <a:srgbClr val="00cc00"/>
                </a:solidFill>
                <a:latin typeface="Arial"/>
              </a:rPr>
              <a:t>                                                                               Нойгауз</a:t>
            </a:r>
            <a:br>
              <a:rPr sz="2200"/>
            </a:b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                                    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                      </a:t>
            </a:r>
            <a:r>
              <a:rPr b="1" lang="ru-RU" sz="2200" spc="-1" strike="noStrike">
                <a:solidFill>
                  <a:srgbClr val="00cc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4427640" y="22050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3348000" y="2276640"/>
            <a:ext cx="527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24"/>
          <p:cNvSpPr/>
          <p:nvPr/>
        </p:nvSpPr>
        <p:spPr>
          <a:xfrm>
            <a:off x="2627280" y="2492280"/>
            <a:ext cx="592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428760" y="2071800"/>
            <a:ext cx="8280360" cy="4005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e2e39"/>
                </a:solidFill>
                <a:latin typeface="French Script MT"/>
              </a:rPr>
              <a:t>Цель урока:   закрепить решение простейших показательных уравнений и неравенств, обобщить и систематизировать методы решения показательных уравнений и неравенств   </a:t>
            </a:r>
            <a:br>
              <a:rPr sz="3200"/>
            </a:br>
            <a:r>
              <a:rPr b="0" lang="ru-RU" sz="3200" spc="-1" strike="noStrike">
                <a:solidFill>
                  <a:srgbClr val="9e2e39"/>
                </a:solidFill>
                <a:latin typeface="French Script MT"/>
              </a:rPr>
              <a:t>                   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0200" y="1928880"/>
            <a:ext cx="5540400" cy="43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2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0,2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(х-2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х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П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54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5" name="Picture 10" descr="101"/>
          <p:cNvPicPr/>
          <p:nvPr/>
        </p:nvPicPr>
        <p:blipFill>
          <a:blip r:embed="rId1"/>
          <a:stretch/>
        </p:blipFill>
        <p:spPr>
          <a:xfrm>
            <a:off x="10644120" y="4000680"/>
            <a:ext cx="2254320" cy="2087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2"/>
          <p:cNvSpPr/>
          <p:nvPr/>
        </p:nvSpPr>
        <p:spPr>
          <a:xfrm>
            <a:off x="17928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 Какие из перечисленных функций являются показательными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3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0,3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(2/5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7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П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(1/6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428760" y="28584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 Какие из перечисленных функций являются возрастающими, а какие убывающими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адание 3. 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именить свойства степе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2143080" y="1871280"/>
            <a:ext cx="3568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f4f9"/>
                </a:solidFill>
                <a:latin typeface="Times New Roman"/>
                <a:ea typeface="Calibri"/>
              </a:rPr>
              <a:t>       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а) 3</a:t>
            </a:r>
            <a:r>
              <a:rPr b="1" lang="ru-RU" sz="4800" spc="-1" strike="noStrike" baseline="30000">
                <a:solidFill>
                  <a:srgbClr val="ffff00"/>
                </a:solidFill>
                <a:latin typeface="Times New Roman"/>
                <a:ea typeface="Calibri"/>
              </a:rPr>
              <a:t>х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×3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б) 7</a:t>
            </a:r>
            <a:r>
              <a:rPr b="1" lang="ru-RU" sz="4800" spc="-1" strike="noStrike" baseline="30000">
                <a:solidFill>
                  <a:srgbClr val="ffff00"/>
                </a:solidFill>
                <a:latin typeface="Times New Roman"/>
                <a:ea typeface="Calibri"/>
              </a:rPr>
              <a:t>х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×7</a:t>
            </a:r>
            <a:r>
              <a:rPr b="1" lang="ru-RU" sz="4800" spc="-1" strike="noStrike" baseline="30000">
                <a:solidFill>
                  <a:srgbClr val="ffff00"/>
                </a:solidFill>
                <a:latin typeface="Times New Roman"/>
                <a:ea typeface="Calibri"/>
              </a:rPr>
              <a:t>2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в) 2</a:t>
            </a:r>
            <a:r>
              <a:rPr b="1" lang="ru-RU" sz="4800" spc="-1" strike="noStrike" baseline="30000">
                <a:solidFill>
                  <a:srgbClr val="ffff00"/>
                </a:solidFill>
                <a:latin typeface="Times New Roman"/>
                <a:ea typeface="Calibri"/>
              </a:rPr>
              <a:t>х+3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г)  6</a:t>
            </a:r>
            <a:r>
              <a:rPr b="1" lang="ru-RU" sz="4800" spc="-1" strike="noStrike" baseline="30000">
                <a:solidFill>
                  <a:srgbClr val="ffff00"/>
                </a:solidFill>
                <a:latin typeface="Times New Roman"/>
                <a:ea typeface="Calibri"/>
              </a:rPr>
              <a:t>х-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7019640" cy="52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2f2f2"/>
                </a:solidFill>
                <a:latin typeface="Garamond"/>
              </a:rPr>
              <a:t>7-3×64</a:t>
            </a:r>
            <a:r>
              <a:rPr b="1" lang="ru-RU" sz="4800" spc="-1" strike="noStrike" baseline="30000">
                <a:solidFill>
                  <a:srgbClr val="f2f2f2"/>
                </a:solidFill>
                <a:latin typeface="Garamond"/>
              </a:rPr>
              <a:t>1/2          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(16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1/2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3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(125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1/3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(81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1/6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3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1/7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-1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9 х 25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1/2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7,8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0</a:t>
            </a:r>
            <a:br>
              <a:rPr sz="4800"/>
            </a:br>
            <a:r>
              <a:rPr b="1" lang="ru-RU" sz="4800" spc="-1" strike="noStrike" baseline="30000">
                <a:solidFill>
                  <a:srgbClr val="00ff00"/>
                </a:solidFill>
                <a:latin typeface="Garamond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5400"/>
            </a:b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071720" y="333360"/>
            <a:ext cx="7245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  Вычисли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523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1/2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3   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  (1/2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4,8   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   3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4,8</a:t>
            </a:r>
            <a:br>
              <a:rPr sz="4800"/>
            </a:br>
            <a:br>
              <a:rPr sz="4800"/>
            </a:b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1/3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-5   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  3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2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571760" y="357120"/>
            <a:ext cx="6000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00120" y="428760"/>
            <a:ext cx="58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5. Сравни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5"/>
          <p:cNvGrpSpPr/>
          <p:nvPr/>
        </p:nvGrpSpPr>
        <p:grpSpPr>
          <a:xfrm>
            <a:off x="768240" y="2349000"/>
            <a:ext cx="2629080" cy="2621160"/>
            <a:chOff x="768240" y="2349000"/>
            <a:chExt cx="2629080" cy="2621160"/>
          </a:xfrm>
        </p:grpSpPr>
        <p:sp>
          <p:nvSpPr>
            <p:cNvPr id="277" name="Line 6"/>
            <p:cNvSpPr/>
            <p:nvPr/>
          </p:nvSpPr>
          <p:spPr>
            <a:xfrm flipV="1">
              <a:off x="996840" y="2349000"/>
              <a:ext cx="0" cy="262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7"/>
            <p:cNvSpPr/>
            <p:nvPr/>
          </p:nvSpPr>
          <p:spPr>
            <a:xfrm>
              <a:off x="768240" y="4514760"/>
              <a:ext cx="262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Line 9"/>
          <p:cNvSpPr/>
          <p:nvPr/>
        </p:nvSpPr>
        <p:spPr>
          <a:xfrm>
            <a:off x="395280" y="4869000"/>
            <a:ext cx="2971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Group 15"/>
          <p:cNvGrpSpPr/>
          <p:nvPr/>
        </p:nvGrpSpPr>
        <p:grpSpPr>
          <a:xfrm>
            <a:off x="4871880" y="2349000"/>
            <a:ext cx="2629080" cy="3079800"/>
            <a:chOff x="4871880" y="2349000"/>
            <a:chExt cx="2629080" cy="3079800"/>
          </a:xfrm>
        </p:grpSpPr>
        <p:sp>
          <p:nvSpPr>
            <p:cNvPr id="281" name="Line 16"/>
            <p:cNvSpPr/>
            <p:nvPr/>
          </p:nvSpPr>
          <p:spPr>
            <a:xfrm flipV="1">
              <a:off x="5100480" y="2349000"/>
              <a:ext cx="0" cy="307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17"/>
            <p:cNvSpPr/>
            <p:nvPr/>
          </p:nvSpPr>
          <p:spPr>
            <a:xfrm>
              <a:off x="4871880" y="4893480"/>
              <a:ext cx="262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" name="Line 19"/>
          <p:cNvSpPr/>
          <p:nvPr/>
        </p:nvSpPr>
        <p:spPr>
          <a:xfrm>
            <a:off x="4714920" y="3643200"/>
            <a:ext cx="2971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20"/>
          <p:cNvSpPr/>
          <p:nvPr/>
        </p:nvSpPr>
        <p:spPr>
          <a:xfrm flipH="1">
            <a:off x="6357960" y="3597120"/>
            <a:ext cx="7128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21"/>
          <p:cNvSpPr/>
          <p:nvPr/>
        </p:nvSpPr>
        <p:spPr>
          <a:xfrm>
            <a:off x="6357960" y="3716280"/>
            <a:ext cx="0" cy="26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22"/>
          <p:cNvSpPr/>
          <p:nvPr/>
        </p:nvSpPr>
        <p:spPr>
          <a:xfrm>
            <a:off x="6357960" y="4059360"/>
            <a:ext cx="0" cy="26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23"/>
          <p:cNvSpPr/>
          <p:nvPr/>
        </p:nvSpPr>
        <p:spPr>
          <a:xfrm>
            <a:off x="6357960" y="4400640"/>
            <a:ext cx="0" cy="13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5"/>
              <p:cNvSpPr txBox="1"/>
              <p:nvPr/>
            </p:nvSpPr>
            <p:spPr>
              <a:xfrm>
                <a:off x="451476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9" name="Text Box 30"/>
          <p:cNvSpPr/>
          <p:nvPr/>
        </p:nvSpPr>
        <p:spPr>
          <a:xfrm>
            <a:off x="1116000" y="465300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971640" y="4498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5076720" y="4570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34"/>
          <p:cNvSpPr/>
          <p:nvPr/>
        </p:nvSpPr>
        <p:spPr>
          <a:xfrm>
            <a:off x="7524720" y="4581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35"/>
          <p:cNvSpPr/>
          <p:nvPr/>
        </p:nvSpPr>
        <p:spPr>
          <a:xfrm>
            <a:off x="3348000" y="450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75564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38"/>
          <p:cNvSpPr/>
          <p:nvPr/>
        </p:nvSpPr>
        <p:spPr>
          <a:xfrm>
            <a:off x="4859280" y="242100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806400" y="4076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rc 42"/>
          <p:cNvSpPr/>
          <p:nvPr/>
        </p:nvSpPr>
        <p:spPr>
          <a:xfrm flipV="1">
            <a:off x="4932360" y="2421000"/>
            <a:ext cx="1727280" cy="21160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rc 43"/>
          <p:cNvSpPr/>
          <p:nvPr/>
        </p:nvSpPr>
        <p:spPr>
          <a:xfrm flipV="1">
            <a:off x="826920" y="2637000"/>
            <a:ext cx="1657440" cy="1512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4"/>
          <p:cNvSpPr/>
          <p:nvPr/>
        </p:nvSpPr>
        <p:spPr>
          <a:xfrm>
            <a:off x="6804000" y="306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45"/>
          <p:cNvSpPr/>
          <p:nvPr/>
        </p:nvSpPr>
        <p:spPr>
          <a:xfrm>
            <a:off x="2627280" y="314172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46"/>
          <p:cNvSpPr/>
          <p:nvPr/>
        </p:nvSpPr>
        <p:spPr>
          <a:xfrm>
            <a:off x="2627280" y="501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47"/>
          <p:cNvSpPr/>
          <p:nvPr/>
        </p:nvSpPr>
        <p:spPr>
          <a:xfrm>
            <a:off x="673272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48"/>
          <p:cNvSpPr/>
          <p:nvPr/>
        </p:nvSpPr>
        <p:spPr>
          <a:xfrm>
            <a:off x="255600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=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49"/>
          <p:cNvSpPr/>
          <p:nvPr/>
        </p:nvSpPr>
        <p:spPr>
          <a:xfrm>
            <a:off x="471636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50"/>
          <p:cNvSpPr/>
          <p:nvPr/>
        </p:nvSpPr>
        <p:spPr>
          <a:xfrm>
            <a:off x="6227640" y="4653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219564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Group 17" descr=""/>
          <p:cNvPicPr/>
          <p:nvPr/>
        </p:nvPicPr>
        <p:blipFill>
          <a:blip r:embed="rId1"/>
          <a:stretch/>
        </p:blipFill>
        <p:spPr>
          <a:xfrm>
            <a:off x="165240" y="738360"/>
            <a:ext cx="8667720" cy="572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1:45:56Z</dcterms:created>
  <dc:creator>учитель</dc:creator>
  <dc:description/>
  <dc:language>en-US</dc:language>
  <cp:lastModifiedBy>Гость</cp:lastModifiedBy>
  <dcterms:modified xsi:type="dcterms:W3CDTF">2012-12-27T04:05:39Z</dcterms:modified>
  <cp:revision>79</cp:revision>
  <dc:subject/>
  <dc:title>Решение показательных уравнений</dc:title>
</cp:coreProperties>
</file>