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29A3-84F2-4FA1-9894-906E0168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A3EA-0447-48F1-A7C5-1D3C6685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CC01-0398-404D-84CD-B96FAEEF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24E4-CBB9-47C6-BEB0-E6CB9931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C4B0A-06E3-4BE1-A316-FA0AD95F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4F919-9FC6-435E-8EDF-91049573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E3FD7-C204-4733-8860-E6C9A035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FC7A8-8D77-4625-B6E0-5BC97532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33091-86EC-41D5-A244-631171AF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24B7C-929C-464C-82C9-A9144869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58FF1-1C12-4E78-B91A-B5C8236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9F55-9680-48A9-AE88-B858DFFE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03197-5DEC-4932-8F8A-FEDFE730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7A0B3-57D7-417F-97C7-10310F05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2C5C1-77F2-4C12-9AFF-06A80D68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468C7-256F-432B-A172-B758C2AF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02463-5B3D-457D-966D-72409C65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9D40-5BDD-4CC1-8E05-9F86BE19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7EE1-1A68-4F04-89CE-ACFEE99B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AD13-1F25-427B-B894-DF3CD6FD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68FB-CAE8-445E-A087-A339542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3F0F-4072-424E-A278-0C3AFB0B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E504-B215-47DC-8236-6B7DAEFB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7E62-10CB-47A5-9A42-10F4979E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8009-F9AB-4634-AD05-F16C38A6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F6F6-4D55-4E79-87A4-6FD3D718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BB25-B204-4A40-9B2B-ED3C435E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70E3-A2DD-41E3-A1F5-E345554A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7B26D-6037-4E0E-A27D-480D3691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26E4-8C0C-43DA-882D-30BF3506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F9DE-D42B-469D-9D45-4D852C34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DA85-55F6-41C0-9962-174EE378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3F0A-DDA6-46D5-B4CF-C1824100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4E59-699F-4E7A-94A9-DD042E06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CE62E-200E-4481-BAF2-53F05ADD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EFA4-B1BE-4FCD-8A59-EBC3E50C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40252-A06A-47A6-89A0-B07277D7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59B5-DEE5-4220-A68A-7B2EB65E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E529-7501-493D-B3D5-0A433A76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E1744-C0D3-4200-A90C-22690139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8FA4-4BC4-4275-80D3-BD49F208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42DF2-5A99-4CF4-95F8-CC495477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AD4D-424D-42D5-957C-0FAA7EB6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1E1C-A702-4B35-B4CD-5DD0BFD6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CA53-4402-4AFD-924B-41A5856E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2DA29-A0F7-4DDA-BB74-13F6A42C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09BAE-CD33-4F86-A46C-D1D1A984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3F705-5FF7-4A52-9F0F-2F83F53E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C7626-0BF6-4EB9-AA99-9B84667D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E0D17-F183-445D-BA42-DA19B34D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CD36F-7559-45A5-821D-C6EA24AA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16922-6553-4267-B669-F4561F26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2CB7-E6E2-4428-BB05-E7E4DBFC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BE49C-E104-466D-A439-00F77BE5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509F8-0930-4600-883D-28B50D90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5B0A-1DF2-41B9-AB6C-FC50B262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FA8CB-6CAD-4A41-8435-CD8C63BE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8E12-138A-4C23-BA8F-C098BD4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0382-3F59-40DF-A44D-1D55673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6EBD0-AA4F-48FB-BF14-A5C64484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DA3F-3B29-4472-90E2-AC6DE408A3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E4C0-6F51-4E88-A7E9-746260B3AA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21C9-B31C-456C-AA25-34D0D40D0D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2988-E17E-40E4-85CA-51DA74E7A3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5ECB-A1C6-43BB-A26B-56E96F78BB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0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Повторительно-обобщающий урок по теме: «Показательная функ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124080" y="4292640"/>
            <a:ext cx="6019920" cy="17524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66ff66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600" spc="-1" strike="noStrike">
                <a:solidFill>
                  <a:srgbClr val="0000cc"/>
                </a:solidFill>
                <a:latin typeface="Georgia"/>
              </a:rPr>
              <a:t>11 клас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j0233962"/>
          <p:cNvPicPr/>
          <p:nvPr/>
        </p:nvPicPr>
        <p:blipFill>
          <a:blip r:embed="rId1"/>
          <a:stretch/>
        </p:blipFill>
        <p:spPr>
          <a:xfrm>
            <a:off x="900000" y="4287960"/>
            <a:ext cx="2214720" cy="21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Решите уравнения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0" lang="ru-RU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х+2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-3</a:t>
            </a:r>
            <a:r>
              <a:rPr b="0" lang="ru-RU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х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=7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0" lang="ru-RU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х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-2</a:t>
            </a:r>
            <a:r>
              <a:rPr b="0" lang="ru-RU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х+1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=48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0" lang="en-US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3x+7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Arial"/>
              </a:rPr>
              <a:t>=8</a:t>
            </a:r>
            <a:r>
              <a:rPr b="0" lang="en-US" sz="48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1-2x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6</a:t>
            </a: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3х-2</a:t>
            </a: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6</a:t>
            </a: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10-х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7</a:t>
            </a: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2</a:t>
            </a: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-5х+6</a:t>
            </a:r>
            <a:r>
              <a:rPr b="0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7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Picture 10" descr="101"/>
          <p:cNvPicPr/>
          <p:nvPr/>
        </p:nvPicPr>
        <p:blipFill>
          <a:blip r:embed="rId1"/>
          <a:stretch/>
        </p:blipFill>
        <p:spPr>
          <a:xfrm>
            <a:off x="11001240" y="4143240"/>
            <a:ext cx="2190960" cy="20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нин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"/>
              <p:cNvSpPr txBox="1"/>
              <p:nvPr/>
            </p:nvSpPr>
            <p:spPr>
              <a:xfrm>
                <a:off x="642960" y="1571760"/>
                <a:ext cx="37148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TextBox 4"/>
          <p:cNvSpPr/>
          <p:nvPr/>
        </p:nvSpPr>
        <p:spPr>
          <a:xfrm>
            <a:off x="4786200" y="1928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 -3,5;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785880" y="3143160"/>
                <a:ext cx="2625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TextBox 6"/>
          <p:cNvSpPr/>
          <p:nvPr/>
        </p:nvSpPr>
        <p:spPr>
          <a:xfrm>
            <a:off x="4714920" y="34290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 3; 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785880" y="4643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х  - 3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×  5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х  - 3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=0,01 × (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х-1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Box 8"/>
          <p:cNvSpPr/>
          <p:nvPr/>
        </p:nvSpPr>
        <p:spPr>
          <a:xfrm>
            <a:off x="5143680" y="450072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76723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cc00"/>
                </a:solidFill>
                <a:latin typeface="Arial"/>
              </a:rPr>
              <a:t>«Знание, добытое без личного усилия, без личного напряжения ,-знание мертвое. Только пропущенное через собственную голову становится твоим достоянием»     </a:t>
            </a:r>
            <a:br>
              <a:rPr sz="2200"/>
            </a:br>
            <a:r>
              <a:rPr b="1" i="1" lang="ru-RU" sz="2200" spc="-1" strike="noStrike">
                <a:solidFill>
                  <a:srgbClr val="00cc00"/>
                </a:solidFill>
                <a:latin typeface="Arial"/>
              </a:rPr>
              <a:t>                                                                               Нойгауз</a:t>
            </a:r>
            <a:br>
              <a:rPr sz="2200"/>
            </a:b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                                    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1" lang="ru-RU" sz="22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4427640" y="22050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3348000" y="2276640"/>
            <a:ext cx="527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2627280" y="2492280"/>
            <a:ext cx="592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428760" y="2071800"/>
            <a:ext cx="8280360" cy="4005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e2e39"/>
                </a:solidFill>
                <a:latin typeface="French Script MT"/>
              </a:rPr>
              <a:t>Цель урока:   закрепить решение простейших показательных уравнений и неравенств, обобщить и систематизировать методы решения показательных уравнений и неравенств   </a:t>
            </a:r>
            <a:br>
              <a:rPr sz="3200"/>
            </a:br>
            <a:r>
              <a:rPr b="0" lang="ru-RU" sz="3200" spc="-1" strike="noStrike">
                <a:solidFill>
                  <a:srgbClr val="9e2e39"/>
                </a:solidFill>
                <a:latin typeface="French Script MT"/>
              </a:rPr>
              <a:t>                   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0200" y="1928880"/>
            <a:ext cx="5540400" cy="43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2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0,2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(х-2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х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П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54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5" name="Picture 10" descr="101"/>
          <p:cNvPicPr/>
          <p:nvPr/>
        </p:nvPicPr>
        <p:blipFill>
          <a:blip r:embed="rId1"/>
          <a:stretch/>
        </p:blipFill>
        <p:spPr>
          <a:xfrm>
            <a:off x="10644120" y="4000680"/>
            <a:ext cx="2254320" cy="2087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2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 Какие из перечисленных функций являются показательными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3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0,3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(2/5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7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П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у=(1/6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х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428760" y="28584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 Какие из перечисленных функций являются возрастающими, а какие убывающими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адание 3.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именить свойства степе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2143080" y="1871280"/>
            <a:ext cx="356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f4f9"/>
                </a:solidFill>
                <a:latin typeface="Times New Roman"/>
                <a:ea typeface="Calibri"/>
              </a:rPr>
              <a:t>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а) 3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х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×3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б) 7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х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×7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2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в) 2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х+3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г)  6</a:t>
            </a:r>
            <a:r>
              <a:rPr b="1" lang="ru-RU" sz="4800" spc="-1" strike="noStrike" baseline="30000">
                <a:solidFill>
                  <a:srgbClr val="ffff00"/>
                </a:solidFill>
                <a:latin typeface="Times New Roman"/>
                <a:ea typeface="Calibri"/>
              </a:rPr>
              <a:t>х-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7019640" cy="52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2f2f2"/>
                </a:solidFill>
                <a:latin typeface="Garamond"/>
              </a:rPr>
              <a:t>7-3×64</a:t>
            </a:r>
            <a:r>
              <a:rPr b="1" lang="ru-RU" sz="4800" spc="-1" strike="noStrike" baseline="30000">
                <a:solidFill>
                  <a:srgbClr val="f2f2f2"/>
                </a:solidFill>
                <a:latin typeface="Garamond"/>
              </a:rPr>
              <a:t>1/2          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(16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1/2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3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(125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1/3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(81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1/6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ru-RU" sz="4800" spc="-1" strike="noStrike" baseline="30000">
                <a:solidFill>
                  <a:srgbClr val="e5e5ff"/>
                </a:solidFill>
                <a:latin typeface="Garamond"/>
              </a:rPr>
              <a:t>3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1/7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-1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9 х 25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1/2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7,8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0</a:t>
            </a:r>
            <a:br>
              <a:rPr sz="4800"/>
            </a:br>
            <a:r>
              <a:rPr b="1" lang="ru-RU" sz="4800" spc="-1" strike="noStrike" baseline="30000">
                <a:solidFill>
                  <a:srgbClr val="00ff00"/>
                </a:solidFill>
                <a:latin typeface="Garamond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5400"/>
            </a:b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071720" y="333360"/>
            <a:ext cx="7245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  Вычисли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523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1/2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3  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 (1/2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4,8  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  3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4,8</a:t>
            </a:r>
            <a:br>
              <a:rPr sz="4800"/>
            </a:br>
            <a:br>
              <a:rPr sz="4800"/>
            </a:b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1/3)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-5   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 3</a:t>
            </a:r>
            <a:r>
              <a:rPr b="1" lang="ru-RU" sz="48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2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571760" y="357120"/>
            <a:ext cx="6000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00120" y="428760"/>
            <a:ext cx="58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. Сравни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5"/>
          <p:cNvGrpSpPr/>
          <p:nvPr/>
        </p:nvGrpSpPr>
        <p:grpSpPr>
          <a:xfrm>
            <a:off x="768240" y="2349000"/>
            <a:ext cx="2629080" cy="2621160"/>
            <a:chOff x="768240" y="2349000"/>
            <a:chExt cx="2629080" cy="2621160"/>
          </a:xfrm>
        </p:grpSpPr>
        <p:sp>
          <p:nvSpPr>
            <p:cNvPr id="277" name="Line 6"/>
            <p:cNvSpPr/>
            <p:nvPr/>
          </p:nvSpPr>
          <p:spPr>
            <a:xfrm flipV="1">
              <a:off x="996840" y="2349000"/>
              <a:ext cx="0" cy="262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7"/>
            <p:cNvSpPr/>
            <p:nvPr/>
          </p:nvSpPr>
          <p:spPr>
            <a:xfrm>
              <a:off x="768240" y="4514760"/>
              <a:ext cx="262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Line 9"/>
          <p:cNvSpPr/>
          <p:nvPr/>
        </p:nvSpPr>
        <p:spPr>
          <a:xfrm>
            <a:off x="395280" y="4869000"/>
            <a:ext cx="2971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Group 15"/>
          <p:cNvGrpSpPr/>
          <p:nvPr/>
        </p:nvGrpSpPr>
        <p:grpSpPr>
          <a:xfrm>
            <a:off x="4871880" y="2349000"/>
            <a:ext cx="2629080" cy="3079800"/>
            <a:chOff x="4871880" y="2349000"/>
            <a:chExt cx="2629080" cy="3079800"/>
          </a:xfrm>
        </p:grpSpPr>
        <p:sp>
          <p:nvSpPr>
            <p:cNvPr id="281" name="Line 16"/>
            <p:cNvSpPr/>
            <p:nvPr/>
          </p:nvSpPr>
          <p:spPr>
            <a:xfrm flipV="1">
              <a:off x="5100480" y="2349000"/>
              <a:ext cx="0" cy="307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17"/>
            <p:cNvSpPr/>
            <p:nvPr/>
          </p:nvSpPr>
          <p:spPr>
            <a:xfrm>
              <a:off x="4871880" y="4893480"/>
              <a:ext cx="262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" name="Line 19"/>
          <p:cNvSpPr/>
          <p:nvPr/>
        </p:nvSpPr>
        <p:spPr>
          <a:xfrm>
            <a:off x="4714920" y="3643200"/>
            <a:ext cx="2971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20"/>
          <p:cNvSpPr/>
          <p:nvPr/>
        </p:nvSpPr>
        <p:spPr>
          <a:xfrm flipH="1">
            <a:off x="6357960" y="3597120"/>
            <a:ext cx="7128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21"/>
          <p:cNvSpPr/>
          <p:nvPr/>
        </p:nvSpPr>
        <p:spPr>
          <a:xfrm>
            <a:off x="6357960" y="3716280"/>
            <a:ext cx="0" cy="26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22"/>
          <p:cNvSpPr/>
          <p:nvPr/>
        </p:nvSpPr>
        <p:spPr>
          <a:xfrm>
            <a:off x="6357960" y="4059360"/>
            <a:ext cx="0" cy="26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23"/>
          <p:cNvSpPr/>
          <p:nvPr/>
        </p:nvSpPr>
        <p:spPr>
          <a:xfrm>
            <a:off x="6357960" y="4400640"/>
            <a:ext cx="0" cy="13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5"/>
              <p:cNvSpPr txBox="1"/>
              <p:nvPr/>
            </p:nvSpPr>
            <p:spPr>
              <a:xfrm>
                <a:off x="451476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9" name="Text Box 30"/>
          <p:cNvSpPr/>
          <p:nvPr/>
        </p:nvSpPr>
        <p:spPr>
          <a:xfrm>
            <a:off x="1116000" y="465300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971640" y="4498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5076720" y="4570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34"/>
          <p:cNvSpPr/>
          <p:nvPr/>
        </p:nvSpPr>
        <p:spPr>
          <a:xfrm>
            <a:off x="7524720" y="4581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35"/>
          <p:cNvSpPr/>
          <p:nvPr/>
        </p:nvSpPr>
        <p:spPr>
          <a:xfrm>
            <a:off x="3348000" y="450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75564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4859280" y="242100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806400" y="4076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rc 42"/>
          <p:cNvSpPr/>
          <p:nvPr/>
        </p:nvSpPr>
        <p:spPr>
          <a:xfrm flipV="1">
            <a:off x="4932360" y="2421000"/>
            <a:ext cx="1727280" cy="21160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rc 43"/>
          <p:cNvSpPr/>
          <p:nvPr/>
        </p:nvSpPr>
        <p:spPr>
          <a:xfrm flipV="1">
            <a:off x="826920" y="2637000"/>
            <a:ext cx="1657440" cy="1512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4"/>
          <p:cNvSpPr/>
          <p:nvPr/>
        </p:nvSpPr>
        <p:spPr>
          <a:xfrm>
            <a:off x="6804000" y="306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45"/>
          <p:cNvSpPr/>
          <p:nvPr/>
        </p:nvSpPr>
        <p:spPr>
          <a:xfrm>
            <a:off x="2627280" y="314172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46"/>
          <p:cNvSpPr/>
          <p:nvPr/>
        </p:nvSpPr>
        <p:spPr>
          <a:xfrm>
            <a:off x="2627280" y="501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47"/>
          <p:cNvSpPr/>
          <p:nvPr/>
        </p:nvSpPr>
        <p:spPr>
          <a:xfrm>
            <a:off x="6732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48"/>
          <p:cNvSpPr/>
          <p:nvPr/>
        </p:nvSpPr>
        <p:spPr>
          <a:xfrm>
            <a:off x="255600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=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49"/>
          <p:cNvSpPr/>
          <p:nvPr/>
        </p:nvSpPr>
        <p:spPr>
          <a:xfrm>
            <a:off x="471636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50"/>
          <p:cNvSpPr/>
          <p:nvPr/>
        </p:nvSpPr>
        <p:spPr>
          <a:xfrm>
            <a:off x="6227640" y="4653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219564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Group 17" descr=""/>
          <p:cNvPicPr/>
          <p:nvPr/>
        </p:nvPicPr>
        <p:blipFill>
          <a:blip r:embed="rId1"/>
          <a:stretch/>
        </p:blipFill>
        <p:spPr>
          <a:xfrm>
            <a:off x="165240" y="738360"/>
            <a:ext cx="8667720" cy="57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1:45:56Z</dcterms:created>
  <dc:creator>учитель</dc:creator>
  <dc:description/>
  <dc:language>en-US</dc:language>
  <cp:lastModifiedBy>Гость</cp:lastModifiedBy>
  <dcterms:modified xsi:type="dcterms:W3CDTF">2012-12-27T04:05:39Z</dcterms:modified>
  <cp:revision>79</cp:revision>
  <dc:subject/>
  <dc:title>Решение показательных уравнений</dc:title>
</cp:coreProperties>
</file>