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CC3-6C5B-4A5A-B58D-6541FE70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D276-7C9C-47AF-80FB-4C58F1C9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C8E-619E-4923-85C1-F7D84A4D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A215-735A-4C04-8E78-524FF1A5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1365-A844-4ECE-A88E-10C59879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505-C5A0-4435-A50F-48A83240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BB6-A0C8-42E3-BD3B-32B3C837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0E19-1899-430F-B4A7-D4144D8C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2BCC-CF58-4EDF-B820-BF1A191C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3BEF-BA56-4DEE-9EC1-30077FF6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DF5C-1EBF-4EFE-9325-845BD0E4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4B5-2C57-46A4-B87E-F04E6DA7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8D99-3EFB-4E25-8F97-1552121FC5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8f836"/>
                </a:solidFill>
                <a:latin typeface="Calibri"/>
              </a:rPr>
              <a:t>Математика</a:t>
            </a:r>
            <a:br>
              <a:rPr sz="6600"/>
            </a:br>
            <a:r>
              <a:rPr b="1" i="1" lang="en-US" sz="6600" spc="-1" strike="noStrike">
                <a:solidFill>
                  <a:srgbClr val="f8f836"/>
                </a:solidFill>
                <a:latin typeface="Calibri"/>
              </a:rPr>
              <a:t>2 класс</a:t>
            </a:r>
            <a:endParaRPr b="0" lang="en-US" sz="66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836"/>
                </a:solidFill>
                <a:latin typeface="Calibri"/>
              </a:rPr>
              <a:t>Подведение итогов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омогло ли вам высказывание  Б.Шо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Че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8f836"/>
                </a:solidFill>
                <a:latin typeface="Calibri"/>
              </a:rPr>
              <a:t>Спасибо за урок!</a:t>
            </a:r>
            <a:endParaRPr b="0" lang="en-US" sz="5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836"/>
                </a:solidFill>
                <a:latin typeface="Calibri"/>
              </a:rPr>
              <a:t>«Единственный путь, ведущий к знаниям – это деятельность»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8f836"/>
                </a:solidFill>
                <a:latin typeface="Calibri"/>
              </a:rPr>
              <a:t>                                         Б.Шоу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836"/>
                </a:solidFill>
                <a:latin typeface="Calibri"/>
              </a:rPr>
              <a:t>Математический диктант: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36"/>
                </a:solidFill>
                <a:latin typeface="Arial"/>
              </a:rPr>
              <a:t>а)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2, 66, 2, 61, 26, 21, 16, 62, 2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36"/>
                </a:solidFill>
                <a:latin typeface="Calibri"/>
              </a:rPr>
              <a:t>б)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7 увеличить на столько ж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36"/>
                </a:solidFill>
                <a:latin typeface="Calibri"/>
              </a:rPr>
              <a:t>в)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- Найди двухзначное число, которое меньше суммы чисел 8 и 6.                                                                                 15, 14, 13, 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36"/>
                </a:solidFill>
                <a:latin typeface="Calibri"/>
              </a:rPr>
              <a:t>г)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Выписать те числа, которые можно представить в виде суммы двух одинаковых  слагаемых:                                              10, 11, 12, 13, 14, 15, 1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836"/>
                </a:solidFill>
                <a:latin typeface="Calibri"/>
              </a:rPr>
              <a:t>Проверка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а) 21, 22,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б)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в)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г) 10, 12, 14, 1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836"/>
                </a:solidFill>
                <a:latin typeface="Calibri"/>
              </a:rPr>
              <a:t>Третий лишний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4, 4, 6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60, 55, 10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3, 77, 18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836"/>
                </a:solidFill>
                <a:latin typeface="Calibri"/>
              </a:rPr>
              <a:t>Ошибки невидимки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стирая и не зачёркивая сделать ошибку  «невидимо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=7        6+3=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836"/>
                </a:solidFill>
                <a:latin typeface="Calibri"/>
              </a:rPr>
              <a:t>Задача 1.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В левом кармане 2 конфеты, в правом кармане 6 конфет. Сколько надо взять конфет из правого, чтобы стало столько же, сколько в левом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836"/>
                </a:solidFill>
                <a:latin typeface="Calibri"/>
              </a:rPr>
              <a:t>Задача 2.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« У Миши, Серёжи, Игоря и Коли были три шапки и одна бейсболка. Что было у каждого мальчика, если у Серёжи с Колей и у Коли с Мишей были разные головные уборы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f836"/>
                </a:solidFill>
                <a:latin typeface="Calibri"/>
              </a:rPr>
              <a:t>Задание на дом.</a:t>
            </a:r>
            <a:br>
              <a:rPr sz="4400"/>
            </a:b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3160" y="236196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Решите задачу. « В прямоугольной комнате надо расставить 5 стульев так, чтоб у каждой стены стояло по 2 стул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10-14T14:09:3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