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578-BDD9-4084-93D7-5C39D47B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E47-AE1F-4E45-A65A-4B632477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239-1B79-467F-B92E-5AC705AE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B4A-BBCE-43EC-8A7E-F1113C64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32E-10A9-4CE3-A537-F321660F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2BB-FD33-4827-91B4-82F69CD1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06A-7813-4268-B5D4-0834E5E0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15A-4D2D-49A8-8CB6-A77E98B6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F67-E2B0-4EEF-B5AC-89A8B8AA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9A0-41D1-4D14-BAD2-04B6AA5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D62-C32B-49F3-A859-0055CAFE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FBA-4DE5-48C5-A3B5-2FB74424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D91F-C6B7-464A-BA64-DEC73B1366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8f836"/>
                </a:solidFill>
                <a:latin typeface="Calibri"/>
              </a:rPr>
              <a:t>Математика</a:t>
            </a:r>
            <a:br>
              <a:rPr sz="6600"/>
            </a:br>
            <a:r>
              <a:rPr b="1" i="1" lang="en-US" sz="6600" spc="-1" strike="noStrike">
                <a:solidFill>
                  <a:srgbClr val="f8f836"/>
                </a:solidFill>
                <a:latin typeface="Calibri"/>
              </a:rPr>
              <a:t>2 класс</a:t>
            </a:r>
            <a:endParaRPr b="0" lang="en-US" sz="66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Подведение итогов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могло ли вам высказывание  Б.Шо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8f836"/>
                </a:solidFill>
                <a:latin typeface="Calibri"/>
              </a:rPr>
              <a:t>Спасибо за урок!</a:t>
            </a:r>
            <a:endParaRPr b="0" lang="en-US" sz="5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«Единственный путь, ведущий к знаниям – это деятельность»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                                         Б.Шоу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Математический диктант: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36"/>
                </a:solidFill>
                <a:latin typeface="Arial"/>
              </a:rPr>
              <a:t>а)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2, 66, 2, 61, 26, 21, 16, 62, 2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36"/>
                </a:solidFill>
                <a:latin typeface="Calibri"/>
              </a:rPr>
              <a:t>б)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7 увеличить на столько ж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36"/>
                </a:solidFill>
                <a:latin typeface="Calibri"/>
              </a:rPr>
              <a:t>в)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- Найди двухзначное число, которое меньше суммы чисел 8 и 6.                                                                                 15, 14, 13, 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36"/>
                </a:solidFill>
                <a:latin typeface="Calibri"/>
              </a:rPr>
              <a:t>г)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Выписать те числа, которые можно представить в виде суммы двух одинаковых  слагаемых:                                              10, 11, 12, 13, 14, 15, 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) 21, 22,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)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)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г) 10, 12, 14, 1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Третий лишний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4, 4, 6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0, 55, 1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, 77, 1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Ошибки невидимки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тирая и не зачёркивая сделать ошибку  «невидимо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=7        6+3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Задача 1.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 левом кармане 2 конфеты, в правом кармане 6 конфет. Сколько надо взять конфет из правого, чтобы стало столько же, сколько в левом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36"/>
                </a:solidFill>
                <a:latin typeface="Calibri"/>
              </a:rPr>
              <a:t>Задача 2.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« У Миши, Серёжи, Игоря и Коли были три шапки и одна бейсболка. Что было у каждого мальчика, если у Серёжи с Колей и у Коли с Мишей были разные головные уборы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f836"/>
                </a:solidFill>
                <a:latin typeface="Calibri"/>
              </a:rPr>
              <a:t>Задание на дом.</a:t>
            </a:r>
            <a:br>
              <a:rPr sz="4400"/>
            </a:b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ешите задачу. « В прямоугольной комнате надо расставить 5 стульев так, чтоб у каждой стены стояло по 2 стул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14T14:09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