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71C-5108-45A3-9536-ECDBBAEE9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5440-4EE9-4E20-94FA-CE9AACA5D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E63-67C3-47CA-8245-F43D628D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08-822C-4000-BB89-FB0D6EB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9FB-1BB0-43A7-B738-24FAE27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516-296B-4EB9-B43A-9A1FE8AE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AA6-61F9-43E5-839D-B96933B0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354-AB70-4E3A-9705-D6F04E4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D1B-BCAC-40C2-A3A6-216ECAD7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BE3-1F90-4BCB-97D1-6160EEB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072-E1CB-4B24-9878-1BA0A85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2A7-BB25-4B1E-BD6E-E96494C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F68-7D70-40DA-86C9-5510554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BBB-6A16-4AC6-8A7B-A325881B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зунова Юлия Владимировна, г.Сыктывкар, Республика Ко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274-8ACA-4173-BB21-AC4516C8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532-7C7E-43CF-9EBB-C382F93D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русского языка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лассе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Тема: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"Обособление второстепенных членов предложения. Роль причастных и деепричастных оборотов в речи"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624-8532-4652-A77E-1E92B1B3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аксимилиан Воло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03280" y="1413000"/>
            <a:ext cx="63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ина  вод  колы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ся  шир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ведена  серебр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й  кай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тится  мыс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убчатою  сте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пив  на  зыбь расплавл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м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й  день  раскрыл  златое 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 бледный  луч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асплеск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й  волно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зи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робяс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д мутной  глубино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колос дня от пажите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2CB-BC71-43DE-9C3A-298397B3A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дания по стихотво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словосочетаний со связью СОГЛАСОВАНИЕ  во втором четверостиш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манный 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латое о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едный  лу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ч расплеска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мутной  глуби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219640" y="3357720"/>
            <a:ext cx="1150920" cy="2592360"/>
          </a:xfrm>
          <a:custGeom>
            <a:avLst/>
            <a:gdLst>
              <a:gd name="textAreaLeft" fmla="*/ 0 w 1150920"/>
              <a:gd name="textAreaRight" fmla="*/ 415440 w 1150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9"/>
                </a:lnTo>
                <a:cubicBezTo>
                  <a:pt x="10800" y="9999"/>
                  <a:pt x="16200" y="10899"/>
                  <a:pt x="21600" y="10899"/>
                </a:cubicBezTo>
                <a:cubicBezTo>
                  <a:pt x="16200" y="10899"/>
                  <a:pt x="10800" y="11799"/>
                  <a:pt x="10800" y="126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6877080" y="3573360"/>
            <a:ext cx="1152360" cy="19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AutoShape 7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001B-66C2-4173-80B2-347ADB8D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Рисунок2"/>
          <p:cNvPicPr/>
          <p:nvPr/>
        </p:nvPicPr>
        <p:blipFill>
          <a:blip r:embed="rId2"/>
          <a:stretch/>
        </p:blipFill>
        <p:spPr>
          <a:xfrm>
            <a:off x="1403280" y="1268280"/>
            <a:ext cx="5761080" cy="4202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И.К.Айваз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0" y="5850000"/>
            <a:ext cx="3887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.К.Айвазовский "Море. Коктебель" 1853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CD7-5912-4CAB-B855-57B24256D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436572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артине Айвазовского изображено  раннее утро  после ……………………………ночи. Первые лучи солнца осветили океан,………………………………, и  людей,……………………… Зритель,……………………………,понимает, какая страшная гроза прошла ночью, какое  бедствие терпел,…………………………, экипаж корабля, как гибли,………………………………, 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187280" y="189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Распространите текст причастными и деепричастными оборотам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Рисунок1"/>
          <p:cNvPicPr/>
          <p:nvPr/>
        </p:nvPicPr>
        <p:blipFill>
          <a:blip r:embed="rId2"/>
          <a:stretch/>
        </p:blipFill>
        <p:spPr>
          <a:xfrm>
            <a:off x="2268360" y="1125360"/>
            <a:ext cx="4392720" cy="31100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1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AC8-F9DF-4781-B5E1-4A15D08F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умайте продолжение истории, изображенной  на картине И.К.Айвазовского "Девятый вал".  Запишите свою историю, состоящую  из 10-12 предложений, осложненных   обособленными причастными  и деепричастными обор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2D49-1C58-4579-8EC0-2D98B625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Рисунок6"/>
          <p:cNvPicPr/>
          <p:nvPr/>
        </p:nvPicPr>
        <p:blipFill>
          <a:blip r:embed="rId2"/>
          <a:stretch/>
        </p:blipFill>
        <p:spPr>
          <a:xfrm>
            <a:off x="684360" y="1484280"/>
            <a:ext cx="3902040" cy="273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Рисунок7"/>
          <p:cNvPicPr/>
          <p:nvPr/>
        </p:nvPicPr>
        <p:blipFill>
          <a:blip r:embed="rId3"/>
          <a:stretch/>
        </p:blipFill>
        <p:spPr>
          <a:xfrm>
            <a:off x="4427640" y="3141720"/>
            <a:ext cx="4038480" cy="27939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0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2771-5F26-44B9-AD70-33536E0BD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Чем отличаются текс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ними необозримо расстилалось море, залитое лучами утреннего солнца. Волны, маленькие игривые барашки, рождаемые ласковым дыханием ветра, тихо бились о борт. Далеко в море, напоминая шрам, виднелась коса. И там, на краю моря, облаков было бесконечно много. 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Горь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Перед ними необозримо расстилалось море. Волны тихо бились о борт. Далеко в море виднелась коса. И там облаков было бесконечно м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224-176C-48A9-9238-F956DC1B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арактеризуйте 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55640" y="1989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539640" y="765000"/>
            <a:ext cx="817272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,  причастный оборот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астный оборот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 Причастный оборот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Е   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3"/>
          <p:cNvGrpSpPr/>
          <p:nvPr/>
        </p:nvGrpSpPr>
        <p:grpSpPr>
          <a:xfrm>
            <a:off x="2050920" y="2205000"/>
            <a:ext cx="2689200" cy="114120"/>
            <a:chOff x="2050920" y="2205000"/>
            <a:chExt cx="2689200" cy="114120"/>
          </a:xfrm>
        </p:grpSpPr>
        <p:sp>
          <p:nvSpPr>
            <p:cNvPr id="69" name="Freeform 24"/>
            <p:cNvSpPr/>
            <p:nvPr/>
          </p:nvSpPr>
          <p:spPr>
            <a:xfrm>
              <a:off x="205092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248400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291600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341928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385092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4282920" y="220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34"/>
          <p:cNvSpPr/>
          <p:nvPr/>
        </p:nvSpPr>
        <p:spPr>
          <a:xfrm>
            <a:off x="1403280" y="1484280"/>
            <a:ext cx="1152720" cy="43200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5"/>
          <p:cNvGrpSpPr/>
          <p:nvPr/>
        </p:nvGrpSpPr>
        <p:grpSpPr>
          <a:xfrm>
            <a:off x="1116000" y="3645000"/>
            <a:ext cx="2689200" cy="114120"/>
            <a:chOff x="1116000" y="3645000"/>
            <a:chExt cx="2689200" cy="114120"/>
          </a:xfrm>
        </p:grpSpPr>
        <p:sp>
          <p:nvSpPr>
            <p:cNvPr id="77" name="Freeform 36"/>
            <p:cNvSpPr/>
            <p:nvPr/>
          </p:nvSpPr>
          <p:spPr>
            <a:xfrm>
              <a:off x="111600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154908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>
              <a:off x="198108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>
              <a:off x="248436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>
              <a:off x="291600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>
              <a:off x="3348000" y="364500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42"/>
          <p:cNvSpPr/>
          <p:nvPr/>
        </p:nvSpPr>
        <p:spPr>
          <a:xfrm flipH="1">
            <a:off x="3348000" y="2997360"/>
            <a:ext cx="1152720" cy="43164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0"/>
          <p:cNvSpPr/>
          <p:nvPr/>
        </p:nvSpPr>
        <p:spPr>
          <a:xfrm flipH="1">
            <a:off x="3923640" y="4508640"/>
            <a:ext cx="1152360" cy="43164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1"/>
          <p:cNvGrpSpPr/>
          <p:nvPr/>
        </p:nvGrpSpPr>
        <p:grpSpPr>
          <a:xfrm>
            <a:off x="1332000" y="5157720"/>
            <a:ext cx="2689200" cy="114120"/>
            <a:chOff x="1332000" y="5157720"/>
            <a:chExt cx="2689200" cy="114120"/>
          </a:xfrm>
        </p:grpSpPr>
        <p:sp>
          <p:nvSpPr>
            <p:cNvPr id="86" name="Freeform 52"/>
            <p:cNvSpPr/>
            <p:nvPr/>
          </p:nvSpPr>
          <p:spPr>
            <a:xfrm>
              <a:off x="133200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3"/>
            <p:cNvSpPr/>
            <p:nvPr/>
          </p:nvSpPr>
          <p:spPr>
            <a:xfrm>
              <a:off x="176508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4"/>
            <p:cNvSpPr/>
            <p:nvPr/>
          </p:nvSpPr>
          <p:spPr>
            <a:xfrm>
              <a:off x="219708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5"/>
            <p:cNvSpPr/>
            <p:nvPr/>
          </p:nvSpPr>
          <p:spPr>
            <a:xfrm>
              <a:off x="270036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6"/>
            <p:cNvSpPr/>
            <p:nvPr/>
          </p:nvSpPr>
          <p:spPr>
            <a:xfrm>
              <a:off x="313200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7"/>
            <p:cNvSpPr/>
            <p:nvPr/>
          </p:nvSpPr>
          <p:spPr>
            <a:xfrm>
              <a:off x="3564000" y="5157720"/>
              <a:ext cx="457200" cy="114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0" h="180">
                  <a:moveTo>
                    <a:pt x="0" y="180"/>
                  </a:moveTo>
                  <a:cubicBezTo>
                    <a:pt x="60" y="90"/>
                    <a:pt x="120" y="0"/>
                    <a:pt x="180" y="0"/>
                  </a:cubicBezTo>
                  <a:cubicBezTo>
                    <a:pt x="240" y="0"/>
                    <a:pt x="300" y="180"/>
                    <a:pt x="360" y="180"/>
                  </a:cubicBezTo>
                  <a:cubicBezTo>
                    <a:pt x="420" y="180"/>
                    <a:pt x="480" y="0"/>
                    <a:pt x="540" y="0"/>
                  </a:cubicBezTo>
                  <a:cubicBezTo>
                    <a:pt x="600" y="0"/>
                    <a:pt x="660" y="90"/>
                    <a:pt x="72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58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24D2-B2B5-4694-83B6-AB4E3A2E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делая?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АГ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деепричастный оборот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. - . - . - . - . - . - . - . - .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сделав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…, деепричастный оборот,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. - . - . - . - . - . - . - . - .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1835280" y="2133720"/>
            <a:ext cx="1152360" cy="43164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flipH="1">
            <a:off x="4716360" y="4724280"/>
            <a:ext cx="1152720" cy="43200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16839" y="8100"/>
                </a:moveTo>
                <a:cubicBezTo>
                  <a:pt x="15775" y="5717"/>
                  <a:pt x="13409" y="4184"/>
                  <a:pt x="10800" y="4184"/>
                </a:cubicBezTo>
                <a:cubicBezTo>
                  <a:pt x="7275" y="4183"/>
                  <a:pt x="4369" y="6947"/>
                  <a:pt x="4192" y="10467"/>
                </a:cubicBezTo>
                <a:lnTo>
                  <a:pt x="13" y="10256"/>
                </a:lnTo>
                <a:cubicBezTo>
                  <a:pt x="303" y="4510"/>
                  <a:pt x="5046" y="-1"/>
                  <a:pt x="10800" y="0"/>
                </a:cubicBezTo>
                <a:cubicBezTo>
                  <a:pt x="15059" y="0"/>
                  <a:pt x="18921" y="2503"/>
                  <a:pt x="20659" y="6392"/>
                </a:cubicBezTo>
                <a:lnTo>
                  <a:pt x="23124" y="5290"/>
                </a:lnTo>
                <a:lnTo>
                  <a:pt x="20704" y="11620"/>
                </a:lnTo>
                <a:lnTo>
                  <a:pt x="14375" y="9201"/>
                </a:lnTo>
                <a:lnTo>
                  <a:pt x="16839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арактеризуйте 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0F7-FCEF-4B0F-A46D-F7E20F3DF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арина Цвета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67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971640" y="1413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Рисунок5"/>
          <p:cNvPicPr/>
          <p:nvPr/>
        </p:nvPicPr>
        <p:blipFill>
          <a:blip r:embed="rId2"/>
          <a:stretch/>
        </p:blipFill>
        <p:spPr>
          <a:xfrm>
            <a:off x="6372360" y="2133720"/>
            <a:ext cx="2523960" cy="2809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6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AF0A-BDF9-4DBA-8874-6C06A1295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аксимилиан Воло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50920" y="1341360"/>
            <a:ext cx="63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…внина  вод  колыш….тся  широко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ведена  серебря….ой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ймой*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тится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ыс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2) зубчатою  стеной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упив  на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ыбь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4) расплавле….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ма…ый  день  раскрыл  златое око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 бледный  луч (6) расплеска…ый  волной(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зит(8)  дробясь (9)над мутной  глубино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колос дня о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ажитей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Рисунок4"/>
          <p:cNvPicPr/>
          <p:nvPr/>
        </p:nvPicPr>
        <p:blipFill>
          <a:blip r:embed="rId2"/>
          <a:stretch/>
        </p:blipFill>
        <p:spPr>
          <a:xfrm>
            <a:off x="6659640" y="1341360"/>
            <a:ext cx="2316240" cy="29257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A55-953B-4E97-8B46-0F28513D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дания по стихотво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Укажите лексическое значение слов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йм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ы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ыб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жить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32000" y="3500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700360" y="206064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ающаяся по цвету полоса на краю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627280" y="321300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ь суши, выдающаяся острым углом в м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3528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гкая рябь на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132000" y="566100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тбище, на котором пасется ск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E36-D141-40A8-B2D3-9CA2E9106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дания по стихотво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должны стоять запят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) 1, 2, 5, 6, 7, 8,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) 1, 2,4, 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) 1, 3, 5, 6, 7,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551 E">
                                      <p:cBhvr>
                                        <p:cTn id="12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47:02Z</dcterms:created>
  <dc:creator>Юля</dc:creator>
  <dc:description/>
  <dc:language>en-US</dc:language>
  <cp:lastModifiedBy>Admin</cp:lastModifiedBy>
  <dcterms:modified xsi:type="dcterms:W3CDTF">2012-02-17T14:17:12Z</dcterms:modified>
  <cp:revision>23</cp:revision>
  <dc:subject/>
  <dc:title>Слайд 1</dc:title>
</cp:coreProperties>
</file>