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560A-521D-4E78-9321-5651C1670D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12CB-C9C3-406E-8FAA-700A458458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06F1-DC4B-443F-9904-B3F35ECF2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16F8-384D-4AAE-9C5E-2C135D5B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7DBF-3CF2-4822-AA55-A19BE9FAB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CD51-7C21-494A-8757-0B9F7F151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0846-40EC-47C6-B561-430311BC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FF39-E06B-481E-BC33-FF2AF172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565D-0935-4214-8F9B-B4CAD5DB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F35E-A711-494F-B2F5-C656F7C2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3509-3F59-43DA-BE2E-AC62608C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2105-2144-4F00-8E29-5917A9E7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3909-C5CD-4E8F-A343-06D9B1FB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97B8-EDAF-4844-BCAB-E6B9B7AC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изунова Юлия Владимировна, г.Сыктывкар, Республика Ко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EC56-90C5-4407-A47B-8FF0E7D94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9B7C-EA68-4A5F-B53C-25FC684C7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820000" cy="46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к русского языка 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лассе</a:t>
            </a: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Тема:</a:t>
            </a: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 "Обособление второстепенных членов предложения. Роль причастных и деепричастных оборотов в речи"</a:t>
            </a: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C01C-5189-4AB9-88BD-C475C3F76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Максимилиан Волош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403280" y="1413000"/>
            <a:ext cx="633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нина  вод  колы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ся  широко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ведена  серебря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й  кай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утится  мыс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убчатою  сте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упив  на  зыбь расплавле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го  т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ум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ый  день  раскрыл  златое око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 бледный  луч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расплеск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ый  волно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кользит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дробясь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над мутной  глубиной,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 колос дня от пажитей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сток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33A6-1EED-41D3-8F31-5FB779440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Задания по стихотворе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колько словосочетаний со связью СОГЛАСОВАНИЕ  во втором четверостиш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уманный  ден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латое о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едный  лу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уч расплескан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д мутной  глуби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5219640" y="3357720"/>
            <a:ext cx="1150920" cy="2592360"/>
          </a:xfrm>
          <a:custGeom>
            <a:avLst/>
            <a:gdLst>
              <a:gd name="textAreaLeft" fmla="*/ 0 w 1150920"/>
              <a:gd name="textAreaRight" fmla="*/ 415440 w 115092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99"/>
                </a:lnTo>
                <a:cubicBezTo>
                  <a:pt x="10800" y="9999"/>
                  <a:pt x="16200" y="10899"/>
                  <a:pt x="21600" y="10899"/>
                </a:cubicBezTo>
                <a:cubicBezTo>
                  <a:pt x="16200" y="10899"/>
                  <a:pt x="10800" y="11799"/>
                  <a:pt x="10800" y="1269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6"/>
          <p:cNvSpPr txBox="1"/>
          <p:nvPr/>
        </p:nvSpPr>
        <p:spPr>
          <a:xfrm>
            <a:off x="6877080" y="3573360"/>
            <a:ext cx="1152360" cy="19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AutoShape 7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1225-7AB2-4B38-9BF0-22810208A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9" descr="Рисунок2"/>
          <p:cNvPicPr/>
          <p:nvPr/>
        </p:nvPicPr>
        <p:blipFill>
          <a:blip r:embed="rId2"/>
          <a:stretch/>
        </p:blipFill>
        <p:spPr>
          <a:xfrm>
            <a:off x="1403280" y="1268280"/>
            <a:ext cx="5761080" cy="42022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И.К.Айвазов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0" y="5850000"/>
            <a:ext cx="388764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И.К.Айвазовский "Море. Коктебель" 1853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0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71A8-6165-4A98-991E-8F506ABCB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95280" y="4365720"/>
            <a:ext cx="860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картине Айвазовского изображено  раннее утро  после ……………………………ночи. Первые лучи солнца осветили океан,………………………………, и  людей,……………………… Зритель,……………………………,понимает, какая страшная гроза прошла ночью, какое  бедствие терпел,…………………………, экипаж корабля, как гибли,………………………………,  моря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1187280" y="18900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Распространите текст причастными и деепричастными оборотам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0" descr="Рисунок1"/>
          <p:cNvPicPr/>
          <p:nvPr/>
        </p:nvPicPr>
        <p:blipFill>
          <a:blip r:embed="rId2"/>
          <a:stretch/>
        </p:blipFill>
        <p:spPr>
          <a:xfrm>
            <a:off x="2268360" y="1125360"/>
            <a:ext cx="4392720" cy="311004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11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3B62-22D1-41DF-872B-A7DB762DE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думайте продолжение истории, изображенной  на картине И.К.Айвазовского "Девятый вал".  Запишите свою историю, состоящую  из 10-12 предложений, осложненных   обособленными причастными  и деепричастными оборо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F9B6-E4DE-4826-992B-518E35F16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Мор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6" descr="Рисунок6"/>
          <p:cNvPicPr/>
          <p:nvPr/>
        </p:nvPicPr>
        <p:blipFill>
          <a:blip r:embed="rId2"/>
          <a:stretch/>
        </p:blipFill>
        <p:spPr>
          <a:xfrm>
            <a:off x="684360" y="1484280"/>
            <a:ext cx="3902040" cy="2730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8" descr="Рисунок7"/>
          <p:cNvPicPr/>
          <p:nvPr/>
        </p:nvPicPr>
        <p:blipFill>
          <a:blip r:embed="rId3"/>
          <a:stretch/>
        </p:blipFill>
        <p:spPr>
          <a:xfrm>
            <a:off x="4427640" y="3141720"/>
            <a:ext cx="4038480" cy="279396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30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076F-FC7F-48E4-91E5-7E5F153F9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Чем отличаются текст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д ними необозримо расстилалось море, залитое лучами утреннего солнца. Волны, маленькие игривые барашки, рождаемые ласковым дыханием ветра, тихо бились о борт. Далеко в море, напоминая шрам, виднелась коса. И там, на краю моря, облаков было бесконечно много.  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.Горь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Перед ними необозримо расстилалось море. Волны тихо бились о борт. Далеко в море виднелась коса. И там облаков было бесконечно м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EA2F-732B-4243-8C52-3C0756AB4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Охарактеризуйте сх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755640" y="1989000"/>
            <a:ext cx="403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0"/>
          <p:cNvSpPr/>
          <p:nvPr/>
        </p:nvSpPr>
        <p:spPr>
          <a:xfrm>
            <a:off x="539640" y="765000"/>
            <a:ext cx="8172720" cy="59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ой?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УЩ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,  причастный оборот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астный оборот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У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ой?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  Причастный оборот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ИЧНОЕ   МЕСТОИМ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3"/>
          <p:cNvGrpSpPr/>
          <p:nvPr/>
        </p:nvGrpSpPr>
        <p:grpSpPr>
          <a:xfrm>
            <a:off x="2050920" y="2205000"/>
            <a:ext cx="2689200" cy="114120"/>
            <a:chOff x="2050920" y="2205000"/>
            <a:chExt cx="2689200" cy="114120"/>
          </a:xfrm>
        </p:grpSpPr>
        <p:sp>
          <p:nvSpPr>
            <p:cNvPr id="69" name="Freeform 24"/>
            <p:cNvSpPr/>
            <p:nvPr/>
          </p:nvSpPr>
          <p:spPr>
            <a:xfrm>
              <a:off x="2050920" y="2205000"/>
              <a:ext cx="457200" cy="1141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0" h="180">
                  <a:moveTo>
                    <a:pt x="0" y="180"/>
                  </a:moveTo>
                  <a:cubicBezTo>
                    <a:pt x="60" y="90"/>
                    <a:pt x="120" y="0"/>
                    <a:pt x="180" y="0"/>
                  </a:cubicBezTo>
                  <a:cubicBezTo>
                    <a:pt x="240" y="0"/>
                    <a:pt x="300" y="180"/>
                    <a:pt x="360" y="180"/>
                  </a:cubicBezTo>
                  <a:cubicBezTo>
                    <a:pt x="420" y="180"/>
                    <a:pt x="480" y="0"/>
                    <a:pt x="540" y="0"/>
                  </a:cubicBezTo>
                  <a:cubicBezTo>
                    <a:pt x="600" y="0"/>
                    <a:pt x="660" y="90"/>
                    <a:pt x="720" y="1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5"/>
            <p:cNvSpPr/>
            <p:nvPr/>
          </p:nvSpPr>
          <p:spPr>
            <a:xfrm>
              <a:off x="2484000" y="2205000"/>
              <a:ext cx="457200" cy="1141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0" h="180">
                  <a:moveTo>
                    <a:pt x="0" y="180"/>
                  </a:moveTo>
                  <a:cubicBezTo>
                    <a:pt x="60" y="90"/>
                    <a:pt x="120" y="0"/>
                    <a:pt x="180" y="0"/>
                  </a:cubicBezTo>
                  <a:cubicBezTo>
                    <a:pt x="240" y="0"/>
                    <a:pt x="300" y="180"/>
                    <a:pt x="360" y="180"/>
                  </a:cubicBezTo>
                  <a:cubicBezTo>
                    <a:pt x="420" y="180"/>
                    <a:pt x="480" y="0"/>
                    <a:pt x="540" y="0"/>
                  </a:cubicBezTo>
                  <a:cubicBezTo>
                    <a:pt x="600" y="0"/>
                    <a:pt x="660" y="90"/>
                    <a:pt x="720" y="1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6"/>
            <p:cNvSpPr/>
            <p:nvPr/>
          </p:nvSpPr>
          <p:spPr>
            <a:xfrm>
              <a:off x="2916000" y="2205000"/>
              <a:ext cx="457200" cy="1141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0" h="180">
                  <a:moveTo>
                    <a:pt x="0" y="180"/>
                  </a:moveTo>
                  <a:cubicBezTo>
                    <a:pt x="60" y="90"/>
                    <a:pt x="120" y="0"/>
                    <a:pt x="180" y="0"/>
                  </a:cubicBezTo>
                  <a:cubicBezTo>
                    <a:pt x="240" y="0"/>
                    <a:pt x="300" y="180"/>
                    <a:pt x="360" y="180"/>
                  </a:cubicBezTo>
                  <a:cubicBezTo>
                    <a:pt x="420" y="180"/>
                    <a:pt x="480" y="0"/>
                    <a:pt x="540" y="0"/>
                  </a:cubicBezTo>
                  <a:cubicBezTo>
                    <a:pt x="600" y="0"/>
                    <a:pt x="660" y="90"/>
                    <a:pt x="720" y="1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7"/>
            <p:cNvSpPr/>
            <p:nvPr/>
          </p:nvSpPr>
          <p:spPr>
            <a:xfrm>
              <a:off x="3419280" y="2205000"/>
              <a:ext cx="457200" cy="1141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0" h="180">
                  <a:moveTo>
                    <a:pt x="0" y="180"/>
                  </a:moveTo>
                  <a:cubicBezTo>
                    <a:pt x="60" y="90"/>
                    <a:pt x="120" y="0"/>
                    <a:pt x="180" y="0"/>
                  </a:cubicBezTo>
                  <a:cubicBezTo>
                    <a:pt x="240" y="0"/>
                    <a:pt x="300" y="180"/>
                    <a:pt x="360" y="180"/>
                  </a:cubicBezTo>
                  <a:cubicBezTo>
                    <a:pt x="420" y="180"/>
                    <a:pt x="480" y="0"/>
                    <a:pt x="540" y="0"/>
                  </a:cubicBezTo>
                  <a:cubicBezTo>
                    <a:pt x="600" y="0"/>
                    <a:pt x="660" y="90"/>
                    <a:pt x="720" y="1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1"/>
            <p:cNvSpPr/>
            <p:nvPr/>
          </p:nvSpPr>
          <p:spPr>
            <a:xfrm>
              <a:off x="3850920" y="2205000"/>
              <a:ext cx="457200" cy="1141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0" h="180">
                  <a:moveTo>
                    <a:pt x="0" y="180"/>
                  </a:moveTo>
                  <a:cubicBezTo>
                    <a:pt x="60" y="90"/>
                    <a:pt x="120" y="0"/>
                    <a:pt x="180" y="0"/>
                  </a:cubicBezTo>
                  <a:cubicBezTo>
                    <a:pt x="240" y="0"/>
                    <a:pt x="300" y="180"/>
                    <a:pt x="360" y="180"/>
                  </a:cubicBezTo>
                  <a:cubicBezTo>
                    <a:pt x="420" y="180"/>
                    <a:pt x="480" y="0"/>
                    <a:pt x="540" y="0"/>
                  </a:cubicBezTo>
                  <a:cubicBezTo>
                    <a:pt x="600" y="0"/>
                    <a:pt x="660" y="90"/>
                    <a:pt x="720" y="1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2"/>
            <p:cNvSpPr/>
            <p:nvPr/>
          </p:nvSpPr>
          <p:spPr>
            <a:xfrm>
              <a:off x="4282920" y="2205000"/>
              <a:ext cx="457200" cy="1141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0" h="180">
                  <a:moveTo>
                    <a:pt x="0" y="180"/>
                  </a:moveTo>
                  <a:cubicBezTo>
                    <a:pt x="60" y="90"/>
                    <a:pt x="120" y="0"/>
                    <a:pt x="180" y="0"/>
                  </a:cubicBezTo>
                  <a:cubicBezTo>
                    <a:pt x="240" y="0"/>
                    <a:pt x="300" y="180"/>
                    <a:pt x="360" y="180"/>
                  </a:cubicBezTo>
                  <a:cubicBezTo>
                    <a:pt x="420" y="180"/>
                    <a:pt x="480" y="0"/>
                    <a:pt x="540" y="0"/>
                  </a:cubicBezTo>
                  <a:cubicBezTo>
                    <a:pt x="600" y="0"/>
                    <a:pt x="660" y="90"/>
                    <a:pt x="720" y="1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AutoShape 34"/>
          <p:cNvSpPr/>
          <p:nvPr/>
        </p:nvSpPr>
        <p:spPr>
          <a:xfrm>
            <a:off x="1403280" y="1484280"/>
            <a:ext cx="1152720" cy="432000"/>
          </a:xfrm>
          <a:custGeom>
            <a:avLst/>
            <a:gdLst>
              <a:gd name="textAreaLeft" fmla="*/ 168840 w 1152720"/>
              <a:gd name="textAreaRight" fmla="*/ 983880 w 1152720"/>
              <a:gd name="textAreaTop" fmla="*/ 63000 h 432000"/>
              <a:gd name="textAreaBottom" fmla="*/ 369000 h 432000"/>
            </a:gdLst>
            <a:ahLst/>
            <a:rect l="textAreaLeft" t="textAreaTop" r="textAreaRight" b="textAreaBottom"/>
            <a:pathLst>
              <a:path w="21600" h="21600">
                <a:moveTo>
                  <a:pt x="16839" y="8100"/>
                </a:moveTo>
                <a:cubicBezTo>
                  <a:pt x="15775" y="5717"/>
                  <a:pt x="13409" y="4184"/>
                  <a:pt x="10800" y="4184"/>
                </a:cubicBezTo>
                <a:cubicBezTo>
                  <a:pt x="7275" y="4183"/>
                  <a:pt x="4369" y="6947"/>
                  <a:pt x="4192" y="10467"/>
                </a:cubicBezTo>
                <a:lnTo>
                  <a:pt x="13" y="10256"/>
                </a:lnTo>
                <a:cubicBezTo>
                  <a:pt x="303" y="4510"/>
                  <a:pt x="5046" y="-1"/>
                  <a:pt x="10800" y="0"/>
                </a:cubicBezTo>
                <a:cubicBezTo>
                  <a:pt x="15059" y="0"/>
                  <a:pt x="18921" y="2503"/>
                  <a:pt x="20659" y="6392"/>
                </a:cubicBezTo>
                <a:lnTo>
                  <a:pt x="23124" y="5290"/>
                </a:lnTo>
                <a:lnTo>
                  <a:pt x="20704" y="11620"/>
                </a:lnTo>
                <a:lnTo>
                  <a:pt x="14375" y="9201"/>
                </a:lnTo>
                <a:lnTo>
                  <a:pt x="16839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35"/>
          <p:cNvGrpSpPr/>
          <p:nvPr/>
        </p:nvGrpSpPr>
        <p:grpSpPr>
          <a:xfrm>
            <a:off x="1116000" y="3645000"/>
            <a:ext cx="2689200" cy="114120"/>
            <a:chOff x="1116000" y="3645000"/>
            <a:chExt cx="2689200" cy="114120"/>
          </a:xfrm>
        </p:grpSpPr>
        <p:sp>
          <p:nvSpPr>
            <p:cNvPr id="77" name="Freeform 36"/>
            <p:cNvSpPr/>
            <p:nvPr/>
          </p:nvSpPr>
          <p:spPr>
            <a:xfrm>
              <a:off x="1116000" y="3645000"/>
              <a:ext cx="457200" cy="1141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0" h="180">
                  <a:moveTo>
                    <a:pt x="0" y="180"/>
                  </a:moveTo>
                  <a:cubicBezTo>
                    <a:pt x="60" y="90"/>
                    <a:pt x="120" y="0"/>
                    <a:pt x="180" y="0"/>
                  </a:cubicBezTo>
                  <a:cubicBezTo>
                    <a:pt x="240" y="0"/>
                    <a:pt x="300" y="180"/>
                    <a:pt x="360" y="180"/>
                  </a:cubicBezTo>
                  <a:cubicBezTo>
                    <a:pt x="420" y="180"/>
                    <a:pt x="480" y="0"/>
                    <a:pt x="540" y="0"/>
                  </a:cubicBezTo>
                  <a:cubicBezTo>
                    <a:pt x="600" y="0"/>
                    <a:pt x="660" y="90"/>
                    <a:pt x="720" y="1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7"/>
            <p:cNvSpPr/>
            <p:nvPr/>
          </p:nvSpPr>
          <p:spPr>
            <a:xfrm>
              <a:off x="1549080" y="3645000"/>
              <a:ext cx="457200" cy="1141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0" h="180">
                  <a:moveTo>
                    <a:pt x="0" y="180"/>
                  </a:moveTo>
                  <a:cubicBezTo>
                    <a:pt x="60" y="90"/>
                    <a:pt x="120" y="0"/>
                    <a:pt x="180" y="0"/>
                  </a:cubicBezTo>
                  <a:cubicBezTo>
                    <a:pt x="240" y="0"/>
                    <a:pt x="300" y="180"/>
                    <a:pt x="360" y="180"/>
                  </a:cubicBezTo>
                  <a:cubicBezTo>
                    <a:pt x="420" y="180"/>
                    <a:pt x="480" y="0"/>
                    <a:pt x="540" y="0"/>
                  </a:cubicBezTo>
                  <a:cubicBezTo>
                    <a:pt x="600" y="0"/>
                    <a:pt x="660" y="90"/>
                    <a:pt x="720" y="1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8"/>
            <p:cNvSpPr/>
            <p:nvPr/>
          </p:nvSpPr>
          <p:spPr>
            <a:xfrm>
              <a:off x="1981080" y="3645000"/>
              <a:ext cx="457200" cy="1141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0" h="180">
                  <a:moveTo>
                    <a:pt x="0" y="180"/>
                  </a:moveTo>
                  <a:cubicBezTo>
                    <a:pt x="60" y="90"/>
                    <a:pt x="120" y="0"/>
                    <a:pt x="180" y="0"/>
                  </a:cubicBezTo>
                  <a:cubicBezTo>
                    <a:pt x="240" y="0"/>
                    <a:pt x="300" y="180"/>
                    <a:pt x="360" y="180"/>
                  </a:cubicBezTo>
                  <a:cubicBezTo>
                    <a:pt x="420" y="180"/>
                    <a:pt x="480" y="0"/>
                    <a:pt x="540" y="0"/>
                  </a:cubicBezTo>
                  <a:cubicBezTo>
                    <a:pt x="600" y="0"/>
                    <a:pt x="660" y="90"/>
                    <a:pt x="720" y="1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9"/>
            <p:cNvSpPr/>
            <p:nvPr/>
          </p:nvSpPr>
          <p:spPr>
            <a:xfrm>
              <a:off x="2484360" y="3645000"/>
              <a:ext cx="457200" cy="1141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0" h="180">
                  <a:moveTo>
                    <a:pt x="0" y="180"/>
                  </a:moveTo>
                  <a:cubicBezTo>
                    <a:pt x="60" y="90"/>
                    <a:pt x="120" y="0"/>
                    <a:pt x="180" y="0"/>
                  </a:cubicBezTo>
                  <a:cubicBezTo>
                    <a:pt x="240" y="0"/>
                    <a:pt x="300" y="180"/>
                    <a:pt x="360" y="180"/>
                  </a:cubicBezTo>
                  <a:cubicBezTo>
                    <a:pt x="420" y="180"/>
                    <a:pt x="480" y="0"/>
                    <a:pt x="540" y="0"/>
                  </a:cubicBezTo>
                  <a:cubicBezTo>
                    <a:pt x="600" y="0"/>
                    <a:pt x="660" y="90"/>
                    <a:pt x="720" y="1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0"/>
            <p:cNvSpPr/>
            <p:nvPr/>
          </p:nvSpPr>
          <p:spPr>
            <a:xfrm>
              <a:off x="2916000" y="3645000"/>
              <a:ext cx="457200" cy="1141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0" h="180">
                  <a:moveTo>
                    <a:pt x="0" y="180"/>
                  </a:moveTo>
                  <a:cubicBezTo>
                    <a:pt x="60" y="90"/>
                    <a:pt x="120" y="0"/>
                    <a:pt x="180" y="0"/>
                  </a:cubicBezTo>
                  <a:cubicBezTo>
                    <a:pt x="240" y="0"/>
                    <a:pt x="300" y="180"/>
                    <a:pt x="360" y="180"/>
                  </a:cubicBezTo>
                  <a:cubicBezTo>
                    <a:pt x="420" y="180"/>
                    <a:pt x="480" y="0"/>
                    <a:pt x="540" y="0"/>
                  </a:cubicBezTo>
                  <a:cubicBezTo>
                    <a:pt x="600" y="0"/>
                    <a:pt x="660" y="90"/>
                    <a:pt x="720" y="1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1"/>
            <p:cNvSpPr/>
            <p:nvPr/>
          </p:nvSpPr>
          <p:spPr>
            <a:xfrm>
              <a:off x="3348000" y="3645000"/>
              <a:ext cx="457200" cy="1141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0" h="180">
                  <a:moveTo>
                    <a:pt x="0" y="180"/>
                  </a:moveTo>
                  <a:cubicBezTo>
                    <a:pt x="60" y="90"/>
                    <a:pt x="120" y="0"/>
                    <a:pt x="180" y="0"/>
                  </a:cubicBezTo>
                  <a:cubicBezTo>
                    <a:pt x="240" y="0"/>
                    <a:pt x="300" y="180"/>
                    <a:pt x="360" y="180"/>
                  </a:cubicBezTo>
                  <a:cubicBezTo>
                    <a:pt x="420" y="180"/>
                    <a:pt x="480" y="0"/>
                    <a:pt x="540" y="0"/>
                  </a:cubicBezTo>
                  <a:cubicBezTo>
                    <a:pt x="600" y="0"/>
                    <a:pt x="660" y="90"/>
                    <a:pt x="720" y="1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AutoShape 42"/>
          <p:cNvSpPr/>
          <p:nvPr/>
        </p:nvSpPr>
        <p:spPr>
          <a:xfrm flipH="1">
            <a:off x="3348000" y="2997360"/>
            <a:ext cx="1152720" cy="431640"/>
          </a:xfrm>
          <a:custGeom>
            <a:avLst/>
            <a:gdLst>
              <a:gd name="textAreaLeft" fmla="*/ 168840 w 1152720"/>
              <a:gd name="textAreaRight" fmla="*/ 983880 w 1152720"/>
              <a:gd name="textAreaTop" fmla="*/ 63000 h 431640"/>
              <a:gd name="textAreaBottom" fmla="*/ 368640 h 431640"/>
            </a:gdLst>
            <a:ahLst/>
            <a:rect l="textAreaLeft" t="textAreaTop" r="textAreaRight" b="textAreaBottom"/>
            <a:pathLst>
              <a:path w="21600" h="21600">
                <a:moveTo>
                  <a:pt x="16839" y="8100"/>
                </a:moveTo>
                <a:cubicBezTo>
                  <a:pt x="15775" y="5717"/>
                  <a:pt x="13409" y="4184"/>
                  <a:pt x="10800" y="4184"/>
                </a:cubicBezTo>
                <a:cubicBezTo>
                  <a:pt x="7275" y="4183"/>
                  <a:pt x="4369" y="6947"/>
                  <a:pt x="4192" y="10467"/>
                </a:cubicBezTo>
                <a:lnTo>
                  <a:pt x="13" y="10256"/>
                </a:lnTo>
                <a:cubicBezTo>
                  <a:pt x="303" y="4510"/>
                  <a:pt x="5046" y="-1"/>
                  <a:pt x="10800" y="0"/>
                </a:cubicBezTo>
                <a:cubicBezTo>
                  <a:pt x="15059" y="0"/>
                  <a:pt x="18921" y="2503"/>
                  <a:pt x="20659" y="6392"/>
                </a:cubicBezTo>
                <a:lnTo>
                  <a:pt x="23124" y="5290"/>
                </a:lnTo>
                <a:lnTo>
                  <a:pt x="20704" y="11620"/>
                </a:lnTo>
                <a:lnTo>
                  <a:pt x="14375" y="9201"/>
                </a:lnTo>
                <a:lnTo>
                  <a:pt x="16839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0"/>
          <p:cNvSpPr/>
          <p:nvPr/>
        </p:nvSpPr>
        <p:spPr>
          <a:xfrm flipH="1">
            <a:off x="3923640" y="4508640"/>
            <a:ext cx="1152360" cy="431640"/>
          </a:xfrm>
          <a:custGeom>
            <a:avLst/>
            <a:gdLst>
              <a:gd name="textAreaLeft" fmla="*/ 168480 w 1152360"/>
              <a:gd name="textAreaRight" fmla="*/ 983880 w 1152360"/>
              <a:gd name="textAreaTop" fmla="*/ 63000 h 431640"/>
              <a:gd name="textAreaBottom" fmla="*/ 368640 h 431640"/>
            </a:gdLst>
            <a:ahLst/>
            <a:rect l="textAreaLeft" t="textAreaTop" r="textAreaRight" b="textAreaBottom"/>
            <a:pathLst>
              <a:path w="21600" h="21600">
                <a:moveTo>
                  <a:pt x="16839" y="8100"/>
                </a:moveTo>
                <a:cubicBezTo>
                  <a:pt x="15775" y="5717"/>
                  <a:pt x="13409" y="4184"/>
                  <a:pt x="10800" y="4184"/>
                </a:cubicBezTo>
                <a:cubicBezTo>
                  <a:pt x="7275" y="4183"/>
                  <a:pt x="4369" y="6947"/>
                  <a:pt x="4192" y="10467"/>
                </a:cubicBezTo>
                <a:lnTo>
                  <a:pt x="13" y="10256"/>
                </a:lnTo>
                <a:cubicBezTo>
                  <a:pt x="303" y="4510"/>
                  <a:pt x="5046" y="-1"/>
                  <a:pt x="10800" y="0"/>
                </a:cubicBezTo>
                <a:cubicBezTo>
                  <a:pt x="15059" y="0"/>
                  <a:pt x="18921" y="2503"/>
                  <a:pt x="20659" y="6392"/>
                </a:cubicBezTo>
                <a:lnTo>
                  <a:pt x="23124" y="5290"/>
                </a:lnTo>
                <a:lnTo>
                  <a:pt x="20704" y="11620"/>
                </a:lnTo>
                <a:lnTo>
                  <a:pt x="14375" y="9201"/>
                </a:lnTo>
                <a:lnTo>
                  <a:pt x="16839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51"/>
          <p:cNvGrpSpPr/>
          <p:nvPr/>
        </p:nvGrpSpPr>
        <p:grpSpPr>
          <a:xfrm>
            <a:off x="1332000" y="5157720"/>
            <a:ext cx="2689200" cy="114120"/>
            <a:chOff x="1332000" y="5157720"/>
            <a:chExt cx="2689200" cy="114120"/>
          </a:xfrm>
        </p:grpSpPr>
        <p:sp>
          <p:nvSpPr>
            <p:cNvPr id="86" name="Freeform 52"/>
            <p:cNvSpPr/>
            <p:nvPr/>
          </p:nvSpPr>
          <p:spPr>
            <a:xfrm>
              <a:off x="1332000" y="5157720"/>
              <a:ext cx="457200" cy="1141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0" h="180">
                  <a:moveTo>
                    <a:pt x="0" y="180"/>
                  </a:moveTo>
                  <a:cubicBezTo>
                    <a:pt x="60" y="90"/>
                    <a:pt x="120" y="0"/>
                    <a:pt x="180" y="0"/>
                  </a:cubicBezTo>
                  <a:cubicBezTo>
                    <a:pt x="240" y="0"/>
                    <a:pt x="300" y="180"/>
                    <a:pt x="360" y="180"/>
                  </a:cubicBezTo>
                  <a:cubicBezTo>
                    <a:pt x="420" y="180"/>
                    <a:pt x="480" y="0"/>
                    <a:pt x="540" y="0"/>
                  </a:cubicBezTo>
                  <a:cubicBezTo>
                    <a:pt x="600" y="0"/>
                    <a:pt x="660" y="90"/>
                    <a:pt x="720" y="1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53"/>
            <p:cNvSpPr/>
            <p:nvPr/>
          </p:nvSpPr>
          <p:spPr>
            <a:xfrm>
              <a:off x="1765080" y="5157720"/>
              <a:ext cx="457200" cy="1141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0" h="180">
                  <a:moveTo>
                    <a:pt x="0" y="180"/>
                  </a:moveTo>
                  <a:cubicBezTo>
                    <a:pt x="60" y="90"/>
                    <a:pt x="120" y="0"/>
                    <a:pt x="180" y="0"/>
                  </a:cubicBezTo>
                  <a:cubicBezTo>
                    <a:pt x="240" y="0"/>
                    <a:pt x="300" y="180"/>
                    <a:pt x="360" y="180"/>
                  </a:cubicBezTo>
                  <a:cubicBezTo>
                    <a:pt x="420" y="180"/>
                    <a:pt x="480" y="0"/>
                    <a:pt x="540" y="0"/>
                  </a:cubicBezTo>
                  <a:cubicBezTo>
                    <a:pt x="600" y="0"/>
                    <a:pt x="660" y="90"/>
                    <a:pt x="720" y="1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54"/>
            <p:cNvSpPr/>
            <p:nvPr/>
          </p:nvSpPr>
          <p:spPr>
            <a:xfrm>
              <a:off x="2197080" y="5157720"/>
              <a:ext cx="457200" cy="1141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0" h="180">
                  <a:moveTo>
                    <a:pt x="0" y="180"/>
                  </a:moveTo>
                  <a:cubicBezTo>
                    <a:pt x="60" y="90"/>
                    <a:pt x="120" y="0"/>
                    <a:pt x="180" y="0"/>
                  </a:cubicBezTo>
                  <a:cubicBezTo>
                    <a:pt x="240" y="0"/>
                    <a:pt x="300" y="180"/>
                    <a:pt x="360" y="180"/>
                  </a:cubicBezTo>
                  <a:cubicBezTo>
                    <a:pt x="420" y="180"/>
                    <a:pt x="480" y="0"/>
                    <a:pt x="540" y="0"/>
                  </a:cubicBezTo>
                  <a:cubicBezTo>
                    <a:pt x="600" y="0"/>
                    <a:pt x="660" y="90"/>
                    <a:pt x="720" y="1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5"/>
            <p:cNvSpPr/>
            <p:nvPr/>
          </p:nvSpPr>
          <p:spPr>
            <a:xfrm>
              <a:off x="2700360" y="5157720"/>
              <a:ext cx="457200" cy="1141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0" h="180">
                  <a:moveTo>
                    <a:pt x="0" y="180"/>
                  </a:moveTo>
                  <a:cubicBezTo>
                    <a:pt x="60" y="90"/>
                    <a:pt x="120" y="0"/>
                    <a:pt x="180" y="0"/>
                  </a:cubicBezTo>
                  <a:cubicBezTo>
                    <a:pt x="240" y="0"/>
                    <a:pt x="300" y="180"/>
                    <a:pt x="360" y="180"/>
                  </a:cubicBezTo>
                  <a:cubicBezTo>
                    <a:pt x="420" y="180"/>
                    <a:pt x="480" y="0"/>
                    <a:pt x="540" y="0"/>
                  </a:cubicBezTo>
                  <a:cubicBezTo>
                    <a:pt x="600" y="0"/>
                    <a:pt x="660" y="90"/>
                    <a:pt x="720" y="1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6"/>
            <p:cNvSpPr/>
            <p:nvPr/>
          </p:nvSpPr>
          <p:spPr>
            <a:xfrm>
              <a:off x="3132000" y="5157720"/>
              <a:ext cx="457200" cy="1141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0" h="180">
                  <a:moveTo>
                    <a:pt x="0" y="180"/>
                  </a:moveTo>
                  <a:cubicBezTo>
                    <a:pt x="60" y="90"/>
                    <a:pt x="120" y="0"/>
                    <a:pt x="180" y="0"/>
                  </a:cubicBezTo>
                  <a:cubicBezTo>
                    <a:pt x="240" y="0"/>
                    <a:pt x="300" y="180"/>
                    <a:pt x="360" y="180"/>
                  </a:cubicBezTo>
                  <a:cubicBezTo>
                    <a:pt x="420" y="180"/>
                    <a:pt x="480" y="0"/>
                    <a:pt x="540" y="0"/>
                  </a:cubicBezTo>
                  <a:cubicBezTo>
                    <a:pt x="600" y="0"/>
                    <a:pt x="660" y="90"/>
                    <a:pt x="720" y="1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7"/>
            <p:cNvSpPr/>
            <p:nvPr/>
          </p:nvSpPr>
          <p:spPr>
            <a:xfrm>
              <a:off x="3564000" y="5157720"/>
              <a:ext cx="457200" cy="1141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0" h="180">
                  <a:moveTo>
                    <a:pt x="0" y="180"/>
                  </a:moveTo>
                  <a:cubicBezTo>
                    <a:pt x="60" y="90"/>
                    <a:pt x="120" y="0"/>
                    <a:pt x="180" y="0"/>
                  </a:cubicBezTo>
                  <a:cubicBezTo>
                    <a:pt x="240" y="0"/>
                    <a:pt x="300" y="180"/>
                    <a:pt x="360" y="180"/>
                  </a:cubicBezTo>
                  <a:cubicBezTo>
                    <a:pt x="420" y="180"/>
                    <a:pt x="480" y="0"/>
                    <a:pt x="540" y="0"/>
                  </a:cubicBezTo>
                  <a:cubicBezTo>
                    <a:pt x="600" y="0"/>
                    <a:pt x="660" y="90"/>
                    <a:pt x="720" y="1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AutoShape 58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D22A-D119-4EEE-9D1C-7168CB9D4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Что делая?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ГЛАГО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 деепричастный оборот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. - . - . - . - . - . - . - . - .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Что сделав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…, деепричастный оборот,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ГЛАГ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. - . - . - . - . - . - . - . - .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1835280" y="2133720"/>
            <a:ext cx="1152360" cy="431640"/>
          </a:xfrm>
          <a:custGeom>
            <a:avLst/>
            <a:gdLst>
              <a:gd name="textAreaLeft" fmla="*/ 168480 w 1152360"/>
              <a:gd name="textAreaRight" fmla="*/ 983880 w 1152360"/>
              <a:gd name="textAreaTop" fmla="*/ 63000 h 431640"/>
              <a:gd name="textAreaBottom" fmla="*/ 368640 h 431640"/>
            </a:gdLst>
            <a:ahLst/>
            <a:rect l="textAreaLeft" t="textAreaTop" r="textAreaRight" b="textAreaBottom"/>
            <a:pathLst>
              <a:path w="21600" h="21600">
                <a:moveTo>
                  <a:pt x="16839" y="8100"/>
                </a:moveTo>
                <a:cubicBezTo>
                  <a:pt x="15775" y="5717"/>
                  <a:pt x="13409" y="4184"/>
                  <a:pt x="10800" y="4184"/>
                </a:cubicBezTo>
                <a:cubicBezTo>
                  <a:pt x="7275" y="4183"/>
                  <a:pt x="4369" y="6947"/>
                  <a:pt x="4192" y="10467"/>
                </a:cubicBezTo>
                <a:lnTo>
                  <a:pt x="13" y="10256"/>
                </a:lnTo>
                <a:cubicBezTo>
                  <a:pt x="303" y="4510"/>
                  <a:pt x="5046" y="-1"/>
                  <a:pt x="10800" y="0"/>
                </a:cubicBezTo>
                <a:cubicBezTo>
                  <a:pt x="15059" y="0"/>
                  <a:pt x="18921" y="2503"/>
                  <a:pt x="20659" y="6392"/>
                </a:cubicBezTo>
                <a:lnTo>
                  <a:pt x="23124" y="5290"/>
                </a:lnTo>
                <a:lnTo>
                  <a:pt x="20704" y="11620"/>
                </a:lnTo>
                <a:lnTo>
                  <a:pt x="14375" y="9201"/>
                </a:lnTo>
                <a:lnTo>
                  <a:pt x="16839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"/>
          <p:cNvSpPr/>
          <p:nvPr/>
        </p:nvSpPr>
        <p:spPr>
          <a:xfrm flipH="1">
            <a:off x="4716360" y="4724280"/>
            <a:ext cx="1152720" cy="432000"/>
          </a:xfrm>
          <a:custGeom>
            <a:avLst/>
            <a:gdLst>
              <a:gd name="textAreaLeft" fmla="*/ 168840 w 1152720"/>
              <a:gd name="textAreaRight" fmla="*/ 983880 w 1152720"/>
              <a:gd name="textAreaTop" fmla="*/ 63000 h 432000"/>
              <a:gd name="textAreaBottom" fmla="*/ 369000 h 432000"/>
            </a:gdLst>
            <a:ahLst/>
            <a:rect l="textAreaLeft" t="textAreaTop" r="textAreaRight" b="textAreaBottom"/>
            <a:pathLst>
              <a:path w="21600" h="21600">
                <a:moveTo>
                  <a:pt x="16839" y="8100"/>
                </a:moveTo>
                <a:cubicBezTo>
                  <a:pt x="15775" y="5717"/>
                  <a:pt x="13409" y="4184"/>
                  <a:pt x="10800" y="4184"/>
                </a:cubicBezTo>
                <a:cubicBezTo>
                  <a:pt x="7275" y="4183"/>
                  <a:pt x="4369" y="6947"/>
                  <a:pt x="4192" y="10467"/>
                </a:cubicBezTo>
                <a:lnTo>
                  <a:pt x="13" y="10256"/>
                </a:lnTo>
                <a:cubicBezTo>
                  <a:pt x="303" y="4510"/>
                  <a:pt x="5046" y="-1"/>
                  <a:pt x="10800" y="0"/>
                </a:cubicBezTo>
                <a:cubicBezTo>
                  <a:pt x="15059" y="0"/>
                  <a:pt x="18921" y="2503"/>
                  <a:pt x="20659" y="6392"/>
                </a:cubicBezTo>
                <a:lnTo>
                  <a:pt x="23124" y="5290"/>
                </a:lnTo>
                <a:lnTo>
                  <a:pt x="20704" y="11620"/>
                </a:lnTo>
                <a:lnTo>
                  <a:pt x="14375" y="9201"/>
                </a:lnTo>
                <a:lnTo>
                  <a:pt x="16839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Охарактеризуйте сх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9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98E6-C939-411F-B027-5947939F1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Марина Цвета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907560"/>
            <a:ext cx="6769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971640" y="1413000"/>
            <a:ext cx="27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5" descr="Рисунок5"/>
          <p:cNvPicPr/>
          <p:nvPr/>
        </p:nvPicPr>
        <p:blipFill>
          <a:blip r:embed="rId2"/>
          <a:stretch/>
        </p:blipFill>
        <p:spPr>
          <a:xfrm>
            <a:off x="6372360" y="2133720"/>
            <a:ext cx="2523960" cy="280980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16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3555-F89A-49EB-BF88-B334A85D6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Максимилиан Волош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250920" y="1341360"/>
            <a:ext cx="633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…внина  вод  колыш….тся  широко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ведена  серебря….ой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аймой*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тится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мыс*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2) зубчатою  стеной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упив  на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ыбь*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4) расплавле….ого  т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ума…ый  день  раскрыл  златое око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 бледный  луч (6) расплеска…ый  волной(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зит(8)  дробясь (9)над мутной  глубиной,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 колос дня от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ажитей*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ток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3" descr="Рисунок4"/>
          <p:cNvPicPr/>
          <p:nvPr/>
        </p:nvPicPr>
        <p:blipFill>
          <a:blip r:embed="rId2"/>
          <a:stretch/>
        </p:blipFill>
        <p:spPr>
          <a:xfrm>
            <a:off x="6659640" y="1341360"/>
            <a:ext cx="2316240" cy="292572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4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94D2-00F8-433B-B0C9-AB809583A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Задания по стихотвор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5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Укажите лексическое значение слов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айм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Мыс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Зыб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ажить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132000" y="3500280"/>
            <a:ext cx="53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700360" y="2060640"/>
            <a:ext cx="63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личающаяся по цвету полоса на краю тк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2627280" y="3213000"/>
            <a:ext cx="61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сть суши, выдающаяся острым углом в мо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735280" y="45086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гкая рябь на во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3132000" y="5661000"/>
            <a:ext cx="60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стбище, на котором пасется ско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61AF-9ACE-47D4-BD5B-DAA62F44B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Задания по стихотворе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 каком варианте ответа правильно указаны все цифры, на месте которых должны стоять запяты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) 1, 2, 5, 6, 7, 8, 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               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) 1, 2,4, 5, 6, 7,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               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) 1, 3, 5, 6, 7, 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551 E">
                                      <p:cBhvr>
                                        <p:cTn id="128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10:47:02Z</dcterms:created>
  <dc:creator>Юля</dc:creator>
  <dc:description/>
  <dc:language>en-US</dc:language>
  <cp:lastModifiedBy>Admin</cp:lastModifiedBy>
  <dcterms:modified xsi:type="dcterms:W3CDTF">2012-02-17T14:17:12Z</dcterms:modified>
  <cp:revision>23</cp:revision>
  <dc:subject/>
  <dc:title>Слайд 1</dc:title>
</cp:coreProperties>
</file>