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wmf" ContentType="image/x-wmf"/>
  <Override PartName="/ppt/media/image20.gif" ContentType="image/gif"/>
  <Override PartName="/ppt/media/image18.gif" ContentType="image/gif"/>
  <Override PartName="/ppt/media/image26.jpeg" ContentType="image/jpeg"/>
  <Override PartName="/ppt/media/image5.jpeg" ContentType="image/jpeg"/>
  <Override PartName="/ppt/media/image11.wmf" ContentType="image/x-wmf"/>
  <Override PartName="/ppt/media/image23.gif" ContentType="image/gif"/>
  <Override PartName="/ppt/media/image6.jpeg" ContentType="image/jpeg"/>
  <Override PartName="/ppt/media/image27.jpeg" ContentType="image/jpeg"/>
  <Override PartName="/ppt/media/image13.wmf" ContentType="image/x-wmf"/>
  <Override PartName="/ppt/media/image29.jpeg" ContentType="image/jpeg"/>
  <Override PartName="/ppt/media/image2.gif" ContentType="image/gif"/>
  <Override PartName="/ppt/media/image8.jpeg" ContentType="image/jpeg"/>
  <Override PartName="/ppt/media/image12.wmf" ContentType="image/x-wmf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15.png" ContentType="image/png"/>
  <Override PartName="/ppt/media/image22.gif" ContentType="image/gif"/>
  <Override PartName="/ppt/media/image7.jpeg" ContentType="image/jpeg"/>
  <Override PartName="/ppt/media/image28.jpeg" ContentType="image/jpeg"/>
  <Override PartName="/ppt/media/image1.png" ContentType="image/png"/>
  <Override PartName="/ppt/media/image21.gif" ContentType="image/gif"/>
  <Override PartName="/ppt/media/image19.gif" ContentType="image/gif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2C11-6BD3-424F-B190-F1662624D8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300F-7870-4EF0-8F37-602197132D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079-A67F-4387-B4E3-81DABF35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829-E5AD-4373-90D0-F701FE65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0B29-65BA-455F-A2BB-E639EAA5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C8F-40EA-491D-A0A2-04CD94B2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1751-F83A-4282-8BBD-7798DCBE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1243-EE21-46CC-92FD-3CEB07CE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8B8E-53C6-4472-B705-AD5523AE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1519-D5F8-4380-9A1E-E95C16CD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4B07-79FD-42A0-ACEB-7661018F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9BF3-370A-4B75-ACBC-19FDCF27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E163-EA86-4606-909F-0BD3C500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A9E-C457-481E-8339-3806546E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0221-CB25-4818-B00D-C3F13F6B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AC6F-C2A9-4D9E-928C-877F04D5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E789-C207-40A4-BB0B-2179BD2B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9018-D77C-4A65-919C-4E5A0FD0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DEE7-644E-45D7-9312-3549C3D5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F2CD3-72DC-4362-BCBF-E959F1C4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5E93E-8CA0-4626-ACC1-8CCBFBA7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DD5EE-6BA7-46B2-A653-83A471DA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00DF1-449D-4CF2-B844-0B2A7A80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BC8B3-36A7-45FE-96A3-67F5EEFB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FCB-B454-4CBF-8BB6-A8915F5E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E0D33-3276-43C7-BCAD-3A026433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E36B5-9532-415C-8BC4-0EF86DDE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18FB7-DAF0-477C-98E6-729B2B33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D0DD1-B18B-4BAC-9D11-80176EAA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22D24-21AD-42B1-9C84-6CEC98FF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94609-BFE1-4F71-801C-8CDC6E0A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0C4B4-170C-42FD-802E-1A785767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D9AFF-2148-4A56-93A9-420EC23E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F3978-DD30-43FC-AD07-127541EB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A1064-9FA1-4D50-975E-CED88F2D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512-E4B2-468B-9DBD-966C7EAC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4FEC6-7EE6-4F7A-B2B9-B81DAB31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BD08B-3F12-492E-9504-6008D2BA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6A98A-4BBF-4073-B0B8-325E7075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69C21-06CB-4081-AE08-C43912DA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DC5B9-4E2A-49E9-97CB-CAC69DC8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91BFC-06FF-4CA7-A77A-F35C4AC2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11C1C-7CC0-4575-96D8-B8CE790F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BC0A7-5821-45F2-B3BC-B2FC61BC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CA206-0D7A-47E6-BCA8-0432F276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CF07-6020-4DDB-AEB8-E6E52A07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5D7C-63E1-45EB-8B48-1CA61C94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210-A8E3-4A21-A2A7-D3877606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2561-92D1-44D3-80FC-D851487F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2644-D960-4BAD-9FC6-F60C03DC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E13C-8933-49FD-9E3D-24E96174600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A799-F8D0-44DC-907F-15EF2CC90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E3EF-AEE7-41B6-9E91-241AB743954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128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308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314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A131-8976-4218-B2AD-C4C9EE5B3F2E}" type="slidenum">
              <a:rPr b="0" lang="ru-RU" sz="14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r>
              <a:rPr b="1" lang="ru-RU" sz="15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6633"/>
                </a:solidFill>
                <a:latin typeface="Arial"/>
              </a:rPr>
              <a:t>Муниципальное</a:t>
            </a:r>
            <a:r>
              <a:rPr b="1" lang="ru-RU" sz="15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1500" spc="-1" strike="noStrike">
                <a:solidFill>
                  <a:srgbClr val="006633"/>
                </a:solidFill>
                <a:latin typeface="Arial"/>
              </a:rPr>
              <a:t>бюджетное  образовательное учреждение</a:t>
            </a:r>
            <a:r>
              <a:rPr b="1" lang="ru-RU" sz="15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1500" spc="-1" strike="noStrike">
                <a:solidFill>
                  <a:srgbClr val="006633"/>
                </a:solidFill>
                <a:latin typeface="Arial"/>
              </a:rPr>
              <a:t> средняя общеобразовательная школа №57  г.Сочи</a:t>
            </a: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80" name="Picture 4" descr="RisSmi010_4"/>
          <p:cNvPicPr/>
          <p:nvPr/>
        </p:nvPicPr>
        <p:blipFill>
          <a:blip r:embed="rId1"/>
          <a:stretch/>
        </p:blipFill>
        <p:spPr>
          <a:xfrm>
            <a:off x="228600" y="2895480"/>
            <a:ext cx="4038480" cy="32767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734000" y="3047760"/>
            <a:ext cx="395280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ыполнила: Роганян Адели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ченица 4 «Б» класс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уководитель: Кузнецова Альби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еннадьев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читель начальны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лассов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WordArt 22"/>
          <p:cNvSpPr txBox="1"/>
          <p:nvPr/>
        </p:nvSpPr>
        <p:spPr>
          <a:xfrm>
            <a:off x="914400" y="2209680"/>
            <a:ext cx="7467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Ты навсегда в ответе за тех, кого приручил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3" name="WordArt 24"/>
          <p:cNvSpPr txBox="1"/>
          <p:nvPr/>
        </p:nvSpPr>
        <p:spPr>
          <a:xfrm>
            <a:off x="2590920" y="1600200"/>
            <a:ext cx="3581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ект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33"/>
                </a:solidFill>
                <a:latin typeface="Garamond"/>
              </a:rPr>
              <a:t>Результаты ответов на вопрос: Выразите свою позицию к утверждению «Я готов(а) помочь бездомным животным».</a:t>
            </a:r>
            <a:endParaRPr b="0" lang="en-US" sz="27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408" name="Object 4"/>
          <p:cNvGraphicFramePr/>
          <p:nvPr/>
        </p:nvGraphicFramePr>
        <p:xfrm>
          <a:off x="619200" y="1704960"/>
          <a:ext cx="7905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1704960"/>
                    <a:ext cx="7905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WordArt 5"/>
          <p:cNvSpPr txBox="1"/>
          <p:nvPr/>
        </p:nvSpPr>
        <p:spPr>
          <a:xfrm>
            <a:off x="676440" y="685800"/>
            <a:ext cx="7791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3«источника» бездомных живот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33520" y="1904760"/>
            <a:ext cx="8229600" cy="26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Tahoma"/>
                <a:ea typeface="Tahoma"/>
              </a:rPr>
              <a:t>1</a:t>
            </a:r>
            <a:r>
              <a:rPr b="0" lang="ru-RU" sz="2600" spc="-1" strike="noStrike">
                <a:solidFill>
                  <a:srgbClr val="006633"/>
                </a:solidFill>
                <a:latin typeface="Tahoma"/>
                <a:ea typeface="Tahoma"/>
              </a:rPr>
              <a:t> Животные которые рождаются на улиц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Tahoma"/>
                <a:ea typeface="Tahoma"/>
              </a:rPr>
              <a:t>2 Потерянные животны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Tahoma"/>
                <a:ea typeface="Tahoma"/>
              </a:rPr>
              <a:t>3 Выброшенные из до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5" descr="C:\Documents and Settings\Admin\Мои документы\Загрузки\97820bd480d4.jpg"/>
          <p:cNvPicPr/>
          <p:nvPr/>
        </p:nvPicPr>
        <p:blipFill>
          <a:blip r:embed="rId3"/>
          <a:stretch/>
        </p:blipFill>
        <p:spPr>
          <a:xfrm>
            <a:off x="2362320" y="3352680"/>
            <a:ext cx="441936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2667240" cy="25146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терянные животные</a:t>
            </a:r>
            <a:br>
              <a:rPr sz="2500"/>
            </a:br>
            <a:r>
              <a:rPr b="0" lang="ru-RU" sz="2500" spc="-1" strike="noStrike">
                <a:solidFill>
                  <a:srgbClr val="006633"/>
                </a:solidFill>
                <a:latin typeface="Garamond"/>
              </a:rPr>
              <a:t> Сейчас существует много способов разыскать своего любимца:</a:t>
            </a:r>
            <a:br>
              <a:rPr sz="2500"/>
            </a:br>
            <a:r>
              <a:rPr b="0" lang="ru-RU" sz="2500" spc="-1" strike="noStrike">
                <a:solidFill>
                  <a:srgbClr val="006633"/>
                </a:solidFill>
                <a:latin typeface="Garamond"/>
              </a:rPr>
              <a:t>-через объявления;</a:t>
            </a:r>
            <a:br>
              <a:rPr sz="2500"/>
            </a:br>
            <a:r>
              <a:rPr b="0" lang="ru-RU" sz="2500" spc="-1" strike="noStrike">
                <a:solidFill>
                  <a:srgbClr val="006633"/>
                </a:solidFill>
                <a:latin typeface="Garamond"/>
              </a:rPr>
              <a:t>-через интернет;</a:t>
            </a:r>
            <a:br>
              <a:rPr sz="2500"/>
            </a:br>
            <a:r>
              <a:rPr b="0" lang="ru-RU" sz="2500" spc="-1" strike="noStrike">
                <a:solidFill>
                  <a:srgbClr val="006633"/>
                </a:solidFill>
                <a:latin typeface="Garamond"/>
              </a:rPr>
              <a:t>-через опрос граждан.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                 ПРОПАЛ ПЁС ! Зовут  МУХТАР ( откликается </a:t>
            </a:r>
            <a:br>
              <a:rPr sz="1300"/>
            </a:b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                 на Муха ) Собаке 2 года . Бестолковая , лает на</a:t>
            </a:r>
            <a:br>
              <a:rPr sz="1300"/>
            </a:b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                 птиц , кошек , пьяных и детей . На шее ошейник</a:t>
            </a:r>
            <a:br>
              <a:rPr sz="1300"/>
            </a:b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                 ( плетёный )  </a:t>
            </a:r>
            <a:br>
              <a:rPr sz="1300"/>
            </a:b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                 Сбежал 12. 03. 2012 с закрытого двора  на  Эль-</a:t>
            </a:r>
            <a:br>
              <a:rPr sz="1300"/>
            </a:b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                 маше , улице Заметина- Ползунова . Просьба ве-</a:t>
            </a:r>
            <a:br>
              <a:rPr sz="1300"/>
            </a:b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                 вернуть собаку .</a:t>
            </a:r>
            <a:br>
              <a:rPr sz="1300"/>
            </a:b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                 </a:t>
            </a:r>
            <a:br>
              <a:rPr sz="1300"/>
            </a:b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                 Телефон хозяина   904-544-08-92</a:t>
            </a:r>
            <a:endParaRPr b="0" lang="en-US" sz="13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ыброшенные из дом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85440" y="16761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Мой призыв к одноклассник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Каждый из нас наверно видел и знает, что в нашем  городе есть бездомные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животные : кошки , собаки . Они бегают по улицам , живут в подвалах  и на трубах отопления . Многие из них больны,поколечины . Но почему они так живут ? Чья вина в том что они обречены скитаться, попрошайничать, погибать от холода и голода. На этот вопрос один ответ – в этом виноваты мы люд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Почему человек считая себя хозяином в этой жизни, ни как не может понять что для того, чтобы не убивать просто не надо бросать и преда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Мы ученики сегодняшнего дня, а завтра мы будем взрослыми людьми и у нас будут свои семьи в которых будут жить взятые нами домашние животные. Я желаю всем нам чтобы руки наши были добрыми и животные живущие у нас не превратились из домашних в бездом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52280" y="7617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6633"/>
                </a:solidFill>
                <a:latin typeface="Arial"/>
              </a:rPr>
              <a:t>Не в каждом доме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6633"/>
                </a:solidFill>
                <a:latin typeface="Arial"/>
              </a:rPr>
              <a:t>должна быть кошка и собака,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6633"/>
                </a:solidFill>
                <a:latin typeface="Arial"/>
              </a:rPr>
              <a:t>но у каждой кошки и собаки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6633"/>
                </a:solidFill>
                <a:latin typeface="Arial"/>
              </a:rPr>
              <a:t>должен быть дом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statiapism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1" name="собака.wav" descr=""/>
          <p:cNvPicPr/>
          <p:nvPr/>
        </p:nvPicPr>
        <p:blipFill>
          <a:blip r:embed="rId2"/>
          <a:stretch/>
        </p:blipFill>
        <p:spPr>
          <a:xfrm>
            <a:off x="78487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96681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Я буду жить всего лишь лет десять. Любая разлука с тобой будет причинять мне страдания. Подумай об этом, прежде чем ты возьмёшь мен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0щддо"/>
          <p:cNvPicPr/>
          <p:nvPr/>
        </p:nvPicPr>
        <p:blipFill>
          <a:blip r:embed="rId1"/>
          <a:stretch/>
        </p:blipFill>
        <p:spPr>
          <a:xfrm>
            <a:off x="6553080" y="3352680"/>
            <a:ext cx="2590920" cy="3276720"/>
          </a:xfrm>
          <a:prstGeom prst="rect">
            <a:avLst/>
          </a:prstGeom>
          <a:ln w="0">
            <a:noFill/>
          </a:ln>
        </p:spPr>
      </p:pic>
      <p:sp>
        <p:nvSpPr>
          <p:cNvPr id="424" name="WordArt 9"/>
          <p:cNvSpPr txBox="1"/>
          <p:nvPr/>
        </p:nvSpPr>
        <p:spPr>
          <a:xfrm>
            <a:off x="1209600" y="457200"/>
            <a:ext cx="672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амятка для будущего хозя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2.Старайся дать мне время подумать, чего ты требуешь от ме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26" name="Picture 7" descr="410"/>
          <p:cNvPicPr/>
          <p:nvPr/>
        </p:nvPicPr>
        <p:blipFill>
          <a:blip r:embed="rId1"/>
          <a:stretch/>
        </p:blipFill>
        <p:spPr>
          <a:xfrm>
            <a:off x="5257800" y="3657600"/>
            <a:ext cx="365760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3. Не сердись на меня долго и не запирай меня в наказание! Ведь у тебя есть ещё работа, развлечения, друзья – у меня же есть только т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4" descr="5207dc4c2a8f735245028e9ac870590c05"/>
          <p:cNvPicPr/>
          <p:nvPr/>
        </p:nvPicPr>
        <p:blipFill>
          <a:blip r:embed="rId1"/>
          <a:stretch/>
        </p:blipFill>
        <p:spPr>
          <a:xfrm>
            <a:off x="3124080" y="3733920"/>
            <a:ext cx="304812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4. Разговаривай со мной. Хотя я и не смогу полностью понимать все твои слова, но зато я понимаю твой голос , обращённый ко м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f56653c5741e"/>
          <p:cNvPicPr/>
          <p:nvPr/>
        </p:nvPicPr>
        <p:blipFill>
          <a:blip r:embed="rId1"/>
          <a:stretch/>
        </p:blipFill>
        <p:spPr>
          <a:xfrm>
            <a:off x="3124080" y="36576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09120" y="106668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Tahoma"/>
                <a:ea typeface="Tahoma"/>
              </a:rPr>
              <a:t>Много тысячелетий живут на планете рядом с человеком звери, птицы, рыбы. Они тоже, как и мы могут сказать Человеку:«Эта земля и моя.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C:\Documents and Settings\Admin\Мои документы\Загрузки\105772.jpg"/>
          <p:cNvPicPr/>
          <p:nvPr/>
        </p:nvPicPr>
        <p:blipFill>
          <a:blip r:embed="rId1"/>
          <a:stretch/>
        </p:blipFill>
        <p:spPr>
          <a:xfrm>
            <a:off x="0" y="365760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C:\Documents and Settings\Admin\Мои документы\Загрузки\a9393a04c7f7.jpg"/>
          <p:cNvPicPr/>
          <p:nvPr/>
        </p:nvPicPr>
        <p:blipFill>
          <a:blip r:embed="rId2"/>
          <a:stretch/>
        </p:blipFill>
        <p:spPr>
          <a:xfrm>
            <a:off x="3048120" y="3657600"/>
            <a:ext cx="3504960" cy="28288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C:\Documents and Settings\Admin\Мои документы\Загрузки\дд.jpg"/>
          <p:cNvPicPr/>
          <p:nvPr/>
        </p:nvPicPr>
        <p:blipFill>
          <a:blip r:embed="rId3"/>
          <a:stretch/>
        </p:blipFill>
        <p:spPr>
          <a:xfrm>
            <a:off x="6248520" y="3657600"/>
            <a:ext cx="289548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26920" y="1679040"/>
            <a:ext cx="7490160" cy="44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5. Помни – я никогда не забуду, как со мной обращают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"/>
          <p:cNvPicPr/>
          <p:nvPr/>
        </p:nvPicPr>
        <p:blipFill>
          <a:blip r:embed="rId1"/>
          <a:stretch/>
        </p:blipFill>
        <p:spPr>
          <a:xfrm>
            <a:off x="2286000" y="3657600"/>
            <a:ext cx="419112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6. Заботься обо мне, когда я состарюсь – ведь и ты когда-то будешь стары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"/>
          <p:cNvPicPr/>
          <p:nvPr/>
        </p:nvPicPr>
        <p:blipFill>
          <a:blip r:embed="rId1"/>
          <a:stretch/>
        </p:blipFill>
        <p:spPr>
          <a:xfrm>
            <a:off x="2819520" y="4038480"/>
            <a:ext cx="335268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ои предложения по решению проблем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пагандировать правильное отношение человека к содержанию домашних животных, для того чтобы человек понимал все проблемы, и ответственность с которыми он столкнется, обзаведясь домашним питомц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гистрировать всех собак, включая обязательное чипирование. Каждая собака получает идентификационную метку при помощи индивидуального номерного чипа. Владелец получает удостоверение о регистрации, в которой отображаются данные о собаке и владельце. Каждая собака, получившая индивидуальный чип, заносится в единую базу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лов бездомных собак и помещение их в приют, где за ними будет надлежащий ух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2" descr="C:\Documents and Settings\Admin\Мои документы\Загрузки\56fa9c3f0abc.jpg"/>
          <p:cNvPicPr/>
          <p:nvPr/>
        </p:nvPicPr>
        <p:blipFill>
          <a:blip r:embed="rId1"/>
          <a:stretch/>
        </p:blipFill>
        <p:spPr>
          <a:xfrm>
            <a:off x="1371600" y="2057400"/>
            <a:ext cx="66294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прос граждан с.Прогресс и г.Соч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итаете ли Вы ,что администрация г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чи должна принимать меры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ову и содержанию бездомных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Object 5"/>
          <p:cNvGraphicFramePr/>
          <p:nvPr/>
        </p:nvGraphicFramePr>
        <p:xfrm>
          <a:off x="1905120" y="3352680"/>
          <a:ext cx="5486400" cy="32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352680"/>
                    <a:ext cx="54864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47" name="Picture 2" descr="C:\Documents and Settings\Admin\Мои документы\Загрузки\23927055_23926811_l_copy.jpg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4" descr="i?id=20557966&amp;tov=3"/>
          <p:cNvPicPr/>
          <p:nvPr/>
        </p:nvPicPr>
        <p:blipFill>
          <a:blip r:embed="rId1"/>
          <a:stretch/>
        </p:blipFill>
        <p:spPr>
          <a:xfrm>
            <a:off x="0" y="0"/>
            <a:ext cx="4419720" cy="32767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i?id=2541740&amp;tov=8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426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6" descr="i?id=19200036&amp;tov=6"/>
          <p:cNvPicPr/>
          <p:nvPr/>
        </p:nvPicPr>
        <p:blipFill>
          <a:blip r:embed="rId3"/>
          <a:stretch/>
        </p:blipFill>
        <p:spPr>
          <a:xfrm>
            <a:off x="0" y="3352680"/>
            <a:ext cx="4267080" cy="3505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7" descr="i?id=50550021&amp;tov=5"/>
          <p:cNvPicPr/>
          <p:nvPr/>
        </p:nvPicPr>
        <p:blipFill>
          <a:blip r:embed="rId4"/>
          <a:stretch/>
        </p:blipFill>
        <p:spPr>
          <a:xfrm>
            <a:off x="4343400" y="4267080"/>
            <a:ext cx="4800600" cy="25909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562040" y="1755720"/>
            <a:ext cx="668016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Мы очень хотим иметь свою семью, дом, полную миску еды, любить и быть любимыми! Может именно Вы сможете подарить это счастье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7" descr="i?id=5144916&amp;tov=0"/>
          <p:cNvPicPr/>
          <p:nvPr/>
        </p:nvPicPr>
        <p:blipFill>
          <a:blip r:embed="rId1"/>
          <a:stretch/>
        </p:blipFill>
        <p:spPr>
          <a:xfrm>
            <a:off x="533520" y="1752480"/>
            <a:ext cx="8153280" cy="4267440"/>
          </a:xfrm>
          <a:prstGeom prst="rect">
            <a:avLst/>
          </a:prstGeom>
          <a:ln w="0">
            <a:noFill/>
          </a:ln>
        </p:spPr>
      </p:pic>
      <p:sp>
        <p:nvSpPr>
          <p:cNvPr id="455" name="WordArt 8"/>
          <p:cNvSpPr txBox="1"/>
          <p:nvPr/>
        </p:nvSpPr>
        <p:spPr>
          <a:xfrm>
            <a:off x="228600" y="609480"/>
            <a:ext cx="8610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Может здесь нас жду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4"/>
          <p:cNvSpPr/>
          <p:nvPr/>
        </p:nvSpPr>
        <p:spPr>
          <a:xfrm>
            <a:off x="2590920" y="1020240"/>
            <a:ext cx="60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Tahoma"/>
              </a:rPr>
              <a:t>Глаза покинутой собаки </a:t>
            </a: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Tahoma"/>
              </a:rPr>
              <a:t>Мне снятся ночью ... как тут быть? </a:t>
            </a: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Tahoma"/>
              </a:rPr>
              <a:t>Ее обидеть может всякий </a:t>
            </a: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Tahoma"/>
              </a:rPr>
              <a:t>И даже попросту уб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0" y="2957400"/>
            <a:ext cx="5181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6633"/>
                </a:solidFill>
                <a:latin typeface="Tahoma"/>
              </a:rPr>
              <a:t>Пусть человек добрее будет!                            Не прихоть это, не пустяк..</a:t>
            </a: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Tahoma"/>
              </a:rPr>
              <a:t>     Внимательно вглядитесь люди             В глаза покинутых собак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Tahoma"/>
              </a:rPr>
              <a:t>                   </a:t>
            </a:r>
            <a:r>
              <a:rPr b="0" lang="ru-RU" sz="2400" spc="-1" strike="noStrike">
                <a:solidFill>
                  <a:srgbClr val="006633"/>
                </a:solidFill>
                <a:latin typeface="Tahoma"/>
              </a:rPr>
              <a:t>Эдуард Асад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dogmetro"/>
          <p:cNvPicPr/>
          <p:nvPr/>
        </p:nvPicPr>
        <p:blipFill>
          <a:blip r:embed="rId1"/>
          <a:stretch/>
        </p:blipFill>
        <p:spPr>
          <a:xfrm>
            <a:off x="5029200" y="2819520"/>
            <a:ext cx="380988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4419720" y="838080"/>
            <a:ext cx="4267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помощный, щенок худ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лил у моего пор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принесла его дом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а ему поесть нем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ела отнести наза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сердце ёкнуло несмел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ймала я собачий взгля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олнией пронзило те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верно, правду говоря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ы друга за версту узнае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лишь только нужен взгля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ы поверишь и оттаеш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у что ж дружок? Уговорил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жав его, я прошепт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н от радости скул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ачье сердце ликовал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Рисунок 1" descr=""/>
          <p:cNvPicPr/>
          <p:nvPr/>
        </p:nvPicPr>
        <p:blipFill>
          <a:blip r:embed="rId1"/>
          <a:stretch/>
        </p:blipFill>
        <p:spPr>
          <a:xfrm>
            <a:off x="457200" y="852480"/>
            <a:ext cx="371484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а исследовательская работа помогла мне стать добрее, заботливее, ответственнее, научила задумываться над своими поступк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считаю, что бороться с бездомностью необходимо, но именно с бездомностью, а не с животны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М.Дороган, В.Н.Челнокова «Всё о собаке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www/budka-omsk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«Большая энциклопедия Кирилла и Мефодия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Обустройство бездомных собак. Балаганов 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www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forumbusiness/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WordArt 4"/>
          <p:cNvSpPr txBox="1"/>
          <p:nvPr/>
        </p:nvSpPr>
        <p:spPr>
          <a:xfrm>
            <a:off x="1066680" y="609480"/>
            <a:ext cx="7620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Использованные ресурс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WordArt 4"/>
          <p:cNvSpPr txBox="1"/>
          <p:nvPr/>
        </p:nvSpPr>
        <p:spPr>
          <a:xfrm>
            <a:off x="838080" y="1828800"/>
            <a:ext cx="76964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Tahoma"/>
                <a:ea typeface="Tahoma"/>
              </a:rPr>
              <a:t>Рождённые на улиц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93" name="Picture 2" descr="C:\Documents and Settings\Admin\Мои документы\Загрузки\4e473c5601abd539311732dd0bbd4125_h.jpg"/>
          <p:cNvPicPr/>
          <p:nvPr/>
        </p:nvPicPr>
        <p:blipFill>
          <a:blip r:embed="rId1"/>
          <a:stretch/>
        </p:blipFill>
        <p:spPr>
          <a:xfrm>
            <a:off x="533520" y="1295280"/>
            <a:ext cx="800100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-2819520" y="1702800"/>
            <a:ext cx="1462104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ыяснить источни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откуда берутся бездомные живот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оздать памятку для тех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то хочет взять себе кошку или собак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йти оптимальные пути ре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облемы бездомных животн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WordArt 5"/>
          <p:cNvSpPr txBox="1"/>
          <p:nvPr/>
        </p:nvSpPr>
        <p:spPr>
          <a:xfrm>
            <a:off x="609480" y="685800"/>
            <a:ext cx="7925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Цели исследова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33"/>
                </a:solidFill>
                <a:latin typeface="Garamond"/>
              </a:rPr>
              <a:t>Большинство опрошенных согласились с тем, что бездомных животных на улицах становится больше;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97" name="Object 9"/>
          <p:cNvGraphicFramePr/>
          <p:nvPr/>
        </p:nvGraphicFramePr>
        <p:xfrm>
          <a:off x="304920" y="2133720"/>
          <a:ext cx="830556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30556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Основные причины появления на улицах населенных пунктов бродячих кошек и соба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Жестокость, бездушие, безответственность людей, которые выгнали, выбросили, оставили на улице беззащитное животно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Животные остаются на улице, так как его хозяин умира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Животные теряются или убегают от нерадивых хозя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Результаты ответов на вопрос «Как Вы относитесь к бездомным животным?».</a:t>
            </a:r>
            <a:br>
              <a:rPr sz="2400"/>
            </a:br>
            <a:r>
              <a:rPr b="0" lang="ru-RU" sz="1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402" name="Object 4"/>
          <p:cNvGraphicFramePr/>
          <p:nvPr/>
        </p:nvGraphicFramePr>
        <p:xfrm>
          <a:off x="533520" y="2381400"/>
          <a:ext cx="7924680" cy="37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81400"/>
                    <a:ext cx="7924680" cy="37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33"/>
                </a:solidFill>
                <a:latin typeface="Garamond"/>
              </a:rPr>
              <a:t>Результаты ответов на вопрос: Какие методы сокращения численности  бездомных животных для Вас наиболее приемлемы?</a:t>
            </a:r>
            <a:endParaRPr b="0" lang="en-US" sz="23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405" name="Object 4"/>
          <p:cNvGraphicFramePr/>
          <p:nvPr/>
        </p:nvGraphicFramePr>
        <p:xfrm>
          <a:off x="762120" y="2195640"/>
          <a:ext cx="7924680" cy="41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95640"/>
                    <a:ext cx="7924680" cy="41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tonina Mozhejko</cp:lastModifiedBy>
  <dcterms:modified xsi:type="dcterms:W3CDTF">2015-10-14T11:35:56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