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5.wmf" ContentType="image/x-wmf"/>
  <Override PartName="/ppt/media/image20.gif" ContentType="image/gif"/>
  <Override PartName="/ppt/media/image18.gif" ContentType="image/gif"/>
  <Override PartName="/ppt/media/image26.jpeg" ContentType="image/jpeg"/>
  <Override PartName="/ppt/media/image5.jpeg" ContentType="image/jpeg"/>
  <Override PartName="/ppt/media/image11.wmf" ContentType="image/x-wmf"/>
  <Override PartName="/ppt/media/image23.gif" ContentType="image/gif"/>
  <Override PartName="/ppt/media/image6.jpeg" ContentType="image/jpeg"/>
  <Override PartName="/ppt/media/image27.jpeg" ContentType="image/jpeg"/>
  <Override PartName="/ppt/media/image13.wmf" ContentType="image/x-wmf"/>
  <Override PartName="/ppt/media/image29.jpeg" ContentType="image/jpeg"/>
  <Override PartName="/ppt/media/image2.gif" ContentType="image/gif"/>
  <Override PartName="/ppt/media/image8.jpeg" ContentType="image/jpeg"/>
  <Override PartName="/ppt/media/image12.wmf" ContentType="image/x-wmf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31.jpeg" ContentType="image/jpeg"/>
  <Override PartName="/ppt/media/image10.wmf" ContentType="image/x-wmf"/>
  <Override PartName="/ppt/media/image15.png" ContentType="image/png"/>
  <Override PartName="/ppt/media/image22.gif" ContentType="image/gif"/>
  <Override PartName="/ppt/media/image7.jpeg" ContentType="image/jpeg"/>
  <Override PartName="/ppt/media/image28.jpeg" ContentType="image/jpeg"/>
  <Override PartName="/ppt/media/image1.png" ContentType="image/png"/>
  <Override PartName="/ppt/media/image21.gif" ContentType="image/gif"/>
  <Override PartName="/ppt/media/image19.gif" ContentType="image/gif"/>
  <Override PartName="/ppt/media/image14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1389-ECDD-4761-A278-5EB8EC8B86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6110-CA0F-47F3-85C3-E2CD544BFD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996E-56D9-4E90-A38A-9AF9FC28E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70C2-B5F6-4A4B-A132-08A423D1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7E50-9757-476C-BFED-F26ADB72C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C3E8-7C42-4344-998B-449687F83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2DFD-BE0C-4DF9-B93F-30E8EDFD9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B323-2519-4E31-94C8-7F100446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FA54-8AE9-4A2C-840F-00BD964E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E199-BC0B-45E1-ADF7-FBBC32E9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FE9D-1249-4AD1-8DED-5686A5A9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D04C-FBA6-4BDB-B508-0D4D31B8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5C4A6-CAEC-4156-B992-9E674B10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1802-2C47-4497-9CE8-E81DFFF9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9B6E-7A13-413B-8592-7E085AC8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8847-AFC2-4F69-9958-FCF47D4C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7910C-633B-4FE8-95EA-448563F9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AC45-87AA-417F-BD7D-9E4649FCE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73E7-91AF-4C67-82AB-9CD574281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864BF-DAAF-4EE7-943F-CAAD018B5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3B1FB-9433-4995-A293-5401F0A6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32C6A-BD3F-4A20-9B85-7345D34D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87C3F-B64B-4994-9DCF-6E491904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5E399-04B9-4236-B783-25514844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E527-AC41-4181-BAB8-31FC4266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47AC9-D4D7-4C38-9644-6CB16A03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AA5B6-25DD-4055-BA2A-0A01CE1F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FECE3-9ADE-4C79-BCEB-A4C3A596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0B69D-91EE-4E49-8E95-D2996550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D23D2-4C16-4CFC-958A-D824CA7B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0238D-C3A6-4837-8508-87BE42A9B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960A3-ABBC-4EF8-8D64-8660CA992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01789-9FEB-4F20-B0FC-61E1C866D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A1A95-0827-4689-8590-69920DE1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5F1FD-A5A5-4AA0-B087-E195B429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6BBD-C536-40CE-B253-823C8B94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36D91-8612-453F-8659-1F35C0D9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E57A1-61BF-4BA2-95D4-CA5E0953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B0F47-0B47-42C9-8A47-9B9F9298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24E8F-A437-403A-A0C2-35800F7D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A23A2-2D51-4CF7-A135-F3DD1FCE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63CDF-53A1-446B-AAB1-31A2216A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1BEC2-4A2E-4570-9EFA-605039AD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8BC8C-553D-4528-A2BB-BE1D92971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7BBBF-646B-46A8-AD02-A5790C507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970F-9B0D-4F32-8A1A-22632B24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1E4B-01F6-4755-8983-52A0B18E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A626-F464-4807-A9E9-99B52222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2276-0795-4227-9C8E-5A9D7562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03D8-7605-4322-9305-46510901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9952-684A-476F-9A92-817C9D39FE7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B5CF-3C1E-4E21-989C-D09B66C8FB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E510-0776-4CDC-88D0-2B41BB846E4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128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308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314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0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CC52-AF0E-4142-A14F-98ADE8AA2F67}" type="slidenum">
              <a:rPr b="0" lang="ru-RU" sz="14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br>
              <a:rPr sz="1700"/>
            </a:br>
            <a:br>
              <a:rPr sz="1700"/>
            </a:br>
            <a:br>
              <a:rPr sz="1700"/>
            </a:br>
            <a:br>
              <a:rPr sz="1700"/>
            </a:br>
            <a:r>
              <a:rPr b="1" lang="ru-RU" sz="15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6633"/>
                </a:solidFill>
                <a:latin typeface="Arial"/>
              </a:rPr>
              <a:t>Муниципальное</a:t>
            </a:r>
            <a:r>
              <a:rPr b="1" lang="ru-RU" sz="15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1500" spc="-1" strike="noStrike">
                <a:solidFill>
                  <a:srgbClr val="006633"/>
                </a:solidFill>
                <a:latin typeface="Arial"/>
              </a:rPr>
              <a:t>бюджетное  образовательное учреждение</a:t>
            </a:r>
            <a:r>
              <a:rPr b="1" lang="ru-RU" sz="15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1500" spc="-1" strike="noStrike">
                <a:solidFill>
                  <a:srgbClr val="006633"/>
                </a:solidFill>
                <a:latin typeface="Arial"/>
              </a:rPr>
              <a:t> средняя общеобразовательная школа №57  г.Сочи</a:t>
            </a:r>
            <a:br>
              <a:rPr sz="1500"/>
            </a:br>
            <a:br>
              <a:rPr sz="1500"/>
            </a:b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80" name="Picture 4" descr="RisSmi010_4"/>
          <p:cNvPicPr/>
          <p:nvPr/>
        </p:nvPicPr>
        <p:blipFill>
          <a:blip r:embed="rId1"/>
          <a:stretch/>
        </p:blipFill>
        <p:spPr>
          <a:xfrm>
            <a:off x="228600" y="2895480"/>
            <a:ext cx="4038480" cy="327672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4734000" y="3047760"/>
            <a:ext cx="3952800" cy="30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ыполнила: Роганян Аделин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ченица 4 «Б» класс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Руководитель: Кузнецова Альбин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Геннадьевн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читель начальных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классов             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WordArt 22"/>
          <p:cNvSpPr txBox="1"/>
          <p:nvPr/>
        </p:nvSpPr>
        <p:spPr>
          <a:xfrm>
            <a:off x="914400" y="2209680"/>
            <a:ext cx="7467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Ты навсегда в ответе за тех, кого приручил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83" name="WordArt 24"/>
          <p:cNvSpPr txBox="1"/>
          <p:nvPr/>
        </p:nvSpPr>
        <p:spPr>
          <a:xfrm>
            <a:off x="2590920" y="1600200"/>
            <a:ext cx="3581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ект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6633"/>
                </a:solidFill>
                <a:latin typeface="Garamond"/>
              </a:rPr>
              <a:t>Результаты ответов на вопрос: Выразите свою позицию к утверждению «Я готов(а) помочь бездомным животным».</a:t>
            </a:r>
            <a:endParaRPr b="0" lang="en-US" sz="27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408" name="Object 4"/>
          <p:cNvGraphicFramePr/>
          <p:nvPr/>
        </p:nvGraphicFramePr>
        <p:xfrm>
          <a:off x="619200" y="1704960"/>
          <a:ext cx="7905600" cy="432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1704960"/>
                    <a:ext cx="79056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WordArt 5"/>
          <p:cNvSpPr txBox="1"/>
          <p:nvPr/>
        </p:nvSpPr>
        <p:spPr>
          <a:xfrm>
            <a:off x="676440" y="685800"/>
            <a:ext cx="77911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3«источника» бездомных животны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533520" y="1904760"/>
            <a:ext cx="8229600" cy="26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33"/>
                </a:solidFill>
                <a:latin typeface="Tahoma"/>
                <a:ea typeface="Tahoma"/>
              </a:rPr>
              <a:t>1</a:t>
            </a:r>
            <a:r>
              <a:rPr b="0" lang="ru-RU" sz="2600" spc="-1" strike="noStrike">
                <a:solidFill>
                  <a:srgbClr val="006633"/>
                </a:solidFill>
                <a:latin typeface="Tahoma"/>
                <a:ea typeface="Tahoma"/>
              </a:rPr>
              <a:t> Животные которые рождаются на улиц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Tahoma"/>
                <a:ea typeface="Tahoma"/>
              </a:rPr>
              <a:t>2 Потерянные животны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Tahoma"/>
                <a:ea typeface="Tahoma"/>
              </a:rPr>
              <a:t>3 Выброшенные из дом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5" descr="C:\Documents and Settings\Admin\Мои документы\Загрузки\97820bd480d4.jpg"/>
          <p:cNvPicPr/>
          <p:nvPr/>
        </p:nvPicPr>
        <p:blipFill>
          <a:blip r:embed="rId3"/>
          <a:stretch/>
        </p:blipFill>
        <p:spPr>
          <a:xfrm>
            <a:off x="2362320" y="3352680"/>
            <a:ext cx="4419360" cy="266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"/>
          <p:cNvPicPr/>
          <p:nvPr/>
        </p:nvPicPr>
        <p:blipFill>
          <a:blip r:embed="rId1"/>
          <a:stretch/>
        </p:blipFill>
        <p:spPr>
          <a:xfrm>
            <a:off x="6095880" y="3733920"/>
            <a:ext cx="2667240" cy="251460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отерянные животные</a:t>
            </a:r>
            <a:br>
              <a:rPr sz="2500"/>
            </a:br>
            <a:r>
              <a:rPr b="0" lang="ru-RU" sz="2500" spc="-1" strike="noStrike">
                <a:solidFill>
                  <a:srgbClr val="006633"/>
                </a:solidFill>
                <a:latin typeface="Garamond"/>
              </a:rPr>
              <a:t> Сейчас существует много способов разыскать своего любимца:</a:t>
            </a:r>
            <a:br>
              <a:rPr sz="2500"/>
            </a:br>
            <a:r>
              <a:rPr b="0" lang="ru-RU" sz="2500" spc="-1" strike="noStrike">
                <a:solidFill>
                  <a:srgbClr val="006633"/>
                </a:solidFill>
                <a:latin typeface="Garamond"/>
              </a:rPr>
              <a:t>-через объявления;</a:t>
            </a:r>
            <a:br>
              <a:rPr sz="2500"/>
            </a:br>
            <a:r>
              <a:rPr b="0" lang="ru-RU" sz="2500" spc="-1" strike="noStrike">
                <a:solidFill>
                  <a:srgbClr val="006633"/>
                </a:solidFill>
                <a:latin typeface="Garamond"/>
              </a:rPr>
              <a:t>-через интернет;</a:t>
            </a:r>
            <a:br>
              <a:rPr sz="2500"/>
            </a:br>
            <a:r>
              <a:rPr b="0" lang="ru-RU" sz="2500" spc="-1" strike="noStrike">
                <a:solidFill>
                  <a:srgbClr val="006633"/>
                </a:solidFill>
                <a:latin typeface="Garamond"/>
              </a:rPr>
              <a:t>-через опрос граждан.</a:t>
            </a:r>
            <a:br>
              <a:rPr sz="2500"/>
            </a:br>
            <a:br>
              <a:rPr sz="2500"/>
            </a:br>
            <a:br>
              <a:rPr sz="2500"/>
            </a:br>
            <a:r>
              <a:rPr b="0" lang="ru-RU" sz="1300" spc="-1" strike="noStrike">
                <a:solidFill>
                  <a:srgbClr val="006633"/>
                </a:solidFill>
                <a:latin typeface="Garamond"/>
              </a:rPr>
              <a:t>                 ПРОПАЛ ПЁС ! Зовут  МУХТАР ( откликается </a:t>
            </a:r>
            <a:br>
              <a:rPr sz="1300"/>
            </a:br>
            <a:r>
              <a:rPr b="0" lang="ru-RU" sz="1300" spc="-1" strike="noStrike">
                <a:solidFill>
                  <a:srgbClr val="006633"/>
                </a:solidFill>
                <a:latin typeface="Garamond"/>
              </a:rPr>
              <a:t>                 на Муха ) Собаке 2 года . Бестолковая , лает на</a:t>
            </a:r>
            <a:br>
              <a:rPr sz="1300"/>
            </a:br>
            <a:r>
              <a:rPr b="0" lang="ru-RU" sz="1300" spc="-1" strike="noStrike">
                <a:solidFill>
                  <a:srgbClr val="006633"/>
                </a:solidFill>
                <a:latin typeface="Garamond"/>
              </a:rPr>
              <a:t>                 птиц , кошек , пьяных и детей . На шее ошейник</a:t>
            </a:r>
            <a:br>
              <a:rPr sz="1300"/>
            </a:br>
            <a:r>
              <a:rPr b="0" lang="ru-RU" sz="1300" spc="-1" strike="noStrike">
                <a:solidFill>
                  <a:srgbClr val="006633"/>
                </a:solidFill>
                <a:latin typeface="Garamond"/>
              </a:rPr>
              <a:t>                 ( плетёный )  </a:t>
            </a:r>
            <a:br>
              <a:rPr sz="1300"/>
            </a:br>
            <a:r>
              <a:rPr b="0" lang="ru-RU" sz="1300" spc="-1" strike="noStrike">
                <a:solidFill>
                  <a:srgbClr val="006633"/>
                </a:solidFill>
                <a:latin typeface="Garamond"/>
              </a:rPr>
              <a:t>                 Сбежал 12. 03. 2012 с закрытого двора  на  Эль-</a:t>
            </a:r>
            <a:br>
              <a:rPr sz="1300"/>
            </a:br>
            <a:r>
              <a:rPr b="0" lang="ru-RU" sz="1300" spc="-1" strike="noStrike">
                <a:solidFill>
                  <a:srgbClr val="006633"/>
                </a:solidFill>
                <a:latin typeface="Garamond"/>
              </a:rPr>
              <a:t>                 маше , улице Заметина- Ползунова . Просьба ве-</a:t>
            </a:r>
            <a:br>
              <a:rPr sz="1300"/>
            </a:br>
            <a:r>
              <a:rPr b="0" lang="ru-RU" sz="1300" spc="-1" strike="noStrike">
                <a:solidFill>
                  <a:srgbClr val="006633"/>
                </a:solidFill>
                <a:latin typeface="Garamond"/>
              </a:rPr>
              <a:t>                 вернуть собаку .</a:t>
            </a:r>
            <a:br>
              <a:rPr sz="1300"/>
            </a:br>
            <a:r>
              <a:rPr b="0" lang="ru-RU" sz="1300" spc="-1" strike="noStrike">
                <a:solidFill>
                  <a:srgbClr val="006633"/>
                </a:solidFill>
                <a:latin typeface="Garamond"/>
              </a:rPr>
              <a:t>                 </a:t>
            </a:r>
            <a:br>
              <a:rPr sz="1300"/>
            </a:br>
            <a:r>
              <a:rPr b="0" lang="ru-RU" sz="1300" spc="-1" strike="noStrike">
                <a:solidFill>
                  <a:srgbClr val="006633"/>
                </a:solidFill>
                <a:latin typeface="Garamond"/>
              </a:rPr>
              <a:t>                 Телефон хозяина   904-544-08-92</a:t>
            </a:r>
            <a:endParaRPr b="0" lang="en-US" sz="13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ыброшенные из дом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85440" y="167616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Мой призыв к одноклассника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6633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Каждый из нас наверно видел и знает, что в нашем  городе есть бездомные</a:t>
            </a: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животные : кошки , собаки . Они бегают по улицам , живут в подвалах  и на трубах отопления . Многие из них больны,поколечины . Но почему они так живут ? Чья вина в том что они обречены скитаться, попрошайничать, погибать от холода и голода. На этот вопрос один ответ – в этом виноваты мы люд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Почему человек считая себя хозяином в этой жизни, ни как не может понять что для того, чтобы не убивать просто не надо бросать и преда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Мы ученики сегодняшнего дня, а завтра мы будем взрослыми людьми и у нас будут свои семьи в которых будут жить взятые нами домашние животные. Я желаю всем нам чтобы руки наши были добрыми и животные живущие у нас не превратились из домашних в бездом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52280" y="7617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006633"/>
                </a:solidFill>
                <a:latin typeface="Arial"/>
              </a:rPr>
              <a:t>Не в каждом доме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006633"/>
                </a:solidFill>
                <a:latin typeface="Arial"/>
              </a:rPr>
              <a:t>должна быть кошка и собака,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006633"/>
                </a:solidFill>
                <a:latin typeface="Arial"/>
              </a:rPr>
              <a:t>но у каждой кошки и собаки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006633"/>
                </a:solidFill>
                <a:latin typeface="Arial"/>
              </a:rPr>
              <a:t>должен быть дом.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4" descr="statiapism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1" name="собака.wav" descr=""/>
          <p:cNvPicPr/>
          <p:nvPr/>
        </p:nvPicPr>
        <p:blipFill>
          <a:blip r:embed="rId2"/>
          <a:stretch/>
        </p:blipFill>
        <p:spPr>
          <a:xfrm>
            <a:off x="78487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166" nodeType="clickEffect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96681" fill="hold"/>
                                        <p:tgtEl>
                                          <p:spTgt spid="4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2282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Я буду жить всего лишь лет десять. Любая разлука с тобой будет причинять мне страдания. Подумай об этом, прежде чем ты возьмёшь мен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4" descr="0щддо"/>
          <p:cNvPicPr/>
          <p:nvPr/>
        </p:nvPicPr>
        <p:blipFill>
          <a:blip r:embed="rId1"/>
          <a:stretch/>
        </p:blipFill>
        <p:spPr>
          <a:xfrm>
            <a:off x="6553080" y="3352680"/>
            <a:ext cx="2590920" cy="3276720"/>
          </a:xfrm>
          <a:prstGeom prst="rect">
            <a:avLst/>
          </a:prstGeom>
          <a:ln w="0">
            <a:noFill/>
          </a:ln>
        </p:spPr>
      </p:pic>
      <p:sp>
        <p:nvSpPr>
          <p:cNvPr id="424" name="WordArt 9"/>
          <p:cNvSpPr txBox="1"/>
          <p:nvPr/>
        </p:nvSpPr>
        <p:spPr>
          <a:xfrm>
            <a:off x="1209600" y="457200"/>
            <a:ext cx="6724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Памятка для будущего хозяи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2.Старайся дать мне время подумать, чего ты требуешь от мен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426" name="Picture 7" descr="410"/>
          <p:cNvPicPr/>
          <p:nvPr/>
        </p:nvPicPr>
        <p:blipFill>
          <a:blip r:embed="rId1"/>
          <a:stretch/>
        </p:blipFill>
        <p:spPr>
          <a:xfrm>
            <a:off x="5257800" y="3657600"/>
            <a:ext cx="365760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3. Не сердись на меня долго и не запирай меня в наказание! Ведь у тебя есть ещё работа, развлечения, друзья – у меня же есть только т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4" descr="5207dc4c2a8f735245028e9ac870590c05"/>
          <p:cNvPicPr/>
          <p:nvPr/>
        </p:nvPicPr>
        <p:blipFill>
          <a:blip r:embed="rId1"/>
          <a:stretch/>
        </p:blipFill>
        <p:spPr>
          <a:xfrm>
            <a:off x="3124080" y="3733920"/>
            <a:ext cx="304812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4. Разговаривай со мной. Хотя я и не смогу полностью понимать все твои слова, но зато я понимаю твой голос , обращённый ко мн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4" descr="f56653c5741e"/>
          <p:cNvPicPr/>
          <p:nvPr/>
        </p:nvPicPr>
        <p:blipFill>
          <a:blip r:embed="rId1"/>
          <a:stretch/>
        </p:blipFill>
        <p:spPr>
          <a:xfrm>
            <a:off x="3124080" y="365760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09120" y="1066680"/>
            <a:ext cx="80010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Tahoma"/>
                <a:ea typeface="Tahoma"/>
              </a:rPr>
              <a:t>Много тысячелетий живут на планете рядом с человеком звери, птицы, рыбы. Они тоже, как и мы могут сказать Человеку:«Эта земля и моя.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2" descr="C:\Documents and Settings\Admin\Мои документы\Загрузки\105772.jpg"/>
          <p:cNvPicPr/>
          <p:nvPr/>
        </p:nvPicPr>
        <p:blipFill>
          <a:blip r:embed="rId1"/>
          <a:stretch/>
        </p:blipFill>
        <p:spPr>
          <a:xfrm>
            <a:off x="0" y="3657600"/>
            <a:ext cx="3124080" cy="28195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C:\Documents and Settings\Admin\Мои документы\Загрузки\a9393a04c7f7.jpg"/>
          <p:cNvPicPr/>
          <p:nvPr/>
        </p:nvPicPr>
        <p:blipFill>
          <a:blip r:embed="rId2"/>
          <a:stretch/>
        </p:blipFill>
        <p:spPr>
          <a:xfrm>
            <a:off x="3048120" y="3657600"/>
            <a:ext cx="3504960" cy="28288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C:\Documents and Settings\Admin\Мои документы\Загрузки\дд.jpg"/>
          <p:cNvPicPr/>
          <p:nvPr/>
        </p:nvPicPr>
        <p:blipFill>
          <a:blip r:embed="rId3"/>
          <a:stretch/>
        </p:blipFill>
        <p:spPr>
          <a:xfrm>
            <a:off x="6248520" y="3657600"/>
            <a:ext cx="289548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826920" y="1679040"/>
            <a:ext cx="7490160" cy="44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5. Помни – я никогда не забуду, как со мной обращаютс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7" descr=""/>
          <p:cNvPicPr/>
          <p:nvPr/>
        </p:nvPicPr>
        <p:blipFill>
          <a:blip r:embed="rId1"/>
          <a:stretch/>
        </p:blipFill>
        <p:spPr>
          <a:xfrm>
            <a:off x="2286000" y="3657600"/>
            <a:ext cx="419112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6. Заботься обо мне, когда я состарюсь – ведь и ты когда-то будешь стары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9" descr=""/>
          <p:cNvPicPr/>
          <p:nvPr/>
        </p:nvPicPr>
        <p:blipFill>
          <a:blip r:embed="rId1"/>
          <a:stretch/>
        </p:blipFill>
        <p:spPr>
          <a:xfrm>
            <a:off x="2819520" y="4038480"/>
            <a:ext cx="335268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Мои предложения по решению проблемы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пагандировать правильное отношение человека к содержанию домашних животных, для того чтобы человек понимал все проблемы, и ответственность с которыми он столкнется, обзаведясь домашним питомце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егистрировать всех собак, включая обязательное чипирование. Каждая собака получает идентификационную метку при помощи индивидуального номерного чипа. Владелец получает удостоверение о регистрации, в которой отображаются данные о собаке и владельце. Каждая собака, получившая индивидуальный чип, заносится в единую базу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лов бездомных собак и помещение их в приют, где за ними будет надлежащий ух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2" descr="C:\Documents and Settings\Admin\Мои документы\Загрузки\56fa9c3f0abc.jpg"/>
          <p:cNvPicPr/>
          <p:nvPr/>
        </p:nvPicPr>
        <p:blipFill>
          <a:blip r:embed="rId1"/>
          <a:stretch/>
        </p:blipFill>
        <p:spPr>
          <a:xfrm>
            <a:off x="1371600" y="2057400"/>
            <a:ext cx="662940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Опрос граждан с.Прогресс и г.Соч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читаете ли Вы ,что администрация го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чи должна принимать меры п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лову и содержанию бездомных 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4" name="Object 5"/>
          <p:cNvGraphicFramePr/>
          <p:nvPr/>
        </p:nvGraphicFramePr>
        <p:xfrm>
          <a:off x="1905120" y="3352680"/>
          <a:ext cx="5486400" cy="32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352680"/>
                    <a:ext cx="548640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447" name="Picture 2" descr="C:\Documents and Settings\Admin\Мои документы\Загрузки\23927055_23926811_l_copy.jpg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24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4" descr="i?id=20557966&amp;tov=3"/>
          <p:cNvPicPr/>
          <p:nvPr/>
        </p:nvPicPr>
        <p:blipFill>
          <a:blip r:embed="rId1"/>
          <a:stretch/>
        </p:blipFill>
        <p:spPr>
          <a:xfrm>
            <a:off x="0" y="0"/>
            <a:ext cx="4419720" cy="32767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5" descr="i?id=2541740&amp;tov=8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42670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6" descr="i?id=19200036&amp;tov=6"/>
          <p:cNvPicPr/>
          <p:nvPr/>
        </p:nvPicPr>
        <p:blipFill>
          <a:blip r:embed="rId3"/>
          <a:stretch/>
        </p:blipFill>
        <p:spPr>
          <a:xfrm>
            <a:off x="0" y="3352680"/>
            <a:ext cx="4267080" cy="350532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7" descr="i?id=50550021&amp;tov=5"/>
          <p:cNvPicPr/>
          <p:nvPr/>
        </p:nvPicPr>
        <p:blipFill>
          <a:blip r:embed="rId4"/>
          <a:stretch/>
        </p:blipFill>
        <p:spPr>
          <a:xfrm>
            <a:off x="4343400" y="4267080"/>
            <a:ext cx="4800600" cy="259092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1562040" y="1755720"/>
            <a:ext cx="668016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Мы очень хотим иметь свою семью, дом, полную миску еды, любить и быть любимыми! Может именно Вы сможете подарить это счастье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7" descr="i?id=5144916&amp;tov=0"/>
          <p:cNvPicPr/>
          <p:nvPr/>
        </p:nvPicPr>
        <p:blipFill>
          <a:blip r:embed="rId1"/>
          <a:stretch/>
        </p:blipFill>
        <p:spPr>
          <a:xfrm>
            <a:off x="533520" y="1752480"/>
            <a:ext cx="8153280" cy="4267440"/>
          </a:xfrm>
          <a:prstGeom prst="rect">
            <a:avLst/>
          </a:prstGeom>
          <a:ln w="0">
            <a:noFill/>
          </a:ln>
        </p:spPr>
      </p:pic>
      <p:sp>
        <p:nvSpPr>
          <p:cNvPr id="455" name="WordArt 8"/>
          <p:cNvSpPr txBox="1"/>
          <p:nvPr/>
        </p:nvSpPr>
        <p:spPr>
          <a:xfrm>
            <a:off x="228600" y="609480"/>
            <a:ext cx="86104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Может здесь нас ждут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4"/>
          <p:cNvSpPr/>
          <p:nvPr/>
        </p:nvSpPr>
        <p:spPr>
          <a:xfrm>
            <a:off x="2590920" y="1020240"/>
            <a:ext cx="601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33"/>
                </a:solidFill>
                <a:latin typeface="Tahoma"/>
              </a:rPr>
              <a:t>Глаза покинутой собаки </a:t>
            </a:r>
            <a:br>
              <a:rPr sz="2400"/>
            </a:br>
            <a:r>
              <a:rPr b="0" lang="ru-RU" sz="2400" spc="-1" strike="noStrike">
                <a:solidFill>
                  <a:srgbClr val="006633"/>
                </a:solidFill>
                <a:latin typeface="Tahoma"/>
              </a:rPr>
              <a:t>Мне снятся ночью ... как тут быть? </a:t>
            </a:r>
            <a:br>
              <a:rPr sz="2400"/>
            </a:br>
            <a:r>
              <a:rPr b="0" lang="ru-RU" sz="2400" spc="-1" strike="noStrike">
                <a:solidFill>
                  <a:srgbClr val="006633"/>
                </a:solidFill>
                <a:latin typeface="Tahoma"/>
              </a:rPr>
              <a:t>Ее обидеть может всякий </a:t>
            </a:r>
            <a:br>
              <a:rPr sz="2400"/>
            </a:br>
            <a:r>
              <a:rPr b="0" lang="ru-RU" sz="2400" spc="-1" strike="noStrike">
                <a:solidFill>
                  <a:srgbClr val="006633"/>
                </a:solidFill>
                <a:latin typeface="Tahoma"/>
              </a:rPr>
              <a:t>И даже попросту уб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5"/>
          <p:cNvSpPr/>
          <p:nvPr/>
        </p:nvSpPr>
        <p:spPr>
          <a:xfrm>
            <a:off x="0" y="2957400"/>
            <a:ext cx="5181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6633"/>
                </a:solidFill>
                <a:latin typeface="Tahoma"/>
              </a:rPr>
              <a:t>Пусть человек добрее будет!                            Не прихоть это, не пустяк..</a:t>
            </a:r>
            <a:br>
              <a:rPr sz="2400"/>
            </a:br>
            <a:r>
              <a:rPr b="0" lang="ru-RU" sz="2400" spc="-1" strike="noStrike">
                <a:solidFill>
                  <a:srgbClr val="006633"/>
                </a:solidFill>
                <a:latin typeface="Tahoma"/>
              </a:rPr>
              <a:t>     Внимательно вглядитесь люди             В глаза покинутых собак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33"/>
                </a:solidFill>
                <a:latin typeface="Tahoma"/>
              </a:rPr>
              <a:t>                   </a:t>
            </a:r>
            <a:r>
              <a:rPr b="0" lang="ru-RU" sz="2400" spc="-1" strike="noStrike">
                <a:solidFill>
                  <a:srgbClr val="006633"/>
                </a:solidFill>
                <a:latin typeface="Tahoma"/>
              </a:rPr>
              <a:t>Эдуард Асадов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6" descr="dogmetro"/>
          <p:cNvPicPr/>
          <p:nvPr/>
        </p:nvPicPr>
        <p:blipFill>
          <a:blip r:embed="rId1"/>
          <a:stretch/>
        </p:blipFill>
        <p:spPr>
          <a:xfrm>
            <a:off x="5029200" y="2819520"/>
            <a:ext cx="3809880" cy="32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0" name="Text Box 7"/>
          <p:cNvSpPr/>
          <p:nvPr/>
        </p:nvSpPr>
        <p:spPr>
          <a:xfrm>
            <a:off x="4419720" y="838080"/>
            <a:ext cx="4267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спомощный, щенок худ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улил у моего порог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принесла его дом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ла ему поесть немн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тела отнести назад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сердце ёкнуло несмел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ймала я собачий взгляд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молнией пронзило тел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верно, правду говоря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Ты друга за версту узнаеш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ин лишь только нужен взгляд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ты поверишь и оттаеш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Ну что ж дружок? Уговорил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ижав его, я прошепта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он от радости скули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ачье сердце ликовал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Рисунок 1" descr=""/>
          <p:cNvPicPr/>
          <p:nvPr/>
        </p:nvPicPr>
        <p:blipFill>
          <a:blip r:embed="rId1"/>
          <a:stretch/>
        </p:blipFill>
        <p:spPr>
          <a:xfrm>
            <a:off x="457200" y="852480"/>
            <a:ext cx="371484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та исследовательская работа помогла мне стать добрее, заботливее, ответственнее, научила задумываться над своими поступк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Я считаю, что бороться с бездомностью необходимо, но именно с бездомностью, а не с животны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М.Дороган, В.Н.Челнокова «Всё о собаке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www/budka-omsk.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«Большая энциклопедия Кирилла и Мефодия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Обустройство бездомных собак. Балаганов 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      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www</a:t>
            </a: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forumbusiness/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WordArt 4"/>
          <p:cNvSpPr txBox="1"/>
          <p:nvPr/>
        </p:nvSpPr>
        <p:spPr>
          <a:xfrm>
            <a:off x="1066680" y="609480"/>
            <a:ext cx="7620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Использованные ресурсы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WordArt 4"/>
          <p:cNvSpPr txBox="1"/>
          <p:nvPr/>
        </p:nvSpPr>
        <p:spPr>
          <a:xfrm>
            <a:off x="838080" y="1828800"/>
            <a:ext cx="769644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Спасибо за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Tahoma"/>
                <a:ea typeface="Tahoma"/>
              </a:rPr>
              <a:t>Рождённые на улиц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93" name="Picture 2" descr="C:\Documents and Settings\Admin\Мои документы\Загрузки\4e473c5601abd539311732dd0bbd4125_h.jpg"/>
          <p:cNvPicPr/>
          <p:nvPr/>
        </p:nvPicPr>
        <p:blipFill>
          <a:blip r:embed="rId1"/>
          <a:stretch/>
        </p:blipFill>
        <p:spPr>
          <a:xfrm>
            <a:off x="533520" y="1295280"/>
            <a:ext cx="8001000" cy="480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4"/>
          <p:cNvSpPr/>
          <p:nvPr/>
        </p:nvSpPr>
        <p:spPr>
          <a:xfrm>
            <a:off x="-2819520" y="1702800"/>
            <a:ext cx="14621040" cy="45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выяснить источник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откуда берутся бездомные животны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создать памятку для тех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кто хочет взять себе кошку или собаку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найти оптимальные пути реш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проблемы бездомных животны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WordArt 5"/>
          <p:cNvSpPr txBox="1"/>
          <p:nvPr/>
        </p:nvSpPr>
        <p:spPr>
          <a:xfrm>
            <a:off x="609480" y="685800"/>
            <a:ext cx="79250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Цели исследования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33"/>
                </a:solidFill>
                <a:latin typeface="Garamond"/>
              </a:rPr>
              <a:t>Большинство опрошенных согласились с тем, что бездомных животных на улицах становится больше;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397" name="Object 9"/>
          <p:cNvGraphicFramePr/>
          <p:nvPr/>
        </p:nvGraphicFramePr>
        <p:xfrm>
          <a:off x="304920" y="2133720"/>
          <a:ext cx="8305560" cy="396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133720"/>
                    <a:ext cx="830556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Основные причины появления на улицах населенных пунктов бродячих кошек и собак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Жестокость, бездушие, безответственность людей, которые выгнали, выбросили, оставили на улице беззащитное животно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Животные остаются на улице, так как его хозяин умирае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Животные теряются или убегают от нерадивых хозя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4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Результаты ответов на вопрос «Как Вы относитесь к бездомным животным?».</a:t>
            </a:r>
            <a:br>
              <a:rPr sz="2400"/>
            </a:br>
            <a:r>
              <a:rPr b="0" lang="ru-RU" sz="1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i="1" lang="ru-RU" sz="2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402" name="Object 4"/>
          <p:cNvGraphicFramePr/>
          <p:nvPr/>
        </p:nvGraphicFramePr>
        <p:xfrm>
          <a:off x="533520" y="2381400"/>
          <a:ext cx="7924680" cy="379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381400"/>
                    <a:ext cx="7924680" cy="37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6633"/>
                </a:solidFill>
                <a:latin typeface="Garamond"/>
              </a:rPr>
              <a:t>Результаты ответов на вопрос: Какие методы сокращения численности  бездомных животных для Вас наиболее приемлемы?</a:t>
            </a:r>
            <a:endParaRPr b="0" lang="en-US" sz="23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405" name="Object 4"/>
          <p:cNvGraphicFramePr/>
          <p:nvPr/>
        </p:nvGraphicFramePr>
        <p:xfrm>
          <a:off x="762120" y="2195640"/>
          <a:ext cx="7924680" cy="412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95640"/>
                    <a:ext cx="7924680" cy="41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tonina Mozhejko</cp:lastModifiedBy>
  <dcterms:modified xsi:type="dcterms:W3CDTF">2015-10-14T11:35:56Z</dcterms:modified>
  <cp:revision>7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