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CE7-7918-4D59-A98A-719E8056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812-4E53-4C51-A4A9-177A39F1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FC7-94D9-4384-A2FB-5DD3654A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783-E6AA-486C-A925-C3306F95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9C79-2218-42FC-8B2A-49036B55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E9F6-7E8C-4C1E-8BC5-259AE4EE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98F3-1CFD-4AF7-8B6C-1B6628A3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9D0A-C9A3-406A-A0D5-1A4F2BBE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B0A5-88B5-4DA3-8BD7-9A72DCFB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3ADC-1807-49E4-A6B5-9DC57DD1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1F86-EFAC-43FA-9495-954F3B58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AE9-EC8A-4571-BED3-9296840B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9ADF-D03B-4A2D-9A0A-F3CFB815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6570-A60C-4E96-8ECE-3B1FE9A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041C-526C-4553-837E-F5671888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AEA2-27BC-42E7-9E71-21DFD8DA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F976-85A4-46A4-B623-0F50810A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F4C-576B-4925-9135-24201108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68D-76A1-4F54-895C-8442C351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FDE-BF57-423F-A976-04245251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FF4-DD73-4295-AF1E-9F53DEB8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098-8E12-468A-8BFB-2B936BFF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3CA-DC3D-4C09-9D40-2E74C8B6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A8C-8CEA-4C96-8D22-62499447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99B2-F0AF-42C9-B799-9C4FE1DAEEE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3101-ED8D-4472-A6E5-D6B4D8F07BC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Speaking Task</a:t>
            </a:r>
            <a:br>
              <a:rPr sz="5200"/>
            </a:b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omparing Picture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lan to compare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ry to find something in comm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scribe in some words what you can say about each pic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are and contrast the pictures mentioning similarities and difference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14:43:16Z</dcterms:created>
  <dc:creator>ЛУАЗ</dc:creator>
  <dc:description/>
  <dc:language>en-US</dc:language>
  <cp:lastModifiedBy>ЛУАЗ</cp:lastModifiedBy>
  <dcterms:modified xsi:type="dcterms:W3CDTF">2014-10-15T14:52:37Z</dcterms:modified>
  <cp:revision>2</cp:revision>
  <dc:subject/>
  <dc:title>Speaking Task </dc:title>
</cp:coreProperties>
</file>