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450-F6A3-41CC-A8B0-40D21807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C791-DC3A-4D33-8272-72AE4724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78F-4484-4CAD-85DC-B090F71E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2FC-949F-4EC4-829B-24E9AFB9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5B96-4F02-4DF8-84B7-13FE8346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B2CE-E4F8-48CB-A8AE-81B0CEF8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DEF3-A65F-4EEC-B6F3-F28ACECA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8C54-BD52-4A83-BE5D-53EAC496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0BB5-F022-4AEE-A462-8E85D51F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188F-EF6E-477F-A022-6CA6885B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DD31-B69E-4F52-9F7F-D4085D54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D15A-ABAB-4709-AEDF-9F835A57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120B-788B-417C-956F-CD703DC9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9A43-7343-4936-B9FB-62D6159B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2637-829B-4039-A688-E2AD0034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80C3-3AE3-41E0-A4F6-D19DFE89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2BF7-0F71-4EB3-9546-0890FDF2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EF9-AA52-427E-A6EE-BF4D7388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93E-532E-424E-B709-40DDEC8E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F3D1-E5A7-4037-BBA6-1413EA7F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4F6-4D5C-437E-B173-00D45B1D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C51-7F65-4B54-B8F9-E51644C6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D657-0809-4F31-8792-6F7F50C4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D56-F2F8-433A-A1B7-6386E5B7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EE82-98B5-44A6-818A-6B950A638DE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8BF5-85BF-42FB-A22E-D593F8DF6FD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Speaking Task</a:t>
            </a:r>
            <a:br>
              <a:rPr sz="5200"/>
            </a:b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omparing Pictures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lan to compare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ry to find something in comm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scribe in some words what you can say about each pictu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pare and contrast the pictures mentioning similarities and difference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14:43:16Z</dcterms:created>
  <dc:creator>ЛУАЗ</dc:creator>
  <dc:description/>
  <dc:language>en-US</dc:language>
  <cp:lastModifiedBy>ЛУАЗ</cp:lastModifiedBy>
  <dcterms:modified xsi:type="dcterms:W3CDTF">2014-10-15T14:52:37Z</dcterms:modified>
  <cp:revision>2</cp:revision>
  <dc:subject/>
  <dc:title>Speaking Task </dc:title>
</cp:coreProperties>
</file>