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167-FE20-425A-97A8-A59CBF81DC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интерактивный тест создан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по шаблону Д.Ива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ускаем тест. Если не работает, то необходимо изменить настройки безопасности в меню: СЕРВИС – МАКРОС – БЕЗОПАСНОСТЬ (устанавливаем уровень безопасности НИЗКА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ем на каждый вопрос, выбрав ответ (наводим курсор, производим щелчок). Переход на следующий слайд происходит автомат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свои результаты – слайд с результатами  появляется автоматически после выполнения  послед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B9B-4AA7-473D-9477-AF3FACCA0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р на зайца, щелчок – возврат на слайд 20 интерактивного плаката «Единицы мас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44C4-2594-4230-B2C1-EC48B296F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DD2-9A24-4D70-891D-EED0CFCD0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837-012F-48E8-8108-7247F3D2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F35-6F91-4AE9-8474-18A721E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AF4-ED66-4B47-8858-0C02C823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DDB-3048-4C69-A377-BBACED5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2473-8DED-4195-9007-1137AA2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FE6-F166-4535-8531-2046E6D6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147A-7B9F-4447-AE4D-BCDCDD3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F6C-38B1-48BC-8D70-3636763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49A4-981B-4431-B603-7C36C30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E3B-9539-4502-9550-FE256B5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1B1-6175-4817-B8F5-0F824BC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872-FF4E-461C-8144-A9EE84B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5479-253F-4F4D-8CB1-89257FC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3779-CAB6-44DB-B7F7-A28DC51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3558-E27C-4379-BA95-61685AB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64AB-A2A7-4780-AC1A-F1C74606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79E-1AF2-4D9D-803F-5C3CF056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D6BE-6517-4C02-A76E-62D0DEA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7C5E-93EE-4BD4-8142-F0D9445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051E-2F21-4178-9F3F-60CF5E48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8FC7-1995-4E87-9FC0-00947E53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57F9-4DA9-4714-9883-3442FED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A16-13C4-48C6-AAAE-49439A9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6B6F-1DB7-4DE6-BDB6-DE267460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F55E-497F-44CF-BB5C-08F134A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14C4-940C-498D-8A53-C2957D3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1822-726F-4D52-BB37-D30EAFED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163B-8C42-428B-9C5B-0153CE6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04A4-3E66-4D97-A4B4-AC850FF0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DD9B-F440-470B-ADF7-45AAED6F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E18C-6F8A-4531-9CB6-53DAC94A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61D4-C318-4F42-9B79-B6DBDD11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5843-4C1C-4EDC-AC97-89F20B5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6EB-8E42-44D3-BAFC-3B9B440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B5CF-82E2-42BA-9AB2-9335973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4F60-788C-4FD4-A943-5898F184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F66B1-2EB7-4758-AAB8-E012FCFE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76A8-8D1A-471E-9878-CD794A1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D26E-33FD-43B8-A2B1-008BAD4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D18C-6994-4CF6-9DA8-607D605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2353-1F81-4D79-B444-E59B762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E473-DB83-46F6-9C45-0DCE5292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6EE4-2224-406F-AC60-65E460D8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8E00-85A5-48A7-BE70-8976523B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571-DA87-40CF-B6A3-F557D66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1AD1-690A-489C-BBCA-B216EB6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FC97-BAC9-4335-AD1A-38D8911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6692-5099-472F-9A59-A699FF6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A74E-6363-4EAB-AEE2-748F1A2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26A6-78A6-4C1E-AF3D-F653E5F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6949-D91C-467B-AA7B-3E7FAAC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C643-ADE6-4BA8-A41A-775662C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BCA7-2DBD-4B61-A602-98A6D5FB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E808-B59F-4FD4-94EC-953F7201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719A-82EE-4A94-98B8-6AFB2847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693-7898-47A1-B4C1-ED3A9B4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3952-07CD-4C23-8849-6DC0703C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1A9-EDA2-42F7-A5B7-743305A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EF9-985D-43FC-8D98-E01E07B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A98-0C75-4726-ADB5-3D3AFE4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528-5EC8-428D-ACCD-848AFC9B53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96D3-0365-43E3-AD88-6E809AC350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7F7-CEE6-4525-8365-1A14DA11B4B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9CF-3550-431F-8C2A-0BEACFB27D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E4B-E066-4F5C-9142-7771BA50E6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2588760" y="1357200"/>
            <a:ext cx="365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«Славян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Arial"/>
                <a:ea typeface="Arial"/>
              </a:rPr>
              <a:t>посё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084720" y="717480"/>
            <a:ext cx="22561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85920" y="1071360"/>
            <a:ext cx="71438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Arial"/>
                <a:ea typeface="Arial"/>
              </a:rPr>
              <a:t>Как называли славяне приспособление для вытаскивания чугуна из печи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Скругленный прямоугольник 3"/>
          <p:cNvSpPr/>
          <p:nvPr/>
        </p:nvSpPr>
        <p:spPr>
          <a:xfrm>
            <a:off x="6215040" y="3357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у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"/>
          <p:cNvSpPr/>
          <p:nvPr/>
        </p:nvSpPr>
        <p:spPr>
          <a:xfrm>
            <a:off x="3357720" y="3286080"/>
            <a:ext cx="23749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хв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5"/>
          <p:cNvSpPr/>
          <p:nvPr/>
        </p:nvSpPr>
        <p:spPr>
          <a:xfrm>
            <a:off x="857160" y="328608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а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3920" y="928440"/>
            <a:ext cx="721548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ем освещали избу славян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Скругленный прямоугольник 3"/>
          <p:cNvSpPr/>
          <p:nvPr/>
        </p:nvSpPr>
        <p:spPr>
          <a:xfrm>
            <a:off x="714240" y="307188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у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3357720" y="307188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ерос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5"/>
          <p:cNvSpPr/>
          <p:nvPr/>
        </p:nvSpPr>
        <p:spPr>
          <a:xfrm>
            <a:off x="6000840" y="307188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фонар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692964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к называли славяне место, сделанное из настеленных досок,  над печью 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Скругленный прямоугольник 3"/>
          <p:cNvSpPr/>
          <p:nvPr/>
        </p:nvSpPr>
        <p:spPr>
          <a:xfrm>
            <a:off x="3571920" y="3286080"/>
            <a:ext cx="21607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928800" y="3214800"/>
            <a:ext cx="21603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Красны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6072120" y="3286080"/>
            <a:ext cx="21607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еж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57280" y="856800"/>
            <a:ext cx="4429440" cy="676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Результат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86040" y="1785600"/>
            <a:ext cx="321480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f2936"/>
            </a:solidFill>
            <a:miter/>
          </a:ln>
        </p:spPr>
        <p:txBody>
          <a:bodyPr lIns="118800" tIns="0" anchor="t">
            <a:normAutofit/>
          </a:bodyPr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рно: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 rot="21118800">
            <a:off x="674640" y="3808440"/>
            <a:ext cx="19479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35804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Славяне строили поселение возле рек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Скругленный прямоугольник 3"/>
          <p:cNvSpPr/>
          <p:nvPr/>
        </p:nvSpPr>
        <p:spPr>
          <a:xfrm>
            <a:off x="1928880" y="3286080"/>
            <a:ext cx="216036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5"/>
          <p:cNvSpPr/>
          <p:nvPr/>
        </p:nvSpPr>
        <p:spPr>
          <a:xfrm>
            <a:off x="4857840" y="3286080"/>
            <a:ext cx="216036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000920" cy="25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  <a:ea typeface="Arial"/>
              </a:rPr>
              <a:t>Забор, окружавший посёлок назывался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2928960" y="3357720"/>
            <a:ext cx="307188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аст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642960" y="3357720"/>
            <a:ext cx="2160720" cy="107136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ре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6143760" y="3357720"/>
            <a:ext cx="2571480" cy="107136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пали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6434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На севере в густых лесах славяне строили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Скругленный прямоугольник 3"/>
          <p:cNvSpPr/>
          <p:nvPr/>
        </p:nvSpPr>
        <p:spPr>
          <a:xfrm>
            <a:off x="642960" y="3143160"/>
            <a:ext cx="264312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з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4"/>
          <p:cNvSpPr/>
          <p:nvPr/>
        </p:nvSpPr>
        <p:spPr>
          <a:xfrm>
            <a:off x="3500280" y="307188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аз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5857920" y="3071880"/>
            <a:ext cx="28573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земля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14384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Избы славяне строили из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6000840" y="3643200"/>
            <a:ext cx="2714400" cy="107172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осны, 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214800" y="3643200"/>
            <a:ext cx="2643120" cy="107172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ипы, берё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428760" y="3643200"/>
            <a:ext cx="25714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уба, то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28920" y="-360"/>
            <a:ext cx="49291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Центральное место в избе занимала … 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Скругленный прямоугольник 3"/>
          <p:cNvSpPr/>
          <p:nvPr/>
        </p:nvSpPr>
        <p:spPr>
          <a:xfrm>
            <a:off x="6215040" y="32148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"/>
          <p:cNvSpPr/>
          <p:nvPr/>
        </p:nvSpPr>
        <p:spPr>
          <a:xfrm>
            <a:off x="3643200" y="3214800"/>
            <a:ext cx="207180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5"/>
          <p:cNvSpPr/>
          <p:nvPr/>
        </p:nvSpPr>
        <p:spPr>
          <a:xfrm>
            <a:off x="571680" y="3214800"/>
            <a:ext cx="2643120" cy="9284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642960"/>
            <a:ext cx="67150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есто для хранения зерна называлось у славян … 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Скругленный прямоугольник 3"/>
          <p:cNvSpPr/>
          <p:nvPr/>
        </p:nvSpPr>
        <p:spPr>
          <a:xfrm>
            <a:off x="785880" y="3000240"/>
            <a:ext cx="23572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4"/>
          <p:cNvSpPr/>
          <p:nvPr/>
        </p:nvSpPr>
        <p:spPr>
          <a:xfrm>
            <a:off x="3429000" y="3000240"/>
            <a:ext cx="235728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5"/>
          <p:cNvSpPr/>
          <p:nvPr/>
        </p:nvSpPr>
        <p:spPr>
          <a:xfrm>
            <a:off x="6072120" y="300024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3920" y="499680"/>
            <a:ext cx="728676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ма в славянском посёлке располагались … 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3286080" y="35719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 к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4"/>
          <p:cNvSpPr/>
          <p:nvPr/>
        </p:nvSpPr>
        <p:spPr>
          <a:xfrm>
            <a:off x="5929200" y="3571920"/>
            <a:ext cx="271476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 одному 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5"/>
          <p:cNvSpPr/>
          <p:nvPr/>
        </p:nvSpPr>
        <p:spPr>
          <a:xfrm>
            <a:off x="571680" y="3571920"/>
            <a:ext cx="2500200" cy="1079280"/>
          </a:xfrm>
          <a:prstGeom prst="roundRect">
            <a:avLst>
              <a:gd name="adj" fmla="val 16667"/>
            </a:avLst>
          </a:prstGeom>
          <a:solidFill>
            <a:srgbClr val="e3ded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 виде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5-10-14T20:48:23Z</dcterms:modified>
  <cp:revision>185</cp:revision>
  <dc:subject/>
  <dc:title>Слайд 1</dc:title>
</cp:coreProperties>
</file>