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2A47-B676-42C2-9BB4-395D167062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интерактивный тест создан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по шаблону Д.Ива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ускаем тест. Если не работает, то необходимо изменить настройки безопасности в меню: СЕРВИС – МАКРОС – БЕЗОПАСНОСТЬ (устанавливаем уровень безопасности НИЗКА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ем на каждый вопрос, выбрав ответ (наводим курсор, производим щелчок). Переход на следующий слайд происходит автоматиче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свои результаты – слайд с результатами  появляется автоматически после выполнения  послед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722E-B1D7-4720-86FF-A189B7AF3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р на зайца, щелчок – возврат на слайд 20 интерактивного плаката «Единицы мас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A318-97D8-481E-9973-4BF7BB916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AF07-CE2E-4F69-A670-4BAEA294E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247-371F-493F-B3FB-F5086DE6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A6D-EC92-4248-8766-C73D3E08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BA5-99D9-4244-A965-480C3638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8F4-C114-44B0-9548-792E7DD8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BDF8-2C2C-4A3E-B951-52432196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F90C-128E-4AE5-8C63-112C06F8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7D57-EC40-407F-AF13-877A0C23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2650-47B1-47E6-A395-B9CFC9E0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17E8-06DE-4118-B2B0-26EEE581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1177-4FEC-4B20-825A-469C8286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483D-9268-440F-A952-222D14FA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7B5-B126-4E36-8029-170F683D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CA9-BEE5-4C41-9367-CA9C0435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C654-D0F2-4BB7-A12B-2B24257D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B843-3D21-4FD9-BD76-8C93F06F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0020-585A-4FBF-9FD4-DA7ABE2D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17FA-5B06-496A-A3A4-B2A5893A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80E3-3705-4A38-AE6B-93599CF9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5AAB-6DAC-4A65-AE9A-617A9479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0BF2-98A5-4E98-87FC-01DE5F6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D9C41-81DD-43CF-9FAE-EE0B9C6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9E06-8F50-46C1-8F1A-55B80EA9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2FB-7560-4906-BC25-7D3F5035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8036-A251-4125-874B-D7EFD436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1821-89DB-47CB-A7E4-E3ADAEB7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11A7-999E-4976-8124-6BFDB590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595C-5122-4294-924B-5A8EFC9A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8657-7209-4D65-BA78-442546B4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4746-B84A-4B01-95AA-2A159558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A90F-D2B1-425F-B617-ED19BF67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5A305-E285-427A-A4D7-7D545F13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434E-0D1F-4E39-876D-6882E3A7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7314-354F-43B0-8290-25975D21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B1B-1161-4A60-B510-249B6721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40A7-4D99-4B21-97AB-D1033021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5C19-384D-4882-9628-BEE958F5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C3C3-FFEC-47E5-A500-B0043C20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DCE6-DA23-40A7-BF49-DAA0B1B0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FB10-F327-44B9-8FF8-4D258D9A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8404-660C-4AE1-B18D-B8AFA23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8D99-34F4-43A2-A8DE-174E3B44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D36F-F7A4-402E-9EC4-653AB3B3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B7D0-D9CD-4206-A861-05095853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9F72D-2BD3-4249-9416-0978B86A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B68-3101-4F0E-9E71-83AF09D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C8340-7B13-41A6-8840-8D93BB62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0E52-CA2C-4A87-8958-1C5638F5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954E6-C05B-4CA0-8847-65D57261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D89CE-BDF5-4F05-9096-7C145DBB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2A7B1-902B-4B35-B49E-74C4B6F9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993C4-D644-4810-8C3F-3984B0D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3AA5-A9EC-4D40-92A6-DE16BFAC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D3476-F806-4532-ADE5-04954AFB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F75C6-EDB5-44F4-A2AF-29D755C8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A30A-AAA9-4284-B4C5-843FC2EA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459-4760-4740-985C-CEBCC231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6716D-0E4F-459D-8F43-F7F9DADC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EFA-AC9A-476E-B4C7-A11EA82E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8BC-1DE9-406C-A9C7-AE80855C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14B-F72E-49AA-B6DC-E9A0F1F9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76C2-E343-4403-9F2E-1F12A9DA15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73FE-35FD-499A-B160-D5B7DCE82E5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FCF7-6F49-4FD0-9033-1374881B77A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538-8452-4094-87A9-A29CE66072C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9AB9-9C58-4BF2-A138-173E6CD0EB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6"/>
          <p:cNvSpPr/>
          <p:nvPr/>
        </p:nvSpPr>
        <p:spPr>
          <a:xfrm>
            <a:off x="2588760" y="1357200"/>
            <a:ext cx="365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Arial"/>
                <a:ea typeface="Arial"/>
              </a:rPr>
              <a:t>Т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Arial"/>
                <a:ea typeface="Arial"/>
              </a:rPr>
              <a:t>«Славян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Arial"/>
                <a:ea typeface="Arial"/>
              </a:rPr>
              <a:t>посё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084720" y="717480"/>
            <a:ext cx="225612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85920" y="1071360"/>
            <a:ext cx="71438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f2936"/>
                </a:solidFill>
                <a:latin typeface="Arial"/>
                <a:ea typeface="Arial"/>
              </a:rPr>
              <a:t>Как называли славяне приспособление для вытаскивания чугуна из печи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Скругленный прямоугольник 3"/>
          <p:cNvSpPr/>
          <p:nvPr/>
        </p:nvSpPr>
        <p:spPr>
          <a:xfrm>
            <a:off x="6215040" y="3357720"/>
            <a:ext cx="2500200" cy="9284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ух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4"/>
          <p:cNvSpPr/>
          <p:nvPr/>
        </p:nvSpPr>
        <p:spPr>
          <a:xfrm>
            <a:off x="3357720" y="3286080"/>
            <a:ext cx="237492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хв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5"/>
          <p:cNvSpPr/>
          <p:nvPr/>
        </p:nvSpPr>
        <p:spPr>
          <a:xfrm>
            <a:off x="857160" y="328608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зах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3920" y="928440"/>
            <a:ext cx="721548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ем освещали избу славян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Скругленный прямоугольник 3"/>
          <p:cNvSpPr/>
          <p:nvPr/>
        </p:nvSpPr>
        <p:spPr>
          <a:xfrm>
            <a:off x="714240" y="307188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лу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4"/>
          <p:cNvSpPr/>
          <p:nvPr/>
        </p:nvSpPr>
        <p:spPr>
          <a:xfrm>
            <a:off x="3357720" y="3071880"/>
            <a:ext cx="216036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ерос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5"/>
          <p:cNvSpPr/>
          <p:nvPr/>
        </p:nvSpPr>
        <p:spPr>
          <a:xfrm>
            <a:off x="6000840" y="3071880"/>
            <a:ext cx="216036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фонар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56840" y="500040"/>
            <a:ext cx="6929640" cy="22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ак называли славяне место, сделанное из настеленных досок,  над печью 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Скругленный прямоугольник 3"/>
          <p:cNvSpPr/>
          <p:nvPr/>
        </p:nvSpPr>
        <p:spPr>
          <a:xfrm>
            <a:off x="3571920" y="3286080"/>
            <a:ext cx="2160720" cy="10000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4"/>
          <p:cNvSpPr/>
          <p:nvPr/>
        </p:nvSpPr>
        <p:spPr>
          <a:xfrm>
            <a:off x="928800" y="3214800"/>
            <a:ext cx="216036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Красны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5"/>
          <p:cNvSpPr/>
          <p:nvPr/>
        </p:nvSpPr>
        <p:spPr>
          <a:xfrm>
            <a:off x="6072120" y="3286080"/>
            <a:ext cx="2160720" cy="10000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Лежа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57280" y="856800"/>
            <a:ext cx="4429440" cy="676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Arial"/>
                <a:ea typeface="Arial"/>
              </a:rPr>
              <a:t>Результат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86040" y="1785600"/>
            <a:ext cx="3214800" cy="27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f2936"/>
            </a:solidFill>
            <a:miter/>
          </a:ln>
        </p:spPr>
        <p:txBody>
          <a:bodyPr lIns="118800" tIns="0" anchor="t">
            <a:normAutofit/>
          </a:bodyPr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ерно: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 rot="21118800">
            <a:off x="674640" y="3808440"/>
            <a:ext cx="19479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35804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Arial"/>
                <a:ea typeface="Arial"/>
              </a:rPr>
              <a:t>Славяне строили поселение возле рек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Скругленный прямоугольник 3"/>
          <p:cNvSpPr/>
          <p:nvPr/>
        </p:nvSpPr>
        <p:spPr>
          <a:xfrm>
            <a:off x="1928880" y="3286080"/>
            <a:ext cx="216036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5"/>
          <p:cNvSpPr/>
          <p:nvPr/>
        </p:nvSpPr>
        <p:spPr>
          <a:xfrm>
            <a:off x="4857840" y="3286080"/>
            <a:ext cx="216036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3920" y="499680"/>
            <a:ext cx="7000920" cy="25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Arial"/>
                <a:ea typeface="Arial"/>
              </a:rPr>
              <a:t>Забор, окружавший посёлок назывался … 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Скругленный прямоугольник 3"/>
          <p:cNvSpPr/>
          <p:nvPr/>
        </p:nvSpPr>
        <p:spPr>
          <a:xfrm>
            <a:off x="2928960" y="3357720"/>
            <a:ext cx="307188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аст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4"/>
          <p:cNvSpPr/>
          <p:nvPr/>
        </p:nvSpPr>
        <p:spPr>
          <a:xfrm>
            <a:off x="642960" y="3357720"/>
            <a:ext cx="2160720" cy="107136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реп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6143760" y="3357720"/>
            <a:ext cx="2571480" cy="107136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пали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71760" y="428760"/>
            <a:ext cx="664344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На севере в густых лесах славяне строили … 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Скругленный прямоугольник 3"/>
          <p:cNvSpPr/>
          <p:nvPr/>
        </p:nvSpPr>
        <p:spPr>
          <a:xfrm>
            <a:off x="642960" y="3143160"/>
            <a:ext cx="2643120" cy="10000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из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4"/>
          <p:cNvSpPr/>
          <p:nvPr/>
        </p:nvSpPr>
        <p:spPr>
          <a:xfrm>
            <a:off x="3500280" y="307188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аз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5"/>
          <p:cNvSpPr/>
          <p:nvPr/>
        </p:nvSpPr>
        <p:spPr>
          <a:xfrm>
            <a:off x="5857920" y="3071880"/>
            <a:ext cx="285732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земля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14384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Избы славяне строили из … 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6000840" y="3643200"/>
            <a:ext cx="2714400" cy="107172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осны, 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3214800" y="3643200"/>
            <a:ext cx="2643120" cy="107172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Липы, берё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5"/>
          <p:cNvSpPr/>
          <p:nvPr/>
        </p:nvSpPr>
        <p:spPr>
          <a:xfrm>
            <a:off x="428760" y="3643200"/>
            <a:ext cx="257148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уба, топ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28920" y="-360"/>
            <a:ext cx="492912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Центральное место в избе занимала … 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Скругленный прямоугольник 3"/>
          <p:cNvSpPr/>
          <p:nvPr/>
        </p:nvSpPr>
        <p:spPr>
          <a:xfrm>
            <a:off x="6215040" y="32148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4"/>
          <p:cNvSpPr/>
          <p:nvPr/>
        </p:nvSpPr>
        <p:spPr>
          <a:xfrm>
            <a:off x="3643200" y="3214800"/>
            <a:ext cx="2071800" cy="9284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л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5"/>
          <p:cNvSpPr/>
          <p:nvPr/>
        </p:nvSpPr>
        <p:spPr>
          <a:xfrm>
            <a:off x="571680" y="3214800"/>
            <a:ext cx="2643120" cy="9284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2640" y="642960"/>
            <a:ext cx="67150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Место для хранения зерна называлось у славян … 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Скругленный прямоугольник 3"/>
          <p:cNvSpPr/>
          <p:nvPr/>
        </p:nvSpPr>
        <p:spPr>
          <a:xfrm>
            <a:off x="785880" y="3000240"/>
            <a:ext cx="235728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амб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4"/>
          <p:cNvSpPr/>
          <p:nvPr/>
        </p:nvSpPr>
        <p:spPr>
          <a:xfrm>
            <a:off x="3429000" y="3000240"/>
            <a:ext cx="235728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н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5"/>
          <p:cNvSpPr/>
          <p:nvPr/>
        </p:nvSpPr>
        <p:spPr>
          <a:xfrm>
            <a:off x="6072120" y="300024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хл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3920" y="499680"/>
            <a:ext cx="728676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ома в славянском посёлке располагались … 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Скругленный прямоугольник 3"/>
          <p:cNvSpPr/>
          <p:nvPr/>
        </p:nvSpPr>
        <p:spPr>
          <a:xfrm>
            <a:off x="3286080" y="35719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 к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4"/>
          <p:cNvSpPr/>
          <p:nvPr/>
        </p:nvSpPr>
        <p:spPr>
          <a:xfrm>
            <a:off x="5929200" y="3571920"/>
            <a:ext cx="271476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о одному к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5"/>
          <p:cNvSpPr/>
          <p:nvPr/>
        </p:nvSpPr>
        <p:spPr>
          <a:xfrm>
            <a:off x="571680" y="3571920"/>
            <a:ext cx="250020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 виде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User</cp:lastModifiedBy>
  <dcterms:modified xsi:type="dcterms:W3CDTF">2015-10-14T20:48:23Z</dcterms:modified>
  <cp:revision>185</cp:revision>
  <dc:subject/>
  <dc:title>Слайд 1</dc:title>
</cp:coreProperties>
</file>