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198-08EE-493F-BC91-F5BCE2B9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5C4-DA15-445D-8C32-436F538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9E5-1308-4DCC-BEAF-3BA4BC1D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750-F4DC-4A75-BD64-0D7A0711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1648A-CDC8-45E6-8B6A-E1458C0B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F0963-7407-4BC1-8FF3-688E884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8D607-282F-40D5-8D74-766C0D85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6AD63-5A55-46F8-8316-77A2DA21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2BDF7-6EBB-409A-AA17-E3B7A1C9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F97D2-6624-4A4B-B4E0-E6D96B2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3D650-3F77-4737-A1D3-40580D2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2F5-E33F-4493-B6ED-120ADD3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EA288-8C67-4E0F-BE64-853D197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90E9-0A2F-47D8-9C2E-72F96B8E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7EB37-BD67-4D61-940B-E0D80F6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8A51-468B-47A4-A3FA-2CCE618A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39C34-C82B-4941-9F19-75F8268B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F8C-8D5D-4461-8183-CA1C635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506-05E3-44AB-A643-6A53124E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705-9A2C-482A-BA37-4E554BAF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ABB-6901-4949-8DFD-27EFCEB1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C23-C16A-42DD-91EE-D8F5DEE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0DB-529E-490F-95DF-96AF2BA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0FC-54BD-49E3-B86C-14BF5F5C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D615-AD8E-4031-8E71-2EFD2F2C5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C72B-E014-4E73-BBC8-47F7BD7AA9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611280" y="333360"/>
            <a:ext cx="525600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физике на тему: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олнце"</a:t>
            </a:r>
            <a:endParaRPr b="0" i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ка 11 класса</a:t>
            </a:r>
            <a:endParaRPr b="0" i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геева Максима</a:t>
            </a:r>
            <a:endParaRPr b="0" i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400px-Planets_configuration_3D"/>
          <p:cNvPicPr/>
          <p:nvPr/>
        </p:nvPicPr>
        <p:blipFill>
          <a:blip r:embed="rId1"/>
          <a:stretch/>
        </p:blipFill>
        <p:spPr>
          <a:xfrm>
            <a:off x="0" y="-90360"/>
            <a:ext cx="92678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da8e7f64a2b3eeb494127000cf32a93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aea81f4c1d5da06f37f147a59d5e64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067920ea1f0937b938361bd52420ec8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acc521f9bb2f188d6b06a18ee1e6ca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2ef350afe9f3e9391f4b994abc24c5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9cac3d1008bcc70358e0fc5f6b88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685db9ce35feeaf6e5fb88cfed761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130d4b03b1609f9397160d452f22c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55cd88de9cd673fdf1a22f5cc4e68d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солнце"/>
          <p:cNvPicPr/>
          <p:nvPr/>
        </p:nvPicPr>
        <p:blipFill>
          <a:blip r:embed="rId1"/>
          <a:stretch/>
        </p:blipFill>
        <p:spPr>
          <a:xfrm>
            <a:off x="2340000" y="2743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971640" y="189000"/>
            <a:ext cx="7200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5200" y="1268280"/>
            <a:ext cx="821844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́лнц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единственная звезда Солнечной системы, дневное светило. Вокруг Солнца обращаются другие объекты этой системы: планеты и их спутники, карликовые планеты и их спутники,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стерои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метеориты, кометы и космическая пыль. Масса Солнца составляет 99,866 % от суммарной массы всей Солнечной системы. Солнечное излучение поддерживает жизнь на Земле(свет необходим для начальных стадий фотосинтеза), определяет климат. Солнце состоит из водорода (~73 % от массы и ~92 % от объёма), гелия (~25 % от массы и ~7 % от объёма) и других элементов с меньшей концентрацией: железа, никеля, кислорода, азота, кремния, серы, магния,углерода, неона, кальция и хр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932360" y="26028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лнце принадлежит к первому типу звёздного населения. Одна из распространённых теорий возникновения Солнечной системы предполагает, что её формирование было вызвано взрывами одной или нескольких сверхновых звёзд. Это предположение основано, в частности, на том, что в веществе Солнечной системы содержится аномально большая доля золота и урана, которые могли бы быть результатом эндотермических реакций, вызванных этим взрывом, или ядерного превращения элементов путём поглощения нейтронов веществом массивной звезды второго поко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Solntse2"/>
          <p:cNvPicPr/>
          <p:nvPr/>
        </p:nvPicPr>
        <p:blipFill>
          <a:blip r:embed="rId1"/>
          <a:stretch/>
        </p:blipFill>
        <p:spPr>
          <a:xfrm>
            <a:off x="0" y="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troenie-Solntsa"/>
          <p:cNvPicPr/>
          <p:nvPr/>
        </p:nvPicPr>
        <p:blipFill>
          <a:blip r:embed="rId2"/>
          <a:stretch/>
        </p:blipFill>
        <p:spPr>
          <a:xfrm>
            <a:off x="1619280" y="3213000"/>
            <a:ext cx="34480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800px-Comparison_sun_seen_from_planets_ru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384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059280" y="836640"/>
            <a:ext cx="561636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авнительные размеры Солнц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 наблюдении из окрестнос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орошо известных тел Солнечной сист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2394000" y="189000"/>
            <a:ext cx="675000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Ультрафиолетовое излучение Солнца имеет антисептические свойства, позволяющие использовать его для дезинфекции воды и различных предметов. Оно также вызывает загар и имеет другие биологические эффекты — например, стимулирует производство в организме витамина D. Воздействие ультрафиолетовой части солнечного спектра сильно ослабляется озоновым слоем в земной атмосфере, поэтому интенсивность ультрафиолетового излучения на поверхности Земли сильно меняется с широтой. Угол, под которым Солнце стоит над горизонтом в полдень, влияет на многие типы биологической адаптации — например, от него зависит цвет кожи человека в различных регионах земного ша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http://www.funfeel.net/wp-content/uploads/2015/08/samie-nelepie-smerti-premiya-darvina-2.jpg"/>
          <p:cNvPicPr/>
          <p:nvPr/>
        </p:nvPicPr>
        <p:blipFill>
          <a:blip r:embed="rId1"/>
          <a:stretch/>
        </p:blipFill>
        <p:spPr>
          <a:xfrm>
            <a:off x="179280" y="364500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4356000" y="333360"/>
            <a:ext cx="478800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Наблюдаемый с Земли путь Солнца по небесной сфере изменяется в течение года. Путь, описываемый в течение года той точкой, которую занимает Солнце на небе в определённое заданное время, называется аналеммой и имеет форму цифры 8, вытянутой вдоль оси север — юг. Самая заметная вариация в видимом положении Солнца на небе — его колебание вдоль направления север — юг с амплитудой 47° (вызванное наклоном плоскости эклиптики к плоскости небесного экватора, равным 23,5°). Существует также другая компонента этой вариации, направленная вдоль оси восток — запад и вызванная увеличением скорости орбитального движения Земли при её приближении к перигелию и уменьшением — при приближении к афелию. Первое из этих движений (север — юг) является причиной смены времён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http://img11.nnm.ru/e/a/b/4/9/3f778b35e2715f3ed58f40ded95.jpg"/>
          <p:cNvPicPr/>
          <p:nvPr/>
        </p:nvPicPr>
        <p:blipFill>
          <a:blip r:embed="rId1"/>
          <a:stretch/>
        </p:blipFill>
        <p:spPr>
          <a:xfrm>
            <a:off x="179280" y="1484280"/>
            <a:ext cx="41626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324000" y="189000"/>
            <a:ext cx="8820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Земля проходит через точку афелия в начале июля и удаляется от Солнца на расстояние 152 млн км, а через точку перигелия — в начале января и приближается к Солнцу на расстояние 147 млн км. Видимый диаметр Солнца между этими двумя датами меняется на 3 %. Поскольку разница в расстоянии составляет примерно 5 млн км, то в афелии Земля получает примерно на 7 % меньше тепла. Таким образом, зимы в северном полушарии немного теплее, чем в южном, а лето немного прохлад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http://s1.stc.m.kpcdn.net/share/i/4/915497/big.jpg"/>
          <p:cNvPicPr/>
          <p:nvPr/>
        </p:nvPicPr>
        <p:blipFill>
          <a:blip r:embed="rId1"/>
          <a:stretch/>
        </p:blipFill>
        <p:spPr>
          <a:xfrm>
            <a:off x="1476360" y="2205000"/>
            <a:ext cx="60339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24000" y="281160"/>
            <a:ext cx="86407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Солнце — магнитоактивная звезда. Она обладает сильным магнитным полем, напряжённость которого меняется со временем и которое меняет направление приблизительно каждые 11 лет, во время солнечного максимума. Вариации магнитного поля Солнца вызывают разнообразные эффекты, совокупность которых называется солнечной активностью и включает в себя такие явления, как солнечные пятна, солнечные вспышки, вариации солнечного ветра и т. д., а на Земле вызывает полярные сияния в высоких и средних широтах и геомагнитные бури, которые негативно сказываются на работе средств связи, средств передачи электроэнергии, а также негативно воздействует на живые организмы (вызывают головную боль и плохое самочувствие у людей, чувствительных к магнитным бурям).Предполагается, что солнечная активность играла большую роль в формировании и развитии Солнечной системы. Она также оказывает влияние на структуру земной атмосфе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http://cbsnews1.cbsistatic.com/hub/i/r/2013/08/07/a8dc271f-3a28-11e3-a4cb-047d7b15b92e/thumbnail/940x470/nasa_0807_sun_1.jpg?hash=e1280005b00cd22e16fdae3a98978970"/>
          <p:cNvPicPr/>
          <p:nvPr/>
        </p:nvPicPr>
        <p:blipFill>
          <a:blip r:embed="rId1"/>
          <a:stretch/>
        </p:blipFill>
        <p:spPr>
          <a:xfrm>
            <a:off x="611280" y="3500280"/>
            <a:ext cx="7993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5:28:32Z</dcterms:created>
  <dc:creator>Работник</dc:creator>
  <dc:description/>
  <dc:language>en-US</dc:language>
  <cp:lastModifiedBy>Юзер</cp:lastModifiedBy>
  <dcterms:modified xsi:type="dcterms:W3CDTF">2015-10-14T13:39:24Z</dcterms:modified>
  <cp:revision>6</cp:revision>
  <dc:subject/>
  <dc:title>Слайд 1</dc:title>
</cp:coreProperties>
</file>