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3C3-398C-4772-8A1E-870E4E8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41C-C189-4E61-9ADF-B92A054A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54D-CF2E-430A-B513-A1838F24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B34-2686-4AA3-9583-09CC55E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1F4C-0A89-4C62-8B26-24E0912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13371-25C4-4CE5-ABDC-EFAAABB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2836-8E27-4FD2-8DCC-6320D183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0E4B-880F-4B97-87B4-AFA2098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B09C-9560-4341-A746-55937856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FE129-8FDB-4D17-ADE8-4950412D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F11B4-68AA-446B-B5E1-F0D81E8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400-EB14-4D1B-AD66-3B58CA13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A25C5-4C78-4597-9EA6-0D2B221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A4D0-A0CA-4E64-8CAA-1B9ED10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DA54-6BF7-402A-86B3-BA23AD50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06F69-64DF-4B93-8183-569F8A52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7AFD-C548-40E0-A26E-1D208490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83F-02E6-48D3-9DFE-B743BA3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E44-B032-4F46-B603-C95C985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68B-00E7-4DB1-820C-4B84477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3C3-F2E5-4C74-8BF1-84015E9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B6D-9EA3-427D-8321-0855430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A09-0B03-4ADE-B9EB-FEFCCB6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CE7-BA25-4F06-A834-0E5F3DAA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188-C64D-4E58-8F37-F133F8B28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9AF-ABC8-4324-906C-84C64EA56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611280" y="333360"/>
            <a:ext cx="52560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физике на тему: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олнце"</a:t>
            </a:r>
            <a:endParaRPr b="0" i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ка 11 класса</a:t>
            </a:r>
            <a:endParaRPr b="0" i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ева Максима</a:t>
            </a:r>
            <a:endParaRPr b="0" i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400px-Planets_configuration_3D"/>
          <p:cNvPicPr/>
          <p:nvPr/>
        </p:nvPicPr>
        <p:blipFill>
          <a:blip r:embed="rId1"/>
          <a:stretch/>
        </p:blipFill>
        <p:spPr>
          <a:xfrm>
            <a:off x="0" y="-90360"/>
            <a:ext cx="92678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da8e7f64a2b3eeb494127000cf32a93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aea81f4c1d5da06f37f147a59d5e64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067920ea1f0937b938361bd52420ec8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acc521f9bb2f188d6b06a18ee1e6ca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2ef350afe9f3e9391f4b994abc24c5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9cac3d1008bcc70358e0fc5f6b88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685db9ce35feeaf6e5fb88cfed761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130d4b03b1609f9397160d452f22c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55cd88de9cd673fdf1a22f5cc4e68d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солнце"/>
          <p:cNvPicPr/>
          <p:nvPr/>
        </p:nvPicPr>
        <p:blipFill>
          <a:blip r:embed="rId1"/>
          <a:stretch/>
        </p:blipFill>
        <p:spPr>
          <a:xfrm>
            <a:off x="2340000" y="2743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971640" y="189000"/>
            <a:ext cx="7200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5200" y="1268280"/>
            <a:ext cx="821844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́лнц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единственная звезда Солнечной системы, дневное светило. Вокруг Солнца обращаются другие объекты этой системы: планеты и их спутники, карликовые планеты и их спутники,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стерои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метеориты, кометы и космическая пыль. Масса Солнца составляет 99,866 % от суммарной массы всей Солнечной системы. Солнечное излучение поддерживает жизнь на Земле(свет необходим для начальных стадий фотосинтеза), определяет климат. Солнце состоит из водорода (~73 % от массы и ~92 % от объёма), гелия (~25 % от массы и ~7 % от объёма) и других элементов с меньшей концентрацией: железа, никеля, кислорода, азота, кремния, серы, магния,углерода, неона, кальция и хр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932360" y="260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лнце принадлежит к первому типу звёздного населения. Одна из распространённых теорий возникновения Солнечной системы предполагает, что её формирование было вызвано взрывами одной или нескольких сверхновых звёзд. Это предположение основано, в частности, на том, что в веществе Солнечной системы содержится аномально большая доля золота и урана, которые могли бы быть результатом эндотермических реакций, вызванных этим взрывом, или ядерного превращения элементов путём поглощения нейтронов веществом массивной звезды второго поко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Solntse2"/>
          <p:cNvPicPr/>
          <p:nvPr/>
        </p:nvPicPr>
        <p:blipFill>
          <a:blip r:embed="rId1"/>
          <a:stretch/>
        </p:blipFill>
        <p:spPr>
          <a:xfrm>
            <a:off x="0" y="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troenie-Solntsa"/>
          <p:cNvPicPr/>
          <p:nvPr/>
        </p:nvPicPr>
        <p:blipFill>
          <a:blip r:embed="rId2"/>
          <a:stretch/>
        </p:blipFill>
        <p:spPr>
          <a:xfrm>
            <a:off x="1619280" y="3213000"/>
            <a:ext cx="34480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00px-Comparison_sun_seen_from_planets_ru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384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059280" y="836640"/>
            <a:ext cx="5616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авнительные размеры Солнц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наблюдении из окрестнос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орошо известных тел Солнечной сист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2394000" y="189000"/>
            <a:ext cx="67500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Ультрафиолетовое излучение Солнца имеет антисептические свойства, позволяющие использовать его для дезинфекции воды и различных предметов. Оно также вызывает загар и имеет другие биологические эффекты — например, стимулирует производство в организме витамина D. Воздействие ультрафиолетовой части солнечного спектра сильно ослабляется озоновым слоем в земной атмосфере, поэтому интенсивность ультрафиолетового излучения на поверхности Земли сильно меняется с широтой. Угол, под которым Солнце стоит над горизонтом в полдень, влияет на многие типы биологической адаптации — например, от него зависит цвет кожи человека в различных регионах земного ша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http://www.funfeel.net/wp-content/uploads/2015/08/samie-nelepie-smerti-premiya-darvina-2.jpg"/>
          <p:cNvPicPr/>
          <p:nvPr/>
        </p:nvPicPr>
        <p:blipFill>
          <a:blip r:embed="rId1"/>
          <a:stretch/>
        </p:blipFill>
        <p:spPr>
          <a:xfrm>
            <a:off x="179280" y="364500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4356000" y="333360"/>
            <a:ext cx="478800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Наблюдаемый с Земли путь Солнца по небесной сфере изменяется в течение года. Путь, описываемый в течение года той точкой, которую занимает Солнце на небе в определённое заданное время, называется аналеммой и имеет форму цифры 8, вытянутой вдоль оси север — юг. Самая заметная вариация в видимом положении Солнца на небе — его колебание вдоль направления север — юг с амплитудой 47° (вызванное наклоном плоскости эклиптики к плоскости небесного экватора, равным 23,5°). Существует также другая компонента этой вариации, направленная вдоль оси восток — запад и вызванная увеличением скорости орбитального движения Земли при её приближении к перигелию и уменьшением — при приближении к афелию. Первое из этих движений (север — юг) является причиной смены времён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http://img11.nnm.ru/e/a/b/4/9/3f778b35e2715f3ed58f40ded95.jpg"/>
          <p:cNvPicPr/>
          <p:nvPr/>
        </p:nvPicPr>
        <p:blipFill>
          <a:blip r:embed="rId1"/>
          <a:stretch/>
        </p:blipFill>
        <p:spPr>
          <a:xfrm>
            <a:off x="179280" y="1484280"/>
            <a:ext cx="41626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324000" y="189000"/>
            <a:ext cx="8820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Земля проходит через точку афелия в начале июля и удаляется от Солнца на расстояние 152 млн км, а через точку перигелия — в начале января и приближается к Солнцу на расстояние 147 млн км. Видимый диаметр Солнца между этими двумя датами меняется на 3 %. Поскольку разница в расстоянии составляет примерно 5 млн км, то в афелии Земля получает примерно на 7 % меньше тепла. Таким образом, зимы в северном полушарии немного теплее, чем в южном, а лето немного прохлад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http://s1.stc.m.kpcdn.net/share/i/4/915497/big.jpg"/>
          <p:cNvPicPr/>
          <p:nvPr/>
        </p:nvPicPr>
        <p:blipFill>
          <a:blip r:embed="rId1"/>
          <a:stretch/>
        </p:blipFill>
        <p:spPr>
          <a:xfrm>
            <a:off x="1476360" y="2205000"/>
            <a:ext cx="60339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281160"/>
            <a:ext cx="86407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Солнце — магнитоактивная звезда. Она обладает сильным магнитным полем, напряжённость которого меняется со временем и которое меняет направление приблизительно каждые 11 лет, во время солнечного максимума. Вариации магнитного поля Солнца вызывают разнообразные эффекты, совокупность которых называется солнечной активностью и включает в себя такие явления, как солнечные пятна, солнечные вспышки, вариации солнечного ветра и т. д., а на Земле вызывает полярные сияния в высоких и средних широтах и геомагнитные бури, которые негативно сказываются на работе средств связи, средств передачи электроэнергии, а также негативно воздействует на живые организмы (вызывают головную боль и плохое самочувствие у людей, чувствительных к магнитным бурям).Предполагается, что солнечная активность играла большую роль в формировании и развитии Солнечной системы. Она также оказывает влияние на структуру земной атмосфе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http://cbsnews1.cbsistatic.com/hub/i/r/2013/08/07/a8dc271f-3a28-11e3-a4cb-047d7b15b92e/thumbnail/940x470/nasa_0807_sun_1.jpg?hash=e1280005b00cd22e16fdae3a98978970"/>
          <p:cNvPicPr/>
          <p:nvPr/>
        </p:nvPicPr>
        <p:blipFill>
          <a:blip r:embed="rId1"/>
          <a:stretch/>
        </p:blipFill>
        <p:spPr>
          <a:xfrm>
            <a:off x="611280" y="3500280"/>
            <a:ext cx="7993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5:28:32Z</dcterms:created>
  <dc:creator>Работник</dc:creator>
  <dc:description/>
  <dc:language>en-US</dc:language>
  <cp:lastModifiedBy>Юзер</cp:lastModifiedBy>
  <dcterms:modified xsi:type="dcterms:W3CDTF">2015-10-14T13:39:24Z</dcterms:modified>
  <cp:revision>6</cp:revision>
  <dc:subject/>
  <dc:title>Слайд 1</dc:title>
</cp:coreProperties>
</file>