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2BF-0104-4C2F-96A6-6D46DFFB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FCF-6CB3-42D1-A356-B8CC2187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04E-74EF-442B-9E4A-45370893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39A-C2EF-4567-BFE6-DE91B74F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F7E-A3C7-471B-946A-21053BBF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192-85C2-4321-AF0F-A07437ED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5A9-0CB5-49F0-9889-801C6585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92B-DB2A-4022-8739-C121F8B5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A8C-2BCE-45E4-B7E1-678F1A1C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F92-C4FD-4E86-9AB4-F56179E3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58E-3696-46A4-94E8-F3665F5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B05-5028-4EB4-9DD2-122824C1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14C-8BB2-4D5B-AD4F-BF622A9BB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08000" y="404640"/>
            <a:ext cx="59770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лышам-вторая мама,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наний даст она немало,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учит всех трудиться,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читься-не лениться,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считать, и писать,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лепить, и рисовать.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26352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050920" y="1052640"/>
            <a:ext cx="473076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учение грамо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22078" t="0" r="22078" b="0"/>
          <a:stretch/>
        </p:blipFill>
        <p:spPr>
          <a:xfrm rot="20689800">
            <a:off x="1187280" y="2565000"/>
            <a:ext cx="1943280" cy="260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Уроки русской грамоты. В 2 частях. Часть 1, Н. Е. Алдошина, Г. А. Быкова, Н. М. Куракина, Т. Л. Мишакина, С. Б. Чижикова"/>
          <p:cNvPicPr/>
          <p:nvPr/>
        </p:nvPicPr>
        <p:blipFill>
          <a:blip r:embed="rId3"/>
          <a:stretch/>
        </p:blipFill>
        <p:spPr>
          <a:xfrm>
            <a:off x="3708360" y="2276640"/>
            <a:ext cx="1870200" cy="261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20927" t="0" r="22078" b="0"/>
          <a:stretch/>
        </p:blipFill>
        <p:spPr>
          <a:xfrm rot="595800">
            <a:off x="6227640" y="2492280"/>
            <a:ext cx="1971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66963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195640" y="907920"/>
            <a:ext cx="476244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лож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35280" y="2637000"/>
            <a:ext cx="518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ти пришли в школ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292640"/>
            <a:ext cx="3600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3860640"/>
            <a:ext cx="0" cy="122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494172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201080" cy="606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708360" y="299736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льчик делает зарядку.</a:t>
            </a:r>
            <a:endParaRPr b="0" i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2997360"/>
            <a:ext cx="187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льчик умываетс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997360"/>
            <a:ext cx="194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Школьник учитс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03280" y="5805360"/>
            <a:ext cx="2089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льчик читает книг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08360" y="5805360"/>
            <a:ext cx="20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ти играют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84720" y="5805360"/>
            <a:ext cx="19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льчик кушает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5543640" cy="3548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68360" y="4221000"/>
            <a:ext cx="52434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вочка убегает с братцем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4941720"/>
            <a:ext cx="5042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уси гонятся за ними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5589720"/>
            <a:ext cx="66690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 хотят отнять у неё братца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270120" y="3975480"/>
            <a:ext cx="1600560" cy="571320"/>
            <a:chOff x="6270120" y="3975480"/>
            <a:chExt cx="1600560" cy="571320"/>
          </a:xfrm>
        </p:grpSpPr>
        <p:sp>
          <p:nvSpPr>
            <p:cNvPr id="79" name=""/>
            <p:cNvSpPr/>
            <p:nvPr/>
          </p:nvSpPr>
          <p:spPr>
            <a:xfrm>
              <a:off x="6270120" y="4203360"/>
              <a:ext cx="1371960" cy="343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0120" y="3975480"/>
              <a:ext cx="720" cy="57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56560" y="4432320"/>
              <a:ext cx="11412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270120" y="4696200"/>
            <a:ext cx="1600560" cy="571320"/>
            <a:chOff x="6270120" y="4696200"/>
            <a:chExt cx="1600560" cy="571320"/>
          </a:xfrm>
        </p:grpSpPr>
        <p:sp>
          <p:nvSpPr>
            <p:cNvPr id="83" name=""/>
            <p:cNvSpPr/>
            <p:nvPr/>
          </p:nvSpPr>
          <p:spPr>
            <a:xfrm>
              <a:off x="6270120" y="4924080"/>
              <a:ext cx="1371960" cy="343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70120" y="4696200"/>
              <a:ext cx="720" cy="57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6560" y="5153040"/>
              <a:ext cx="11412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133760" y="5415480"/>
            <a:ext cx="1600560" cy="571320"/>
            <a:chOff x="7133760" y="5415480"/>
            <a:chExt cx="1600560" cy="571320"/>
          </a:xfrm>
        </p:grpSpPr>
        <p:sp>
          <p:nvSpPr>
            <p:cNvPr id="87" name=""/>
            <p:cNvSpPr/>
            <p:nvPr/>
          </p:nvSpPr>
          <p:spPr>
            <a:xfrm>
              <a:off x="7133760" y="5643360"/>
              <a:ext cx="1371960" cy="343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33760" y="5415480"/>
              <a:ext cx="720" cy="57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0200" y="5872320"/>
              <a:ext cx="11412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11280" y="981000"/>
            <a:ext cx="4681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ложение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995920" y="3079080"/>
            <a:ext cx="4152240" cy="1482120"/>
            <a:chOff x="2995920" y="3079080"/>
            <a:chExt cx="4152240" cy="1482120"/>
          </a:xfrm>
        </p:grpSpPr>
        <p:sp>
          <p:nvSpPr>
            <p:cNvPr id="94" name=""/>
            <p:cNvSpPr/>
            <p:nvPr/>
          </p:nvSpPr>
          <p:spPr>
            <a:xfrm>
              <a:off x="2995920" y="3670560"/>
              <a:ext cx="3559320" cy="8906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95920" y="3079080"/>
              <a:ext cx="2160" cy="1482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1880" y="4263840"/>
              <a:ext cx="296280" cy="29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02:08Z</dcterms:created>
  <dc:creator>1</dc:creator>
  <dc:description/>
  <dc:language>en-US</dc:language>
  <cp:lastModifiedBy>1</cp:lastModifiedBy>
  <dcterms:modified xsi:type="dcterms:W3CDTF">2015-09-02T17:16:32Z</dcterms:modified>
  <cp:revision>3</cp:revision>
  <dc:subject/>
  <dc:title>Слайд 1</dc:title>
</cp:coreProperties>
</file>