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9FB-1F5E-4EDA-8477-45CF5E91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281-6B2D-4EBB-BE29-FE0BBDED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A13-531B-4058-A41B-9D8C2CF0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F97-BF78-4C2B-9E72-D09E0FD3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E3C-E839-4D36-8E8F-DD167110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B81-3C23-472A-91FE-54159606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420-E440-4D7C-B296-7390AF26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304-0CD4-4D56-A2A4-2570B8C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873-4B2C-4A71-81A7-7F653180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3F4-C8A4-4340-946E-9A4406B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363-4C28-45F8-8D5C-1109F8B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C1F-2D76-4CCB-BBD3-9AB3096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A45C-DDB7-4493-B078-68DE74716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8000" y="404640"/>
            <a:ext cx="5977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ышам-вторая мама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наний даст она немало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учит всех трудиться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читься-не лениться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считать, и писать,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лепить, и рисовать.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2635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050920" y="1052640"/>
            <a:ext cx="473076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учение грамо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22078" t="0" r="22078" b="0"/>
          <a:stretch/>
        </p:blipFill>
        <p:spPr>
          <a:xfrm rot="20689800">
            <a:off x="1187280" y="2565000"/>
            <a:ext cx="1943280" cy="260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Уроки русской грамоты. В 2 частях. Часть 1, Н. Е. Алдошина, Г. А. Быкова, Н. М. Куракина, Т. Л. Мишакина, С. Б. Чижикова"/>
          <p:cNvPicPr/>
          <p:nvPr/>
        </p:nvPicPr>
        <p:blipFill>
          <a:blip r:embed="rId3"/>
          <a:stretch/>
        </p:blipFill>
        <p:spPr>
          <a:xfrm>
            <a:off x="3708360" y="2276640"/>
            <a:ext cx="1870200" cy="261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20927" t="0" r="22078" b="0"/>
          <a:stretch/>
        </p:blipFill>
        <p:spPr>
          <a:xfrm rot="595800">
            <a:off x="6227640" y="2492280"/>
            <a:ext cx="1971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6963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195640" y="907920"/>
            <a:ext cx="476244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лож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35280" y="2637000"/>
            <a:ext cx="518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и пришли в школ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292640"/>
            <a:ext cx="3600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3860640"/>
            <a:ext cx="0" cy="122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494172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201080" cy="606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708360" y="299736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ьчик делает зарядку.</a:t>
            </a:r>
            <a:endParaRPr b="0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2997360"/>
            <a:ext cx="18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ьчик умываетс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997360"/>
            <a:ext cx="194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кольник учитс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03280" y="5805360"/>
            <a:ext cx="2089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ьчик читает книг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08360" y="5805360"/>
            <a:ext cx="20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и играют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4720" y="5805360"/>
            <a:ext cx="19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льчик кушает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5543640" cy="3548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68360" y="4221000"/>
            <a:ext cx="5243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вочка убегает с братцем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4941720"/>
            <a:ext cx="504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уси гонятся за ними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5589720"/>
            <a:ext cx="66690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хотят отнять у неё братца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270120" y="3975480"/>
            <a:ext cx="1600560" cy="571320"/>
            <a:chOff x="6270120" y="3975480"/>
            <a:chExt cx="1600560" cy="571320"/>
          </a:xfrm>
        </p:grpSpPr>
        <p:sp>
          <p:nvSpPr>
            <p:cNvPr id="79" name=""/>
            <p:cNvSpPr/>
            <p:nvPr/>
          </p:nvSpPr>
          <p:spPr>
            <a:xfrm>
              <a:off x="6270120" y="4203360"/>
              <a:ext cx="1371960" cy="343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0120" y="3975480"/>
              <a:ext cx="720" cy="57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56560" y="4432320"/>
              <a:ext cx="1141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270120" y="4696200"/>
            <a:ext cx="1600560" cy="571320"/>
            <a:chOff x="6270120" y="4696200"/>
            <a:chExt cx="1600560" cy="571320"/>
          </a:xfrm>
        </p:grpSpPr>
        <p:sp>
          <p:nvSpPr>
            <p:cNvPr id="83" name=""/>
            <p:cNvSpPr/>
            <p:nvPr/>
          </p:nvSpPr>
          <p:spPr>
            <a:xfrm>
              <a:off x="6270120" y="4924080"/>
              <a:ext cx="1371960" cy="343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70120" y="4696200"/>
              <a:ext cx="720" cy="57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6560" y="5153040"/>
              <a:ext cx="1141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133760" y="5415480"/>
            <a:ext cx="1600560" cy="571320"/>
            <a:chOff x="7133760" y="5415480"/>
            <a:chExt cx="1600560" cy="571320"/>
          </a:xfrm>
        </p:grpSpPr>
        <p:sp>
          <p:nvSpPr>
            <p:cNvPr id="87" name=""/>
            <p:cNvSpPr/>
            <p:nvPr/>
          </p:nvSpPr>
          <p:spPr>
            <a:xfrm>
              <a:off x="7133760" y="5643360"/>
              <a:ext cx="1371960" cy="343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33760" y="5415480"/>
              <a:ext cx="720" cy="57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0200" y="5872320"/>
              <a:ext cx="1141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11280" y="981000"/>
            <a:ext cx="468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ложение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95920" y="3079080"/>
            <a:ext cx="4152240" cy="1482120"/>
            <a:chOff x="2995920" y="3079080"/>
            <a:chExt cx="4152240" cy="1482120"/>
          </a:xfrm>
        </p:grpSpPr>
        <p:sp>
          <p:nvSpPr>
            <p:cNvPr id="94" name=""/>
            <p:cNvSpPr/>
            <p:nvPr/>
          </p:nvSpPr>
          <p:spPr>
            <a:xfrm>
              <a:off x="2995920" y="3670560"/>
              <a:ext cx="3559320" cy="890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5920" y="3079080"/>
              <a:ext cx="2160" cy="1482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1880" y="4263840"/>
              <a:ext cx="296280" cy="29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02:08Z</dcterms:created>
  <dc:creator>1</dc:creator>
  <dc:description/>
  <dc:language>en-US</dc:language>
  <cp:lastModifiedBy>1</cp:lastModifiedBy>
  <dcterms:modified xsi:type="dcterms:W3CDTF">2015-09-02T17:16:32Z</dcterms:modified>
  <cp:revision>3</cp:revision>
  <dc:subject/>
  <dc:title>Слайд 1</dc:title>
</cp:coreProperties>
</file>