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E37E-B202-4EBE-BD33-A3BF4A84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0A3C-1A54-491C-9114-25E9660B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F731-C0FA-4027-A6E1-B62CF220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FD95-0637-4433-B89A-7A2B4B7C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54DF-73E1-4354-962F-025B0E03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6402-4C21-4103-9CC6-EA6F58A4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76FE-122D-4110-8408-7693CA2C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1FC7-E79A-4CC9-A755-1F1AF7CA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6D05-B705-49C8-80CE-92E18AF9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8542-FF16-4CAC-B877-B9C1AB18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651-5DD7-4F4C-B7C1-955A29F4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8F2F-47B1-480D-82FC-78108B3F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8806-D927-423F-8A12-1F3987B60A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ДЛЯ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908000" y="1341360"/>
            <a:ext cx="561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Как вы думаете,  что было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изобретено мальчиками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Чему будет посвящена наша тема урока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obektiv"/>
          <p:cNvPicPr/>
          <p:nvPr/>
        </p:nvPicPr>
        <p:blipFill>
          <a:blip r:embed="rId1"/>
          <a:stretch/>
        </p:blipFill>
        <p:spPr>
          <a:xfrm>
            <a:off x="3956040" y="2639880"/>
            <a:ext cx="5079960" cy="410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ob_vid"/>
          <p:cNvPicPr/>
          <p:nvPr/>
        </p:nvPicPr>
        <p:blipFill>
          <a:blip r:embed="rId2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бъективе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95280" y="476280"/>
          <a:ext cx="8280360" cy="6048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з мухи (6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ник (10)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волнистого попугая (10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хоед на пере попугая (60)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Picture 13" descr="glaz_muhi-60"/>
          <p:cNvPicPr/>
          <p:nvPr/>
        </p:nvPicPr>
        <p:blipFill>
          <a:blip r:embed="rId1"/>
          <a:stretch/>
        </p:blipFill>
        <p:spPr>
          <a:xfrm>
            <a:off x="468360" y="12682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slonik-10"/>
          <p:cNvPicPr/>
          <p:nvPr/>
        </p:nvPicPr>
        <p:blipFill>
          <a:blip r:embed="rId2"/>
          <a:stretch/>
        </p:blipFill>
        <p:spPr>
          <a:xfrm>
            <a:off x="4716360" y="12682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pero_popugaja-60"/>
          <p:cNvPicPr/>
          <p:nvPr/>
        </p:nvPicPr>
        <p:blipFill>
          <a:blip r:embed="rId3"/>
          <a:stretch/>
        </p:blipFill>
        <p:spPr>
          <a:xfrm>
            <a:off x="468360" y="43657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pero-puhoed-60"/>
          <p:cNvPicPr/>
          <p:nvPr/>
        </p:nvPicPr>
        <p:blipFill>
          <a:blip r:embed="rId4"/>
          <a:stretch/>
        </p:blipFill>
        <p:spPr>
          <a:xfrm>
            <a:off x="4572000" y="43657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50920" y="333360"/>
          <a:ext cx="8713800" cy="612000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30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бление яйцеклет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евище папоротника орля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евище папоротника орляк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ыльник ирис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Picture 13" descr="droblenie_jajchekletki-200"/>
          <p:cNvPicPr/>
          <p:nvPr/>
        </p:nvPicPr>
        <p:blipFill>
          <a:blip r:embed="rId1"/>
          <a:stretch/>
        </p:blipFill>
        <p:spPr>
          <a:xfrm>
            <a:off x="1116000" y="1052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kornevishe-paporotnik-10%2B60"/>
          <p:cNvPicPr/>
          <p:nvPr/>
        </p:nvPicPr>
        <p:blipFill>
          <a:blip r:embed="rId2"/>
          <a:stretch/>
        </p:blipFill>
        <p:spPr>
          <a:xfrm>
            <a:off x="5219640" y="9810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kornevishe-paporotnik-200"/>
          <p:cNvPicPr/>
          <p:nvPr/>
        </p:nvPicPr>
        <p:blipFill>
          <a:blip r:embed="rId3"/>
          <a:stretch/>
        </p:blipFill>
        <p:spPr>
          <a:xfrm>
            <a:off x="1042920" y="4076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pylnik-irisa-60%2B200"/>
          <p:cNvPicPr/>
          <p:nvPr/>
        </p:nvPicPr>
        <p:blipFill>
          <a:blip r:embed="rId4"/>
          <a:stretch/>
        </p:blipFill>
        <p:spPr>
          <a:xfrm>
            <a:off x="5148360" y="400536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611280" y="476280"/>
          <a:ext cx="7993080" cy="6048360"/>
        </p:xfrm>
        <a:graphic>
          <a:graphicData uri="http://schemas.openxmlformats.org/drawingml/2006/table">
            <a:tbl>
              <a:tblPr/>
              <a:tblGrid>
                <a:gridCol w="3997080"/>
                <a:gridCol w="3996000"/>
              </a:tblGrid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ок зверобоя (10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пчел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бабоч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птицы (6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Picture 13" descr="zweroboj-chvetok-10"/>
          <p:cNvPicPr/>
          <p:nvPr/>
        </p:nvPicPr>
        <p:blipFill>
          <a:blip r:embed="rId1"/>
          <a:stretch/>
        </p:blipFill>
        <p:spPr>
          <a:xfrm>
            <a:off x="755640" y="112536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"/>
          <p:cNvPicPr/>
          <p:nvPr/>
        </p:nvPicPr>
        <p:blipFill>
          <a:blip r:embed="rId2"/>
          <a:stretch/>
        </p:blipFill>
        <p:spPr>
          <a:xfrm>
            <a:off x="4716360" y="400860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pic004"/>
          <p:cNvPicPr/>
          <p:nvPr/>
        </p:nvPicPr>
        <p:blipFill>
          <a:blip r:embed="rId3"/>
          <a:stretch/>
        </p:blipFill>
        <p:spPr>
          <a:xfrm>
            <a:off x="4788000" y="1052640"/>
            <a:ext cx="3097080" cy="2315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pic000"/>
          <p:cNvPicPr/>
          <p:nvPr/>
        </p:nvPicPr>
        <p:blipFill>
          <a:blip r:embed="rId4"/>
          <a:stretch/>
        </p:blipFill>
        <p:spPr>
          <a:xfrm>
            <a:off x="611280" y="3956040"/>
            <a:ext cx="3313080" cy="2478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42920" y="907560"/>
            <a:ext cx="388620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Что можно увидеть в электронный микроскоп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mixcope"/>
          <p:cNvPicPr/>
          <p:nvPr/>
        </p:nvPicPr>
        <p:blipFill>
          <a:blip r:embed="rId1"/>
          <a:stretch/>
        </p:blipFill>
        <p:spPr>
          <a:xfrm>
            <a:off x="324000" y="333360"/>
            <a:ext cx="4176720" cy="6524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авила работы с микроскопом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0" y="6922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тавьте микроскоп штативом к себе  на расстоянии 5 - 10 см от края стола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убус опустите вниз н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-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м от предметного столика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правьте свет при помощи  подвижного зеркала в отверстие столика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ращайте зеркало осторожно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мотрите при этом в окуляр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обиваясь четкого освещения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52280" y="250920"/>
            <a:ext cx="8839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Положите на предметный столик  готовый микропрепарат. Закрепите предметное стекло зажимами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В окуляр смотрите одним глазом, не закрывая и не зажмуривая другой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Глядя в окуляр, очень медленно при помощи винтов поднимайте зрительную трубку до тех пор, пока не будет четкого изображения. 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2266920" y="40464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Рефлексия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03200" y="1668600"/>
            <a:ext cx="805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80880" y="1415880"/>
            <a:ext cx="8229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егодня на уроке мы узнали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Какие увеличительные приборы используют для исследования в биологии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Что представляет собой лупа и како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величение она дает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Как устроен микроскоп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. Научились определять увеличение микроскоп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0" descr="Микроскоп"/>
          <p:cNvPicPr/>
          <p:nvPr/>
        </p:nvPicPr>
        <p:blipFill>
          <a:blip r:embed="rId1"/>
          <a:stretch/>
        </p:blipFill>
        <p:spPr>
          <a:xfrm>
            <a:off x="7667640" y="0"/>
            <a:ext cx="1219320" cy="2120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Лупа"/>
          <p:cNvPicPr/>
          <p:nvPr/>
        </p:nvPicPr>
        <p:blipFill>
          <a:blip r:embed="rId2"/>
          <a:stretch/>
        </p:blipFill>
        <p:spPr>
          <a:xfrm>
            <a:off x="7358040" y="4357800"/>
            <a:ext cx="1400040" cy="1050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.6 задания  в рабочей тетради с.20-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дготовить сообщение (презентацию) об истории открытия и использовании микроскоп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дготовиться к лабораторной работ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2b3e2461e522"/>
          <p:cNvPicPr/>
          <p:nvPr/>
        </p:nvPicPr>
        <p:blipFill>
          <a:blip r:embed="rId1"/>
          <a:stretch/>
        </p:blipFill>
        <p:spPr>
          <a:xfrm>
            <a:off x="6372360" y="4797360"/>
            <a:ext cx="1892160" cy="2060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02_02_02"/>
          <p:cNvPicPr/>
          <p:nvPr/>
        </p:nvPicPr>
        <p:blipFill>
          <a:blip r:embed="rId1"/>
          <a:stretch/>
        </p:blipFill>
        <p:spPr>
          <a:xfrm>
            <a:off x="611280" y="1773360"/>
            <a:ext cx="3887640" cy="38163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7" name="Rectangle 8"/>
          <p:cNvSpPr/>
          <p:nvPr/>
        </p:nvSpPr>
        <p:spPr>
          <a:xfrm>
            <a:off x="611280" y="5589720"/>
            <a:ext cx="3960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берт Гу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16 век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3" descr="ris5_100"/>
          <p:cNvPicPr/>
          <p:nvPr/>
        </p:nvPicPr>
        <p:blipFill>
          <a:blip r:embed="rId2"/>
          <a:stretch/>
        </p:blipFill>
        <p:spPr>
          <a:xfrm>
            <a:off x="4932360" y="1773360"/>
            <a:ext cx="3816360" cy="4465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Times New Roman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560" y="198108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тони ван Левенгу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17 ве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овершенствова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икроскоп и откры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ноклеточ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ганиз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8" descr="02_02_03"/>
          <p:cNvPicPr/>
          <p:nvPr/>
        </p:nvPicPr>
        <p:blipFill>
          <a:blip r:embed="rId1"/>
          <a:stretch/>
        </p:blipFill>
        <p:spPr>
          <a:xfrm>
            <a:off x="4643280" y="1628640"/>
            <a:ext cx="3816360" cy="40323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p:transition>
    <p:split dir="out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Устройство увеличительных приборов и 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правила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 работы с ним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788000" y="5661000"/>
            <a:ext cx="352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mixcope"/>
          <p:cNvPicPr/>
          <p:nvPr/>
        </p:nvPicPr>
        <p:blipFill>
          <a:blip r:embed="rId1"/>
          <a:stretch/>
        </p:blipFill>
        <p:spPr>
          <a:xfrm>
            <a:off x="179280" y="2349360"/>
            <a:ext cx="2627280" cy="410544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4211640" y="4508640"/>
            <a:ext cx="468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Разработал учитель биологии МОУ «Урусовский ЦО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Валов А.М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микро11"/>
          <p:cNvPicPr/>
          <p:nvPr/>
        </p:nvPicPr>
        <p:blipFill>
          <a:blip r:embed="rId1"/>
          <a:stretch/>
        </p:blipFill>
        <p:spPr>
          <a:xfrm>
            <a:off x="3132000" y="3068640"/>
            <a:ext cx="2880000" cy="3598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324000" y="1125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уп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чная и штативна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348000" y="11253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етовой микроско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6208560" y="111456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лектронный микроско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177840" y="22860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Внешний вид увеличительных приборов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4" descr="Рисунок15"/>
          <p:cNvPicPr/>
          <p:nvPr/>
        </p:nvPicPr>
        <p:blipFill>
          <a:blip r:embed="rId2"/>
          <a:stretch/>
        </p:blipFill>
        <p:spPr>
          <a:xfrm>
            <a:off x="108000" y="2505240"/>
            <a:ext cx="2879640" cy="3597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Рисунок17"/>
          <p:cNvPicPr/>
          <p:nvPr/>
        </p:nvPicPr>
        <p:blipFill>
          <a:blip r:embed="rId3"/>
          <a:stretch/>
        </p:blipFill>
        <p:spPr>
          <a:xfrm>
            <a:off x="6156360" y="2505240"/>
            <a:ext cx="2879640" cy="3598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6" descr="lupa"/>
          <p:cNvPicPr/>
          <p:nvPr/>
        </p:nvPicPr>
        <p:blipFill>
          <a:blip r:embed="rId1"/>
          <a:stretch/>
        </p:blipFill>
        <p:spPr>
          <a:xfrm>
            <a:off x="179280" y="260280"/>
            <a:ext cx="4684680" cy="6264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5240160" y="44280"/>
            <a:ext cx="38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Ручная луп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62120" y="6035760"/>
            <a:ext cx="435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5892840" y="1752480"/>
            <a:ext cx="321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ительно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екл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нза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5935680" y="4794120"/>
            <a:ext cx="14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учк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7"/>
          <p:cNvSpPr/>
          <p:nvPr/>
        </p:nvSpPr>
        <p:spPr>
          <a:xfrm flipH="1" flipV="1">
            <a:off x="3428640" y="4572000"/>
            <a:ext cx="2438280" cy="5126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4427640" y="59911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чная лупа дает увеличение  от 2 до 20 раз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2"/>
          <p:cNvSpPr/>
          <p:nvPr/>
        </p:nvSpPr>
        <p:spPr>
          <a:xfrm flipH="1" flipV="1">
            <a:off x="2628720" y="3044160"/>
            <a:ext cx="3159360" cy="5871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5942160" y="32814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рав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35"/>
          <p:cNvSpPr/>
          <p:nvPr/>
        </p:nvSpPr>
        <p:spPr>
          <a:xfrm flipH="1" flipV="1">
            <a:off x="2109240" y="1857960"/>
            <a:ext cx="3485160" cy="4654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3" descr="Рисунок151"/>
          <p:cNvPicPr/>
          <p:nvPr/>
        </p:nvPicPr>
        <p:blipFill>
          <a:blip r:embed="rId1"/>
          <a:stretch/>
        </p:blipFill>
        <p:spPr>
          <a:xfrm>
            <a:off x="50760" y="71280"/>
            <a:ext cx="4881600" cy="6526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5580000" y="4428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Штативная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луп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510160" y="413388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5469480" y="472140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446800" y="2895480"/>
            <a:ext cx="30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5436720" y="154296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0"/>
          <p:cNvSpPr/>
          <p:nvPr/>
        </p:nvSpPr>
        <p:spPr>
          <a:xfrm flipH="1">
            <a:off x="3400200" y="4508640"/>
            <a:ext cx="2035080" cy="2887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1"/>
          <p:cNvSpPr/>
          <p:nvPr/>
        </p:nvSpPr>
        <p:spPr>
          <a:xfrm flipH="1">
            <a:off x="2626920" y="3213000"/>
            <a:ext cx="2808360" cy="360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4825440" y="5985000"/>
            <a:ext cx="43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тативная лупа увеличивае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меты от 10 до 25 раз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8"/>
          <p:cNvSpPr/>
          <p:nvPr/>
        </p:nvSpPr>
        <p:spPr>
          <a:xfrm flipH="1">
            <a:off x="2133720" y="1844640"/>
            <a:ext cx="3301920" cy="3650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2"/>
          <p:cNvSpPr/>
          <p:nvPr/>
        </p:nvSpPr>
        <p:spPr>
          <a:xfrm flipH="1">
            <a:off x="2268360" y="5084640"/>
            <a:ext cx="3184560" cy="304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b_vid"/>
          <p:cNvPicPr/>
          <p:nvPr/>
        </p:nvPicPr>
        <p:blipFill>
          <a:blip r:embed="rId1"/>
          <a:stretch/>
        </p:blipFill>
        <p:spPr>
          <a:xfrm>
            <a:off x="2050920" y="0"/>
            <a:ext cx="41547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2"/>
          <p:cNvSpPr/>
          <p:nvPr/>
        </p:nvSpPr>
        <p:spPr>
          <a:xfrm>
            <a:off x="-108000" y="-27000"/>
            <a:ext cx="230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Световой микроскоп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0" y="6284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ивае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ображения предметов от 56 до 800 раз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6301800" y="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5"/>
          <p:cNvSpPr/>
          <p:nvPr/>
        </p:nvSpPr>
        <p:spPr>
          <a:xfrm>
            <a:off x="6350040" y="76500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убу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6318720" y="191628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ъектив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6305400" y="285264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8"/>
          <p:cNvSpPr/>
          <p:nvPr/>
        </p:nvSpPr>
        <p:spPr>
          <a:xfrm>
            <a:off x="6333120" y="400536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6350040" y="465300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нт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0"/>
          <p:cNvSpPr/>
          <p:nvPr/>
        </p:nvSpPr>
        <p:spPr>
          <a:xfrm>
            <a:off x="6302160" y="57294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1"/>
          <p:cNvSpPr/>
          <p:nvPr/>
        </p:nvSpPr>
        <p:spPr>
          <a:xfrm>
            <a:off x="612720" y="6093000"/>
            <a:ext cx="25671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32"/>
          <p:cNvSpPr/>
          <p:nvPr/>
        </p:nvSpPr>
        <p:spPr>
          <a:xfrm>
            <a:off x="611280" y="4221000"/>
            <a:ext cx="1655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38"/>
          <p:cNvSpPr/>
          <p:nvPr/>
        </p:nvSpPr>
        <p:spPr>
          <a:xfrm>
            <a:off x="4645080" y="189000"/>
            <a:ext cx="11509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39"/>
          <p:cNvSpPr/>
          <p:nvPr/>
        </p:nvSpPr>
        <p:spPr>
          <a:xfrm flipV="1">
            <a:off x="2987640" y="1123920"/>
            <a:ext cx="1944720" cy="14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42"/>
          <p:cNvSpPr/>
          <p:nvPr/>
        </p:nvSpPr>
        <p:spPr>
          <a:xfrm>
            <a:off x="611280" y="3357720"/>
            <a:ext cx="1871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6"/>
          <p:cNvSpPr/>
          <p:nvPr/>
        </p:nvSpPr>
        <p:spPr>
          <a:xfrm>
            <a:off x="611280" y="5084640"/>
            <a:ext cx="25668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2"/>
          <p:cNvGrpSpPr/>
          <p:nvPr/>
        </p:nvGrpSpPr>
        <p:grpSpPr>
          <a:xfrm>
            <a:off x="611280" y="2276280"/>
            <a:ext cx="2736720" cy="865440"/>
            <a:chOff x="611280" y="2276280"/>
            <a:chExt cx="2736720" cy="865440"/>
          </a:xfrm>
        </p:grpSpPr>
        <p:sp>
          <p:nvSpPr>
            <p:cNvPr id="102" name="Line 37"/>
            <p:cNvSpPr/>
            <p:nvPr/>
          </p:nvSpPr>
          <p:spPr>
            <a:xfrm>
              <a:off x="611280" y="2708280"/>
              <a:ext cx="23763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50"/>
            <p:cNvSpPr/>
            <p:nvPr/>
          </p:nvSpPr>
          <p:spPr>
            <a:xfrm>
              <a:off x="684360" y="2708280"/>
              <a:ext cx="2663640" cy="4334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51"/>
            <p:cNvSpPr/>
            <p:nvPr/>
          </p:nvSpPr>
          <p:spPr>
            <a:xfrm flipV="1">
              <a:off x="611280" y="2276280"/>
              <a:ext cx="2376360" cy="4316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ob_vid"/>
          <p:cNvPicPr/>
          <p:nvPr/>
        </p:nvPicPr>
        <p:blipFill>
          <a:blip r:embed="rId1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okular1"/>
          <p:cNvPicPr/>
          <p:nvPr/>
        </p:nvPicPr>
        <p:blipFill>
          <a:blip r:embed="rId2"/>
          <a:stretch/>
        </p:blipFill>
        <p:spPr>
          <a:xfrm>
            <a:off x="3956040" y="2627280"/>
            <a:ext cx="507996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куляре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8T07:05:02Z</dcterms:created>
  <dc:creator>Татьяна</dc:creator>
  <dc:description/>
  <dc:language>en-US</dc:language>
  <cp:lastModifiedBy>1</cp:lastModifiedBy>
  <dcterms:modified xsi:type="dcterms:W3CDTF">2015-10-14T11:16:10Z</dcterms:modified>
  <cp:revision>79</cp:revision>
  <dc:subject/>
  <dc:title>Устройство увеличительных приборов и  правила работы с ними.</dc:title>
</cp:coreProperties>
</file>