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8441-6FD2-4A91-841A-9D2D3E76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59F1-5086-4F34-84DC-8B337ED4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08E-062E-4C54-94EE-EC325780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09F-BACC-4240-A00E-46EE322B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5616-D586-4FD8-8D61-CECD49A4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713-5B43-44F9-A542-1C73D363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0B2-D118-45BC-ABDB-07CE8FBD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619-9057-45CE-8FA2-A91B84A1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EDE-4A3B-4891-996B-9C4A87F1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A29E-8B21-49E6-8574-796CF1D7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3E9-4152-4758-AD39-032D2A3F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579-7C09-4786-BEC9-C8436332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5A71-6947-4849-8138-74119C5126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128520" y="1511280"/>
            <a:ext cx="9002880" cy="2395440"/>
            <a:chOff x="128520" y="1511280"/>
            <a:chExt cx="9002880" cy="2395440"/>
          </a:xfrm>
        </p:grpSpPr>
        <p:pic>
          <p:nvPicPr>
            <p:cNvPr id="4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28520" y="1511280"/>
              <a:ext cx="900288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57120" y="2130480"/>
              <a:ext cx="850104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0000cc"/>
                  </a:solidFill>
                  <a:latin typeface="Calibri"/>
                </a:rPr>
                <a:t>Весенние русские</a:t>
              </a:r>
              <a:br>
                <a:rPr sz="6600"/>
              </a:br>
              <a:r>
                <a:rPr b="1" lang="ru-RU" sz="6600" spc="-1" strike="noStrike">
                  <a:solidFill>
                    <a:srgbClr val="0000cc"/>
                  </a:solidFill>
                  <a:latin typeface="Calibri"/>
                </a:rPr>
                <a:t>народные праздник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00360" y="6000840"/>
            <a:ext cx="448596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рбное воскресен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рба обладает  магической силой (предохраняет от болезней; придает жизненную силу и здоровье; оберегает дом от молний, пожара, нечистой силы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рбу хранили целый год на божни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род примечал, что если хорошо цветет верба – пашня будет удач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сха – «праздник праздников», чудесное воскрешение из мертвых Иисуса Хри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143160" y="2071800"/>
            <a:ext cx="3214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исус Христос был распят ради искупления грехов человеческих. Воскрес через три дня в седьмой день недели (воскресенье), поэтому каждое воскресение люди не работают в память о воскрешении Хрис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361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270504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6429240" y="2143080"/>
            <a:ext cx="22082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2d"/>
            </a:gs>
            <a:gs pos="100000">
              <a:srgbClr val="f7ff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3429000" y="3500280"/>
            <a:ext cx="2063880" cy="29750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с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1600200"/>
            <a:ext cx="82580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Пасхе готовились, начиная с чистого четверга, красили и расписывали яйца, готовили пасху, пекли кули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357880" y="3214800"/>
            <a:ext cx="3413160" cy="2560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428760" y="3214800"/>
            <a:ext cx="3168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с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ночь с субботы на воскресенье происходит пасхальная служба – полуношница, после окончания службы прихожане поздравляли друг друга со светлым праздником, трижды целовались и произносили слова: «Христос воскресе!» - «Воистину воскресе!», обменивались крашенными яйц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643280" y="2143080"/>
            <a:ext cx="426744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с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ажнейший элемент праздника – утренняя пасхальная трапеза, после которой деревенские ребятишки шли «христосоваться», хозяева одаривали их пирогами, конфетами, крашенными яйцами. На улицах девушки и парни плясали, пели песни, соревновались в различных играх с пасхальными яйц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929120" y="1500120"/>
            <a:ext cx="3933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с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асхальное утро выходили на улицу смотреть как «радуется» солнышко, играет, а значит быть хорошей и здоровой жизни, богатому урожаю и счастливым свадьб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сленица – праздник проводов зимы и встречи вес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вое упоминание о масленице  - 16 век. К масленице начинали готовиться с середины предшествующей недели. Хозяйки наводили чистоту, закупали продукты, пекли блины. Строили ледяные горки, снежные крепости, городки, качел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влечения на Масленицу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65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гощение блина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65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ание с гор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65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коморошьи балаган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65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весные качел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65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ание на лошадя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65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улачные бо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65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зятие снежных городк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357800" y="2857680"/>
            <a:ext cx="39243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сле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обое значение имел ритуал почетного ввоза специально сделанного чучела – символа масленицы. Гостью приветствовали песнями-причитаниями. С этого момента считалось, что праздник начал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500720" y="1643040"/>
            <a:ext cx="44226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сленичная неде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недельник – встре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торник – «заигрыш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реда – «лаком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тверг – «разгул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ятница – «тещины вечер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уббота – «заловкины посидел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скресенье – «прощенный ден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5" descr=""/>
          <p:cNvPicPr/>
          <p:nvPr/>
        </p:nvPicPr>
        <p:blipFill>
          <a:blip r:embed="rId1"/>
          <a:stretch/>
        </p:blipFill>
        <p:spPr>
          <a:xfrm>
            <a:off x="3916440" y="272880"/>
            <a:ext cx="4429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сле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оследний день масленицы совершались очистительные обряды: на возвышенном месте разжигался большой ритуальный костер, и в нем сжигали старые ненужные вещ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учело символизирующее Масленицу сжигали, праздник считался законченным, все оставшиеся после масленицы угощения подлежали уничтожению, так как начинался Великий Пос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429160" y="1500120"/>
            <a:ext cx="323064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аго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лаговещ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благая весть о рождение Иису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а прилета пти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а копать землю, саж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здник не отмечался весельем, традиционны были посещение церкви, соблюдение запретов, беседы о севе, пахо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Информация на сайт\бояринова\картинки\0KapkovYF_BlagoveschenieGTG.jpg"/>
          <p:cNvPicPr/>
          <p:nvPr/>
        </p:nvPicPr>
        <p:blipFill>
          <a:blip r:embed="rId1"/>
          <a:stretch/>
        </p:blipFill>
        <p:spPr>
          <a:xfrm>
            <a:off x="5500800" y="1714680"/>
            <a:ext cx="33796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аго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но утром крестьяне отправлялись в церковь к заутрене. В этот день разрешалось послабление поста. Девушки в этот день водили хороводы с пением веснянок. Принято было выпускать на волю птиц. Запрещалось заплетать косы, прясть, давать что-либо в долг. Освящали зерно, гадали на будущий урожа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рбное воскресен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600200"/>
            <a:ext cx="39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езд Иисуса Христа в Иерусалим народ приветствовал пальмовыми ветвями. У русских место пальмовых ветвей заняла верб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429080" y="1214280"/>
            <a:ext cx="44006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500720" y="428760"/>
            <a:ext cx="435744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рбное воскресен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00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этот день все спешили в церковь, чтобы освятить веточки вербы. Их приносили домой, а потом надолго сохраняли, чтобы они отводили от дома боле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4:58:36Z</dcterms:created>
  <dc:creator>ГДР</dc:creator>
  <dc:description/>
  <dc:language>en-US</dc:language>
  <cp:lastModifiedBy>1</cp:lastModifiedBy>
  <dcterms:modified xsi:type="dcterms:W3CDTF">2015-10-14T14:43:50Z</dcterms:modified>
  <cp:revision>40</cp:revision>
  <dc:subject/>
  <dc:title>Весенние русские народные праздники</dc:title>
</cp:coreProperties>
</file>