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3.wmf" ContentType="image/x-wmf"/>
  <Override PartName="/ppt/media/image23.gif" ContentType="image/gif"/>
  <Override PartName="/ppt/media/image22.wmf" ContentType="image/x-wmf"/>
  <Override PartName="/ppt/media/image6.png" ContentType="image/png"/>
  <Override PartName="/ppt/media/image21.wmf" ContentType="image/x-wmf"/>
  <Override PartName="/ppt/media/image19.jpeg" ContentType="image/jpeg"/>
  <Override PartName="/ppt/media/image10.png" ContentType="image/png"/>
  <Override PartName="/ppt/media/image2.gif" ContentType="image/gif"/>
  <Override PartName="/ppt/media/image5.png" ContentType="image/png"/>
  <Override PartName="/ppt/media/image20.wmf" ContentType="image/x-wmf"/>
  <Override PartName="/ppt/media/image17.png" ContentType="image/png"/>
  <Override PartName="/ppt/media/image16.gif" ContentType="image/gif"/>
  <Override PartName="/ppt/media/image18.png" ContentType="image/pn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FBF-4929-4489-AFA9-2BD0034B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9A2-09C6-48C4-A4BC-3E2A6EF3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5FE0-CA8F-45AA-9446-AAF6BFCF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3C72-E08E-471D-B3A3-28EE764B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3FD-740E-4A95-B0B7-E6D84A77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861-6787-4862-BB67-959205DD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BA3-32A3-410B-B0F0-55DEDF92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C91-2698-4DBC-8B69-3C252451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E91-078D-4D4E-BCC9-A037BBD4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C70E-E975-41C6-85CD-1399D626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452-76E3-4623-835E-CECF145C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34D-D30B-4CD8-8383-0A75CAB5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7CE9-A147-494C-9AB4-2F29A85C8B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png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slide" Target="slide5.xml"/><Relationship Id="rId4" Type="http://schemas.openxmlformats.org/officeDocument/2006/relationships/image" Target="../media/image16.gi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2"/>
          <p:cNvGraphicFramePr/>
          <p:nvPr/>
        </p:nvGraphicFramePr>
        <p:xfrm>
          <a:off x="7674120" y="404640"/>
          <a:ext cx="136188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412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3"/>
          <p:cNvGraphicFramePr/>
          <p:nvPr/>
        </p:nvGraphicFramePr>
        <p:xfrm>
          <a:off x="6156360" y="404640"/>
          <a:ext cx="1361880" cy="21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4"/>
          <p:cNvGraphicFramePr/>
          <p:nvPr/>
        </p:nvGraphicFramePr>
        <p:xfrm>
          <a:off x="4643280" y="404640"/>
          <a:ext cx="13622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5"/>
          <p:cNvGraphicFramePr/>
          <p:nvPr/>
        </p:nvGraphicFramePr>
        <p:xfrm>
          <a:off x="3132000" y="404640"/>
          <a:ext cx="1362240" cy="219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1625760" y="404640"/>
          <a:ext cx="1361880" cy="219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57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114480" y="404640"/>
          <a:ext cx="1361880" cy="2190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8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4668840" y="404640"/>
          <a:ext cx="1343160" cy="2162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68840" y="404640"/>
                    <a:ext cx="1343160" cy="21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9"/>
          <p:cNvGraphicFramePr/>
          <p:nvPr/>
        </p:nvGraphicFramePr>
        <p:xfrm>
          <a:off x="7693200" y="404640"/>
          <a:ext cx="1342800" cy="216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4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3200" y="404640"/>
                    <a:ext cx="1342800" cy="21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0"/>
          <p:cNvGraphicFramePr/>
          <p:nvPr/>
        </p:nvGraphicFramePr>
        <p:xfrm>
          <a:off x="6156360" y="404640"/>
          <a:ext cx="1343160" cy="2152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636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1"/>
          <p:cNvGraphicFramePr/>
          <p:nvPr/>
        </p:nvGraphicFramePr>
        <p:xfrm>
          <a:off x="3132000" y="404640"/>
          <a:ext cx="1343160" cy="2152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3200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2"/>
          <p:cNvGraphicFramePr/>
          <p:nvPr/>
        </p:nvGraphicFramePr>
        <p:xfrm>
          <a:off x="142920" y="404640"/>
          <a:ext cx="1333440" cy="215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0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2920" y="404640"/>
                    <a:ext cx="133344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3"/>
          <p:cNvGraphicFramePr/>
          <p:nvPr/>
        </p:nvGraphicFramePr>
        <p:xfrm>
          <a:off x="1619280" y="404640"/>
          <a:ext cx="1343160" cy="2152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2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61928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378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  <a:ea typeface="Times New Roman"/>
              </a:rPr>
              <a:t>Глаголы изменяются по числа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Georgia"/>
              </a:rPr>
              <a:t>Как изменяются глаголы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9"/>
          <p:cNvGraphicFramePr/>
          <p:nvPr/>
        </p:nvGraphicFramePr>
        <p:xfrm>
          <a:off x="7693200" y="404640"/>
          <a:ext cx="1342800" cy="21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3200" y="404640"/>
                    <a:ext cx="1342800" cy="21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0"/>
          <p:cNvGraphicFramePr/>
          <p:nvPr/>
        </p:nvGraphicFramePr>
        <p:xfrm>
          <a:off x="6156360" y="404640"/>
          <a:ext cx="1343160" cy="215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8"/>
          <p:cNvGraphicFramePr/>
          <p:nvPr/>
        </p:nvGraphicFramePr>
        <p:xfrm>
          <a:off x="4668840" y="404640"/>
          <a:ext cx="1343160" cy="216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68840" y="404640"/>
                    <a:ext cx="1343160" cy="21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1"/>
          <p:cNvGraphicFramePr/>
          <p:nvPr/>
        </p:nvGraphicFramePr>
        <p:xfrm>
          <a:off x="3132000" y="404640"/>
          <a:ext cx="1343160" cy="215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3"/>
          <p:cNvGraphicFramePr/>
          <p:nvPr/>
        </p:nvGraphicFramePr>
        <p:xfrm>
          <a:off x="1619280" y="404640"/>
          <a:ext cx="1343160" cy="215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1928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2"/>
          <p:cNvGraphicFramePr/>
          <p:nvPr/>
        </p:nvGraphicFramePr>
        <p:xfrm>
          <a:off x="142920" y="404640"/>
          <a:ext cx="1333440" cy="215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2920" y="404640"/>
                    <a:ext cx="133344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515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кое слово «спряталось»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3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83815E-006 C 0.00486 0.01966 0.00104 0.04116 0.00469 0.06128 C 0.00556 0.08093 0.00469 0.11608 0.01424 0.13527 C 0.01719 0.16694 0.02483 0.20394 0.01111 0.23261 C 0.00816 0.24671 0.00642 0.2518 0.00156 0.26428 C -0.00052 0.2696 -0.00087 0.27608 -0.00312 0.28116 C -0.00417 0.28347 -0.0125 0.29157 -0.01267 0.2918 C -0.01371 0.29457 -0.01389 0.29827 -0.0158 0.30012 C -0.01858 0.30267 -0.02535 0.30428 -0.02535 0.30428 C -0.03038 0.31099 -0.03455 0.31353 -0.04132 0.317 C -0.05503 0.31631 -0.06875 0.31677 -0.08246 0.31492 C -0.08403 0.31469 -0.08455 0.31191 -0.08576 0.31076 C -0.09062 0.30567 -0.09635 0.30267 -0.10156 0.29804 C -0.10677 0.28764 -0.10312 0.29319 -0.11423 0.28324 C -0.11545 0.28209 -0.11614 0.27978 -0.11753 0.27908 C -0.12048 0.27769 -0.12378 0.27769 -0.12691 0.277 C -0.1342 0.26729 -0.13663 0.26452 -0.14601 0.25989 C -0.15746 0.24509 -0.15226 0.22798 -0.16024 0.21134 C -0.16719 0.14336 -0.13142 0.04694 -0.1651 0.00209 E">
                                      <p:cBhvr>
                                        <p:cTn id="20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2289 C 0.00121 0.02011 -0.00104 0.06381 -0.00104 0.10774 C -0.00104 0.12092 -0.02379 0.3563 0.02083 0.3889 C 0.02552 0.39907 0.02969 0.40023 0.03628 0.40231 C 0.04722 0.41734 0.04236 0.41341 0.05034 0.41942 C 0.06198 0.43537 0.06649 0.43537 0.08021 0.443 C 0.08472 0.45341 0.08906 0.45341 0.09566 0.45687 C 0.11198 0.47375 0.13107 0.48138 0.14896 0.48716 C 0.15399 0.49086 0.1559 0.49734 0.16128 0.50057 C 0.21284 0.49872 0.23333 0.51722 0.26909 0.47722 C 0.27014 0.47375 0.27048 0.46936 0.27205 0.46682 C 0.27344 0.4645 0.27604 0.46612 0.27708 0.46312 C 0.28212 0.44739 0.2783 0.42982 0.28489 0.41549 C 0.28524 0.41248 0.28698 0.38404 0.28784 0.37895 C 0.29062 0.36069 0.29062 0.36994 0.29392 0.35514 C 0.29757 0.3408 0.29392 0.34682 0.29739 0.32855 C 0.29878 0.31953 0.30191 0.31283 0.30347 0.3045 C 0.30625 0.29017 0.30816 0.27514 0.30989 0.2608 C 0.31094 0.24069 0.31094 0.2208 0.31771 0.20578 C 0.325 0.14219 0.32361 0.05572 0.32534 -0.01018 C 0.32587 -0.00694 0.32743 -0.00024 0.32743 4.56647E-006 E">
                                      <p:cBhvr>
                                        <p:cTn id="206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31214E-006 C -0.00104 0.00278 -0.00191 0.00579 -0.00313 0.00833 C -0.00504 0.01272 -0.00955 0.02105 -0.00955 0.02105 C -0.03542 0.1244 -0.02396 0.23561 -0.00469 0.33804 C -0.00313 0.36486 -0.00122 0.39191 0.00156 0.4185 C 0.00399 0.44139 0.00017 0.43168 0.00642 0.44394 C 0.00712 0.45434 0.00729 0.47792 0.01267 0.48833 C 0.01475 0.49249 0.01909 0.50081 0.01909 0.50081 C 0.021 0.51422 0.02326 0.51376 0.02864 0.52417 C 0.03524 0.55053 0.05382 0.58567 0.07309 0.59816 C 0.08229 0.6148 0.08802 0.62174 0.10312 0.62567 C 0.11441 0.63538 0.09965 0.62382 0.11909 0.63191 C 0.12257 0.6333 0.12517 0.637 0.12864 0.63839 C 0.1342 0.64324 0.13975 0.6481 0.146 0.6511 C 0.15191 0.6585 0.15625 0.65342 0.16354 0.6511 C 0.23264 0.65272 0.30069 0.65873 0.36979 0.66359 C 0.38889 0.65943 0.40798 0.65619 0.42708 0.65318 C 0.43854 0.637 0.42083 0.66058 0.43489 0.64671 C 0.43784 0.6437 0.4408 0.64047 0.44288 0.63631 C 0.44496 0.63214 0.44566 0.62474 0.4493 0.62359 C 0.45139 0.6229 0.45347 0.6222 0.45555 0.62151 C 0.46041 0.6148 0.46666 0.61087 0.47152 0.6044 C 0.47205 0.60232 0.47187 0.59977 0.47309 0.59816 C 0.47587 0.59446 0.48264 0.5896 0.48264 0.5896 C 0.48767 0.57966 0.48628 0.56902 0.49045 0.56 C 0.49271 0.55469 0.49843 0.54521 0.49843 0.54521 C 0.50225 0.52995 0.50416 0.51446 0.50642 0.49873 C 0.50712 0.49434 0.5085 0.49018 0.50955 0.48602 C 0.51007 0.48394 0.51111 0.47977 0.51111 0.47977 C 0.5125 0.46752 0.51458 0.45619 0.51597 0.44394 C 0.51354 0.4037 0.51371 0.42266 0.51597 0.37827 C 0.51649 0.36902 0.51649 0.35977 0.51753 0.35076 C 0.51805 0.34636 0.52066 0.33804 0.52066 0.33804 C 0.51875 0.17457 0.53073 0.24278 0.51111 0.17758 C 0.51007 0.16486 0.50729 0.15214 0.50642 0.13943 C 0.50225 0.08116 0.5092 0.10891 0.50312 0.08648 C 0.50225 0.06081 0.50573 0.04925 0.49687 0.03168 C 0.4934 0.01711 0.49531 0.02752 0.49531 -2.31214E-006 E">
                                      <p:cBhvr>
                                        <p:cTn id="208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31214E-006 C -0.00972 0.00093 -0.02587 0.00209 -0.03646 0.00417 C -0.04115 0.00509 -0.04809 0.00856 -0.05226 0.01041 C -0.05938 0.01365 -0.06701 0.0118 -0.07448 0.01249 C -0.07604 0.01318 -0.07778 0.01388 -0.07934 0.0148 C -0.08142 0.01596 -0.08333 0.01781 -0.08559 0.01896 C -0.09323 0.02266 -0.10174 0.0222 -0.10955 0.02521 C -0.11441 0.02706 -0.11892 0.03029 -0.12379 0.03168 C -0.12639 0.03237 -0.12917 0.03284 -0.13177 0.03376 C -0.1349 0.03492 -0.13802 0.03654 -0.14115 0.03792 C -0.14896 0.04139 -0.1651 0.0444 -0.1651 0.0444 C -0.1724 0.04925 -0.17969 0.0511 -0.18733 0.0548 C -0.2 0.06105 -0.21198 0.06613 -0.22535 0.0696 C -0.23194 0.07584 -0.23924 0.08047 -0.24601 0.08648 C -0.2559 0.09526 -0.26615 0.10683 -0.27778 0.10983 C -0.28108 0.11307 -0.28385 0.11769 -0.28733 0.12047 C -0.29635 0.12787 -0.3099 0.13157 -0.31736 0.14151 C -0.32379 0.15006 -0.31997 0.14729 -0.32847 0.15006 C -0.33559 0.15908 -0.3434 0.15954 -0.35226 0.16486 C -0.3566 0.1674 -0.3651 0.17318 -0.3651 0.17318 C -0.37274 0.18382 -0.38108 0.18729 -0.39201 0.19006 C -0.39358 0.19145 -0.39497 0.1933 -0.3967 0.19446 C -0.39826 0.19538 -0.40017 0.19538 -0.40156 0.19654 C -0.41354 0.20694 -0.39948 0.19977 -0.41111 0.20486 C -0.41337 0.2081 -0.41684 0.20995 -0.41892 0.21342 C -0.41997 0.21503 -0.41979 0.21781 -0.42066 0.21966 C -0.4224 0.22359 -0.42587 0.2259 -0.42847 0.22821 C -0.43299 0.237 -0.43611 0.2444 -0.43958 0.25365 C -0.44219 0.26081 -0.44028 0.26035 -0.44288 0.26844 C -0.45417 0.30266 -0.46476 0.33758 -0.47135 0.37411 C -0.47066 0.41781 -0.48142 0.45665 -0.45868 0.48602 C -0.45573 0.49596 -0.45278 0.4985 -0.44913 0.50729 C -0.44705 0.51191 -0.44479 0.52093 -0.44115 0.52417 C -0.43837 0.52671 -0.43177 0.52833 -0.43177 0.52833 C -0.42448 0.53804 -0.41997 0.55099 -0.41424 0.56232 C -0.41233 0.56602 -0.40469 0.56648 -0.40469 0.56648 C -0.40208 0.57711 -0.39983 0.57226 -0.39358 0.5792 C -0.38976 0.58336 -0.38524 0.59099 -0.3809 0.59399 C -0.37813 0.59584 -0.36441 0.59792 -0.36337 0.59816 C -0.34913 0.6044 -0.33542 0.60694 -0.32066 0.61087 C -0.3151 0.61781 -0.30903 0.61758 -0.30156 0.6192 C -0.28316 0.62798 -0.26545 0.62844 -0.24601 0.62983 C -0.22934 0.637 -0.17465 0.63769 -0.16181 0.63839 C -0.14132 0.6437 -0.15139 0.64185 -0.13177 0.64463 C -0.09948 0.64394 -0.06719 0.64394 -0.0349 0.64255 C -0.02882 0.64232 -0.02014 0.63631 -0.01424 0.63399 C -0.00938 0.63214 1.94444E-006 0.62775 1.94444E-006 0.62775 C 0.00764 0.62035 0.01493 0.61642 0.02378 0.61295 C 0.03177 0.60972 0.03767 0.60463 0.04601 0.60232 C 0.05104 0.59908 0.05382 0.59839 0.05712 0.59191 C 0.05816 0.59006 0.05781 0.58729 0.05885 0.58544 C 0.06198 0.57943 0.06701 0.57642 0.07153 0.57272 C 0.07361 0.56902 0.07847 0.55862 0.08264 0.55792 C 0.08455 0.55746 0.08576 0.56093 0.08733 0.56232 C 0.09115 0.54683 0.08715 0.55076 0.09687 0.54752 C 0.10556 0.53827 0.11597 0.53249 0.12378 0.52209 C 0.12431 0.51862 0.12413 0.51446 0.12552 0.51145 C 0.12691 0.50844 0.12986 0.50775 0.13177 0.50521 C 0.13385 0.50243 0.13785 0.49434 0.13976 0.49041 C 0.14496 0.46937 0.1408 0.47584 0.14774 0.46706 C 0.15156 0.44694 0.14653 0.46775 0.15243 0.45434 C 0.15399 0.45087 0.15521 0.44 0.15556 0.43746 C 0.15608 0.42821 0.1559 0.41896 0.15712 0.40995 C 0.15746 0.4074 0.15972 0.40602 0.16042 0.4037 C 0.16371 0.3933 0.16476 0.38613 0.16667 0.37619 C 0.17066 0.25087 0.16823 0.12555 0.16823 -2.31214E-006 E">
                                      <p:cBhvr>
                                        <p:cTn id="21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01018 C -0.00157 0.05479 0.00156 0.05248 -0.01111 0.09919 C -0.01788 0.12809 -0.01042 0.08485 -0.01754 0.12948 C -0.01875 0.1378 -0.02379 0.14982 -0.02379 0.15029 C -0.02604 0.16508 -0.029 0.18057 -0.03351 0.19329 C -0.03577 0.20832 -0.04184 0.23121 -0.04618 0.24416 C -0.04983 0.26774 -0.04705 0.25988 -0.05243 0.2719 C -0.05295 0.27491 -0.0533 0.27815 -0.05417 0.28161 C -0.05521 0.28647 -0.0566 0.2904 -0.05747 0.29503 C -0.0592 0.30612 -0.05886 0.31815 -0.06216 0.32901 C -0.06511 0.33872 -0.06875 0.34612 -0.0717 0.35583 C -0.07431 0.37503 -0.07882 0.38543 -0.08282 0.40254 C -0.08559 0.42635 -0.09566 0.44948 -0.10538 0.46057 C -0.10643 0.46404 -0.10764 0.46612 -0.10868 0.47029 C -0.10938 0.47329 -0.10903 0.47768 -0.11025 0.48023 C -0.11598 0.49248 -0.11823 0.49341 -0.12466 0.49711 C -0.12622 0.50011 -0.12778 0.50474 -0.12952 0.50751 C -0.13247 0.51237 -0.13889 0.52138 -0.13889 0.52161 C -0.14254 0.53341 -0.14532 0.53618 -0.15174 0.54127 C -0.15695 0.55722 -0.16528 0.56416 -0.17431 0.56809 C -0.18368 0.58381 -0.19219 0.58682 -0.20313 0.59514 C -0.21111 0.60716 -0.22674 0.60832 -0.23681 0.61202 C -0.24827 0.61965 -0.25886 0.62659 -0.27032 0.63237 C -0.28143 0.64948 -0.27223 0.63768 -0.28941 0.64901 C -0.29775 0.65456 -0.31216 0.67075 -0.31997 0.67213 C -0.33091 0.67583 -0.34236 0.67722 -0.35365 0.67907 C -0.35938 0.68763 -0.36459 0.69271 -0.37136 0.69595 C -0.37917 0.70913 -0.37778 0.71491 -0.38716 0.70959 C -0.40868 0.7126 -0.42639 0.71745 -0.44809 0.72069 C -0.45643 0.72624 -0.46337 0.73271 -0.47205 0.73595 C -0.48334 0.75491 -0.4974 0.74057 -0.51059 0.75052 C -0.54254 0.74913 -0.57448 0.75052 -0.6066 0.74682 C -0.61302 0.74635 -0.62917 0.73479 -0.63698 0.73341 C -0.6467 0.72809 -0.65538 0.72254 -0.66545 0.72069 C -0.675 0.70982 -0.67882 0.70936 -0.68976 0.70612 C -0.69462 0.69965 -0.69896 0.69618 -0.70382 0.69271 C -0.71198 0.67676 -0.72049 0.67167 -0.72986 0.66196 C -0.73247 0.65456 -0.73507 0.64647 -0.73768 0.63815 C -0.73976 0.63237 -0.74566 0.62127 -0.74566 0.62219 C -0.74792 0.60855 -0.75087 0.60185 -0.75556 0.59144 C -0.75816 0.57526 -0.76198 0.56462 -0.76667 0.55098 C -0.77361 0.52878 -0.76615 0.54566 -0.77309 0.53063 C -0.77361 0.5267 -0.77379 0.52208 -0.77466 0.51722 C -0.77552 0.51329 -0.77743 0.51167 -0.77795 0.50751 C -0.78525 0.45572 -0.77431 0.50589 -0.78264 0.47029 C -0.78455 0.45225 -0.78872 0.42982 -0.79375 0.41364 C -0.79896 0.36878 -0.79132 0.42612 -0.79844 0.39005 C -0.80122 0.37618 -0.80139 0.3667 -0.80677 0.35583 C -0.81163 0.32485 -0.80434 0.37017 -0.8099 0.33248 C -0.81077 0.32485 -0.81302 0.3119 -0.81302 0.31213 C -0.81528 0.2437 -0.81476 0.17248 -0.82257 0.10659 C -0.82344 0.07213 -0.81788 0.03375 -0.83525 0.02173 C -0.83577 0.01849 -0.83681 0.01549 -0.83681 0.01248 C -0.83646 0.00878 -0.83455 0.00809 -0.83368 0.00439 C -0.83334 0.0037 -0.83368 0.00277 -0.83368 0.00161 E">
                                      <p:cBhvr>
                                        <p:cTn id="212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</a:rPr>
              <a:t>ПЛАН РАБОТ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412640"/>
            <a:ext cx="885672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Times New Roman"/>
              </a:rPr>
              <a:t>1.Прочитайте предложения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Times New Roman"/>
              </a:rPr>
              <a:t>2.В скобках запишите вопрос к глаголу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Times New Roman"/>
              </a:rPr>
              <a:t>3.Определите, когда, относительно момента      речи, происходит действ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5880" y="24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Тема: Изменение глаголов по времена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5"/>
          <p:cNvPicPr/>
          <p:nvPr/>
        </p:nvPicPr>
        <p:blipFill>
          <a:blip r:embed="rId1"/>
          <a:stretch/>
        </p:blipFill>
        <p:spPr>
          <a:xfrm flipH="1">
            <a:off x="4743360" y="0"/>
            <a:ext cx="39276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264960" y="135000"/>
            <a:ext cx="4235760" cy="343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3"/>
          <a:stretch/>
        </p:blipFill>
        <p:spPr>
          <a:xfrm>
            <a:off x="5076720" y="907920"/>
            <a:ext cx="3888000" cy="5257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4"/>
          <a:stretch/>
        </p:blipFill>
        <p:spPr>
          <a:xfrm>
            <a:off x="264960" y="3645000"/>
            <a:ext cx="4235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395280" y="404640"/>
            <a:ext cx="8137440" cy="46080"/>
          </a:xfrm>
          <a:prstGeom prst="rect">
            <a:avLst/>
          </a:prstGeom>
        </p:spPr>
        <p:txBody>
          <a:bodyPr wrap="none" lIns="90000" rIns="90000" tIns="-360" bIns="-360" anchor="t" anchorCtr="1">
            <a:prstTxWarp prst="textPlain">
              <a:avLst>
                <a:gd name="adj" fmla="val 3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ffff99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ffff99"/>
                  </a:gs>
                  <a:gs pos="100000">
                    <a:srgbClr val="3333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3419640" y="256536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стояще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9640" y="2637000"/>
            <a:ext cx="27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шедше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6877800" y="2565360"/>
            <a:ext cx="20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дуще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779280" y="350028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мент ре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665280" y="445140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та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3924360" y="4483080"/>
            <a:ext cx="14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та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6158880" y="450864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ду чит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5"/>
          <p:cNvSpPr/>
          <p:nvPr/>
        </p:nvSpPr>
        <p:spPr>
          <a:xfrm>
            <a:off x="140328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4572000" y="38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7"/>
          <p:cNvSpPr/>
          <p:nvPr/>
        </p:nvSpPr>
        <p:spPr>
          <a:xfrm>
            <a:off x="7738920" y="3789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24" descr="lines21"/>
          <p:cNvPicPr/>
          <p:nvPr/>
        </p:nvPicPr>
        <p:blipFill>
          <a:blip r:embed="rId1"/>
          <a:stretch/>
        </p:blipFill>
        <p:spPr>
          <a:xfrm>
            <a:off x="4643280" y="3357720"/>
            <a:ext cx="4000680" cy="104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5" descr="lines21"/>
          <p:cNvPicPr/>
          <p:nvPr/>
        </p:nvPicPr>
        <p:blipFill>
          <a:blip r:embed="rId2"/>
          <a:stretch/>
        </p:blipFill>
        <p:spPr>
          <a:xfrm>
            <a:off x="395280" y="3357720"/>
            <a:ext cx="4000680" cy="10476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5"/>
          <p:cNvSpPr/>
          <p:nvPr/>
        </p:nvSpPr>
        <p:spPr>
          <a:xfrm>
            <a:off x="4356000" y="3284640"/>
            <a:ext cx="287280" cy="215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31">
            <a:hlinkClick r:id="rId3" action="ppaction://hlinksldjump"/>
          </p:cNvPr>
          <p:cNvSpPr/>
          <p:nvPr/>
        </p:nvSpPr>
        <p:spPr>
          <a:xfrm>
            <a:off x="7846920" y="6497640"/>
            <a:ext cx="1297080" cy="360360"/>
          </a:xfrm>
          <a:custGeom>
            <a:avLst/>
            <a:gdLst>
              <a:gd name="textAreaLeft" fmla="*/ 23040 w 1297080"/>
              <a:gd name="textAreaRight" fmla="*/ 1274040 w 1297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7691" h="21600">
                <a:moveTo>
                  <a:pt x="0" y="0"/>
                </a:moveTo>
                <a:lnTo>
                  <a:pt x="77691" y="0"/>
                </a:lnTo>
                <a:lnTo>
                  <a:pt x="77691" y="21600"/>
                </a:lnTo>
                <a:lnTo>
                  <a:pt x="0" y="21600"/>
                </a:lnTo>
                <a:close/>
              </a:path>
              <a:path fill="lightenLess" w="77691" h="21600">
                <a:moveTo>
                  <a:pt x="0" y="0"/>
                </a:moveTo>
                <a:lnTo>
                  <a:pt x="77691" y="0"/>
                </a:lnTo>
                <a:lnTo>
                  <a:pt x="76291" y="1400"/>
                </a:lnTo>
                <a:lnTo>
                  <a:pt x="1400" y="1400"/>
                </a:lnTo>
                <a:close/>
              </a:path>
              <a:path fill="darken" w="77691" h="21600">
                <a:moveTo>
                  <a:pt x="77691" y="0"/>
                </a:moveTo>
                <a:lnTo>
                  <a:pt x="77691" y="21600"/>
                </a:lnTo>
                <a:lnTo>
                  <a:pt x="76291" y="20200"/>
                </a:lnTo>
                <a:lnTo>
                  <a:pt x="76291" y="1400"/>
                </a:lnTo>
                <a:close/>
              </a:path>
              <a:path fill="darkenLess" w="77691" h="21600">
                <a:moveTo>
                  <a:pt x="77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91" y="20200"/>
                </a:lnTo>
                <a:close/>
              </a:path>
              <a:path fill="lighten" w="77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91" h="21600">
                <a:moveTo>
                  <a:pt x="31839" y="10800"/>
                </a:moveTo>
                <a:lnTo>
                  <a:pt x="45852" y="3794"/>
                </a:lnTo>
                <a:lnTo>
                  <a:pt x="4585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2" descr="002"/>
          <p:cNvPicPr/>
          <p:nvPr/>
        </p:nvPicPr>
        <p:blipFill>
          <a:blip r:embed="rId4"/>
          <a:stretch/>
        </p:blipFill>
        <p:spPr>
          <a:xfrm>
            <a:off x="8101080" y="5950080"/>
            <a:ext cx="718920" cy="538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5"/>
          <a:stretch/>
        </p:blipFill>
        <p:spPr>
          <a:xfrm>
            <a:off x="6346800" y="5092560"/>
            <a:ext cx="2584440" cy="1914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6"/>
          <a:stretch/>
        </p:blipFill>
        <p:spPr>
          <a:xfrm>
            <a:off x="2075040" y="404640"/>
            <a:ext cx="49924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3,-52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86,-57,8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3,-52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86,-57,8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6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74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74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3,-52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86,-57,8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3,-52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86,-57,8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2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98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48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3,-52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86,-57,8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3,-52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86,-57,8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Уж тает снег, бегут ручьи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В окно повеяло весною …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Засвищут скоро соловьи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И лес оденется листвою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Содержимое 5" descr="1270724947_19636042_1204725540_lazarenko_vt_vesna.jpg"/>
          <p:cNvPicPr/>
          <p:nvPr/>
        </p:nvPicPr>
        <p:blipFill>
          <a:blip r:embed="rId1"/>
          <a:stretch/>
        </p:blipFill>
        <p:spPr>
          <a:xfrm>
            <a:off x="642960" y="2428920"/>
            <a:ext cx="785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Прошедшее время</a:t>
            </a:r>
            <a:br>
              <a:rPr sz="5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то делал? Что сделал?</a:t>
            </a: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Настоящее врем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делает? что делают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Будущее врем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будет делать? Что сделает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6C9C-90F0-4518-B54A-ACF2D9C17F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лгоритм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771640" y="1447920"/>
            <a:ext cx="3456000" cy="54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й вопр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95280" y="2276640"/>
            <a:ext cx="2087640" cy="57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дела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95280" y="4653000"/>
            <a:ext cx="2592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тоящее 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6804000" y="2349360"/>
            <a:ext cx="208764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дела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3348000" y="4653000"/>
            <a:ext cx="26622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ущее 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3059280" y="2637000"/>
            <a:ext cx="2736720" cy="1079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будет дела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сдела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6516720" y="4653000"/>
            <a:ext cx="251928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шедшее 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2"/>
          <p:cNvSpPr/>
          <p:nvPr/>
        </p:nvSpPr>
        <p:spPr>
          <a:xfrm flipH="1">
            <a:off x="1331640" y="1628640"/>
            <a:ext cx="1368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3"/>
          <p:cNvSpPr/>
          <p:nvPr/>
        </p:nvSpPr>
        <p:spPr>
          <a:xfrm>
            <a:off x="4356000" y="198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 flipH="1">
            <a:off x="1476000" y="2852640"/>
            <a:ext cx="36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6227640" y="1700280"/>
            <a:ext cx="17290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"/>
          <p:cNvSpPr/>
          <p:nvPr/>
        </p:nvSpPr>
        <p:spPr>
          <a:xfrm flipH="1">
            <a:off x="4356000" y="3716280"/>
            <a:ext cx="367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7"/>
          <p:cNvSpPr/>
          <p:nvPr/>
        </p:nvSpPr>
        <p:spPr>
          <a:xfrm flipH="1">
            <a:off x="7885080" y="2997360"/>
            <a:ext cx="3672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47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57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67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95280" y="1043640"/>
            <a:ext cx="568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Georgia"/>
              </a:rPr>
              <a:t>«Учись, смекай, активней будь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Georgia"/>
              </a:rPr>
              <a:t>И к знаниям откроешь путь!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857680" y="3786120"/>
            <a:ext cx="3000240" cy="264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j0435773"/>
          <p:cNvPicPr/>
          <p:nvPr/>
        </p:nvPicPr>
        <p:blipFill>
          <a:blip r:embed="rId2"/>
          <a:stretch/>
        </p:blipFill>
        <p:spPr>
          <a:xfrm>
            <a:off x="6858000" y="785880"/>
            <a:ext cx="1714680" cy="314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05D8-5AE3-41B2-AE41-005829FA44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авьте вместо многоточ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ов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я    …             сочи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я    …             сочи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я    …             сочи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я    …   …      сочи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867280" y="1599840"/>
            <a:ext cx="281952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написа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пиш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напиш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будет пис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608472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0" y="1383480"/>
            <a:ext cx="8786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 Читать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гол неопределённой форм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а  Н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 Прыгают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гол единственного числа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а Н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 Цветёт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гол настоящего времени?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а Н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 Милый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о глагол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а Не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 Варил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глагол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а  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юч к тест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928800" y="1428840"/>
          <a:ext cx="7643880" cy="3643200"/>
        </p:xfrm>
        <a:graphic>
          <a:graphicData uri="http://schemas.openxmlformats.org/drawingml/2006/table">
            <a:tbl>
              <a:tblPr/>
              <a:tblGrid>
                <a:gridCol w="1528560"/>
                <a:gridCol w="1528920"/>
                <a:gridCol w="1528560"/>
                <a:gridCol w="1528920"/>
                <a:gridCol w="1528920"/>
              </a:tblGrid>
              <a:tr h="1822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820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324000" y="176040"/>
            <a:ext cx="7920000" cy="6677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. Глаголы в настоящем времени отвечают на вопрос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)Кто?Что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Б) Что делает? Что делают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)Что делал?Что сделал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Рукописные данные 2" descr=""/>
          <p:cNvPicPr/>
          <p:nvPr/>
        </p:nvPicPr>
        <p:blipFill>
          <a:blip r:embed="rId1"/>
          <a:stretch/>
        </p:blipFill>
        <p:spPr>
          <a:xfrm>
            <a:off x="458640" y="3892680"/>
            <a:ext cx="7448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324000" y="333360"/>
            <a:ext cx="8569080" cy="5854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. Глаголы в будущем времени отвечают на вопросы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) Что делает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Б)Что делал? Что сделал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)Ч то будет делать? Что сделает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Рукописные данные 2" descr=""/>
          <p:cNvPicPr/>
          <p:nvPr/>
        </p:nvPicPr>
        <p:blipFill>
          <a:blip r:embed="rId1"/>
          <a:stretch/>
        </p:blipFill>
        <p:spPr>
          <a:xfrm>
            <a:off x="517680" y="4483080"/>
            <a:ext cx="65232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"/>
          <p:cNvSpPr/>
          <p:nvPr/>
        </p:nvSpPr>
        <p:spPr>
          <a:xfrm>
            <a:off x="214200" y="1285920"/>
            <a:ext cx="8715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писчиснитое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чистописание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2928960" y="3713040"/>
            <a:ext cx="2857320" cy="3143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611280" y="549360"/>
            <a:ext cx="8064360" cy="5854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.Глаголы в прошедшем времени отвечают на вопрос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) Что делает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Б)Что делал?Что сделал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)Что будет делать? Что сделает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Рукописные данные 2" descr=""/>
          <p:cNvPicPr/>
          <p:nvPr/>
        </p:nvPicPr>
        <p:blipFill>
          <a:blip r:embed="rId1"/>
          <a:stretch/>
        </p:blipFill>
        <p:spPr>
          <a:xfrm>
            <a:off x="839880" y="3830760"/>
            <a:ext cx="7412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3"/>
          <p:cNvSpPr txBox="1"/>
          <p:nvPr/>
        </p:nvSpPr>
        <p:spPr>
          <a:xfrm>
            <a:off x="1762200" y="1195560"/>
            <a:ext cx="6194520" cy="424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Times New Roman"/>
              </a:rPr>
              <a:t>физкультминут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Times New Roman"/>
              <a:ea typeface="Times New Roman"/>
            </a:endParaRPr>
          </a:p>
        </p:txBody>
      </p:sp>
    </p:spTree>
  </p:cSld>
  <p:transition spd="med">
    <p:checker dir="ver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571680" y="2714760"/>
            <a:ext cx="607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Пп      Сс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14200" y="3714840"/>
          <a:ext cx="8715600" cy="1401840"/>
        </p:xfrm>
        <a:graphic>
          <a:graphicData uri="http://schemas.openxmlformats.org/drawingml/2006/table">
            <a:tbl>
              <a:tblPr/>
              <a:tblGrid>
                <a:gridCol w="2648160"/>
                <a:gridCol w="2495520"/>
                <a:gridCol w="3571920"/>
              </a:tblGrid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рання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вес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наступае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5"/>
          <p:cNvSpPr/>
          <p:nvPr/>
        </p:nvSpPr>
        <p:spPr>
          <a:xfrm>
            <a:off x="571680" y="5500800"/>
            <a:ext cx="392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Г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15"/>
          <p:cNvGraphicFramePr/>
          <p:nvPr/>
        </p:nvGraphicFramePr>
        <p:xfrm>
          <a:off x="7674120" y="404640"/>
          <a:ext cx="136188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412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16"/>
          <p:cNvGraphicFramePr/>
          <p:nvPr/>
        </p:nvGraphicFramePr>
        <p:xfrm>
          <a:off x="6156360" y="404640"/>
          <a:ext cx="1361880" cy="21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14"/>
          <p:cNvGraphicFramePr/>
          <p:nvPr/>
        </p:nvGraphicFramePr>
        <p:xfrm>
          <a:off x="4643280" y="404640"/>
          <a:ext cx="13622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11"/>
          <p:cNvGraphicFramePr/>
          <p:nvPr/>
        </p:nvGraphicFramePr>
        <p:xfrm>
          <a:off x="3132000" y="404640"/>
          <a:ext cx="1362240" cy="219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12"/>
          <p:cNvGraphicFramePr/>
          <p:nvPr/>
        </p:nvGraphicFramePr>
        <p:xfrm>
          <a:off x="1625760" y="404640"/>
          <a:ext cx="1361880" cy="219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57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3"/>
          <p:cNvGraphicFramePr/>
          <p:nvPr/>
        </p:nvGraphicFramePr>
        <p:xfrm>
          <a:off x="114480" y="404640"/>
          <a:ext cx="1361880" cy="2190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8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9"/>
          <p:cNvGraphicFramePr/>
          <p:nvPr/>
        </p:nvGraphicFramePr>
        <p:xfrm>
          <a:off x="142920" y="404640"/>
          <a:ext cx="1333440" cy="2152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2920" y="404640"/>
                    <a:ext cx="133344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076640"/>
            <a:ext cx="85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 это часть речи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2920" y="3882600"/>
            <a:ext cx="67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Что такое глагол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7674120" y="404640"/>
          <a:ext cx="136188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412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"/>
          <p:cNvGraphicFramePr/>
          <p:nvPr/>
        </p:nvGraphicFramePr>
        <p:xfrm>
          <a:off x="6156360" y="404640"/>
          <a:ext cx="1361880" cy="21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4"/>
          <p:cNvGraphicFramePr/>
          <p:nvPr/>
        </p:nvGraphicFramePr>
        <p:xfrm>
          <a:off x="4643280" y="404640"/>
          <a:ext cx="13622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5"/>
          <p:cNvGraphicFramePr/>
          <p:nvPr/>
        </p:nvGraphicFramePr>
        <p:xfrm>
          <a:off x="3132000" y="404640"/>
          <a:ext cx="1362240" cy="219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7"/>
          <p:cNvGraphicFramePr/>
          <p:nvPr/>
        </p:nvGraphicFramePr>
        <p:xfrm>
          <a:off x="114480" y="404640"/>
          <a:ext cx="1361880" cy="219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48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2"/>
          <p:cNvGraphicFramePr/>
          <p:nvPr/>
        </p:nvGraphicFramePr>
        <p:xfrm>
          <a:off x="142920" y="404640"/>
          <a:ext cx="1333440" cy="215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2920" y="404640"/>
                    <a:ext cx="133344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3789000"/>
            <a:ext cx="7448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 обозначает действие предмета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68360" y="46530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Что обозначает глагол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6"/>
          <p:cNvGraphicFramePr/>
          <p:nvPr/>
        </p:nvGraphicFramePr>
        <p:xfrm>
          <a:off x="1619280" y="404640"/>
          <a:ext cx="1361880" cy="219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1928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3"/>
          <p:cNvGraphicFramePr/>
          <p:nvPr/>
        </p:nvGraphicFramePr>
        <p:xfrm>
          <a:off x="1619280" y="404640"/>
          <a:ext cx="1343160" cy="2152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1928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7674120" y="404640"/>
          <a:ext cx="136188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412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3"/>
          <p:cNvGraphicFramePr/>
          <p:nvPr/>
        </p:nvGraphicFramePr>
        <p:xfrm>
          <a:off x="6156360" y="404640"/>
          <a:ext cx="1361880" cy="21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4"/>
          <p:cNvGraphicFramePr/>
          <p:nvPr/>
        </p:nvGraphicFramePr>
        <p:xfrm>
          <a:off x="4643280" y="404640"/>
          <a:ext cx="13622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5"/>
          <p:cNvGraphicFramePr/>
          <p:nvPr/>
        </p:nvGraphicFramePr>
        <p:xfrm>
          <a:off x="3132000" y="404640"/>
          <a:ext cx="1362240" cy="219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6"/>
          <p:cNvGraphicFramePr/>
          <p:nvPr/>
        </p:nvGraphicFramePr>
        <p:xfrm>
          <a:off x="1625760" y="404640"/>
          <a:ext cx="1361880" cy="219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57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7"/>
          <p:cNvGraphicFramePr/>
          <p:nvPr/>
        </p:nvGraphicFramePr>
        <p:xfrm>
          <a:off x="114480" y="404640"/>
          <a:ext cx="1361880" cy="2190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8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1"/>
          <p:cNvGraphicFramePr/>
          <p:nvPr/>
        </p:nvGraphicFramePr>
        <p:xfrm>
          <a:off x="3132000" y="404640"/>
          <a:ext cx="1343160" cy="2152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6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200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2"/>
          <p:cNvGraphicFramePr/>
          <p:nvPr/>
        </p:nvGraphicFramePr>
        <p:xfrm>
          <a:off x="142920" y="404640"/>
          <a:ext cx="1333440" cy="2152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2920" y="404640"/>
                    <a:ext cx="133344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3"/>
          <p:cNvGraphicFramePr/>
          <p:nvPr/>
        </p:nvGraphicFramePr>
        <p:xfrm>
          <a:off x="1619280" y="404640"/>
          <a:ext cx="1343160" cy="2152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0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1928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78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Глагол отвечает на вопросы что делает? что сделает? что делать? что сделать? что делал? что будет делать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На какие вопросы отвечает глагол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7674120" y="404640"/>
          <a:ext cx="136188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412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3"/>
          <p:cNvGraphicFramePr/>
          <p:nvPr/>
        </p:nvGraphicFramePr>
        <p:xfrm>
          <a:off x="6156360" y="404640"/>
          <a:ext cx="1361880" cy="21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4"/>
          <p:cNvGraphicFramePr/>
          <p:nvPr/>
        </p:nvGraphicFramePr>
        <p:xfrm>
          <a:off x="4643280" y="404640"/>
          <a:ext cx="13622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5"/>
          <p:cNvGraphicFramePr/>
          <p:nvPr/>
        </p:nvGraphicFramePr>
        <p:xfrm>
          <a:off x="3132000" y="404640"/>
          <a:ext cx="1362240" cy="219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6"/>
          <p:cNvGraphicFramePr/>
          <p:nvPr/>
        </p:nvGraphicFramePr>
        <p:xfrm>
          <a:off x="1625760" y="404640"/>
          <a:ext cx="1361880" cy="219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57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7"/>
          <p:cNvGraphicFramePr/>
          <p:nvPr/>
        </p:nvGraphicFramePr>
        <p:xfrm>
          <a:off x="114480" y="404640"/>
          <a:ext cx="1361880" cy="2190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8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8"/>
          <p:cNvGraphicFramePr/>
          <p:nvPr/>
        </p:nvGraphicFramePr>
        <p:xfrm>
          <a:off x="4668840" y="404640"/>
          <a:ext cx="1343160" cy="2162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68840" y="404640"/>
                    <a:ext cx="1343160" cy="21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1"/>
          <p:cNvGraphicFramePr/>
          <p:nvPr/>
        </p:nvGraphicFramePr>
        <p:xfrm>
          <a:off x="3132000" y="404640"/>
          <a:ext cx="1343160" cy="2152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3200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12"/>
          <p:cNvGraphicFramePr/>
          <p:nvPr/>
        </p:nvGraphicFramePr>
        <p:xfrm>
          <a:off x="142920" y="404640"/>
          <a:ext cx="1333440" cy="2152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0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2920" y="404640"/>
                    <a:ext cx="133344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3"/>
          <p:cNvGraphicFramePr/>
          <p:nvPr/>
        </p:nvGraphicFramePr>
        <p:xfrm>
          <a:off x="1619280" y="404640"/>
          <a:ext cx="1343160" cy="2152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2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1928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076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  <a:ea typeface="Times New Roman"/>
              </a:rPr>
              <a:t>В предложении глагол чаще всего бывает сказуемы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23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Georgia"/>
              </a:rPr>
              <a:t>Каким членом предложения являются глаголы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7674120" y="404640"/>
          <a:ext cx="136188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412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3"/>
          <p:cNvGraphicFramePr/>
          <p:nvPr/>
        </p:nvGraphicFramePr>
        <p:xfrm>
          <a:off x="6156360" y="404640"/>
          <a:ext cx="1361880" cy="21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4"/>
          <p:cNvGraphicFramePr/>
          <p:nvPr/>
        </p:nvGraphicFramePr>
        <p:xfrm>
          <a:off x="4643280" y="404640"/>
          <a:ext cx="13622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5"/>
          <p:cNvGraphicFramePr/>
          <p:nvPr/>
        </p:nvGraphicFramePr>
        <p:xfrm>
          <a:off x="3132000" y="404640"/>
          <a:ext cx="1362240" cy="219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6"/>
          <p:cNvGraphicFramePr/>
          <p:nvPr/>
        </p:nvGraphicFramePr>
        <p:xfrm>
          <a:off x="1625760" y="404640"/>
          <a:ext cx="1361880" cy="219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57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7"/>
          <p:cNvGraphicFramePr/>
          <p:nvPr/>
        </p:nvGraphicFramePr>
        <p:xfrm>
          <a:off x="114480" y="404640"/>
          <a:ext cx="1361880" cy="2190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8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8"/>
          <p:cNvGraphicFramePr/>
          <p:nvPr/>
        </p:nvGraphicFramePr>
        <p:xfrm>
          <a:off x="4668840" y="404640"/>
          <a:ext cx="1343160" cy="2162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68840" y="404640"/>
                    <a:ext cx="1343160" cy="21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0"/>
          <p:cNvGraphicFramePr/>
          <p:nvPr/>
        </p:nvGraphicFramePr>
        <p:xfrm>
          <a:off x="6156360" y="404640"/>
          <a:ext cx="1343160" cy="2152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5636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1"/>
          <p:cNvGraphicFramePr/>
          <p:nvPr/>
        </p:nvGraphicFramePr>
        <p:xfrm>
          <a:off x="3132000" y="404640"/>
          <a:ext cx="1343160" cy="2152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3200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2"/>
          <p:cNvGraphicFramePr/>
          <p:nvPr/>
        </p:nvGraphicFramePr>
        <p:xfrm>
          <a:off x="142920" y="404640"/>
          <a:ext cx="1333440" cy="2152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4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2920" y="404640"/>
                    <a:ext cx="133344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3"/>
          <p:cNvGraphicFramePr/>
          <p:nvPr/>
        </p:nvGraphicFramePr>
        <p:xfrm>
          <a:off x="1619280" y="404640"/>
          <a:ext cx="1343160" cy="215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6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1928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386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Неопределённая форма глагола это начальная форма глагола. Отвечает на вопросы что делать? что сделат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39640" y="3886200"/>
            <a:ext cx="80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Georgia"/>
              </a:rPr>
              <a:t>Что такое неопределённая форма глагола и на какие вопросы отвечает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</cp:lastModifiedBy>
  <dcterms:modified xsi:type="dcterms:W3CDTF">2014-04-28T16:30:26Z</dcterms:modified>
  <cp:revision>55</cp:revision>
  <dc:subject/>
  <dc:title>PowerPoint Presentation</dc:title>
</cp:coreProperties>
</file>