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4.jpeg" ContentType="image/jpeg"/>
  <Override PartName="/ppt/media/image65.jpeg" ContentType="image/jpeg"/>
  <Override PartName="/ppt/media/image39.jpeg" ContentType="image/jpeg"/>
  <Override PartName="/ppt/media/image5.jpeg" ContentType="image/jpeg"/>
  <Override PartName="/ppt/media/image62.jpeg" ContentType="image/jpeg"/>
  <Override PartName="/ppt/media/image13.jpeg" ContentType="image/jpeg"/>
  <Override PartName="/ppt/media/image40.jpeg" ContentType="image/jpeg"/>
  <Override PartName="/ppt/media/image34.png" ContentType="image/png"/>
  <Override PartName="/ppt/media/image12.jpeg" ContentType="image/jpeg"/>
  <Override PartName="/ppt/media/image24.png" ContentType="image/png"/>
  <Override PartName="/ppt/media/image41.jpeg" ContentType="image/jpeg"/>
  <Override PartName="/ppt/media/image14.jpeg" ContentType="image/jpeg"/>
  <Override PartName="/ppt/media/image15.jpeg" ContentType="image/jpeg"/>
  <Override PartName="/ppt/media/image64.jpeg" ContentType="image/jpeg"/>
  <Override PartName="/ppt/media/image4.png" ContentType="image/png"/>
  <Override PartName="/ppt/media/image7.jpeg" ContentType="image/jpeg"/>
  <Override PartName="/ppt/media/image38.jpeg" ContentType="image/jpeg"/>
  <Override PartName="/ppt/media/image8.jpeg" ContentType="image/jpeg"/>
  <Override PartName="/ppt/media/image26.png" ContentType="image/png"/>
  <Override PartName="/ppt/media/image55.jpeg" ContentType="image/jpeg"/>
  <Override PartName="/ppt/media/image53.jpeg" ContentType="image/jpeg"/>
  <Override PartName="/ppt/media/image23.png" ContentType="image/png"/>
  <Override PartName="/ppt/media/image3.png" ContentType="image/png"/>
  <Override PartName="/ppt/media/image56.jpeg" ContentType="image/jpeg"/>
  <Override PartName="/ppt/media/image17.jpeg" ContentType="image/jpeg"/>
  <Override PartName="/ppt/media/image61.jpeg" ContentType="image/jpeg"/>
  <Override PartName="/ppt/media/image16.jpeg" ContentType="image/jpeg"/>
  <Override PartName="/ppt/media/image60.jpeg" ContentType="image/jpeg"/>
  <Override PartName="/ppt/media/image2.png" ContentType="image/png"/>
  <Override PartName="/ppt/media/image25.png" ContentType="image/png"/>
  <Override PartName="/ppt/media/image19.jpeg" ContentType="image/jpeg"/>
  <Override PartName="/ppt/media/image21.jpeg" ContentType="image/jpeg"/>
  <Override PartName="/ppt/media/image22.png" ContentType="image/png"/>
  <Override PartName="/ppt/media/image29.png" ContentType="image/png"/>
  <Override PartName="/ppt/media/image63.jpeg" ContentType="image/jpeg"/>
  <Override PartName="/ppt/media/image6.jpeg" ContentType="image/jpeg"/>
  <Override PartName="/ppt/media/image18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36.jpeg" ContentType="image/jpeg"/>
  <Override PartName="/ppt/media/image37.jpeg" ContentType="image/jpeg"/>
  <Override PartName="/ppt/media/image20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5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1.png" ContentType="image/pn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0FB9-46AC-4CE6-AE7D-FE6E7D38C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8739-F3B0-4E09-ADE1-6CC8BA17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12BB-DB71-40D1-9886-2A32A8BC1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3F97-4CD1-4C70-9586-EA0FFA1D8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4350-5E8A-4B27-B815-27477BD23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65E6-D61D-4B9C-9650-C8735FB0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A895-80AA-45D9-9F61-8A8677E0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56DC-C0C5-4193-B62E-1430C17D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C84A-245C-41CA-8ED8-FEC32C52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0D2A-C058-496F-8087-8B95D931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779F-D2BB-4910-AB7F-90FB8D45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CAF1-DA73-44FB-BF31-8FE5D635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0988-8CB1-4B1B-848C-8D982E41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8933-928A-449A-A77F-67CF0BBD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D55E-3EC2-4DD0-BA04-DB0E4FFF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6DC0-521B-4740-BB2A-56FAF1C58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0A45-63B5-4DA9-A4EA-8E75E730F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3847-B81A-48CB-BCEC-2F341743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F3F7-3F77-47BD-9AA1-1256ECDC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C39F-3E77-48C4-AF2B-74692563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6BF3-00DD-4440-878B-77935951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93B4-1E4E-4FB2-BB15-D58A495E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15D7-EE77-4A35-BCF9-E2F32DC5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2AD7-DA5E-40F3-90D0-D0419C70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8EC9-6520-4305-85F3-55EDB6EA405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9F3C-27F0-42B2-A212-AB8963B16BF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Молодежь против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5418000"/>
            <a:ext cx="64008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692360" y="2895480"/>
            <a:ext cx="583236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ANd9GcSueoMhfucgKNCc8d-3caWRqYRqsBVMNn3mvy_NLTVMnAkJk9hgXNohQ4o"/>
          <p:cNvPicPr/>
          <p:nvPr/>
        </p:nvPicPr>
        <p:blipFill>
          <a:blip r:embed="rId1"/>
          <a:stretch/>
        </p:blipFill>
        <p:spPr>
          <a:xfrm>
            <a:off x="539640" y="981000"/>
            <a:ext cx="3816360" cy="4969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ANd9GcQu7i5Nu88-yvya8X53KLuZgjwp9Q55yJWl5yZE3r9QhDTW6oVjvMoMyl4"/>
          <p:cNvPicPr/>
          <p:nvPr/>
        </p:nvPicPr>
        <p:blipFill>
          <a:blip r:embed="rId2"/>
          <a:stretch/>
        </p:blipFill>
        <p:spPr>
          <a:xfrm>
            <a:off x="5219640" y="907920"/>
            <a:ext cx="36003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5" descr="ANd9GcS0aDTFVuVXKTMzFPux0TgGGerNK8pokFexDbSIcSEeHI-JObvY"/>
          <p:cNvPicPr/>
          <p:nvPr/>
        </p:nvPicPr>
        <p:blipFill>
          <a:blip r:embed="rId1"/>
          <a:stretch/>
        </p:blipFill>
        <p:spPr>
          <a:xfrm>
            <a:off x="611280" y="476280"/>
            <a:ext cx="4321080" cy="3097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ANd9GcTzmBnHdVkTqp_oxk8HG4rW9bsisTAXtFs1woVCPrGODqW87tDO"/>
          <p:cNvPicPr/>
          <p:nvPr/>
        </p:nvPicPr>
        <p:blipFill>
          <a:blip r:embed="rId2"/>
          <a:stretch/>
        </p:blipFill>
        <p:spPr>
          <a:xfrm>
            <a:off x="3564000" y="3860640"/>
            <a:ext cx="47530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5" descr="ANd9GcQSihAnVM0XhKtvXobffnyxUIByhKL4cGO7wrXhIaTP1F15uGdE"/>
          <p:cNvPicPr/>
          <p:nvPr/>
        </p:nvPicPr>
        <p:blipFill>
          <a:blip r:embed="rId1"/>
          <a:stretch/>
        </p:blipFill>
        <p:spPr>
          <a:xfrm>
            <a:off x="539640" y="404640"/>
            <a:ext cx="8209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ANd9GcQAnhcuiYxYEH8RJdXIh_jb8kcVzl-aot4G3WQD_iSHMmhxGdUe"/>
          <p:cNvPicPr/>
          <p:nvPr/>
        </p:nvPicPr>
        <p:blipFill>
          <a:blip r:embed="rId1"/>
          <a:stretch/>
        </p:blipFill>
        <p:spPr>
          <a:xfrm>
            <a:off x="468360" y="333360"/>
            <a:ext cx="835164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259920"/>
            <a:ext cx="8229600" cy="589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МЕДИЦИНСКИЙ 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БЛОК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3514680" y="2347920"/>
            <a:ext cx="211464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7"/>
          <p:cNvSpPr/>
          <p:nvPr/>
        </p:nvSpPr>
        <p:spPr>
          <a:xfrm>
            <a:off x="3514680" y="2347920"/>
            <a:ext cx="211464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9" descr="ANd9GcQ3Ra00tZgmgRNt89bk_EP6GaOD3pLykeru4JECTENy3ez2glzt4w"/>
          <p:cNvPicPr/>
          <p:nvPr/>
        </p:nvPicPr>
        <p:blipFill>
          <a:blip r:embed="rId1"/>
          <a:stretch/>
        </p:blipFill>
        <p:spPr>
          <a:xfrm>
            <a:off x="1908000" y="3573360"/>
            <a:ext cx="5256360" cy="3024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1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498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998"/>
                            </p:stCondLst>
                            <p:childTnLst>
                              <p:par>
                                <p:cTn id="1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ВИ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рус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мунодефицит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Ч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ловека, вызывающий заболевание — ВИЧ-инфекцию, последняя стадия которой известна как Синдром Приобретённого ИммуноДефицита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(СПИД)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5" descr="ANd9GcTDBtbpfPLbghVLQqSk5IB3ue6Y0K1RdwmrTj02B0hF8-mRKFkvSg"/>
          <p:cNvPicPr/>
          <p:nvPr/>
        </p:nvPicPr>
        <p:blipFill>
          <a:blip r:embed="rId4"/>
          <a:stretch/>
        </p:blipFill>
        <p:spPr>
          <a:xfrm>
            <a:off x="6156360" y="105264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305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2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5" descr="viewer?pid=explorer&amp;srcid=0B0v8CUyl0tskOGRjMDY1ODMtZWRhMC00MDAyLTkzNjQtZmY2ZjExYzhlZGE4&amp;docid=c00b171ead648259e6d9e7089825d8f6%7C11662594393f95d4ff973469906cfec1&amp;a=bi&amp;pagenumber=18&amp;w=8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5" descr="viewer?pid=explorer&amp;srcid=0B0v8CUyl0tskOGRjMDY1ODMtZWRhMC00MDAyLTkzNjQtZmY2ZjExYzhlZGE4&amp;docid=c00b171ead648259e6d9e7089825d8f6%7C11662594393f95d4ff973469906cfec1&amp;a=bi&amp;pagenumber=21&amp;w=8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5" descr="viewer?pid=explorer&amp;srcid=0B0v8CUyl0tskOGRjMDY1ODMtZWRhMC00MDAyLTkzNjQtZmY2ZjExYzhlZGE4&amp;docid=c00b171ead648259e6d9e7089825d8f6%7C11662594393f95d4ff973469906cfec1&amp;a=bi&amp;pagenumber=23&amp;w=800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5" descr="viewer?pid=explorer&amp;srcid=0B0v8CUyl0tskOGRjMDY1ODMtZWRhMC00MDAyLTkzNjQtZmY2ZjExYzhlZGE4&amp;docid=c00b171ead648259e6d9e7089825d8f6%7C11662594393f95d4ff973469906cfec1&amp;a=bi&amp;pagenumber=24&amp;w=800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496000" cy="6048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508"/>
                </a:solidFill>
                <a:latin typeface="Arial"/>
              </a:rPr>
              <a:t>1 декабря - день борьбы </a:t>
            </a:r>
            <a:br>
              <a:rPr sz="7200"/>
            </a:br>
            <a:r>
              <a:rPr b="0" lang="ru-RU" sz="7200" spc="-1" strike="noStrike">
                <a:solidFill>
                  <a:srgbClr val="000508"/>
                </a:solidFill>
                <a:latin typeface="Arial"/>
              </a:rPr>
              <a:t>со СПИД / ВИЧ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403280" y="5189760"/>
            <a:ext cx="6400800" cy="40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5" descr="viewer?pid=explorer&amp;srcid=0B0v8CUyl0tskOGRjMDY1ODMtZWRhMC00MDAyLTkzNjQtZmY2ZjExYzhlZGE4&amp;docid=c00b171ead648259e6d9e7089825d8f6%7C11662594393f95d4ff973469906cfec1&amp;a=bi&amp;pagenumber=28&amp;w=8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Arial Black"/>
              </a:rPr>
              <a:t>Наркомания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7"/>
          <p:cNvSpPr/>
          <p:nvPr/>
        </p:nvSpPr>
        <p:spPr>
          <a:xfrm>
            <a:off x="3386160" y="2467080"/>
            <a:ext cx="237168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9"/>
          <p:cNvSpPr/>
          <p:nvPr/>
        </p:nvSpPr>
        <p:spPr>
          <a:xfrm>
            <a:off x="3386160" y="2467080"/>
            <a:ext cx="237168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11"/>
          <p:cNvSpPr/>
          <p:nvPr/>
        </p:nvSpPr>
        <p:spPr>
          <a:xfrm>
            <a:off x="3386160" y="2467080"/>
            <a:ext cx="237168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13" descr="ANd9GcQ-Pm0gUVBegBWmxGJj0WZk3XOgBk9SIbqdR6q9bFLLgG_tkMA8"/>
          <p:cNvPicPr/>
          <p:nvPr/>
        </p:nvPicPr>
        <p:blipFill>
          <a:blip r:embed="rId1"/>
          <a:stretch/>
        </p:blipFill>
        <p:spPr>
          <a:xfrm>
            <a:off x="5292720" y="3141720"/>
            <a:ext cx="3240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РКОМА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БЛЕМА НАРКОМАНИИ ЗАТРАГИЕВАЕТ ОКОЛО 50млн. ЧЕЛОВЕК, Т.Е. КАЖДОГО ПЯТОГО ЖИТЕЛЯ ПЛАНЕ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ГОДНЯ В России НЕТ РЕГИОНА, ГДЕ НЕ ЗАРЕГИСТРИРОВАНЫ СЛУЧАИ НАРКОМА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5" descr="ANd9GcQaQYnCGe9QH-6lN6e_84KuPgKYfdXV5dJub3zs2tIlqVMRW4sTFw"/>
          <p:cNvPicPr/>
          <p:nvPr/>
        </p:nvPicPr>
        <p:blipFill>
          <a:blip r:embed="rId3"/>
          <a:stretch/>
        </p:blipFill>
        <p:spPr>
          <a:xfrm>
            <a:off x="5940360" y="4365720"/>
            <a:ext cx="280836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СЛЕДСТВ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25" descr="16"/>
          <p:cNvPicPr/>
          <p:nvPr/>
        </p:nvPicPr>
        <p:blipFill>
          <a:blip r:embed="rId1"/>
          <a:stretch/>
        </p:blipFill>
        <p:spPr>
          <a:xfrm>
            <a:off x="1332000" y="1413000"/>
            <a:ext cx="1638360" cy="32382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7" descr="19"/>
          <p:cNvPicPr/>
          <p:nvPr/>
        </p:nvPicPr>
        <p:blipFill>
          <a:blip r:embed="rId2"/>
          <a:stretch/>
        </p:blipFill>
        <p:spPr>
          <a:xfrm>
            <a:off x="5796000" y="1484280"/>
            <a:ext cx="2171520" cy="3311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2" descr="21"/>
          <p:cNvPicPr/>
          <p:nvPr/>
        </p:nvPicPr>
        <p:blipFill>
          <a:blip r:embed="rId3"/>
          <a:stretch/>
        </p:blipFill>
        <p:spPr>
          <a:xfrm>
            <a:off x="3419640" y="3429000"/>
            <a:ext cx="1800000" cy="15271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i5"/>
          <p:cNvPicPr/>
          <p:nvPr/>
        </p:nvPicPr>
        <p:blipFill>
          <a:blip r:embed="rId4"/>
          <a:stretch/>
        </p:blipFill>
        <p:spPr>
          <a:xfrm>
            <a:off x="3492360" y="1413000"/>
            <a:ext cx="1800360" cy="143964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8"/>
          <p:cNvSpPr/>
          <p:nvPr/>
        </p:nvSpPr>
        <p:spPr>
          <a:xfrm>
            <a:off x="539640" y="51595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c984"/>
                </a:solidFill>
                <a:latin typeface="Arial"/>
              </a:rPr>
              <a:t>В первую очередь наркотики влияют на психику, </a:t>
            </a:r>
            <a:r>
              <a:rPr b="1" lang="ru-RU" sz="2400" spc="-1" strike="noStrike">
                <a:solidFill>
                  <a:srgbClr val="45c984"/>
                </a:solidFill>
                <a:latin typeface="Arial"/>
              </a:rPr>
              <a:t>что  приводит к духовной деградации и полному физическому истощению органи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СЛЕДСТВ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c984"/>
                </a:solidFill>
                <a:latin typeface="Arial"/>
              </a:rPr>
              <a:t>При употреблении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аркотиков </a:t>
            </a:r>
            <a:r>
              <a:rPr b="1" lang="ru-RU" sz="3200" spc="-1" strike="noStrike">
                <a:solidFill>
                  <a:srgbClr val="45c984"/>
                </a:solidFill>
                <a:latin typeface="Arial"/>
              </a:rPr>
              <a:t>начинает разлагаться печень, изменяют свою работу почки и вслед за ними начинают разрушаться все органы в организме, </a:t>
            </a:r>
            <a:r>
              <a:rPr b="1" lang="ru-RU" sz="3200" spc="-1" strike="noStrike">
                <a:solidFill>
                  <a:srgbClr val="45c984"/>
                </a:solidFill>
                <a:latin typeface="Arial"/>
              </a:rPr>
              <a:t>делая употребляющего наркотики инвалидом на всю жизнь</a:t>
            </a:r>
            <a:r>
              <a:rPr b="0" lang="ru-RU" sz="3200" spc="-1" strike="noStrike">
                <a:solidFill>
                  <a:srgbClr val="45c9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5" descr="ANd9GcT-9p48APBa0s4nBd14wAjKMSzP6FEOod-MoMI9DBtcqrvpEnkV"/>
          <p:cNvPicPr/>
          <p:nvPr/>
        </p:nvPicPr>
        <p:blipFill>
          <a:blip r:embed="rId1"/>
          <a:stretch/>
        </p:blipFill>
        <p:spPr>
          <a:xfrm>
            <a:off x="2484360" y="4724280"/>
            <a:ext cx="4464000" cy="213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48320" y="259920"/>
            <a:ext cx="40384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c984"/>
                </a:solidFill>
                <a:latin typeface="Arial"/>
              </a:rPr>
              <a:t>Средняя продолжительность жизни активного наркомана составляет 3 год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c984"/>
                </a:solidFill>
                <a:latin typeface="Arial"/>
              </a:rPr>
              <a:t>Дети, рождённые от наркоманов, умирают очень быстро, доживая максимум до            4 месяц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c984"/>
                </a:solidFill>
                <a:latin typeface="Arial"/>
              </a:rPr>
              <a:t>Наркотик губит наше будущее поколение, наших детей, а значит, и будущее всей стра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4" descr="23"/>
          <p:cNvPicPr/>
          <p:nvPr/>
        </p:nvPicPr>
        <p:blipFill>
          <a:blip r:embed="rId4"/>
          <a:stretch/>
        </p:blipFill>
        <p:spPr>
          <a:xfrm>
            <a:off x="250920" y="404640"/>
            <a:ext cx="4105080" cy="612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9" dur="3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4"/>
          <p:cNvSpPr/>
          <p:nvPr/>
        </p:nvSpPr>
        <p:spPr>
          <a:xfrm>
            <a:off x="900000" y="620640"/>
            <a:ext cx="39610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5c984"/>
                </a:solidFill>
                <a:latin typeface="Arial"/>
              </a:rPr>
              <a:t>Наркомания в России продолжает "молодеть". По последним данным,  </a:t>
            </a:r>
            <a:r>
              <a:rPr b="1" lang="ru-RU" sz="2000" spc="-1" strike="noStrike">
                <a:solidFill>
                  <a:srgbClr val="66ff66"/>
                </a:solidFill>
                <a:latin typeface="Arial"/>
              </a:rPr>
              <a:t>более 60 %</a:t>
            </a:r>
            <a:r>
              <a:rPr b="1" lang="ru-RU" sz="2000" spc="-1" strike="noStrike">
                <a:solidFill>
                  <a:srgbClr val="45c984"/>
                </a:solidFill>
                <a:latin typeface="Arial"/>
              </a:rPr>
              <a:t> наркоманов - люди в  возрасте </a:t>
            </a:r>
            <a:r>
              <a:rPr b="1" lang="ru-RU" sz="2000" spc="-1" strike="noStrike">
                <a:solidFill>
                  <a:srgbClr val="66ff66"/>
                </a:solidFill>
                <a:latin typeface="Arial"/>
              </a:rPr>
              <a:t>18-30 лет</a:t>
            </a:r>
            <a:r>
              <a:rPr b="1" lang="ru-RU" sz="2000" spc="-1" strike="noStrike">
                <a:solidFill>
                  <a:srgbClr val="45c984"/>
                </a:solidFill>
                <a:latin typeface="Arial"/>
              </a:rPr>
              <a:t>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почти 20 % - школьн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4572000" y="3246480"/>
            <a:ext cx="4103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5c984"/>
                </a:solidFill>
                <a:latin typeface="Arial"/>
              </a:rPr>
              <a:t>Средний возраст приобщения к наркотикам в России составляет </a:t>
            </a: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15-17 лет</a:t>
            </a:r>
            <a:r>
              <a:rPr b="1" lang="ru-RU" sz="2000" spc="-1" strike="noStrike">
                <a:solidFill>
                  <a:srgbClr val="45c984"/>
                </a:solidFill>
                <a:latin typeface="Arial"/>
              </a:rPr>
              <a:t>,  н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5c984"/>
                </a:solidFill>
                <a:latin typeface="Arial"/>
              </a:rPr>
              <a:t> участились случаи первичного употребления наркотиков детьми </a:t>
            </a:r>
            <a:r>
              <a:rPr b="1" lang="ru-RU" sz="2000" spc="-1" strike="noStrike">
                <a:solidFill>
                  <a:srgbClr val="66ff66"/>
                </a:solidFill>
                <a:latin typeface="Arial"/>
              </a:rPr>
              <a:t>11-13 лет</a:t>
            </a:r>
            <a:r>
              <a:rPr b="1" lang="ru-RU" sz="2000" spc="-1" strike="noStrike">
                <a:solidFill>
                  <a:srgbClr val="45c984"/>
                </a:solidFill>
                <a:latin typeface="Arial"/>
              </a:rPr>
              <a:t>.   </a:t>
            </a:r>
            <a:br>
              <a:rPr sz="2000"/>
            </a:br>
            <a:r>
              <a:rPr b="1" lang="ru-RU" sz="2000" spc="-1" strike="noStrike">
                <a:solidFill>
                  <a:srgbClr val="45c984"/>
                </a:solidFill>
                <a:latin typeface="Arial"/>
              </a:rPr>
              <a:t>Отмечены  и  случаи употребления наркотиков детьми </a:t>
            </a:r>
            <a:r>
              <a:rPr b="1" lang="ru-RU" sz="2000" spc="-1" strike="noStrike">
                <a:solidFill>
                  <a:srgbClr val="66ff66"/>
                </a:solidFill>
                <a:latin typeface="Arial"/>
              </a:rPr>
              <a:t>6-7 л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5" descr="20"/>
          <p:cNvPicPr/>
          <p:nvPr/>
        </p:nvPicPr>
        <p:blipFill>
          <a:blip r:embed="rId1"/>
          <a:stretch/>
        </p:blipFill>
        <p:spPr>
          <a:xfrm>
            <a:off x="5364000" y="333360"/>
            <a:ext cx="3295800" cy="28083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ANd9GcTR3TrmgH24yvIEKNhEbo42N2xdvjK_FB7ZnU1GWe2tWkirseG-aw"/>
          <p:cNvPicPr/>
          <p:nvPr/>
        </p:nvPicPr>
        <p:blipFill>
          <a:blip r:embed="rId2"/>
          <a:stretch/>
        </p:blipFill>
        <p:spPr>
          <a:xfrm>
            <a:off x="539640" y="3213000"/>
            <a:ext cx="3961080" cy="288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6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ЭКСПРЕСС ТЕС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овременные и достоверные тест полоски на наркотики позволят выявить правду за короткое врем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5" descr="ANd9GcRlqwCiteTV563HtH8y_MHiBkZ8-hX5T9RFqNvF_AtM_QMWROJx"/>
          <p:cNvPicPr/>
          <p:nvPr/>
        </p:nvPicPr>
        <p:blipFill>
          <a:blip r:embed="rId1"/>
          <a:stretch/>
        </p:blipFill>
        <p:spPr>
          <a:xfrm>
            <a:off x="611280" y="4221000"/>
            <a:ext cx="3305160" cy="2303640"/>
          </a:xfrm>
          <a:prstGeom prst="rect">
            <a:avLst/>
          </a:prstGeom>
          <a:ln w="0">
            <a:noFill/>
          </a:ln>
        </p:spPr>
      </p:pic>
      <p:sp>
        <p:nvSpPr>
          <p:cNvPr id="245" name="AutoShape 7"/>
          <p:cNvSpPr/>
          <p:nvPr/>
        </p:nvSpPr>
        <p:spPr>
          <a:xfrm>
            <a:off x="3195720" y="2600280"/>
            <a:ext cx="275256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indefinite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18" dur="indefinite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360" y="0"/>
            <a:ext cx="8229600" cy="61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ПСИХОЛОГИЧЕСКИЙ 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БЛОК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5" descr="ANd9GcR7Avyxoh8tbHjKOZX6JPNEOBpAyzNybV4e54hE43oSErnf1ypk"/>
          <p:cNvPicPr/>
          <p:nvPr/>
        </p:nvPicPr>
        <p:blipFill>
          <a:blip r:embed="rId1"/>
          <a:stretch/>
        </p:blipFill>
        <p:spPr>
          <a:xfrm>
            <a:off x="3203640" y="3284640"/>
            <a:ext cx="5040360" cy="309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7" descr="сканирование"/>
          <p:cNvPicPr/>
          <p:nvPr/>
        </p:nvPicPr>
        <p:blipFill>
          <a:blip r:embed="rId1"/>
          <a:stretch/>
        </p:blipFill>
        <p:spPr>
          <a:xfrm>
            <a:off x="179280" y="260280"/>
            <a:ext cx="89647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ВИЧ/СПИД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глобальная проблема современного человечеств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5" descr="ANd9GcQsRWk4Qi4qmy5NSMWKUohdHnG9ChnQMINnvoKKa4o-tcTSDSDn"/>
          <p:cNvPicPr/>
          <p:nvPr/>
        </p:nvPicPr>
        <p:blipFill>
          <a:blip r:embed="rId1"/>
          <a:stretch/>
        </p:blipFill>
        <p:spPr>
          <a:xfrm>
            <a:off x="6227640" y="2133720"/>
            <a:ext cx="2535480" cy="36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сканирование0005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лавная твоя задача – формирование жизненных навык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мение отказываться от рискованных предлож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ивать уверенность в себ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правлять своими чувств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крепление связи с семь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знание негативных влияний, давлений и манипуляций со стороны друг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ам предложили попробовать наркотик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сть разные выходы из этой ситуации. Отказ может быть уверенным, неуверенным, агрессивны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 неважно, как Вы выглядели в этот момент. ОТКАЗАВШИСЬ, Вы оказались на высоте, Вы выиграли в главном, Вы спасли СВОЮ ЖИЗНЬ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5" descr="ANd9GcSus0AlJhIW0YNEZiYa5uL9-IAn-FAyVGoiQgo3XvtPn6A62KFn"/>
          <p:cNvPicPr/>
          <p:nvPr/>
        </p:nvPicPr>
        <p:blipFill>
          <a:blip r:embed="rId3"/>
          <a:stretch/>
        </p:blipFill>
        <p:spPr>
          <a:xfrm>
            <a:off x="6084720" y="4653000"/>
            <a:ext cx="3059280" cy="220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2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c3300"/>
                </a:solidFill>
                <a:latin typeface="Arial"/>
              </a:rPr>
              <a:t>Правовой </a:t>
            </a:r>
            <a:br>
              <a:rPr sz="8000"/>
            </a:br>
            <a:r>
              <a:rPr b="0" lang="ru-RU" sz="8000" spc="-1" strike="noStrike">
                <a:solidFill>
                  <a:srgbClr val="cc3300"/>
                </a:solidFill>
                <a:latin typeface="Arial"/>
              </a:rPr>
              <a:t>блок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5" descr="2043915098_1505127410"/>
          <p:cNvPicPr/>
          <p:nvPr/>
        </p:nvPicPr>
        <p:blipFill>
          <a:blip r:embed="rId1"/>
          <a:stretch/>
        </p:blipFill>
        <p:spPr>
          <a:xfrm>
            <a:off x="2195640" y="3716280"/>
            <a:ext cx="4464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АВО КАЖДОГО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1" name="Выноска-облако 8"/>
          <p:cNvSpPr/>
          <p:nvPr/>
        </p:nvSpPr>
        <p:spPr>
          <a:xfrm>
            <a:off x="468360" y="1628640"/>
            <a:ext cx="8351640" cy="3816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3366ff"/>
          </a:solidFill>
          <a:ln w="381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Знать свой ВИЧ - стату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головная ответственно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Ст. 228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Незаконное изготовление, приобретение, хранение, перевозка, пересылка либо сбыт наркотических средств или психотропных вещест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Ст. 229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Хищение либо вымогательство наркотических средств, либо психотропных средст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Ст. 230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Склонение к потреблению наркотических средств или психотропных вещест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Ст. 23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Незаконное культивирование запрещенных к возделыванию растений, содержащих наркотические вещ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Ч. 5 ст. 7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о лечении от наркома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0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6600" spc="-1" strike="noStrike">
                <a:solidFill>
                  <a:srgbClr val="009900"/>
                </a:solidFill>
                <a:latin typeface="Arial"/>
              </a:rPr>
              <a:t>ВИКТОРИН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5" descr="ANd9GcRtzSWdq4RXhPkYh1HNPKD9B9Awrg665-4P1M1J0iEvAHYHLMFl"/>
          <p:cNvPicPr/>
          <p:nvPr/>
        </p:nvPicPr>
        <p:blipFill>
          <a:blip r:embed="rId1"/>
          <a:stretch/>
        </p:blipFill>
        <p:spPr>
          <a:xfrm>
            <a:off x="1042920" y="3716280"/>
            <a:ext cx="6697800" cy="266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0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1 ВОПРО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ем отличается ВИЧ от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ПИД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5" descr="ANd9GcTk4-tPcSoNyKfCdCKgPHw4D_1h6U81RGXFe0pEEPbtEskFKeUc"/>
          <p:cNvPicPr/>
          <p:nvPr/>
        </p:nvPicPr>
        <p:blipFill>
          <a:blip r:embed="rId1"/>
          <a:stretch/>
        </p:blipFill>
        <p:spPr>
          <a:xfrm>
            <a:off x="3348000" y="4437000"/>
            <a:ext cx="3456000" cy="242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0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 вопро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ожно ли заразиться ВИЧ при разговоре  с ВИЧ- инфицированным человеком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5" descr="ANd9GcT8XvcjVsgdkozhD3yC87C7ZefrntJLKZPFOM0C9RyH95lvPJcLNA"/>
          <p:cNvPicPr/>
          <p:nvPr/>
        </p:nvPicPr>
        <p:blipFill>
          <a:blip r:embed="rId1"/>
          <a:stretch/>
        </p:blipFill>
        <p:spPr>
          <a:xfrm>
            <a:off x="5219640" y="4005360"/>
            <a:ext cx="2933640" cy="2316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3 вопро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ожно ли заразиться ВИЧ при поцелуе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5" descr="ANd9GcQ9DQcXb3EIQF2UA-PhZmLNhydnGoe82BVSw5qX8PiTU0SuqvJc"/>
          <p:cNvPicPr/>
          <p:nvPr/>
        </p:nvPicPr>
        <p:blipFill>
          <a:blip r:embed="rId1"/>
          <a:stretch/>
        </p:blipFill>
        <p:spPr>
          <a:xfrm>
            <a:off x="3276720" y="2997360"/>
            <a:ext cx="4535280" cy="316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0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1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Вакцины от ВИЧ  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НЕТ !!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ANd9GcTBc457MGi2WEwaXZsnb475CUPj-jnaUwFTi-vW2LCGEbdm9Z-frw"/>
          <p:cNvPicPr/>
          <p:nvPr/>
        </p:nvPicPr>
        <p:blipFill>
          <a:blip r:embed="rId1"/>
          <a:stretch/>
        </p:blipFill>
        <p:spPr>
          <a:xfrm>
            <a:off x="1042920" y="4076640"/>
            <a:ext cx="39607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4 ВОПРО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уществует ли «группа риска» по заражению ВИЧ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7" descr="ANd9GcSgWlosaSaw2o6XPYeeSfA_5YVbtlRqh3XKzLif5a1dysDeHa4swg"/>
          <p:cNvPicPr/>
          <p:nvPr/>
        </p:nvPicPr>
        <p:blipFill>
          <a:blip r:embed="rId1"/>
          <a:stretch/>
        </p:blipFill>
        <p:spPr>
          <a:xfrm>
            <a:off x="2484360" y="2997360"/>
            <a:ext cx="4535640" cy="352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0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5 ВОПРО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АК УЗНАТЬ ЕСТЬ ЛИ У ТЕБЯ ВИЧ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5" descr="ANd9GcTsi0HtAFHTIjM7JAOU3WNgox-qQccUBwCUEc0n9J61J63SfOM3OQ"/>
          <p:cNvPicPr/>
          <p:nvPr/>
        </p:nvPicPr>
        <p:blipFill>
          <a:blip r:embed="rId1"/>
          <a:stretch/>
        </p:blipFill>
        <p:spPr>
          <a:xfrm>
            <a:off x="1835280" y="3357720"/>
            <a:ext cx="4157640" cy="2678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0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9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6 ВОПРО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уществуют ли легальные наркотики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5" descr="ANd9GcQxw7PPr8bBcUlbSPr2m7Fno3e70ogZ0GSfvGs6dIhFNCLaGALCPQ"/>
          <p:cNvPicPr/>
          <p:nvPr/>
        </p:nvPicPr>
        <p:blipFill>
          <a:blip r:embed="rId1"/>
          <a:stretch/>
        </p:blipFill>
        <p:spPr>
          <a:xfrm>
            <a:off x="2771640" y="3357720"/>
            <a:ext cx="3816360" cy="2912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0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7 ВОПРО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 КАКОГО ВОЗРАСТА НАСТУПАЕТ УГОЛОВНАЯ ОТВЕТСТВЕННОСТЬ ЗА ПРЕСТУПЛЕНИЯ, СВЯЗАННЫЕ С НАРКОТИКАМ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5" descr="ANd9GcT6Oj0axdKBiGK3870z77jqrpqgdvvvdr5SIuMCl-nc522k2xHj"/>
          <p:cNvPicPr/>
          <p:nvPr/>
        </p:nvPicPr>
        <p:blipFill>
          <a:blip r:embed="rId1"/>
          <a:stretch/>
        </p:blipFill>
        <p:spPr>
          <a:xfrm>
            <a:off x="4716360" y="4724280"/>
            <a:ext cx="4176720" cy="213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8 ВОПРО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то является современным и достоверным способом определения наличия наркотиков в организме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5" descr="ANd9GcSVj8H8R1oM6POXMJEjncpdbjCAD5MXCI__IDRQqGZgRHgTgb1eGQ"/>
          <p:cNvPicPr/>
          <p:nvPr/>
        </p:nvPicPr>
        <p:blipFill>
          <a:blip r:embed="rId1"/>
          <a:stretch/>
        </p:blipFill>
        <p:spPr>
          <a:xfrm>
            <a:off x="6084720" y="4292640"/>
            <a:ext cx="2808360" cy="22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7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9 ВОПРО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АКОВЫ ПОСЛЕДСТВИЯ ПРИЁМА НАРКОТИКОВ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Picture 5" descr="ANd9GcTfNdfvLHdUnfE5UFJ7aoP_BBKd3LuEnvVqZHN22HTt2TODTJrI"/>
          <p:cNvPicPr/>
          <p:nvPr/>
        </p:nvPicPr>
        <p:blipFill>
          <a:blip r:embed="rId1"/>
          <a:stretch/>
        </p:blipFill>
        <p:spPr>
          <a:xfrm>
            <a:off x="3492360" y="3357720"/>
            <a:ext cx="3600720" cy="287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0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10 ВОПРО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ТО ЯВЛЯЕТСЯ СИМВОЛОМ БОРЬБЫ С ВИЧ И СПИД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5" descr="ANd9GcTvJZjwhGc3ehfC3pO_XqqEOq_YM9OiT40xynUg1xVrrPpzqeD9"/>
          <p:cNvPicPr/>
          <p:nvPr/>
        </p:nvPicPr>
        <p:blipFill>
          <a:blip r:embed="rId1"/>
          <a:stretch/>
        </p:blipFill>
        <p:spPr>
          <a:xfrm>
            <a:off x="2771640" y="3213000"/>
            <a:ext cx="45370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0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5" descr="ANd9GcS0gv0jY5nLxm3_rsKlUn_A4pVxbFv_hYpBWIs1LHqQAQGD5o_Ufg"/>
          <p:cNvPicPr/>
          <p:nvPr/>
        </p:nvPicPr>
        <p:blipFill>
          <a:blip r:embed="rId1"/>
          <a:stretch/>
        </p:blipFill>
        <p:spPr>
          <a:xfrm>
            <a:off x="1547640" y="907920"/>
            <a:ext cx="597708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0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8" descr="ANd9GcSCtxFbBrwsenCC8Ua7JfOYJkAf4UaFylME0xvBbJdieaVvgI6fHw"/>
          <p:cNvPicPr/>
          <p:nvPr/>
        </p:nvPicPr>
        <p:blipFill>
          <a:blip r:embed="rId1"/>
          <a:stretch/>
        </p:blipFill>
        <p:spPr>
          <a:xfrm>
            <a:off x="468360" y="1628640"/>
            <a:ext cx="4032360" cy="46087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ANd9GcTlyrJp5qYUKmBUwmHkFGN3kXPG1kxcsbQ1fniyhF9ds5rUaqqSGA"/>
          <p:cNvPicPr/>
          <p:nvPr/>
        </p:nvPicPr>
        <p:blipFill>
          <a:blip r:embed="rId2"/>
          <a:stretch/>
        </p:blipFill>
        <p:spPr>
          <a:xfrm>
            <a:off x="4572000" y="1628640"/>
            <a:ext cx="4103640" cy="453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nodeType="clickEffect" fill="hold">
                      <p:stCondLst>
                        <p:cond delay="0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8" descr="ANd9GcSeAWzeiLFkpH2CStQTmNozcGCDqaoA3PiBKvu0EEniH1ruvVbhPQ"/>
          <p:cNvPicPr/>
          <p:nvPr/>
        </p:nvPicPr>
        <p:blipFill>
          <a:blip r:embed="rId1"/>
          <a:stretch/>
        </p:blipFill>
        <p:spPr>
          <a:xfrm>
            <a:off x="468360" y="1700280"/>
            <a:ext cx="4103640" cy="468144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10"/>
          <p:cNvSpPr/>
          <p:nvPr/>
        </p:nvSpPr>
        <p:spPr>
          <a:xfrm>
            <a:off x="155520" y="46080"/>
            <a:ext cx="1838520" cy="24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AutoShape 12"/>
          <p:cNvSpPr/>
          <p:nvPr/>
        </p:nvSpPr>
        <p:spPr>
          <a:xfrm>
            <a:off x="155520" y="46080"/>
            <a:ext cx="1838520" cy="24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AutoShape 14"/>
          <p:cNvSpPr/>
          <p:nvPr/>
        </p:nvSpPr>
        <p:spPr>
          <a:xfrm>
            <a:off x="155520" y="46080"/>
            <a:ext cx="1838520" cy="24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utoShape 16"/>
          <p:cNvSpPr/>
          <p:nvPr/>
        </p:nvSpPr>
        <p:spPr>
          <a:xfrm>
            <a:off x="155520" y="46080"/>
            <a:ext cx="262908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ОДУМАЙ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AutoShape 21"/>
          <p:cNvSpPr/>
          <p:nvPr/>
        </p:nvSpPr>
        <p:spPr>
          <a:xfrm>
            <a:off x="155520" y="46080"/>
            <a:ext cx="262908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AutoShape 23"/>
          <p:cNvSpPr/>
          <p:nvPr/>
        </p:nvSpPr>
        <p:spPr>
          <a:xfrm>
            <a:off x="155520" y="46080"/>
            <a:ext cx="262908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25" descr="ANd9GcTViB7Aq5ytgbEqgYm-rTIvywynsXSSau1rdxQ83Qf6ifCWrglHEw"/>
          <p:cNvPicPr/>
          <p:nvPr/>
        </p:nvPicPr>
        <p:blipFill>
          <a:blip r:embed="rId2"/>
          <a:stretch/>
        </p:blipFill>
        <p:spPr>
          <a:xfrm>
            <a:off x="4643280" y="1700280"/>
            <a:ext cx="4105440" cy="46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0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508"/>
                </a:solidFill>
                <a:latin typeface="Arial"/>
              </a:rPr>
              <a:t>В  мире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50 миллионнов</a:t>
            </a:r>
            <a:r>
              <a:rPr b="0" lang="ru-RU" sz="4000" spc="-1" strike="noStrike">
                <a:solidFill>
                  <a:srgbClr val="000508"/>
                </a:solidFill>
                <a:latin typeface="Arial"/>
              </a:rPr>
              <a:t> ВИЧ-инфицированны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+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около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16000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человек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инфицируется  ежедневн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предупреждения СПИДа только на одного ВИЧ-инфицированного необходимо потратить от 8-12 тысяч долларов в г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ОДУМАЙ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8" descr="ANd9GcScae3mfv3QHzwc-4h2p_OZiJ98cosPls0mjNEKV0bfy3AOABrwyA"/>
          <p:cNvPicPr/>
          <p:nvPr/>
        </p:nvPicPr>
        <p:blipFill>
          <a:blip r:embed="rId1"/>
          <a:stretch/>
        </p:blipFill>
        <p:spPr>
          <a:xfrm>
            <a:off x="468360" y="1484280"/>
            <a:ext cx="4032360" cy="48243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4" descr="ANd9GcThrrOkbcYIHjcVbKfIUA1gRKxGgqr7diLAZCZ2ARlcFtBJzk9O-A"/>
          <p:cNvPicPr/>
          <p:nvPr/>
        </p:nvPicPr>
        <p:blipFill>
          <a:blip r:embed="rId2"/>
          <a:stretch/>
        </p:blipFill>
        <p:spPr>
          <a:xfrm>
            <a:off x="4643280" y="1484280"/>
            <a:ext cx="4032360" cy="4897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0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8" descr="ANd9GcRPls6g_85jO4Dzh-TMVJIkAd7p1gUfMOieVsMAalTASCwdg1FF"/>
          <p:cNvPicPr/>
          <p:nvPr/>
        </p:nvPicPr>
        <p:blipFill>
          <a:blip r:embed="rId1"/>
          <a:stretch/>
        </p:blipFill>
        <p:spPr>
          <a:xfrm>
            <a:off x="539640" y="1700280"/>
            <a:ext cx="3961080" cy="388944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10"/>
          <p:cNvSpPr/>
          <p:nvPr/>
        </p:nvSpPr>
        <p:spPr>
          <a:xfrm>
            <a:off x="155520" y="46080"/>
            <a:ext cx="262908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12"/>
          <p:cNvSpPr/>
          <p:nvPr/>
        </p:nvSpPr>
        <p:spPr>
          <a:xfrm>
            <a:off x="3257640" y="2557440"/>
            <a:ext cx="262872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AutoShape 14"/>
          <p:cNvSpPr/>
          <p:nvPr/>
        </p:nvSpPr>
        <p:spPr>
          <a:xfrm>
            <a:off x="3257640" y="2557440"/>
            <a:ext cx="262872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42920" y="1700280"/>
            <a:ext cx="40388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AutoShape 19"/>
          <p:cNvSpPr/>
          <p:nvPr/>
        </p:nvSpPr>
        <p:spPr>
          <a:xfrm>
            <a:off x="155520" y="46080"/>
            <a:ext cx="262908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Picture 21" descr="ANd9GcTVBacrG8Y0JGUoPk0SRHwlDiOj7aEoL5KQGOxfMQ434T8V7Hng5w"/>
          <p:cNvPicPr/>
          <p:nvPr/>
        </p:nvPicPr>
        <p:blipFill>
          <a:blip r:embed="rId2"/>
          <a:stretch/>
        </p:blipFill>
        <p:spPr>
          <a:xfrm>
            <a:off x="4643280" y="1700280"/>
            <a:ext cx="4176720" cy="396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nodeType="clickEffect" fill="hold">
                      <p:stCondLst>
                        <p:cond delay="0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6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0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4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5" descr="ANd9GcTG9IJCl0FETvTnSHnVt2J14AX0uEny1Njo8vvDLW_7JMYBLIbA"/>
          <p:cNvPicPr/>
          <p:nvPr/>
        </p:nvPicPr>
        <p:blipFill>
          <a:blip r:embed="rId1"/>
          <a:stretch/>
        </p:blipFill>
        <p:spPr>
          <a:xfrm>
            <a:off x="395280" y="549360"/>
            <a:ext cx="8137440" cy="597528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0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оверь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ff66"/>
                </a:solidFill>
                <a:latin typeface="Arial"/>
              </a:rPr>
              <a:t>Сколько бы ты не просмотрел подобного материала, это будет абсолютно бесполезно,  если прочитанная информация не коснется твоего сердца и не будет осознан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6" descr=""/>
          <p:cNvPicPr/>
          <p:nvPr/>
        </p:nvPicPr>
        <p:blipFill>
          <a:blip r:embed="rId1"/>
          <a:stretch/>
        </p:blipFill>
        <p:spPr>
          <a:xfrm>
            <a:off x="4643280" y="4941720"/>
            <a:ext cx="424836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2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Улыбающееся лицо 7"/>
          <p:cNvSpPr/>
          <p:nvPr/>
        </p:nvSpPr>
        <p:spPr>
          <a:xfrm>
            <a:off x="1979640" y="1916280"/>
            <a:ext cx="4753080" cy="41767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381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ff00"/>
                </a:solidFill>
                <a:latin typeface="Arial"/>
              </a:rPr>
              <a:t>УДАЧИ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0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 Росс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щее число з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арегистрированных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носителей ВИЧ-инфекции превысило 550 тыс. челове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5" descr="ANd9GcRi2NBBgh8Awg0CndShITnb0yZLP4Tv3g2ehGkkUVmmkrZlMCoS"/>
          <p:cNvPicPr/>
          <p:nvPr/>
        </p:nvPicPr>
        <p:blipFill>
          <a:blip r:embed="rId1"/>
          <a:stretch/>
        </p:blipFill>
        <p:spPr>
          <a:xfrm>
            <a:off x="5076720" y="3500280"/>
            <a:ext cx="3816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Основной путь       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нфицирования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молодежи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5400" spc="-1" strike="noStrike">
                <a:solidFill>
                  <a:srgbClr val="cc3300"/>
                </a:solidFill>
                <a:latin typeface="Arial"/>
              </a:rPr>
              <a:t>употребление наркотических веществ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5" descr="ANd9GcRfTS6O5wo88i2yasvqiLcPTZObt93vvqdzsNFj7gI3bPzYUrqU8Q"/>
          <p:cNvPicPr/>
          <p:nvPr/>
        </p:nvPicPr>
        <p:blipFill>
          <a:blip r:embed="rId1"/>
          <a:stretch/>
        </p:blipFill>
        <p:spPr>
          <a:xfrm>
            <a:off x="3132000" y="4653000"/>
            <a:ext cx="31687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ANd9GcQhg8_o6zYRBBLrdgLiwwq_avm6_WAuJEXILURtgAJZCuugqVhOcQ"/>
          <p:cNvPicPr/>
          <p:nvPr/>
        </p:nvPicPr>
        <p:blipFill>
          <a:blip r:embed="rId1"/>
          <a:stretch/>
        </p:blipFill>
        <p:spPr>
          <a:xfrm>
            <a:off x="395280" y="333360"/>
            <a:ext cx="4464000" cy="324000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1"/>
          <p:cNvSpPr/>
          <p:nvPr/>
        </p:nvSpPr>
        <p:spPr>
          <a:xfrm>
            <a:off x="3386160" y="2467080"/>
            <a:ext cx="237168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13" descr="ANd9GcQXqF5fm_pJDbuOLVWqLYuB2nJiClm2r2qJyqhFbN2dNrnhWCmGuvzUfjE"/>
          <p:cNvPicPr/>
          <p:nvPr/>
        </p:nvPicPr>
        <p:blipFill>
          <a:blip r:embed="rId2"/>
          <a:stretch/>
        </p:blipFill>
        <p:spPr>
          <a:xfrm>
            <a:off x="5435640" y="2060640"/>
            <a:ext cx="3457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ANd9GcT9skpjU6SVbtJ-rbKXxFCrWI9zG3HQoHh2pcUDVInIB49hgbIU"/>
          <p:cNvPicPr/>
          <p:nvPr/>
        </p:nvPicPr>
        <p:blipFill>
          <a:blip r:embed="rId1"/>
          <a:stretch/>
        </p:blipFill>
        <p:spPr>
          <a:xfrm>
            <a:off x="539640" y="476280"/>
            <a:ext cx="4537080" cy="34574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ANd9GcTHlmgfBcmQjleBohK0QcF4yF-dzIWyyjdcRWow__Wi61xhIRWAkw"/>
          <p:cNvPicPr/>
          <p:nvPr/>
        </p:nvPicPr>
        <p:blipFill>
          <a:blip r:embed="rId2"/>
          <a:stretch/>
        </p:blipFill>
        <p:spPr>
          <a:xfrm>
            <a:off x="5435640" y="2205000"/>
            <a:ext cx="34574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6:10:23Z</dcterms:created>
  <dc:creator>ГБОУ СПО СГТ</dc:creator>
  <dc:description/>
  <dc:language>en-US</dc:language>
  <cp:lastModifiedBy>user</cp:lastModifiedBy>
  <dcterms:modified xsi:type="dcterms:W3CDTF">2015-10-15T07:15:09Z</dcterms:modified>
  <cp:revision>15</cp:revision>
  <dc:subject/>
  <dc:title>1 декабря-день борьбы  со СПИД  ВИЧ</dc:title>
</cp:coreProperties>
</file>