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65.jpeg" ContentType="image/jpeg"/>
  <Override PartName="/ppt/media/image39.jpeg" ContentType="image/jpeg"/>
  <Override PartName="/ppt/media/image5.jpeg" ContentType="image/jpeg"/>
  <Override PartName="/ppt/media/image62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8.jpeg" ContentType="image/jpeg"/>
  <Override PartName="/ppt/media/image26.png" ContentType="image/png"/>
  <Override PartName="/ppt/media/image55.jpeg" ContentType="image/jpe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2EF-6D33-4CC7-92EA-D57D5DE4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588-417B-4DBB-A437-1238E38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EAC-6976-4F1A-B1A8-C3E8E09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DD3-A2FD-4E5E-B88C-FBDD86DE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83F-013B-4E15-9952-3737468E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2AD9-FA98-4E59-A550-C19874E5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4C0-C37D-4612-A0D5-66A894C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12B-4B9E-44E9-BC07-2D82262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D71E-F903-4A40-A967-519BDAD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8D14-2CD9-4266-8EDF-C658EF37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02B-A3BA-4DD4-929A-2D6F4EA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DBF-8884-42E1-AE7E-4721B0C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D0A-F680-4494-A4AD-8B84E5F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4ED-2773-4A93-B36B-6539F3B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624-39C5-4CCD-A205-61F37F2A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AB98-329B-42A8-B40F-681B10A2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BEE6-FF18-45E4-8617-5D978B4E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FF7-4F3C-402D-86E4-6A6ACE90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997-82CA-430E-9E30-1C978337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2A8-8799-4C83-982B-3E2F3CC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03A-A2D2-490B-88C8-8A8DC65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72F-6169-4DE6-8746-C023BD6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1AA-F87C-4FF9-A51B-429D4EF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27-EF50-4F0F-9477-4F4E7B5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DB2-3470-412A-AD19-0856AF8B7B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564-4572-43C4-9297-6F1279D2E7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Молодежь против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692360" y="2895480"/>
            <a:ext cx="5832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ANd9GcSueoMhfucgKNCc8d-3caWRqYRqsBVMNn3mvy_NLTVMnAkJk9hgXNohQ4o"/>
          <p:cNvPicPr/>
          <p:nvPr/>
        </p:nvPicPr>
        <p:blipFill>
          <a:blip r:embed="rId1"/>
          <a:stretch/>
        </p:blipFill>
        <p:spPr>
          <a:xfrm>
            <a:off x="539640" y="98100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ANd9GcQu7i5Nu88-yvya8X53KLuZgjwp9Q55yJWl5yZE3r9QhDTW6oVjvMoMyl4"/>
          <p:cNvPicPr/>
          <p:nvPr/>
        </p:nvPicPr>
        <p:blipFill>
          <a:blip r:embed="rId2"/>
          <a:stretch/>
        </p:blipFill>
        <p:spPr>
          <a:xfrm>
            <a:off x="5219640" y="907920"/>
            <a:ext cx="3600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ANd9GcS0aDTFVuVXKTMzFPux0TgGGerNK8pokFexDbSIcSEeHI-JObvY"/>
          <p:cNvPicPr/>
          <p:nvPr/>
        </p:nvPicPr>
        <p:blipFill>
          <a:blip r:embed="rId1"/>
          <a:stretch/>
        </p:blipFill>
        <p:spPr>
          <a:xfrm>
            <a:off x="611280" y="476280"/>
            <a:ext cx="4321080" cy="3097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ANd9GcTzmBnHdVkTqp_oxk8HG4rW9bsisTAXtFs1woVCPrGODqW87tDO"/>
          <p:cNvPicPr/>
          <p:nvPr/>
        </p:nvPicPr>
        <p:blipFill>
          <a:blip r:embed="rId2"/>
          <a:stretch/>
        </p:blipFill>
        <p:spPr>
          <a:xfrm>
            <a:off x="3564000" y="3860640"/>
            <a:ext cx="475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Nd9GcQSihAnVM0XhKtvXobffnyxUIByhKL4cGO7wrXhIaTP1F15uGdE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ANd9GcQAnhcuiYxYEH8RJdXIh_jb8kcVzl-aot4G3WQD_iSHMmhxGdUe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МЕДИЦИНСКИЙ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9" descr="ANd9GcQ3Ra00tZgmgRNt89bk_EP6GaOD3pLykeru4JECTENy3ez2glzt4w"/>
          <p:cNvPicPr/>
          <p:nvPr/>
        </p:nvPicPr>
        <p:blipFill>
          <a:blip r:embed="rId1"/>
          <a:stretch/>
        </p:blipFill>
        <p:spPr>
          <a:xfrm>
            <a:off x="1908000" y="3573360"/>
            <a:ext cx="525636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И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ру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мунодефици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ловека, вызывающий заболевание — ВИЧ-инфекцию, последняя стадия которой известна как Синдром Приобретённого ИммуноДефицит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СПИД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ANd9GcTDBtbpfPLbghVLQqSk5IB3ue6Y0K1RdwmrTj02B0hF8-mRKFkvSg"/>
          <p:cNvPicPr/>
          <p:nvPr/>
        </p:nvPicPr>
        <p:blipFill>
          <a:blip r:embed="rId4"/>
          <a:stretch/>
        </p:blipFill>
        <p:spPr>
          <a:xfrm>
            <a:off x="6156360" y="105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viewer?pid=explorer&amp;srcid=0B0v8CUyl0tskOGRjMDY1ODMtZWRhMC00MDAyLTkzNjQtZmY2ZjExYzhlZGE4&amp;docid=c00b171ead648259e6d9e7089825d8f6%7C11662594393f95d4ff973469906cfec1&amp;a=bi&amp;pagenumber=18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viewer?pid=explorer&amp;srcid=0B0v8CUyl0tskOGRjMDY1ODMtZWRhMC00MDAyLTkzNjQtZmY2ZjExYzhlZGE4&amp;docid=c00b171ead648259e6d9e7089825d8f6%7C11662594393f95d4ff973469906cfec1&amp;a=bi&amp;pagenumber=21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viewer?pid=explorer&amp;srcid=0B0v8CUyl0tskOGRjMDY1ODMtZWRhMC00MDAyLTkzNjQtZmY2ZjExYzhlZGE4&amp;docid=c00b171ead648259e6d9e7089825d8f6%7C11662594393f95d4ff973469906cfec1&amp;a=bi&amp;pagenumber=23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viewer?pid=explorer&amp;srcid=0B0v8CUyl0tskOGRjMDY1ODMtZWRhMC00MDAyLTkzNjQtZmY2ZjExYzhlZGE4&amp;docid=c00b171ead648259e6d9e7089825d8f6%7C11662594393f95d4ff973469906cfec1&amp;a=bi&amp;pagenumber=24&amp;w=800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508"/>
                </a:solidFill>
                <a:latin typeface="Arial"/>
              </a:rPr>
              <a:t>1 декабря - день борьбы </a:t>
            </a:r>
            <a:br>
              <a:rPr sz="7200"/>
            </a:br>
            <a:r>
              <a:rPr b="0" lang="ru-RU" sz="7200" spc="-1" strike="noStrike">
                <a:solidFill>
                  <a:srgbClr val="000508"/>
                </a:solidFill>
                <a:latin typeface="Arial"/>
              </a:rPr>
              <a:t>со СПИД / ВИ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518976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viewer?pid=explorer&amp;srcid=0B0v8CUyl0tskOGRjMDY1ODMtZWRhMC00MDAyLTkzNjQtZmY2ZjExYzhlZGE4&amp;docid=c00b171ead648259e6d9e7089825d8f6%7C11662594393f95d4ff973469906cfec1&amp;a=bi&amp;pagenumber=28&amp;w=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 Black"/>
              </a:rPr>
              <a:t>Наркомани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3" descr="ANd9GcQ-Pm0gUVBegBWmxGJj0WZk3XOgBk9SIbqdR6q9bFLLgG_tkMA8"/>
          <p:cNvPicPr/>
          <p:nvPr/>
        </p:nvPicPr>
        <p:blipFill>
          <a:blip r:embed="rId1"/>
          <a:stretch/>
        </p:blipFill>
        <p:spPr>
          <a:xfrm>
            <a:off x="5292720" y="314172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НАРКОМАНИИ ЗАТРАГИЕВАЕТ ОКОЛО 50млн. ЧЕЛОВЕК, Т.Е. КАЖДОГО ПЯТОГО ЖИТЕЛЯ ПЛАН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В России НЕТ РЕГИОНА, ГДЕ НЕ ЗАРЕГИСТРИРОВАНЫ СЛУЧАИ НАРКОМ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Nd9GcQaQYnCGe9QH-6lN6e_84KuPgKYfdXV5dJub3zs2tIlqVMRW4sTFw"/>
          <p:cNvPicPr/>
          <p:nvPr/>
        </p:nvPicPr>
        <p:blipFill>
          <a:blip r:embed="rId3"/>
          <a:stretch/>
        </p:blipFill>
        <p:spPr>
          <a:xfrm>
            <a:off x="5940360" y="4365720"/>
            <a:ext cx="2808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5" descr="16"/>
          <p:cNvPicPr/>
          <p:nvPr/>
        </p:nvPicPr>
        <p:blipFill>
          <a:blip r:embed="rId1"/>
          <a:stretch/>
        </p:blipFill>
        <p:spPr>
          <a:xfrm>
            <a:off x="1332000" y="1413000"/>
            <a:ext cx="1638360" cy="3238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19"/>
          <p:cNvPicPr/>
          <p:nvPr/>
        </p:nvPicPr>
        <p:blipFill>
          <a:blip r:embed="rId2"/>
          <a:stretch/>
        </p:blipFill>
        <p:spPr>
          <a:xfrm>
            <a:off x="5796000" y="1484280"/>
            <a:ext cx="2171520" cy="331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21"/>
          <p:cNvPicPr/>
          <p:nvPr/>
        </p:nvPicPr>
        <p:blipFill>
          <a:blip r:embed="rId3"/>
          <a:stretch/>
        </p:blipFill>
        <p:spPr>
          <a:xfrm>
            <a:off x="3419640" y="342900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i5"/>
          <p:cNvPicPr/>
          <p:nvPr/>
        </p:nvPicPr>
        <p:blipFill>
          <a:blip r:embed="rId4"/>
          <a:stretch/>
        </p:blipFill>
        <p:spPr>
          <a:xfrm>
            <a:off x="3492360" y="1413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539640" y="5159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что  приводит к духовной деградации и полному физическому истощению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При употреблени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ркотиков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делая употребляющего наркотики инвалидом на всю жизнь</a:t>
            </a:r>
            <a:r>
              <a:rPr b="0" lang="ru-RU" sz="3200" spc="-1" strike="noStrike">
                <a:solidFill>
                  <a:srgbClr val="45c9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ANd9GcT-9p48APBa0s4nBd14wAjKMSzP6FEOod-MoMI9DBtcqrvpEnkV"/>
          <p:cNvPicPr/>
          <p:nvPr/>
        </p:nvPicPr>
        <p:blipFill>
          <a:blip r:embed="rId1"/>
          <a:stretch/>
        </p:blipFill>
        <p:spPr>
          <a:xfrm>
            <a:off x="2484360" y="4724280"/>
            <a:ext cx="44640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Средняя продолжительность жизни активного наркомана составляет 3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Дети, рождённые от наркоманов, умирают очень быстро, доживая максимум до            4 меся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Наркотик губит наше будущее поколение, наших детей, а значит, и будущее все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23"/>
          <p:cNvPicPr/>
          <p:nvPr/>
        </p:nvPicPr>
        <p:blipFill>
          <a:blip r:embed="rId4"/>
          <a:stretch/>
        </p:blipFill>
        <p:spPr>
          <a:xfrm>
            <a:off x="250920" y="404640"/>
            <a:ext cx="410508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900000" y="620640"/>
            <a:ext cx="396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наркоманов - люди в  возрасте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572000" y="3246480"/>
            <a:ext cx="41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,  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 участились случаи первичного употребления наркотиков детьми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.   </a:t>
            </a:r>
            <a:br>
              <a:rPr sz="2000"/>
            </a:br>
            <a:r>
              <a:rPr b="1" lang="ru-RU" sz="2000" spc="-1" strike="noStrike">
                <a:solidFill>
                  <a:srgbClr val="45c984"/>
                </a:solidFill>
                <a:latin typeface="Arial"/>
              </a:rPr>
              <a:t>Отмечены  и  случаи употребления наркотиков детьми </a:t>
            </a: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6-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20"/>
          <p:cNvPicPr/>
          <p:nvPr/>
        </p:nvPicPr>
        <p:blipFill>
          <a:blip r:embed="rId1"/>
          <a:stretch/>
        </p:blipFill>
        <p:spPr>
          <a:xfrm>
            <a:off x="5364000" y="333360"/>
            <a:ext cx="3295800" cy="2808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ANd9GcTR3TrmgH24yvIEKNhEbo42N2xdvjK_FB7ZnU1GWe2tWkirseG-aw"/>
          <p:cNvPicPr/>
          <p:nvPr/>
        </p:nvPicPr>
        <p:blipFill>
          <a:blip r:embed="rId2"/>
          <a:stretch/>
        </p:blipFill>
        <p:spPr>
          <a:xfrm>
            <a:off x="539640" y="3213000"/>
            <a:ext cx="396108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СПРЕСС ТЕС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нные и достоверные тест полоски на наркотики позволят выявить правду за короткое 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ANd9GcRlqwCiteTV563HtH8y_MHiBkZ8-hX5T9RFqNvF_AtM_QMWROJx"/>
          <p:cNvPicPr/>
          <p:nvPr/>
        </p:nvPicPr>
        <p:blipFill>
          <a:blip r:embed="rId1"/>
          <a:stretch/>
        </p:blipFill>
        <p:spPr>
          <a:xfrm>
            <a:off x="611280" y="4221000"/>
            <a:ext cx="3305160" cy="2303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7"/>
          <p:cNvSpPr/>
          <p:nvPr/>
        </p:nvSpPr>
        <p:spPr>
          <a:xfrm>
            <a:off x="3195720" y="2600280"/>
            <a:ext cx="2752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indefinite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СИХОЛОГИЧЕСКИЙ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БЛ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ANd9GcR7Avyxoh8tbHjKOZX6JPNEOBpAyzNybV4e54hE43oSErnf1ypk"/>
          <p:cNvPicPr/>
          <p:nvPr/>
        </p:nvPicPr>
        <p:blipFill>
          <a:blip r:embed="rId1"/>
          <a:stretch/>
        </p:blipFill>
        <p:spPr>
          <a:xfrm>
            <a:off x="3203640" y="3284640"/>
            <a:ext cx="504036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сканирование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ВИЧ/СПИ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лобальная проблема современного человечеств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ANd9GcQsRWk4Qi4qmy5NSMWKUohdHnG9ChnQMINnvoKKa4o-tcTSDSDn"/>
          <p:cNvPicPr/>
          <p:nvPr/>
        </p:nvPicPr>
        <p:blipFill>
          <a:blip r:embed="rId1"/>
          <a:stretch/>
        </p:blipFill>
        <p:spPr>
          <a:xfrm>
            <a:off x="6227640" y="2133720"/>
            <a:ext cx="253548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ая твоя задача – формирование жизненных навы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отказываться от рискованных предло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уверенность в с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ть своими чувст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крепление связи с семь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знание негативных влияний, давлений и манипуляций со стороны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ам предложили попробовать наркоти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разные выходы из этой ситуации. Отказ может быть уверенным, неуверенным, агрессив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неважно, как Вы выглядели в этот момент. ОТКАЗАВШИСЬ, Вы оказались на высоте, Вы выиграли в главном, Вы спасли СВОЮ ЖИЗН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ANd9GcSus0AlJhIW0YNEZiYa5uL9-IAn-FAyVGoiQgo3XvtPn6A62KFn"/>
          <p:cNvPicPr/>
          <p:nvPr/>
        </p:nvPicPr>
        <p:blipFill>
          <a:blip r:embed="rId3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Правовой </a:t>
            </a:r>
            <a:br>
              <a:rPr sz="8000"/>
            </a:br>
            <a:r>
              <a:rPr b="0" lang="ru-RU" sz="8000" spc="-1" strike="noStrike">
                <a:solidFill>
                  <a:srgbClr val="cc3300"/>
                </a:solidFill>
                <a:latin typeface="Arial"/>
              </a:rPr>
              <a:t>бло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2043915098_1505127410"/>
          <p:cNvPicPr/>
          <p:nvPr/>
        </p:nvPicPr>
        <p:blipFill>
          <a:blip r:embed="rId1"/>
          <a:stretch/>
        </p:blipFill>
        <p:spPr>
          <a:xfrm>
            <a:off x="2195640" y="3716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 КАЖДОГ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Выноска-облако 8"/>
          <p:cNvSpPr/>
          <p:nvPr/>
        </p:nvSpPr>
        <p:spPr>
          <a:xfrm>
            <a:off x="468360" y="1628640"/>
            <a:ext cx="8351640" cy="381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/>
          </a:solidFill>
          <a:ln w="381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нать свой ВИЧ - ста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28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законное изготовление, приобретение, хранение, перевозка, пересылка либо сбыт наркотических средств или психотроп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29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Хищение либо вымогательство наркотических средств, либо психотроп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30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клонение к потреблению наркотических средств или психотроп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т. 23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Незаконное культивирование запрещенных к возделыванию растений, содержащих наркот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. 5 ст. 7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 лечении от нарком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ВИКТОР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ANd9GcRtzSWdq4RXhPkYh1HNPKD9B9Awrg665-4P1M1J0iEvAHYHLMFl"/>
          <p:cNvPicPr/>
          <p:nvPr/>
        </p:nvPicPr>
        <p:blipFill>
          <a:blip r:embed="rId1"/>
          <a:stretch/>
        </p:blipFill>
        <p:spPr>
          <a:xfrm>
            <a:off x="1042920" y="3716280"/>
            <a:ext cx="669780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тличается ВИЧ 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ИД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5" descr="ANd9GcTk4-tPcSoNyKfCdCKgPHw4D_1h6U81RGXFe0pEEPbtEskFKeUc"/>
          <p:cNvPicPr/>
          <p:nvPr/>
        </p:nvPicPr>
        <p:blipFill>
          <a:blip r:embed="rId1"/>
          <a:stretch/>
        </p:blipFill>
        <p:spPr>
          <a:xfrm>
            <a:off x="3348000" y="4437000"/>
            <a:ext cx="345600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жно ли заразиться ВИЧ при разговоре  с ВИЧ- инфицированным человеко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ANd9GcT8XvcjVsgdkozhD3yC87C7ZefrntJLKZPFOM0C9RyH95lvPJcLNA"/>
          <p:cNvPicPr/>
          <p:nvPr/>
        </p:nvPicPr>
        <p:blipFill>
          <a:blip r:embed="rId1"/>
          <a:stretch/>
        </p:blipFill>
        <p:spPr>
          <a:xfrm>
            <a:off x="5219640" y="4005360"/>
            <a:ext cx="2933640" cy="23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жно ли заразиться ВИЧ при поцелу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ANd9GcQ9DQcXb3EIQF2UA-PhZmLNhydnGoe82BVSw5qX8PiTU0SuqvJc"/>
          <p:cNvPicPr/>
          <p:nvPr/>
        </p:nvPicPr>
        <p:blipFill>
          <a:blip r:embed="rId1"/>
          <a:stretch/>
        </p:blipFill>
        <p:spPr>
          <a:xfrm>
            <a:off x="3276720" y="2997360"/>
            <a:ext cx="4535280" cy="31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Вакцины от ВИЧ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НЕТ 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Nd9GcTBc457MGi2WEwaXZsnb475CUPj-jnaUwFTi-vW2LCGEbdm9Z-frw"/>
          <p:cNvPicPr/>
          <p:nvPr/>
        </p:nvPicPr>
        <p:blipFill>
          <a:blip r:embed="rId1"/>
          <a:stretch/>
        </p:blipFill>
        <p:spPr>
          <a:xfrm>
            <a:off x="1042920" y="4076640"/>
            <a:ext cx="3960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ществует ли «группа риска» по заражению ВИЧ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ANd9GcSgWlosaSaw2o6XPYeeSfA_5YVbtlRqh3XKzLif5a1dysDeHa4swg"/>
          <p:cNvPicPr/>
          <p:nvPr/>
        </p:nvPicPr>
        <p:blipFill>
          <a:blip r:embed="rId1"/>
          <a:stretch/>
        </p:blipFill>
        <p:spPr>
          <a:xfrm>
            <a:off x="2484360" y="2997360"/>
            <a:ext cx="4535640" cy="35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УЗНАТЬ ЕСТЬ ЛИ У ТЕБЯ ВИЧ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ANd9GcTsi0HtAFHTIjM7JAOU3WNgox-qQccUBwCUEc0n9J61J63SfOM3OQ"/>
          <p:cNvPicPr/>
          <p:nvPr/>
        </p:nvPicPr>
        <p:blipFill>
          <a:blip r:embed="rId1"/>
          <a:stretch/>
        </p:blipFill>
        <p:spPr>
          <a:xfrm>
            <a:off x="1835280" y="3357720"/>
            <a:ext cx="4157640" cy="26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ществуют ли легальные наркоти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ANd9GcQxw7PPr8bBcUlbSPr2m7Fno3e70ogZ0GSfvGs6dIhFNCLaGALCPQ"/>
          <p:cNvPicPr/>
          <p:nvPr/>
        </p:nvPicPr>
        <p:blipFill>
          <a:blip r:embed="rId1"/>
          <a:stretch/>
        </p:blipFill>
        <p:spPr>
          <a:xfrm>
            <a:off x="2771640" y="3357720"/>
            <a:ext cx="3816360" cy="291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КАКОГО ВОЗРАСТА НАСТУПАЕТ УГОЛОВНАЯ ОТВЕТСТВЕННОСТЬ ЗА ПРЕСТУПЛЕНИЯ, СВЯЗАННЫЕ С НАРКОТИК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ANd9GcT6Oj0axdKBiGK3870z77jqrpqgdvvvdr5SIuMCl-nc522k2xHj"/>
          <p:cNvPicPr/>
          <p:nvPr/>
        </p:nvPicPr>
        <p:blipFill>
          <a:blip r:embed="rId1"/>
          <a:stretch/>
        </p:blipFill>
        <p:spPr>
          <a:xfrm>
            <a:off x="4716360" y="4724280"/>
            <a:ext cx="417672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8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является современным и достоверным способом определения наличия наркотиков в организм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ANd9GcSVj8H8R1oM6POXMJEjncpdbjCAD5MXCI__IDRQqGZgRHgTgb1eGQ"/>
          <p:cNvPicPr/>
          <p:nvPr/>
        </p:nvPicPr>
        <p:blipFill>
          <a:blip r:embed="rId1"/>
          <a:stretch/>
        </p:blipFill>
        <p:spPr>
          <a:xfrm>
            <a:off x="6084720" y="4292640"/>
            <a:ext cx="280836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9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ВЫ ПОСЛЕДСТВИЯ ПРИЁМА НАРКОТИК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ANd9GcTfNdfvLHdUnfE5UFJ7aoP_BBKd3LuEnvVqZHN22HTt2TODTJrI"/>
          <p:cNvPicPr/>
          <p:nvPr/>
        </p:nvPicPr>
        <p:blipFill>
          <a:blip r:embed="rId1"/>
          <a:stretch/>
        </p:blipFill>
        <p:spPr>
          <a:xfrm>
            <a:off x="3492360" y="335772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0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ЯВЛЯЕТСЯ СИМВОЛОМ БОРЬБЫ С ВИЧ И СПИД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ANd9GcTvJZjwhGc3ehfC3pO_XqqEOq_YM9OiT40xynUg1xVrrPpzqeD9"/>
          <p:cNvPicPr/>
          <p:nvPr/>
        </p:nvPicPr>
        <p:blipFill>
          <a:blip r:embed="rId1"/>
          <a:stretch/>
        </p:blipFill>
        <p:spPr>
          <a:xfrm>
            <a:off x="2771640" y="321300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ANd9GcS0gv0jY5nLxm3_rsKlUn_A4pVxbFv_hYpBWIs1LHqQAQGD5o_Uf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8" descr="ANd9GcSCtxFbBrwsenCC8Ua7JfOYJkAf4UaFylME0xvBbJdieaVvgI6fHw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0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ANd9GcTlyrJp5qYUKmBUwmHkFGN3kXPG1kxcsbQ1fniyhF9ds5rUaqqSGA"/>
          <p:cNvPicPr/>
          <p:nvPr/>
        </p:nvPicPr>
        <p:blipFill>
          <a:blip r:embed="rId2"/>
          <a:stretch/>
        </p:blipFill>
        <p:spPr>
          <a:xfrm>
            <a:off x="4572000" y="1628640"/>
            <a:ext cx="410364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ANd9GcSeAWzeiLFkpH2CStQTmNozcGCDqaoA3PiBKvu0EEniH1ruvVbhPQ"/>
          <p:cNvPicPr/>
          <p:nvPr/>
        </p:nvPicPr>
        <p:blipFill>
          <a:blip r:embed="rId1"/>
          <a:stretch/>
        </p:blipFill>
        <p:spPr>
          <a:xfrm>
            <a:off x="468360" y="1700280"/>
            <a:ext cx="4103640" cy="46814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0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155520" y="46080"/>
            <a:ext cx="18385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5" descr="ANd9GcTViB7Aq5ytgbEqgYm-rTIvywynsXSSau1rdxQ83Qf6ifCWrglHEw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508"/>
                </a:solidFill>
                <a:latin typeface="Arial"/>
              </a:rPr>
              <a:t>В  мир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50 миллионнов</a:t>
            </a:r>
            <a:r>
              <a:rPr b="0" lang="ru-RU" sz="4000" spc="-1" strike="noStrike">
                <a:solidFill>
                  <a:srgbClr val="000508"/>
                </a:solidFill>
                <a:latin typeface="Arial"/>
              </a:rPr>
              <a:t> ВИЧ-инфицирован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коло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6000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человек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фицируется  ежеднев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упреждения СПИДа только на одного ВИЧ-инфицированного необходимо потратить от 8-12 тысяч долларов в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8" descr="ANd9GcScae3mfv3QHzwc-4h2p_OZiJ98cosPls0mjNEKV0bfy3AOABrwyA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482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ANd9GcThrrOkbcYIHjcVbKfIUA1gRKxGgqr7diLAZCZ2ARlcFtBJzk9O-A"/>
          <p:cNvPicPr/>
          <p:nvPr/>
        </p:nvPicPr>
        <p:blipFill>
          <a:blip r:embed="rId2"/>
          <a:stretch/>
        </p:blipFill>
        <p:spPr>
          <a:xfrm>
            <a:off x="4643280" y="1484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8" descr="ANd9GcRPls6g_85jO4Dzh-TMVJIkAd7p1gUfMOieVsMAalTASCwdg1FF"/>
          <p:cNvPicPr/>
          <p:nvPr/>
        </p:nvPicPr>
        <p:blipFill>
          <a:blip r:embed="rId1"/>
          <a:stretch/>
        </p:blipFill>
        <p:spPr>
          <a:xfrm>
            <a:off x="539640" y="1700280"/>
            <a:ext cx="3961080" cy="38894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9"/>
          <p:cNvSpPr/>
          <p:nvPr/>
        </p:nvSpPr>
        <p:spPr>
          <a:xfrm>
            <a:off x="15552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1" descr="ANd9GcTVBacrG8Y0JGUoPk0SRHwlDiOj7aEoL5KQGOxfMQ434T8V7Hng5w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ANd9GcTG9IJCl0FETvTnSHnVt2J14AX0uEny1Njo8vvDLW_7JMYBLIbA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9752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р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Сколько бы ты не просмотрел подобного материала, это будет абсолютно бесполезно,  если прочитанная информация не коснется твоего сердца и не будет осозн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4643280" y="4941720"/>
            <a:ext cx="4248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Улыбающееся лицо 7"/>
          <p:cNvSpPr/>
          <p:nvPr/>
        </p:nvSpPr>
        <p:spPr>
          <a:xfrm>
            <a:off x="1979640" y="1916280"/>
            <a:ext cx="4753080" cy="4176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УДАЧ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щее число з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арегистрированны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осителей ВИЧ-инфекции превысило 550 тыс. чело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ANd9GcRi2NBBgh8Awg0CndShITnb0yZLP4Tv3g2ehGkkUVmmkrZlMCoS"/>
          <p:cNvPicPr/>
          <p:nvPr/>
        </p:nvPicPr>
        <p:blipFill>
          <a:blip r:embed="rId1"/>
          <a:stretch/>
        </p:blipFill>
        <p:spPr>
          <a:xfrm>
            <a:off x="5076720" y="3500280"/>
            <a:ext cx="3816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сновной путь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нфицирования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олодеж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употребление наркотических веществ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ANd9GcRfTS6O5wo88i2yasvqiLcPTZObt93vvqdzsNFj7gI3bPzYUrqU8Q"/>
          <p:cNvPicPr/>
          <p:nvPr/>
        </p:nvPicPr>
        <p:blipFill>
          <a:blip r:embed="rId1"/>
          <a:stretch/>
        </p:blipFill>
        <p:spPr>
          <a:xfrm>
            <a:off x="3132000" y="4653000"/>
            <a:ext cx="3168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ANd9GcQhg8_o6zYRBBLrdgLiwwq_avm6_WAuJEXILURtgAJZCuugqVhOcQ"/>
          <p:cNvPicPr/>
          <p:nvPr/>
        </p:nvPicPr>
        <p:blipFill>
          <a:blip r:embed="rId1"/>
          <a:stretch/>
        </p:blipFill>
        <p:spPr>
          <a:xfrm>
            <a:off x="395280" y="333360"/>
            <a:ext cx="4464000" cy="3240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386160" y="2467080"/>
            <a:ext cx="237168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3" descr="ANd9GcQXqF5fm_pJDbuOLVWqLYuB2nJiClm2r2qJyqhFbN2dNrnhWCmGuvzUfjE"/>
          <p:cNvPicPr/>
          <p:nvPr/>
        </p:nvPicPr>
        <p:blipFill>
          <a:blip r:embed="rId2"/>
          <a:stretch/>
        </p:blipFill>
        <p:spPr>
          <a:xfrm>
            <a:off x="5435640" y="2060640"/>
            <a:ext cx="3457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ANd9GcT9skpjU6SVbtJ-rbKXxFCrWI9zG3HQoHh2pcUDVInIB49hgbIU"/>
          <p:cNvPicPr/>
          <p:nvPr/>
        </p:nvPicPr>
        <p:blipFill>
          <a:blip r:embed="rId1"/>
          <a:stretch/>
        </p:blipFill>
        <p:spPr>
          <a:xfrm>
            <a:off x="539640" y="476280"/>
            <a:ext cx="4537080" cy="345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ANd9GcTHlmgfBcmQjleBohK0QcF4yF-dzIWyyjdcRWow__Wi61xhIRWAkw"/>
          <p:cNvPicPr/>
          <p:nvPr/>
        </p:nvPicPr>
        <p:blipFill>
          <a:blip r:embed="rId2"/>
          <a:stretch/>
        </p:blipFill>
        <p:spPr>
          <a:xfrm>
            <a:off x="5435640" y="2205000"/>
            <a:ext cx="34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10:23Z</dcterms:created>
  <dc:creator>ГБОУ СПО СГТ</dc:creator>
  <dc:description/>
  <dc:language>en-US</dc:language>
  <cp:lastModifiedBy>user</cp:lastModifiedBy>
  <dcterms:modified xsi:type="dcterms:W3CDTF">2015-10-15T07:15:09Z</dcterms:modified>
  <cp:revision>15</cp:revision>
  <dc:subject/>
  <dc:title>1 декабря-день борьбы  со СПИД  ВИЧ</dc:title>
</cp:coreProperties>
</file>