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79D-B47E-416F-AF5D-448B0B3C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3F0-5D4D-4189-996C-98999E6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1AE-A497-4C8B-A1C3-6573E6D2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69C-EA97-42F9-BACC-5600F9AE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1C89-7FE2-4016-94CE-43D8A011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80E0-7FB7-4B0D-903F-2E29F4C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E92-64E6-436C-ACE5-16E4518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A04E-C4C9-464F-BC9E-306C9F86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9165-1B3E-44D6-8840-853BC305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E311-D49E-46C2-ABF5-06834D4D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C3AD-681E-4FF7-8503-7877D8A4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28A-449A-460D-BF5E-B179FFCF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DBD-06DE-4859-9A26-7AE8038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B5E7-DD76-471F-8D71-739E2C9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A16-BD82-4AF4-9976-AAD0AB7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6AB-4932-4779-B7B6-36A560D2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B51-55B2-419C-93EC-DC4BB7CB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08C-3FD7-4058-B13D-DDBEE05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8C0-6637-4562-9B50-224D6532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5BF-0611-4274-B574-BFD0F66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DD6-53C5-4813-959E-BE7AD3C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8B3-D25F-4D55-817A-0615034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436-1D7A-4329-BCAA-971134C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0ED-51FF-47E1-8926-626C582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8B8D-E979-42AB-B8C1-4823FA929D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8E3-8626-40CA-8E04-9FE57D87A6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«Духовно-нравственное воспитание дошкольников в процессе организации праздников»</a:t>
            </a:r>
            <a:br>
              <a:rPr sz="3200"/>
            </a:b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3580920"/>
            <a:ext cx="403884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a50021"/>
                </a:solidFill>
                <a:latin typeface="Times New Roman"/>
              </a:rPr>
              <a:t>Дорошенко Наталья Геннадьевна, музыкальный руководитель МДОУ «ЦРР – детский сад «Ивушка» г. Абак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Пусть каждый припомнит своё детство, и он увидит, что праздник для ребёнка совсем не то, что для нас, взрослых. Что это действительно событие в детской жизни. Что ребёнок считает дни от праздника до праздника, как считаем мы свои годы от одного важного события нашей жизни, до другого. И наоборот тускло и серо было бы это детство, если бы из него выбросить все эти  праздники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нстантин Дмитриевич Уш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солнце"/>
          <p:cNvPicPr/>
          <p:nvPr/>
        </p:nvPicPr>
        <p:blipFill>
          <a:blip r:embed="rId2"/>
          <a:stretch/>
        </p:blipFill>
        <p:spPr>
          <a:xfrm>
            <a:off x="5562720" y="228600"/>
            <a:ext cx="33242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rcRect l="0" t="0" r="-1955" b="0"/>
          <a:stretch/>
        </p:blipFill>
        <p:spPr>
          <a:xfrm>
            <a:off x="3886200" y="2895480"/>
            <a:ext cx="5029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313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4035240" cy="541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295280" y="3429000"/>
            <a:ext cx="3505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5-10-15T08:13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