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4F1-80D2-45C2-9D34-4B403895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0E4-BC83-4E9E-8237-6C44B0B7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AAD-BBE7-46AC-8913-6F7548E4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B54-2E4F-48D4-AF6B-CBE822B9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757E-BB11-464A-A551-4D2AF7CB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26A5-892A-40E5-AAD2-A6FF120B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10FF-8B2F-4788-95CD-8BFBF411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ECF2-D68C-485E-AED0-2A717EEE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C83B-013E-4339-A733-EC27AE02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8192-9ECD-43F6-987C-FD6C8B36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6696-C4A5-4B6D-83A2-7E0DA211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321-AF47-41B2-A583-D65CB116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0CAC-F510-4D8A-8DB5-4ABD249A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BE8A-F198-4CD8-A8B8-FBF16014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2123-9458-4D2D-934C-9E82E59D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AAA6-06B5-4529-BB3F-852B04F8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AC35-3A9D-4812-9ECA-3A3B184B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A19-CC36-4D55-916D-AF10F333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22C-E5F5-4939-958F-227AF25B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4D9-29EC-4014-95EE-5C2FA3ED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A09-2D84-413A-BC82-B46F35AA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22E-F3F7-4BDE-B528-B6B6CC35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06A-A698-4A42-B6E0-60D9805C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8EC-F8A9-41DD-952C-2EA23BA6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540D-9985-419A-BDE0-54A14E5130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D940-B4B5-4289-8C6D-FA73A8F982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«Духовно-нравственное воспитание дошкольников в процессе организации праздников»</a:t>
            </a:r>
            <a:br>
              <a:rPr sz="3200"/>
            </a:b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120" y="3580920"/>
            <a:ext cx="403884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a50021"/>
                </a:solidFill>
                <a:latin typeface="Times New Roman"/>
              </a:rPr>
              <a:t>Дорошенко Наталья Геннадьевна, музыкальный руководитель МДОУ «ЦРР – детский сад «Ивушка» г. Абака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Пусть каждый припомнит своё детство, и он увидит, что праздник для ребёнка совсем не то, что для нас, взрослых. Что это действительно событие в детской жизни. Что ребёнок считает дни от праздника до праздника, как считаем мы свои годы от одного важного события нашей жизни, до другого. И наоборот тускло и серо было бы это детство, если бы из него выбросить все эти  праздники…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онстантин Дмитриевич Уши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96252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солнце"/>
          <p:cNvPicPr/>
          <p:nvPr/>
        </p:nvPicPr>
        <p:blipFill>
          <a:blip r:embed="rId2"/>
          <a:stretch/>
        </p:blipFill>
        <p:spPr>
          <a:xfrm>
            <a:off x="5562720" y="228600"/>
            <a:ext cx="3324240" cy="365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rcRect l="0" t="0" r="-1955" b="0"/>
          <a:stretch/>
        </p:blipFill>
        <p:spPr>
          <a:xfrm>
            <a:off x="3886200" y="2895480"/>
            <a:ext cx="50292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3138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4035240" cy="5410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295280" y="3429000"/>
            <a:ext cx="35053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15-10-15T08:13:2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