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674C-CFA5-4B46-930B-29360D39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B10-4100-4370-9047-D1D024C8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D09-8349-4135-9977-071F1EA3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5DE-F141-4355-AB4B-CA874673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1DD0-A8C6-418A-85D4-979E0CC2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0C9-E6CE-491C-B051-45D4F7F8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0C14-54CE-43F6-88A6-8F8006E4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2348-F828-4B82-A28C-6B94EAC7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16D-E885-4C03-9E8C-52FB9E73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5012-468D-485B-B7CF-83956E6D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2A7F-6A41-461E-9BDF-228B53ED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4D9-7001-4703-A92B-98228ED2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6252-7EB9-4D9D-81D9-F65D48AD9B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fotoramochki.com/fon/zhelt/fony_37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Азбука театр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User\Desktop\К аттестации\Открытый урок\все для отнытого урока\Открытыйурок 27.01.15\15365_premera-v-teatre---murav.jpg"/>
          <p:cNvPicPr/>
          <p:nvPr/>
        </p:nvPicPr>
        <p:blipFill>
          <a:blip r:embed="rId1"/>
          <a:stretch/>
        </p:blipFill>
        <p:spPr>
          <a:xfrm>
            <a:off x="0" y="214200"/>
            <a:ext cx="911700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User\Desktop\К аттестации\Открытый урок\все для отнытого урока\Открытыйурок 27.01.15\b4aacfc98f6b1bae2990efa67af4d676_39.jpg"/>
          <p:cNvPicPr/>
          <p:nvPr/>
        </p:nvPicPr>
        <p:blipFill>
          <a:blip r:embed="rId1"/>
          <a:stretch/>
        </p:blipFill>
        <p:spPr>
          <a:xfrm>
            <a:off x="0" y="214200"/>
            <a:ext cx="92044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User\Desktop\К аттестации\Открытый урок\все для отнытого урока\Открытыйурок 27.01.15\1386_8e6basyroega_ramka.jpg"/>
          <p:cNvPicPr/>
          <p:nvPr/>
        </p:nvPicPr>
        <p:blipFill>
          <a:blip r:embed="rId1"/>
          <a:stretch/>
        </p:blipFill>
        <p:spPr>
          <a:xfrm>
            <a:off x="-4680" y="285840"/>
            <a:ext cx="9148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User\Desktop\К аттестации\Открытый урок\все для отнытого урока\Открытыйурок 27.01.15\dsc06490.jpg"/>
          <p:cNvPicPr/>
          <p:nvPr/>
        </p:nvPicPr>
        <p:blipFill>
          <a:blip r:embed="rId1"/>
          <a:stretch/>
        </p:blipFill>
        <p:spPr>
          <a:xfrm>
            <a:off x="0" y="571680"/>
            <a:ext cx="917892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User\Desktop\К аттестации\Открытый урок\все для отнытого урока\Открытыйурок 27.01.15\kutko_syan.jpg"/>
          <p:cNvPicPr/>
          <p:nvPr/>
        </p:nvPicPr>
        <p:blipFill>
          <a:blip r:embed="rId1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User\Desktop\К аттестации\Открытый урок\все для отнытого урока\Открытыйурок 27.01.15\Театральные маски.jpg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7048800"/>
          </a:xfrm>
          <a:prstGeom prst="rect">
            <a:avLst/>
          </a:prstGeom>
          <a:ln w="0">
            <a:noFill/>
          </a:ln>
        </p:spPr>
      </p:pic>
      <p:pic>
        <p:nvPicPr>
          <p:cNvPr id="60" name="Гимн музыкантов - Мы Бродячие Артисты (Меняем слова, и это наша отрядная песня!).mp3" descr=""/>
          <p:cNvPicPr/>
          <p:nvPr/>
        </p:nvPicPr>
        <p:blipFill>
          <a:blip r:embed="rId2"/>
          <a:stretch/>
        </p:blipFill>
        <p:spPr>
          <a:xfrm>
            <a:off x="71424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890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User\Desktop\К аттестации\Открытый урок\все для отнытого урока\Открытыйурок 27.01.15\Театральные маски.jpg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7048800"/>
          </a:xfrm>
          <a:prstGeom prst="rect">
            <a:avLst/>
          </a:prstGeom>
          <a:ln w="0">
            <a:noFill/>
          </a:ln>
        </p:spPr>
      </p:pic>
      <p:pic>
        <p:nvPicPr>
          <p:cNvPr id="62" name="Странная СМС))) - У оленя дом большой))).mp3" descr=""/>
          <p:cNvPicPr/>
          <p:nvPr/>
        </p:nvPicPr>
        <p:blipFill>
          <a:blip r:embed="rId2"/>
          <a:stretch/>
        </p:blipFill>
        <p:spPr>
          <a:xfrm>
            <a:off x="642960" y="578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517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User\Desktop\К аттестации\Открытый урок\все для отнытого урока\Открытыйурок 27.01.15\Театральные маски.jpg"/>
          <p:cNvPicPr/>
          <p:nvPr/>
        </p:nvPicPr>
        <p:blipFill>
          <a:blip r:embed="rId1"/>
          <a:stretch/>
        </p:blipFill>
        <p:spPr>
          <a:xfrm>
            <a:off x="0" y="-19044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64" name="Приходи, сказка.mp3" descr=""/>
          <p:cNvPicPr/>
          <p:nvPr/>
        </p:nvPicPr>
        <p:blipFill>
          <a:blip r:embed="rId2"/>
          <a:stretch/>
        </p:blipFill>
        <p:spPr>
          <a:xfrm>
            <a:off x="71424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74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User\Desktop\К аттестации\Открытый урок\все для отнытого урока\Открытыйурок 27.01.15\Театральные маски.jpg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7048800"/>
          </a:xfrm>
          <a:prstGeom prst="rect">
            <a:avLst/>
          </a:prstGeom>
          <a:ln w="0">
            <a:noFill/>
          </a:ln>
        </p:spPr>
      </p:pic>
      <p:pic>
        <p:nvPicPr>
          <p:cNvPr id="44" name="Приходи, сказк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74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User\Desktop\К аттестации\Открытый урок\все для отнытого урока\Открытыйурок 27.01.15\МЕЛЬПОМЕНА.jpg"/>
          <p:cNvPicPr/>
          <p:nvPr/>
        </p:nvPicPr>
        <p:blipFill>
          <a:blip r:embed="rId1"/>
          <a:stretch/>
        </p:blipFill>
        <p:spPr>
          <a:xfrm>
            <a:off x="2292480" y="0"/>
            <a:ext cx="455904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Танцы народов мира - Сиртаки.mp3" descr=""/>
          <p:cNvPicPr/>
          <p:nvPr/>
        </p:nvPicPr>
        <p:blipFill>
          <a:blip r:embed="rId2"/>
          <a:stretch/>
        </p:blipFill>
        <p:spPr>
          <a:xfrm>
            <a:off x="2500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6346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User\Desktop\К аттестации\Открытый урок\все для отнытого урока\Открытыйурок 27.01.15\Афинский акрополь. Театр Диониса (1)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User\Desktop\К аттестации\Открытый урок\все для отнытого урока\Открытыйурок 27.01.15\Древний театр.jpg"/>
          <p:cNvPicPr/>
          <p:nvPr/>
        </p:nvPicPr>
        <p:blipFill>
          <a:blip r:embed="rId1"/>
          <a:stretch/>
        </p:blipFill>
        <p:spPr>
          <a:xfrm>
            <a:off x="14400" y="285840"/>
            <a:ext cx="91296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User\Desktop\К аттестации\Открытый урок\все для отнытого урока\Открытыйурок 27.01.15\Котурны.jpg"/>
          <p:cNvPicPr/>
          <p:nvPr/>
        </p:nvPicPr>
        <p:blipFill>
          <a:blip r:embed="rId1"/>
          <a:stretch/>
        </p:blipFill>
        <p:spPr>
          <a:xfrm>
            <a:off x="1214280" y="0"/>
            <a:ext cx="600084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User\Desktop\К аттестации\Открытый урок\все для отнытого урока\Открытыйурок 27.01.15\Скоморохи (2)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User\Desktop\К аттестации\Открытый урок\все для отнытого урока\Открытыйурок 27.01.15\Федор Волков.jpg"/>
          <p:cNvPicPr/>
          <p:nvPr/>
        </p:nvPicPr>
        <p:blipFill>
          <a:blip r:embed="rId1"/>
          <a:stretch/>
        </p:blipFill>
        <p:spPr>
          <a:xfrm>
            <a:off x="1814400" y="0"/>
            <a:ext cx="55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esktop\К аттестации\Открытый урок\все для отнытого урока\Открытыйурок 27.01.15\15363_premera-v-teatre---murav.jpg"/>
          <p:cNvPicPr/>
          <p:nvPr/>
        </p:nvPicPr>
        <p:blipFill>
          <a:blip r:embed="rId1"/>
          <a:stretch/>
        </p:blipFill>
        <p:spPr>
          <a:xfrm>
            <a:off x="0" y="214200"/>
            <a:ext cx="9117000" cy="6072480"/>
          </a:xfrm>
          <a:prstGeom prst="rect">
            <a:avLst/>
          </a:prstGeom>
          <a:ln w="0">
            <a:noFill/>
          </a:ln>
        </p:spPr>
      </p:pic>
      <p:pic>
        <p:nvPicPr>
          <p:cNvPr id="53" name="08.ГОРНОМАРИЙСКИЕ МЕЛОДИИ.гус - 56.mp3" descr=""/>
          <p:cNvPicPr/>
          <p:nvPr/>
        </p:nvPicPr>
        <p:blipFill>
          <a:blip r:embed="rId2"/>
          <a:stretch/>
        </p:blipFill>
        <p:spPr>
          <a:xfrm>
            <a:off x="21420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74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4T16:31:29Z</dcterms:created>
  <dc:creator>User</dc:creator>
  <dc:description/>
  <dc:language>en-US</dc:language>
  <cp:lastModifiedBy>User</cp:lastModifiedBy>
  <dcterms:modified xsi:type="dcterms:W3CDTF">2015-10-14T16:39:38Z</dcterms:modified>
  <cp:revision>2</cp:revision>
  <dc:subject/>
  <dc:title>Азбука театра</dc:title>
</cp:coreProperties>
</file>