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F3D-0ADE-49AA-A4A8-934596F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CB6-E98C-472E-B81A-1B3AA60A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8C0-580F-4E5A-BC03-A42A3D7A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7C3-7CF5-467F-9C41-DA04B966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BDF-CF64-4D74-8151-1EB154FB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07B-7150-4D5E-BCB4-246BEAAF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617-47F1-410D-B4DF-1E861321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683-A032-49B8-A66F-F3E38E9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685-E1B0-414C-84D2-5C7D5FC0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CB7-B3DD-4450-B0C7-458BE8A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F17-E6F2-49FA-B5D0-A91D991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16D-1D88-4979-BE1B-708564EE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7011-AFCB-4F3D-BE03-8CF1BDDB9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toramochki.com/fon/zhelt/fony_37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Азбука театр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К аттестации\Открытый урок\все для отнытого урока\Открытыйурок 27.01.15\15365_premera-v-teatre---murav.jpg"/>
          <p:cNvPicPr/>
          <p:nvPr/>
        </p:nvPicPr>
        <p:blipFill>
          <a:blip r:embed="rId1"/>
          <a:stretch/>
        </p:blipFill>
        <p:spPr>
          <a:xfrm>
            <a:off x="0" y="214200"/>
            <a:ext cx="9117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К аттестации\Открытый урок\все для отнытого урока\Открытыйурок 27.01.15\b4aacfc98f6b1bae2990efa67af4d676_39.jpg"/>
          <p:cNvPicPr/>
          <p:nvPr/>
        </p:nvPicPr>
        <p:blipFill>
          <a:blip r:embed="rId1"/>
          <a:stretch/>
        </p:blipFill>
        <p:spPr>
          <a:xfrm>
            <a:off x="0" y="214200"/>
            <a:ext cx="9204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К аттестации\Открытый урок\все для отнытого урока\Открытыйурок 27.01.15\1386_8e6basyroega_ramka.jpg"/>
          <p:cNvPicPr/>
          <p:nvPr/>
        </p:nvPicPr>
        <p:blipFill>
          <a:blip r:embed="rId1"/>
          <a:stretch/>
        </p:blipFill>
        <p:spPr>
          <a:xfrm>
            <a:off x="-4680" y="285840"/>
            <a:ext cx="9148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К аттестации\Открытый урок\все для отнытого урока\Открытыйурок 27.01.15\dsc06490.jpg"/>
          <p:cNvPicPr/>
          <p:nvPr/>
        </p:nvPicPr>
        <p:blipFill>
          <a:blip r:embed="rId1"/>
          <a:stretch/>
        </p:blipFill>
        <p:spPr>
          <a:xfrm>
            <a:off x="0" y="571680"/>
            <a:ext cx="91789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К аттестации\Открытый урок\все для отнытого урока\Открытыйурок 27.01.15\kutko_syan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60" name="Гимн музыкантов - Мы Бродячие Артисты (Меняем слова, и это наша отрядная песня!).mp3" descr=""/>
          <p:cNvPicPr/>
          <p:nvPr/>
        </p:nvPicPr>
        <p:blipFill>
          <a:blip r:embed="rId2"/>
          <a:stretch/>
        </p:blipFill>
        <p:spPr>
          <a:xfrm>
            <a:off x="71424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890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62" name="Странная СМС))) - У оленя дом большой))).mp3" descr=""/>
          <p:cNvPicPr/>
          <p:nvPr/>
        </p:nvPicPr>
        <p:blipFill>
          <a:blip r:embed="rId2"/>
          <a:stretch/>
        </p:blipFill>
        <p:spPr>
          <a:xfrm>
            <a:off x="64296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51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64" name="Приходи, сказка.mp3" descr=""/>
          <p:cNvPicPr/>
          <p:nvPr/>
        </p:nvPicPr>
        <p:blipFill>
          <a:blip r:embed="rId2"/>
          <a:stretch/>
        </p:blipFill>
        <p:spPr>
          <a:xfrm>
            <a:off x="71424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4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44" name="Приходи, сказ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К аттестации\Открытый урок\все для отнытого урока\Открытыйурок 27.01.15\МЕЛЬПОМЕНА.jpg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Танцы народов мира - Сиртаки.mp3" descr=""/>
          <p:cNvPicPr/>
          <p:nvPr/>
        </p:nvPicPr>
        <p:blipFill>
          <a:blip r:embed="rId2"/>
          <a:stretch/>
        </p:blipFill>
        <p:spPr>
          <a:xfrm>
            <a:off x="2500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346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К аттестации\Открытый урок\все для отнытого урока\Открытыйурок 27.01.15\Афинский акрополь. Театр Диониса (1)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К аттестации\Открытый урок\все для отнытого урока\Открытыйурок 27.01.15\Древний театр.jpg"/>
          <p:cNvPicPr/>
          <p:nvPr/>
        </p:nvPicPr>
        <p:blipFill>
          <a:blip r:embed="rId1"/>
          <a:stretch/>
        </p:blipFill>
        <p:spPr>
          <a:xfrm>
            <a:off x="14400" y="285840"/>
            <a:ext cx="91296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К аттестации\Открытый урок\все для отнытого урока\Открытыйурок 27.01.15\Котурны.jpg"/>
          <p:cNvPicPr/>
          <p:nvPr/>
        </p:nvPicPr>
        <p:blipFill>
          <a:blip r:embed="rId1"/>
          <a:stretch/>
        </p:blipFill>
        <p:spPr>
          <a:xfrm>
            <a:off x="1214280" y="0"/>
            <a:ext cx="60008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К аттестации\Открытый урок\все для отнытого урока\Открытыйурок 27.01.15\Скоморохи (2)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К аттестации\Открытый урок\все для отнытого урока\Открытыйурок 27.01.15\Федор Волков.jpg"/>
          <p:cNvPicPr/>
          <p:nvPr/>
        </p:nvPicPr>
        <p:blipFill>
          <a:blip r:embed="rId1"/>
          <a:stretch/>
        </p:blipFill>
        <p:spPr>
          <a:xfrm>
            <a:off x="1814400" y="0"/>
            <a:ext cx="55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К аттестации\Открытый урок\все для отнытого урока\Открытыйурок 27.01.15\15363_premera-v-teatre---murav.jpg"/>
          <p:cNvPicPr/>
          <p:nvPr/>
        </p:nvPicPr>
        <p:blipFill>
          <a:blip r:embed="rId1"/>
          <a:stretch/>
        </p:blipFill>
        <p:spPr>
          <a:xfrm>
            <a:off x="0" y="214200"/>
            <a:ext cx="9117000" cy="6072480"/>
          </a:xfrm>
          <a:prstGeom prst="rect">
            <a:avLst/>
          </a:prstGeom>
          <a:ln w="0">
            <a:noFill/>
          </a:ln>
        </p:spPr>
      </p:pic>
      <p:pic>
        <p:nvPicPr>
          <p:cNvPr id="53" name="08.ГОРНОМАРИЙСКИЕ МЕЛОДИИ.гус - 56.mp3" descr=""/>
          <p:cNvPicPr/>
          <p:nvPr/>
        </p:nvPicPr>
        <p:blipFill>
          <a:blip r:embed="rId2"/>
          <a:stretch/>
        </p:blipFill>
        <p:spPr>
          <a:xfrm>
            <a:off x="214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7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6:31:29Z</dcterms:created>
  <dc:creator>User</dc:creator>
  <dc:description/>
  <dc:language>en-US</dc:language>
  <cp:lastModifiedBy>User</cp:lastModifiedBy>
  <dcterms:modified xsi:type="dcterms:W3CDTF">2015-10-14T16:39:38Z</dcterms:modified>
  <cp:revision>2</cp:revision>
  <dc:subject/>
  <dc:title>Азбука театра</dc:title>
</cp:coreProperties>
</file>