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EC67-2AE2-47E7-84CE-1B4C0764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E2E2-EDCC-4E12-ACE2-C91F25CE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ECA6-90F5-4B3C-AD33-2EA36F4C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C3C9-A95E-454C-A754-F94EA124E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CC77-10F8-40B2-9C41-11264EF8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E0D1-7BCB-4B5F-9AE3-3D64590D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2021-57E0-4586-B5E5-E693B349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95B0-83D6-4176-AB37-01581350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C328-AC07-4375-846C-C6F4649F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9891-D242-4997-9263-7304A27B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2760-68E5-4306-9966-02610BF4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06A0-BAC6-41AE-ADF7-92D1E702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6F54-7ACA-414C-892D-D3FD427BD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Дидактические игры по краеведени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идактическая игра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Кто быстре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531720"/>
            <a:ext cx="9144000" cy="635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17080" cy="7120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7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идактическая игра 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«Одень кукл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5805360"/>
            <a:ext cx="8675640" cy="105264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идактическая игра: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«Назови и расскажи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04000" cy="584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25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-252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130320"/>
            <a:ext cx="10153800" cy="69883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0" y="475920"/>
            <a:ext cx="9936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идактическая игра: «Построй из кубиков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570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идактическая игра: «Пазл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684360" y="0"/>
            <a:ext cx="10838160" cy="7740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684720" y="6079680"/>
            <a:ext cx="982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Дидактическая игра: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«Отгадай ребу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7ed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63640" y="549360"/>
            <a:ext cx="5688000" cy="4016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869000"/>
            <a:ext cx="8229600" cy="1287360"/>
          </a:xfrm>
          <a:prstGeom prst="rect">
            <a:avLst/>
          </a:prstGeom>
          <a:solidFill>
            <a:srgbClr val="e7ebb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идактическая игра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Что вокруг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10225080" cy="6897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573408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Дидактическая игра: «Вокзал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96720" y="-138240"/>
            <a:ext cx="11090160" cy="7108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876640"/>
            <a:ext cx="9685440" cy="981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идактическая игра: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«Маршруты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родного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город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0729800" cy="78613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044720" y="-36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Дидактическая игра: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Построй изб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85440" cy="6637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дактическая игра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Построй любимый город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541440" y="0"/>
            <a:ext cx="10153800" cy="6986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Дидактическая игра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«Построй здан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8:53:08Z</dcterms:created>
  <dc:creator>USER</dc:creator>
  <dc:description/>
  <dc:language>en-US</dc:language>
  <cp:lastModifiedBy>User</cp:lastModifiedBy>
  <dcterms:modified xsi:type="dcterms:W3CDTF">2009-04-11T19:37:29Z</dcterms:modified>
  <cp:revision>4</cp:revision>
  <dc:subject/>
  <dc:title>Дидактические игры по краеведению</dc:title>
</cp:coreProperties>
</file>