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D654-32C1-4011-90F1-4FDAB868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3A3B-47DB-4551-A83F-E00C3223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46F8-A937-4E68-AB68-64428755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3DF9-CA2B-4D48-8D23-505DB87C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1B1A-7849-4E9C-B063-A2BF86CE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B50A-BD81-4777-BA60-ED7AD982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0466-0C58-40FA-B9FD-9A0A19F6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DB6D-3ACF-4325-852F-FDC3726B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A62F-96BC-4212-BB15-6D5095C7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15D9-5A59-41AA-A38F-71AE67CD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00AC-6960-4EFD-A771-EFD73F09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81D2-FA9A-47DA-9512-553D06E8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3A10-321C-4922-BF16-572684335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Дидактические игры по краеведени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идактическая игра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Кто быстре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635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17080" cy="7120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7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идактическая игра 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«Одень кукл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805360"/>
            <a:ext cx="8675640" cy="10526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идактическая игра: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«Назови и расскаж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04000" cy="584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25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252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130320"/>
            <a:ext cx="10153800" cy="69883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0" y="475920"/>
            <a:ext cx="9936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идактическая игра: «Построй из кубиков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570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дактическая игра: «Пазл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684360" y="0"/>
            <a:ext cx="10838160" cy="7740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684720" y="6079680"/>
            <a:ext cx="982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Дидактическая игра: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«Отгадай ребу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7ed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63640" y="549360"/>
            <a:ext cx="5688000" cy="4016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869000"/>
            <a:ext cx="8229600" cy="1287360"/>
          </a:xfrm>
          <a:prstGeom prst="rect">
            <a:avLst/>
          </a:prstGeom>
          <a:solidFill>
            <a:srgbClr val="e7ebb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идактическая игра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Что вокруг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10225080" cy="6897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573408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Дидактическая игра: «Вокзал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96720" y="-138240"/>
            <a:ext cx="11090160" cy="7108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876640"/>
            <a:ext cx="9685440" cy="981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идактическая игра: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«Маршруты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родного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город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0729800" cy="7861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044720" y="-36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Дидактическая игра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Построй изб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85440" cy="6637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дактическая игра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Построй любимый город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541440" y="0"/>
            <a:ext cx="10153800" cy="6986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идактическая игра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«Построй зда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8:53:08Z</dcterms:created>
  <dc:creator>USER</dc:creator>
  <dc:description/>
  <dc:language>en-US</dc:language>
  <cp:lastModifiedBy>User</cp:lastModifiedBy>
  <dcterms:modified xsi:type="dcterms:W3CDTF">2009-04-11T19:37:29Z</dcterms:modified>
  <cp:revision>4</cp:revision>
  <dc:subject/>
  <dc:title>Дидактические игры по краеведению</dc:title>
</cp:coreProperties>
</file>