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4C7-9B21-4246-AFAB-7AE42C36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D15-2E8D-45DF-8AD4-F8D6BAC9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B35-E841-4F18-B5AD-E72415EF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157-23BB-4880-93ED-F52DFFEA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C2D-2596-4A36-83C6-091D4328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995-2E64-4DEF-96C3-AB6346B6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E9F-9B80-4F95-9517-5C56EB9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9CA-1510-49FE-89D2-2242DB43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E6C-E042-47FE-86CD-D9AE743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721-4FDD-4B11-8EF2-BE524C3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538-BC3F-4677-B1A0-20B36DC5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D31-0D51-4972-A3A9-FD3744E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253-841D-4F93-974A-531BBC995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учитель</cp:lastModifiedBy>
  <dcterms:modified xsi:type="dcterms:W3CDTF">2014-01-15T11:40:20Z</dcterms:modified>
  <cp:revision>10</cp:revision>
  <dc:subject/>
  <dc:title>                    </dc:title>
</cp:coreProperties>
</file>