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926-9C80-4C22-9150-A66F46DA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ABF-C0F1-47DF-8515-43A1C115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BC7-151D-485C-9610-6434D2C2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BEF-4D64-42BE-A869-F8167DF0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93C-9866-4DD7-9FCD-3D3E5F3D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8F7-90F2-4318-BC04-5A2B585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17C-4017-48ED-B335-377110CD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757-440F-4BB7-818A-426E5DFB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8B7-5862-4016-9737-2545EE2C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69C-7251-4B68-B23B-FB1D1DF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290-312C-43B1-8571-020CE1D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8BC-E2F7-43C2-843E-BCBE4E4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6E7-8427-4C74-A27B-657654E6D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учитель</cp:lastModifiedBy>
  <dcterms:modified xsi:type="dcterms:W3CDTF">2014-01-15T11:40:20Z</dcterms:modified>
  <cp:revision>10</cp:revision>
  <dc:subject/>
  <dc:title>                    </dc:title>
</cp:coreProperties>
</file>