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8E2-1CEB-408E-BEBA-BC9A76A8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AE9-A977-4ECA-B1F6-5B18E779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8F5-29ED-4672-8F30-F1E0A4D1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3C6-D80A-47F7-B936-71056780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E3B-07A5-442A-9CCB-D864451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73B-AC8E-40F9-A6B1-AF0F1CB8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002-586A-4140-A24D-856EAC57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4B2-45E0-47B1-A820-989675C1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74E-0783-4387-A51D-F1C8639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287-F680-45D8-BAEE-6E12CEFC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C9B-208B-471A-A92B-F24D452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15E-C688-4C10-AA4D-35AD1F6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5BBB-219A-4A3E-8AE0-FDDC3A4D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hyperlink" Target="http://www.booksite.ru/fulltext/1/001/010/001/244696147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hyperlink" Target="http://www.booksite.ru/fulltext/1/001/010/001/245380487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e.ru/fulltext/1/001/008/003/288.ht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hyperlink" Target="http://www.booksite.ru/fulltext/1/001/009/001/234796128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booksite.ru/fulltext/1/001/008/009/526.ht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508760"/>
            <a:ext cx="66247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Генеалогическое древо семьи Бернул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1558080"/>
            <a:ext cx="67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ын Иоганна I. По образованию юрист. Профессор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а в Берне, профессор математики в Петербург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328536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женец Гронингена. Сын Иоганна I.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ч. В 1725-1733 гг. работал на кафедрах физиологии и механики 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ербургской академии наук. С 1733 г. профессор по кафедре физиологи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750 г. профессор по кафедре механики в Базеле. Почетный чл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ербургской академии нау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ах, завершенных написанным в Петербурге трудом «Гидродинамика» (1738), вывел основное уравнение стационарного движения идеальной жидкости, носящее его имя. Даниил Б. разрабатывал кинетические представления о газа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18900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174024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Иоганна I. По образованию юрист. Профессо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оквенции (красноречия), профессор математики в Базел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019960"/>
            <a:ext cx="74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ший сын Иоганна II. По образованию юрис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троном Берлинской академии наук, там же директор математическог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3960" y="1919880"/>
            <a:ext cx="88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торой сын Иоганна II. По образованию врач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ор красноречия в Базел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119916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тий сын Иоганна II. По образованию юрис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 Петербургской академии наук. Утонул в Нев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68360" y="2203920"/>
            <a:ext cx="44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Даниила II. Профессор технологии в Баз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2318400"/>
            <a:ext cx="840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Кристофа. Профессор технологии в Баз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4437000"/>
            <a:ext cx="633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Леонард Эйле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71840" cy="431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6520" y="18828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Якоб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 (1598-163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4160" y="1412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Николай (1623-170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8880" y="24915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Якоб I (1654-17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24915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Николай (1662-171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0" y="249156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Иоганн I (1667-174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58920" y="28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3572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Жером (1669-176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2160" y="1412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Николай I (1687-175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" y="16279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Николай II (1695-172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62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184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5892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7800" y="314100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Даниил I (1700-178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68000" y="2852280"/>
            <a:ext cx="57492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3960" y="364428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2" action="ppaction://hlinksldjump"/>
              </a:rPr>
              <a:t>Иоганн II (1710-179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07640" y="285264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30520" y="46522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3" action="ppaction://hlinksldjump"/>
              </a:rPr>
              <a:t>Иоганн III (1744-18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80000" y="414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1800" y="34995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4" action="ppaction://hlinksldjump"/>
              </a:rPr>
              <a:t>Даниил II (1751-183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48360" y="371592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436500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5" action="ppaction://hlinksldjump"/>
              </a:rPr>
              <a:t>Якоб II (1759-17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08520" y="4026960"/>
            <a:ext cx="564480" cy="33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594840" y="3862440"/>
            <a:ext cx="3600" cy="38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11600" y="4220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6" action="ppaction://hlinksldjump"/>
              </a:rPr>
              <a:t>Кристоф (1782-18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3040" y="51570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7" action="ppaction://hlinksldjump"/>
              </a:rPr>
              <a:t>Иоганн-Густав (1811-18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86920" y="4638600"/>
            <a:ext cx="3600" cy="38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853272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8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2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2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4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8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4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8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4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6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700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оженец Франкфурта-на-Майно. В 1622 г. переехал н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оянное жительство в Базель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427040"/>
            <a:ext cx="83581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Якоба. Уроженец Базеля. Торговец аптекарски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варами и лекарственными травами. Член Большого совета Базеля и чле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а. Имел 11 детей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19280" y="360"/>
            <a:ext cx="79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 Николая. По образованию богослов. С 1687 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ор математики Базельского университета. Ознакомившись в этом же году с первым мемуаром Г. В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ейбн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дифференциальному исчислению (1684), вскоре блестяще применил новые идеи к изучению свойств ряда кривых.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7644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2276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о с братом Иоганном положил начал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вариационному исчис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этом особое значение имели выдвинутая и частью решенная Якобом Б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опериметрическая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йденное им решение поставленной Иоганном Б. задачи о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ахистохро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оказал т. н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ернулли теор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жный частный случай закона больших чисел. В связи с вычислением суммы одинаковых степеней натуральных чисел открыл т. н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ернулли чи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ботал также в области физики (определение центра качания тел и сопротивления тел различной формы, движущихся в жидкости). Учениками Якоба I был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младший брат Иоганн I, племянник Николай I, член Петербургск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и наук, механик и математик Я. Герман, отец великого Л. Эйлер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ль Эйле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74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622440"/>
            <a:ext cx="812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т Якоба I. Живописец. Член 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еки желанию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ца, уклонился от научной карьеры и стал живописцем. По слова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ременников, весьма посредственным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23479612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816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606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 Якоба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ый ребенок в семье Николая. П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 - врач. С 1695 г. профессор математики Гронинген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итета (Голландия). С 1705 г. профессор математики Базель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итета. Почетный член Петербургской академии наук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565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деятельным сотрудником Лейбница в разработке дифференциального и интегрального исчислений, в области которых им был сделан ряд открытий. Дал первое систематическое изложение дифференциального и интегрального исчислений, продвинул далее разработку методов решения обыкновенных дифференциальных уравнений, поставил классическую задачу 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геодезических лин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шел характерное геометрическое свойство этих линий, а позднее вывел их дифференциальное уравнение. Ожесточённый спор о решении вариационных задач, разгоревшийся между Иоганном и Якобом Б., в некоторой мере способствовал постановке новых проблем в этой области. Иоганну Б. принадлежат также ценные исследования по механике: теория удара, движение тел в сопротивляющейся среде, учение о живой силе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64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2133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т Иоганна I. Торговец аптекарскими товар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71180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Николая. По образованию юрист. Профессо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и в Падуе, профессор логики и права в Базел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55:22Z</dcterms:created>
  <dc:creator>АлинЫч Гейц</dc:creator>
  <dc:description/>
  <dc:language>en-US</dc:language>
  <cp:lastModifiedBy>Алина</cp:lastModifiedBy>
  <dcterms:modified xsi:type="dcterms:W3CDTF">2007-01-30T12:21:21Z</dcterms:modified>
  <cp:revision>11</cp:revision>
  <dc:subject/>
  <dc:title>Слайд 1</dc:title>
</cp:coreProperties>
</file>