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49A-7703-41E7-8A5A-A83C223E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CAA-B572-44B9-8737-7F21D583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6F0-2B66-4569-847D-3AAB45B7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3F6-E899-4D8D-9C29-9C211748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72B-6A8F-4525-AADC-29F841E8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77E-585B-4FF8-BD7F-ADB47D67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224-9B7B-4AA2-BD8F-454C6C03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26E-9126-4D4F-9266-7AFA7FF8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9E2-A026-4452-B20A-BBFFF048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180-B30E-4444-A0D4-CAD60DB4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A8B-EFDE-414A-8692-4F07922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8F0-D500-44CD-A25F-5871ED4A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FC95-7838-40E7-AE84-082287D70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hyperlink" Target="http://www.booksite.ru/fulltext/1/001/010/001/244696147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hyperlink" Target="http://www.booksite.ru/fulltext/1/001/010/001/245380487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booksite.ru/fulltext/1/001/008/003/288.ht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hyperlink" Target="http://www.booksite.ru/fulltext/1/001/009/001/234796128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booksite.ru/fulltext/1/001/008/009/526.ht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508760"/>
            <a:ext cx="662472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Генеалогическое древо семьи Бернул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3280" y="1558080"/>
            <a:ext cx="67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ын Иоганна I. По образованию юрист. Профессор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а в Берне, профессор математики в Петербург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328536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женец Гронингена. Сын Иоганна I. По образован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ач. В 1725-1733 гг. работал на кафедрах физиологии и механики 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ербургской академии наук. С 1733 г. профессор по кафедре физиологи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750 г. профессор по кафедре механики в Базеле. Почетный чл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ербургской академии нау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ботах, завершенных написанным в Петербурге трудом «Гидродинамика» (1738), вывел основное уравнение стационарного движения идеальной жидкости, носящее его имя. Даниил Б. разрабатывал кинетические представления о газа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18900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174024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н Иоганна I. По образованию юрист. Профессо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оквенции (красноречия), профессор математики в Базел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2019960"/>
            <a:ext cx="74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ший сын Иоганна II. По образованию юрист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строном Берлинской академии наук, там же директор математическог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3960" y="1919880"/>
            <a:ext cx="88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торой сын Иоганна II. По образованию врач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ор красноречия в Базел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2920" y="1199160"/>
            <a:ext cx="67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тий сын Иоганна II. По образованию юрист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к Петербургской академии наук. Утонул в Нев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68360" y="2203920"/>
            <a:ext cx="44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н Даниила II. Профессор технологии в Базе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2318400"/>
            <a:ext cx="840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н Кристофа. Профессор технологии в Базе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6000" y="4437000"/>
            <a:ext cx="633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Леонард Эйлер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71840" cy="431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06520" y="18828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Якоб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 (1598-163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4160" y="14122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Николай (1623-170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8880" y="249156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Якоб I (1654-17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270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24915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Николай (1662-171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270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0" y="249156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 action="ppaction://hlinksldjump"/>
              </a:rPr>
              <a:t>Иоганн I (1667-174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258920" y="2852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" y="3572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 action="ppaction://hlinksldjump"/>
              </a:rPr>
              <a:t>Жером (1669-176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2160" y="14122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9" action="ppaction://hlinksldjump"/>
              </a:rPr>
              <a:t>Николай I (1687-175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" y="162792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0" action="ppaction://hlinksldjump"/>
              </a:rPr>
              <a:t>Николай II (1695-172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56000" y="620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427640" y="184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5892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7800" y="314100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1" action="ppaction://hlinksldjump"/>
              </a:rPr>
              <a:t>Даниил I (1700-178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268000" y="2852280"/>
            <a:ext cx="57492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3960" y="3644280"/>
            <a:ext cx="25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2" action="ppaction://hlinksldjump"/>
              </a:rPr>
              <a:t>Иоганн II (1710-179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07640" y="285264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30520" y="465228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3" action="ppaction://hlinksldjump"/>
              </a:rPr>
              <a:t>Иоганн III (1744-180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80000" y="414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1800" y="349956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4" action="ppaction://hlinksldjump"/>
              </a:rPr>
              <a:t>Даниил II (1751-183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48360" y="371592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436500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5" action="ppaction://hlinksldjump"/>
              </a:rPr>
              <a:t>Якоб II (1759-178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08520" y="4026960"/>
            <a:ext cx="564480" cy="33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594840" y="3862440"/>
            <a:ext cx="3600" cy="38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11600" y="4220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6" action="ppaction://hlinksldjump"/>
              </a:rPr>
              <a:t>Кристоф (1782-18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53040" y="51570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7" action="ppaction://hlinksldjump"/>
              </a:rPr>
              <a:t>Иоганн-Густав (1811-18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586920" y="4638600"/>
            <a:ext cx="3600" cy="38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8" action="ppaction://hlinksldjump"/>
          </p:cNvPr>
          <p:cNvSpPr/>
          <p:nvPr/>
        </p:nvSpPr>
        <p:spPr>
          <a:xfrm>
            <a:off x="8532720" y="6308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8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2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2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4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8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4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8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4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6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7006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роженец Франкфурта-на-Майно. В 1622 г. переехал н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тоянное жительство в Базель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427040"/>
            <a:ext cx="83581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н Якоба. Уроженец Базеля. Торговец аптекарским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варами и лекарственными травами. Член Большого совета Базеля и чле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а. Имел 11 детей.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19280" y="360"/>
            <a:ext cx="79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 Николая. По образованию богослов. С 1687 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ор математики Базельского университета. Ознакомившись в этом же году с первым мемуаром Г. В.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ейбн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дифференциальному исчислению (1684), вскоре блестяще применил новые идеи к изучению свойств ряда кривых.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57644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2276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местно с братом Иоганном положил начал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вариационному исчисл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этом особое значение имели выдвинутая и частью решенная Якобом Б.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опериметрическая 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йденное им решение поставленной Иоганном Б. задачи о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рахистохро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оказал т. н.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ернулли теоре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жный частный случай закона больших чисел. В связи с вычислением суммы одинаковых степеней натуральных чисел открыл т. н.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ернулли чи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аботал также в области физики (определение центра качания тел и сопротивления тел различной формы, движущихся в жидкости). Учениками Якоба I был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младший брат Иоганн I, племянник Николай I, член Петербургск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и наук, механик и математик Я. Герман, отец великого Л. Эйлера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ль Эйле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74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622440"/>
            <a:ext cx="812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рат Якоба I. Живописец. Член с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преки желанию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ца, уклонился от научной карьеры и стал живописцем. По словам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временников, весьма посредственным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23479612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8160" cy="2492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26064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 Якоба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ый ребенок в семье Николая. П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ю - врач. С 1695 г. профессор математики Гронинген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итета (Голландия). С 1705 г. профессор математики Базель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итета. Почетный член Петербургской академии наук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56536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деятельным сотрудником Лейбница в разработке дифференциального и интегрального исчислений, в области которых им был сделан ряд открытий. Дал первое систематическое изложение дифференциального и интегрального исчислений, продвинул далее разработку методов решения обыкновенных дифференциальных уравнений, поставил классическую задачу 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геодезических линия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шел характерное геометрическое свойство этих линий, а позднее вывел их дифференциальное уравнение. Ожесточённый спор о решении вариационных задач, разгоревшийся между Иоганном и Якобом Б., в некоторой мере способствовал постановке новых проблем в этой области. Иоганну Б. принадлежат также ценные исследования по механике: теория удара, движение тел в сопротивляющейся среде, учение о живой силе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64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0000" y="2133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рат Иоганна I. Торговец аптекарскими товар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71180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н Николая. По образованию юрист. Профессо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ки в Падуе, профессор логики и права в Базел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317080" y="6237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7493"/>
                </a:moveTo>
                <a:lnTo>
                  <a:pt x="10850" y="7493"/>
                </a:lnTo>
                <a:lnTo>
                  <a:pt x="10850" y="12828"/>
                </a:lnTo>
                <a:cubicBezTo>
                  <a:pt x="10850" y="13751"/>
                  <a:pt x="11651" y="14482"/>
                  <a:pt x="12687" y="14482"/>
                </a:cubicBezTo>
                <a:lnTo>
                  <a:pt x="14349" y="14482"/>
                </a:lnTo>
                <a:cubicBezTo>
                  <a:pt x="15385" y="14482"/>
                  <a:pt x="16186" y="13751"/>
                  <a:pt x="16186" y="12828"/>
                </a:cubicBezTo>
                <a:lnTo>
                  <a:pt x="16186" y="7493"/>
                </a:lnTo>
                <a:lnTo>
                  <a:pt x="14349" y="7493"/>
                </a:lnTo>
                <a:lnTo>
                  <a:pt x="17857" y="3985"/>
                </a:lnTo>
                <a:lnTo>
                  <a:pt x="21530" y="7493"/>
                </a:lnTo>
                <a:lnTo>
                  <a:pt x="19693" y="7493"/>
                </a:lnTo>
                <a:lnTo>
                  <a:pt x="19693" y="12828"/>
                </a:lnTo>
                <a:cubicBezTo>
                  <a:pt x="19693" y="15596"/>
                  <a:pt x="17117" y="18155"/>
                  <a:pt x="14349" y="18155"/>
                </a:cubicBezTo>
                <a:lnTo>
                  <a:pt x="12687" y="18155"/>
                </a:lnTo>
                <a:cubicBezTo>
                  <a:pt x="9919" y="18155"/>
                  <a:pt x="7343" y="15596"/>
                  <a:pt x="734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55:22Z</dcterms:created>
  <dc:creator>АлинЫч Гейц</dc:creator>
  <dc:description/>
  <dc:language>en-US</dc:language>
  <cp:lastModifiedBy>Алина</cp:lastModifiedBy>
  <dcterms:modified xsi:type="dcterms:W3CDTF">2007-01-30T12:21:21Z</dcterms:modified>
  <cp:revision>11</cp:revision>
  <dc:subject/>
  <dc:title>Слайд 1</dc:title>
</cp:coreProperties>
</file>