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12C9-98B9-4FA0-801C-791819B6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46F5-1BBE-4357-A478-2A4AE62B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8BB3-C669-438D-A066-8A0D9FD0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EC4C-AD25-4E04-AE7A-43AD167E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EA78-76E2-41B4-BE42-3E4B6A6D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7058-C4EF-406A-809A-55169ABC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AF3D-7FD6-4B0A-B377-AB0C07DC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48DC-A3DE-4B35-8236-D7E1D269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3BAD-8179-46D1-A7D7-4F0317B4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A7EF-79C0-42D9-893A-F04B8059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0627-254E-4D57-843D-26E559FB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71E1-383F-4AAC-9AC4-BE1F060D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3684-9F6F-40FE-A3A0-A3721F131F5E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Муниципальное бюджетное дошкольное образовательное учреждение </a:t>
            </a:r>
            <a:br>
              <a:rPr sz="1600"/>
            </a:b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«Детский сад № 51» Энгельсского муниципального района Саратовской области</a:t>
            </a: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«Инновационные подходы к планированию игровой деятельности 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детей раннего возраста»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Условия планирования образовательной работы с детьми раннего возраста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- объективная оценка содержания работы в момент планирования;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- выделение целей и задач планирования на определенный период работы (учет темы недели), соотнесение их с Образовательной  программой дошкольного образования, по которой организуется образовательная деятельность в учреждении, с  возрастными особенностями детей и приоритетным направлением деятельности ДОУ;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-четкое представление результатов работы, которые должны быть достигнуты к концу планируемого периода, т.е. иметь представление о целевых ориентирах, прописанных в ФГОС ДО;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-выбор оптимальных путей, средств, методов, помогающих добиться поставленных целей, а значит получить планируемый результат.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Чтобы образовательная деятельность в группах раннего возраста отвечала требованиям и обеспечивала лучшие условия образования и воспитания, игра должна быть ведущим звеном в организации детской жизни.</a:t>
            </a:r>
            <a:br>
              <a:rPr sz="2400"/>
            </a:b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«Утро радостных встреч»  -это введение игрового персонажа (в соответствии с комплексно - тематическим планированием) с целью создания комфортной эмоциональной обстановки в группе, персонаж поможет  расположить детей к общению и отвлечь от расставания с родителями.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66" name="Содержимое 4" descr="DSCN1247.JPG"/>
          <p:cNvPicPr/>
          <p:nvPr/>
        </p:nvPicPr>
        <p:blipFill>
          <a:blip r:embed="rId1"/>
          <a:stretch/>
        </p:blipFill>
        <p:spPr>
          <a:xfrm>
            <a:off x="4500720" y="1197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Организация утренней гимнастики в различных формах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Игровой (построенной на подвижных играх, с использованием стихотворного текста);</a:t>
            </a: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Сюжетной (с использованием различных сюжетов, например «Птички». «Часики», «Пузырь»);</a:t>
            </a: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Образной, например «По узенькой дорожке», «Паровозик», «Дети водят хоровод», «Поедем в лес» и т.д..</a:t>
            </a: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Особое внимание следует уделять характеру игр после завтрака: </a:t>
            </a:r>
            <a:br>
              <a:rPr sz="2400"/>
            </a:b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Если согласно расписанию предстоит НОД по развитию речи, рисованию , что требует сравнительно малоподвижной позы, то и игры должны быть активными и подвижными. 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2920" y="1125000"/>
            <a:ext cx="403884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В другом случае следует уделять внимание спокойным (настольным, дидактическим)  играм, если занятия потребуют от детей движений (музыкальное, физкультурное и т. д.). 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Организация прогулки: наблюдения, трудовые поручения, работа над основными движениями, возможна индивидуальная работа по различным видам деятельности, игры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00"/>
                </a:solidFill>
                <a:latin typeface="Calibri"/>
              </a:rPr>
              <a:t>-</a:t>
            </a:r>
            <a:endParaRPr b="0" lang="en-US" sz="1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При организации игр на прогулке необходимо учитывать: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Сезонность;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Тематическое планирование;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Состояние здоровья, уровень развития детей;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То, как одеты дети;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Условия на участке;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Состояние погодных условий;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Динамику игр;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Игровая деятельность во </a:t>
            </a:r>
            <a:r>
              <a:rPr b="1" i="1" lang="en-US" sz="2400" spc="-1" strike="noStrike">
                <a:solidFill>
                  <a:srgbClr val="7030a0"/>
                </a:solidFill>
                <a:latin typeface="Calibri"/>
              </a:rPr>
              <a:t>II </a:t>
            </a: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 половине дня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alibri"/>
              </a:rPr>
              <a:t>Дидактические игры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alibri"/>
              </a:rPr>
              <a:t>Строительные игры 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alibri"/>
              </a:rPr>
              <a:t>Настольно-печатные игры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alibri"/>
              </a:rPr>
              <a:t>Игры на развитие мелкой моторики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alibri"/>
              </a:rPr>
              <a:t>Сюжетно-отобразительные игры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alibri"/>
              </a:rPr>
              <a:t>Игры-драмматизации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Дидактические игры можно проводить индивидуально или с малой подгруппой детей, от 2-3 человек</a:t>
            </a:r>
            <a:br>
              <a:rPr sz="2400"/>
            </a:b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Calibri"/>
              </a:rPr>
              <a:t>В играх детей со строительным материалом (образовательная область  «Познавательное развитие») развиваются умения самостоятельно сооружать элементарные  постройки, используя полученные ранее навыки конструирования; воспитывать интерес к играм со строительным материалом путем обыгрывания построек.</a:t>
            </a:r>
            <a:br>
              <a:rPr sz="1600"/>
            </a:b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Игры на развитие мелкой моторики и навыков самообслуживания</a:t>
            </a: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Ранний возраст имеет огромное  значение для развития ребенка, т.к. именно на этот период приходится наиболее бурное развитие всех психических процессов и личности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1196640"/>
            <a:ext cx="6400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Сюжетно-отобразительные игры, позволят получить опыт общения со сверстниками и взрослыми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Игра-драмматизации, позволят прививать интерес  к русским народным сказкам, желание слушать их.  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В вечерний период предоставляет педагогам широкие возможности развивающей работы с детьми, как с подгруппой, так и индивидуально по автоматизации движений, закреплению различных умений и навыков. </a:t>
            </a:r>
            <a:br>
              <a:rPr sz="2400"/>
            </a:b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Качественно спланированная и организованная игровая деятельность позволит педагогу в непринужденной форме: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активизировать мыслительные процессы,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развивать память, внимание, воображение и речь ребенка раннего возраста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Воспитывать игровую и творческую инициативу, доброжелательность и трудолюбие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Своевременное изменение игровой среды, правильный подбор игрушек и игрового материала помогут: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Закрепить в памяти полученные впечатления при знакомстве с окружающими предметами;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Развивать у детей самостоятельность;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Развивать умение творчески решать игровые задачи, побуждать к различным способам воспроизведения действительности в игре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При правильной педагогическом воздействии на формирование игровой деятельности дети к трем годам: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Начинают увлеченно играть, отображая окружающий мир и повседневный быт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Самостоятельно ставить игровые задачи и реализовывать их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Использовать разнообразные предметы для воспроизведения действительности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Овладевают действиями с сюжетными игрушками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Начинают применять предметы-заместители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Адаптируясь к воображаемым предметным ситуация, переходят на обозначение предметов и действий словом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В соответствии с ФГОС ДО от 17.10.2013 года  при реализации основной общеобразовательной программы дошкольного образования, работа с детьми должна строиться с учетом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принципа интеграции детских видов деятельности; 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в соответствии с возрастными и индивидуальными особенностями и склонностями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в соответствии с комплексно-тематическим принципом планирования,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с применением разнообразных форм , специфических для детей каждой возрастной группы. 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В работе с детьми раннего возраста используются преимущественно игровые, сюжетные и интегрированные формы образовательной деятельности. Обучение происходит опосредованно, в процессе увлекательной для малышей деятельности: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В предметной деятельности и в играх с составными и динамическими игрушками;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В процессе экспериментирования с материалами и веществами (песок, вода, тесто и т.д.)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Times New Roman"/>
              </a:rPr>
              <a:t>В процессе общения со взрослыми и в совместных играх с детьми под руководством взрослого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В процессе самообслуживания и действий с бытовыми предметами-орудиями (ложка, совок, лопатка и т.д.)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В процессе восприятия музыки, стихотворений, сказок, рассматривания картинок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В процессе двигательной активности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2:20:30Z</dcterms:created>
  <dc:creator>Admin</dc:creator>
  <dc:description/>
  <dc:language>en-US</dc:language>
  <cp:lastModifiedBy>1</cp:lastModifiedBy>
  <dcterms:modified xsi:type="dcterms:W3CDTF">2014-03-11T19:51:54Z</dcterms:modified>
  <cp:revision>15</cp:revision>
  <dc:subject/>
  <dc:title>Слайд 1</dc:title>
</cp:coreProperties>
</file>