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783-608D-4DAF-B4A0-D518AD50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F42-7C01-49C8-B9D1-FB522A8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E63-9CEB-4B57-9047-BFF26DA1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373-B703-4FDC-AFFC-5DC7812F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3C3-B1C4-4614-A627-A91D7EDA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4E8-70C0-48F7-AA10-2D446EB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9AB-4754-4DC9-91B7-C9E42CB9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C2D-277F-4995-977C-24F4FE02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459-7247-421C-9497-F98EE551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83D-9778-4487-810F-46E1421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E0C-2D11-4E13-BBC9-2AB18A1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0B7-FAB7-48D2-9159-490DBA2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280A-8222-4007-AC3C-58C08BDA765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«Детский сад № 51» Энгельсского муниципального района Саратовской области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Инновационные подходы к планированию игровой деятельности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етей раннего возраста»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Условия планирования образовательной работы с детьми раннего возраста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 объективная оценка содержания работы в момент планирования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 выделение целей и задач планирования на определенный период работы (учет темы недели), соотнесение их с Образовательной  программой дошкольного образования, по которой организуется образовательная деятельность в учреждении, с  возрастными особенностями детей и приоритетным направлением деятельности ДОУ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четкое представление результатов работы, которые должны быть достигнуты к концу планируемого периода, т.е. иметь представление о целевых ориентирах, прописанных в ФГОС ДО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выбор оптимальных путей, средств, методов, помогающих добиться поставленных целей, а значит получить планируемый результат.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Чтобы образовательная деятельность в группах раннего возраста отвечала требованиям и обеспечивала лучшие условия образования и воспитания, игра должна быть ведущим звеном в организации детской жизни.</a:t>
            </a:r>
            <a:br>
              <a:rPr sz="2400"/>
            </a:b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«Утро радостных встреч»  -это введение игрового персонажа (в соответствии с комплексно - тематическим планированием) с целью создания комфортной эмоциональной обстановки в группе, персонаж поможет  расположить детей к общению и отвлечь от расставания с родителями.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6" name="Содержимое 4" descr="DSCN1247.JPG"/>
          <p:cNvPicPr/>
          <p:nvPr/>
        </p:nvPicPr>
        <p:blipFill>
          <a:blip r:embed="rId1"/>
          <a:stretch/>
        </p:blipFill>
        <p:spPr>
          <a:xfrm>
            <a:off x="4500720" y="1197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рганизация утренней гимнастики в различных формах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Игровой (построенной на подвижных играх, с использованием стихотворного текста);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южетной (с использованием различных сюжетов, например «Птички». «Часики», «Пузырь»);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Образной, например «По узенькой дорожке», «Паровозик», «Дети водят хоровод», «Поедем в лес» и т.д.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собое внимание следует уделять характеру игр после завтрака: </a:t>
            </a:r>
            <a:br>
              <a:rPr sz="2400"/>
            </a:b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Если согласно расписанию предстоит НОД по развитию речи, рисованию , что требует сравнительно малоподвижной позы, то и игры должны быть активными и подвижными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2920" y="112500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В другом случае следует уделять внимание спокойным (настольным, дидактическим)  играм, если занятия потребуют от детей движений (музыкальное, физкультурное и т. д.)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рганизация прогулки: наблюдения, трудовые поручения, работа над основными движениями, возможна индивидуальная работа по различным видам деятельности, игры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Calibri"/>
              </a:rPr>
              <a:t>-</a:t>
            </a:r>
            <a:endParaRPr b="0" lang="en-US" sz="1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При организации игр на прогулке необходимо учитывать: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езонность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атическое планирование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стояние здоровья, уровень развития детей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о, как одеты дети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Условия на участке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стояние погодных условий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Динамику игр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Игровая деятельность во 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II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половине дня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Дидактические игры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роительные игры 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Настольно-печатные игры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Игры на развитие мелкой моторик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южетно-отобразительные игры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Игры-драмматизации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Дидактические игры можно проводить индивидуально или с малой подгруппой детей, от 2-3 человек</a:t>
            </a:r>
            <a:br>
              <a:rPr sz="2400"/>
            </a:b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В играх детей со строительным материалом (образовательная область  «Познавательное развитие») развиваются умения самостоятельно сооружать элементарные  постройки, используя полученные ранее навыки конструирования; воспитывать интерес к играм со строительным материалом путем обыгрывания построек.</a:t>
            </a:r>
            <a:br>
              <a:rPr sz="1600"/>
            </a:b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гры на развитие мелкой моторики и навыков самообслуживания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Ранний возраст имеет огромное  значение для развития ребенка, т.к. именно на этот период приходится наиболее бурное развитие всех психических процессов и личности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119664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Сюжетно-отобразительные игры, позволят получить опыт общения со сверстниками и взрослыми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Игра-драмматизации, позволят прививать интерес  к русским народным сказкам, желание слушать их.  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В вечерний период предоставляет педагогам широкие возможности развивающей работы с детьми, как с подгруппой, так и индивидуально по автоматизации движений, закреплению различных умений и навыков. </a:t>
            </a:r>
            <a:br>
              <a:rPr sz="2400"/>
            </a:b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Качественно спланированная и организованная игровая деятельность позволит педагогу в непринужденной форме: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активизировать мыслительные процессы,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развивать память, внимание, воображение и речь ребенка раннего возраста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Воспитывать игровую и творческую инициативу, доброжелательность и трудолюбие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Своевременное изменение игровой среды, правильный подбор игрушек и игрового материала помогут: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Закрепить в памяти полученные впечатления при знакомстве с окружающими предметами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Развивать у детей самостоятельность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Развивать умение творчески решать игровые задачи, побуждать к различным способам воспроизведения действительности в игре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При правильной педагогическом воздействии на формирование игровой деятельности дети к трем годам: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Начинают увлеченно играть, отображая окружающий мир и повседневный быт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Самостоятельно ставить игровые задачи и реализовывать их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Использовать разнообразные предметы для воспроизведения действительност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Овладевают действиями с сюжетными игрушкам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Начинают применять предметы-заместител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Адаптируясь к воображаемым предметным ситуация, переходят на обозначение предметов и действий словом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В соответствии с ФГОС ДО от 17.10.2013 года  при реализации основной общеобразовательной программы дошкольного образования, работа с детьми должна строиться с учетом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принципа интеграции детских видов деятельности; 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в соответствии с возрастными и индивидуальными особенностями и склонностям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в соответствии с комплексно-тематическим принципом планирования,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с применением разнообразных форм , специфических для детей каждой возрастной группы. 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 работе с детьми раннего возраста используются преимущественно игровые, сюжетные и интегрированные формы образовательной деятельности. Обучение происходит опосредованно, в процессе увлекательной для малышей деятельности: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 предметной деятельности и в играх с составными и динамическими игрушками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В процессе экспериментирования с материалами и веществами (песок, вода, тесто и т.д.)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В процессе общения со взрослыми и в совместных играх с детьми под руководством взрослого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 процессе самообслуживания и действий с бытовыми предметами-орудиями (ложка, совок, лопатка и т.д.)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 процессе восприятия музыки, стихотворений, сказок, рассматривания картинок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 процессе двигательной активности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0:30Z</dcterms:created>
  <dc:creator>Admin</dc:creator>
  <dc:description/>
  <dc:language>en-US</dc:language>
  <cp:lastModifiedBy>1</cp:lastModifiedBy>
  <dcterms:modified xsi:type="dcterms:W3CDTF">2014-03-11T19:51:54Z</dcterms:modified>
  <cp:revision>15</cp:revision>
  <dc:subject/>
  <dc:title>Слайд 1</dc:title>
</cp:coreProperties>
</file>