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0CC-C761-4A4F-8CFB-5AC420F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4B2-F9E2-4611-8FD8-056F57C2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9D0-4ECC-444A-B4EB-7467F136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1ED-E9A2-4BCF-86EE-654F0C45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C682-9E93-47D7-A434-7881C581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F3EC-4818-4458-AD0E-AA99668B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ACE2-0B02-4430-97FB-18BDE1E3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5799-69AC-468E-B2DA-0BAD39D3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803-D4C2-4FC6-B3E1-B4E632B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2943-1234-4F2D-96A1-E6ACB28C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CE67-2C57-4534-8CA1-8834C46E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ED2-CE82-4E41-B559-D883892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F3E8-5E5D-4631-8626-1F54C77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C793-648E-4579-B310-93D0B3D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EEC6-377B-4140-9319-1CD5CC8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70AD-B182-47A0-894D-93897FD8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942D-F02A-4D67-ABCB-637FEC34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E99-BC24-4223-B748-A3E6BD8B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914-1AFA-4A1B-8E04-B082B10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837-396D-4021-9326-0EDF9AD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0E3-9AC9-4A3B-B5ED-33E2670D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FF7-F2AC-4FBA-9934-F1FC66A7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AE6-5F6D-4F97-BF36-C65EE73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CD5-8A14-4655-A2FD-FF75678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130-7AE6-4F8C-B6EF-6CE2B88DB3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01F-7F0D-4AC5-8273-E768532C91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infertilityivfhouston.com/images/Embryo_zygot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7,12,&#1069;&#1084;&#1073;&#1088;&#1080;&#1086;&#1085;&#1072;&#1083;&#1100;&#1085;&#1099;&#1081; &#1087;&#1077;&#1088;&#1080;&#1086;&#1076; &#1088;&#1072;&#1079;&#1074;&#1080;&#1090;&#1080;&#1103;" TargetMode="External"/><Relationship Id="rId2" Type="http://schemas.openxmlformats.org/officeDocument/2006/relationships/hyperlink" Target="293,21,&#1055;&#1086;&#1089;&#1090;&#1101;&#1084;&#1073;&#1088;&#1080;&#1086;&#1085;&#1072;&#1083;&#1100;&#1085;&#1099;&#1081;  &#1087;&#1077;&#1088;&#1080;&#1086;&#1076; &#1088;&#1072;&#1079;&#1074;&#1080;&#1090;&#1080;&#1103;." TargetMode="External"/><Relationship Id="rId3" Type="http://schemas.openxmlformats.org/officeDocument/2006/relationships/hyperlink" Target="293,21,&#1055;&#1086;&#1089;&#1090;&#1101;&#1084;&#1073;&#1088;&#1080;&#1086;&#1085;&#1072;&#1083;&#1100;&#1085;&#1099;&#1081;  &#1087;&#1077;&#1088;&#1080;&#1086;&#1076; &#1088;&#1072;&#1079;&#1074;&#1080;&#1090;&#1080;&#1103;.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90640" y="1844640"/>
            <a:ext cx="7174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Онтогенезом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, или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индивидуальным развитием,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называют весь период жизни с момента слияния половых клеток и образования зиготы до гибели организм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3080" y="333000"/>
            <a:ext cx="7559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Дробление завершается образованием однослойного многоклеточного зародыш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ластулы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22"/>
          <p:cNvPicPr/>
          <p:nvPr/>
        </p:nvPicPr>
        <p:blipFill>
          <a:blip r:embed="rId1"/>
          <a:stretch/>
        </p:blipFill>
        <p:spPr>
          <a:xfrm>
            <a:off x="3059280" y="2421000"/>
            <a:ext cx="3958920" cy="16761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14" name="Text Box 6"/>
          <p:cNvSpPr/>
          <p:nvPr/>
        </p:nvSpPr>
        <p:spPr>
          <a:xfrm>
            <a:off x="1762200" y="4653000"/>
            <a:ext cx="7381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дроблении клеток у всех животных – общий объем бластомеров на стадии бластулы не превышает объема зиготы.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. Гаструляц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761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процессов, приводящих к образованию гаструлы, называется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аструляцие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аструла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 от греч.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Gaster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– желудок) – зародыш, состоящий из двух зародышевых листк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ктодермы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 от греч.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ctos 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ходящийся снаруж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нтодермы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 от греч.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ntos 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ходящийся внутри)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25"/>
          <p:cNvPicPr/>
          <p:nvPr/>
        </p:nvPicPr>
        <p:blipFill>
          <a:blip r:embed="rId1"/>
          <a:stretch/>
        </p:blipFill>
        <p:spPr>
          <a:xfrm>
            <a:off x="1619280" y="4724280"/>
            <a:ext cx="5977080" cy="18828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63280" y="115560"/>
            <a:ext cx="7272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 многоклеточных животных, кроме кишечнополостных, параллельно с гаструляцией возникает третий зародышевый листок –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езодерма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от греч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sos –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ходящийся посередин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c5cff"/>
                </a:solidFill>
                <a:latin typeface="Times New Roman"/>
              </a:rPr>
              <a:t>III </a:t>
            </a:r>
            <a:r>
              <a:rPr b="0" lang="ru-RU" sz="3200" spc="-1" strike="noStrike">
                <a:solidFill>
                  <a:srgbClr val="5c5cff"/>
                </a:solidFill>
                <a:latin typeface="Times New Roman"/>
              </a:rPr>
              <a:t> Нейр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26"/>
          <p:cNvPicPr/>
          <p:nvPr/>
        </p:nvPicPr>
        <p:blipFill>
          <a:blip r:embed="rId1"/>
          <a:stretch/>
        </p:blipFill>
        <p:spPr>
          <a:xfrm>
            <a:off x="1116000" y="4076640"/>
            <a:ext cx="2519280" cy="22338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20" name="Text Box 5"/>
          <p:cNvSpPr/>
          <p:nvPr/>
        </p:nvSpPr>
        <p:spPr>
          <a:xfrm>
            <a:off x="5219640" y="4005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 – эктоде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 – энтоде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 – мезоде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 – нервная пластин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 – хорда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V.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Гистогенез и органогене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203640" y="400536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443640" y="4005360"/>
            <a:ext cx="2305080" cy="2160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 flipV="1" rot="10800000">
            <a:off x="0" y="164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  <a:ea typeface="Calibri"/>
              </a:rPr>
              <a:t>Органогенез – закладка из зародышевых листков различных органов, специализация клеток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Содержимое 6" descr="2.png"/>
          <p:cNvPicPr/>
          <p:nvPr/>
        </p:nvPicPr>
        <p:blipFill>
          <a:blip r:embed="rId1"/>
          <a:stretch/>
        </p:blipFill>
        <p:spPr>
          <a:xfrm>
            <a:off x="324000" y="1195560"/>
            <a:ext cx="8820000" cy="53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6" descr="Картинка 8 из 6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1989000"/>
            <a:ext cx="26272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3" descr="i?id=152647304&amp;tov=7"/>
          <p:cNvPicPr/>
          <p:nvPr/>
        </p:nvPicPr>
        <p:blipFill>
          <a:blip r:embed="rId4"/>
          <a:stretch/>
        </p:blipFill>
        <p:spPr>
          <a:xfrm>
            <a:off x="6516720" y="3645000"/>
            <a:ext cx="2627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1" descr="i?id=21003699&amp;tov=7"/>
          <p:cNvPicPr/>
          <p:nvPr/>
        </p:nvPicPr>
        <p:blipFill>
          <a:blip r:embed="rId5"/>
          <a:stretch/>
        </p:blipFill>
        <p:spPr>
          <a:xfrm>
            <a:off x="6516720" y="2781360"/>
            <a:ext cx="2627280" cy="8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4" descr="0ZXV7CAQ9MYV7CAFO0LSPCABUDUECCA2U6RRDCAJP7SRUCAP0DDI8CAN4TSBFCAVCC7Z9CAE7PM31CAS1Y5RYCATDW5O1CA2HQ6AHCA83GS23CAYHQISSCA3SICI3CA35H1PKCAMD8IQHCAK96KBLCAQZRAYP"/>
          <p:cNvPicPr/>
          <p:nvPr/>
        </p:nvPicPr>
        <p:blipFill>
          <a:blip r:embed="rId6"/>
          <a:stretch/>
        </p:blipFill>
        <p:spPr>
          <a:xfrm>
            <a:off x="6516720" y="4581360"/>
            <a:ext cx="262728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2" descr="Haliclona"/>
          <p:cNvPicPr/>
          <p:nvPr/>
        </p:nvPicPr>
        <p:blipFill>
          <a:blip r:embed="rId7"/>
          <a:stretch/>
        </p:blipFill>
        <p:spPr>
          <a:xfrm>
            <a:off x="6516720" y="5516640"/>
            <a:ext cx="2627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0920" y="404280"/>
            <a:ext cx="864216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87280" y="1628640"/>
          <a:ext cx="6912000" cy="4631040"/>
        </p:xfrm>
        <a:graphic>
          <a:graphicData uri="http://schemas.openxmlformats.org/drawingml/2006/table">
            <a:tbl>
              <a:tblPr/>
              <a:tblGrid>
                <a:gridCol w="3429000"/>
                <a:gridCol w="3483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64d"/>
                          </a:solidFill>
                          <a:latin typeface="Comic Sans MS"/>
                        </a:rPr>
                        <a:t>Зародышевый  л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4d"/>
                          </a:solidFill>
                          <a:latin typeface="Comic Sans MS"/>
                        </a:rPr>
                        <a:t>Орган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эктоде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рвная система, органы чувств, эпителий кожи, эмаль зуб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энтоде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ышечная ткань, соединительная ткань, кровеносная система, почки, половые жел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мезоде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Эпителий средней кишки, пищеварительные железы - печень и поджелудочная железа, эпителий жабр и легк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28760" y="16660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гкие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звоночник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пинной мозг 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ган зрения 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яичники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ишечник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елет</a:t>
            </a:r>
            <a:r>
              <a:rPr b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642960" y="1714680"/>
            <a:ext cx="7786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гкие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эн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звоночник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эн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спинной мозг 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эк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ган зрения 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эк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яичники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мез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кишечник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энт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елет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  <a:ea typeface="Times New Roman"/>
              </a:rPr>
              <a:t> – мезодер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рывок стихотворения Али Ибн Сина «Поэма о медицине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О детях, находящихся ещё в утробе матер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Как следует, о том веду я 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Дитя в утробе матери бе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Ничто зловредное его пусть не коснёт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Пусть мать питается не как придёт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А ест еду и влагу с пользой пьё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Так, чтоб нормально развивался пл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Пускай отбросов в пище будет ма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Чтоб кровь она при этом очищ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d"/>
                </a:solidFill>
                <a:latin typeface="Comic Sans MS"/>
                <a:ea typeface="Times New Roman"/>
              </a:rPr>
              <a:t>Как вы понимаете строки этого стихотвор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Факторы влияющие на развитие зародыш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676160"/>
            <a:ext cx="82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5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6" descr="i?id=7709629&amp;tov=3"/>
          <p:cNvPicPr/>
          <p:nvPr/>
        </p:nvPicPr>
        <p:blipFill>
          <a:blip r:embed="rId1"/>
          <a:stretch/>
        </p:blipFill>
        <p:spPr>
          <a:xfrm>
            <a:off x="3851280" y="3357720"/>
            <a:ext cx="1346040" cy="137160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ый прямоугольник 5"/>
          <p:cNvSpPr/>
          <p:nvPr/>
        </p:nvSpPr>
        <p:spPr>
          <a:xfrm>
            <a:off x="395280" y="2781360"/>
            <a:ext cx="1706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324000" y="4292640"/>
            <a:ext cx="187164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2843280" y="220500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Скругленный прямоугольник 9"/>
          <p:cNvSpPr/>
          <p:nvPr/>
        </p:nvSpPr>
        <p:spPr>
          <a:xfrm>
            <a:off x="5148360" y="2205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0"/>
          <p:cNvSpPr/>
          <p:nvPr/>
        </p:nvSpPr>
        <p:spPr>
          <a:xfrm>
            <a:off x="6875640" y="3213000"/>
            <a:ext cx="158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Скругленный прямоугольник 11"/>
          <p:cNvSpPr/>
          <p:nvPr/>
        </p:nvSpPr>
        <p:spPr>
          <a:xfrm>
            <a:off x="6875640" y="4581360"/>
            <a:ext cx="151272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12"/>
          <p:cNvSpPr/>
          <p:nvPr/>
        </p:nvSpPr>
        <p:spPr>
          <a:xfrm>
            <a:off x="1258920" y="5589720"/>
            <a:ext cx="14907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13"/>
          <p:cNvSpPr/>
          <p:nvPr/>
        </p:nvSpPr>
        <p:spPr>
          <a:xfrm>
            <a:off x="3492360" y="5589720"/>
            <a:ext cx="151128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14"/>
          <p:cNvSpPr/>
          <p:nvPr/>
        </p:nvSpPr>
        <p:spPr>
          <a:xfrm>
            <a:off x="5867280" y="5661000"/>
            <a:ext cx="151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Стрелка вправо 15"/>
          <p:cNvSpPr/>
          <p:nvPr/>
        </p:nvSpPr>
        <p:spPr>
          <a:xfrm rot="13632000">
            <a:off x="3935160" y="3011400"/>
            <a:ext cx="480960" cy="252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Стрелка вправо 16"/>
          <p:cNvSpPr/>
          <p:nvPr/>
        </p:nvSpPr>
        <p:spPr>
          <a:xfrm rot="18459600">
            <a:off x="4843800" y="3005640"/>
            <a:ext cx="517680" cy="201600"/>
          </a:xfrm>
          <a:prstGeom prst="rightArrow">
            <a:avLst>
              <a:gd name="adj1" fmla="val 50000"/>
              <a:gd name="adj2" fmla="val 50109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Стрелка вправо 17"/>
          <p:cNvSpPr/>
          <p:nvPr/>
        </p:nvSpPr>
        <p:spPr>
          <a:xfrm rot="349800">
            <a:off x="5211720" y="3499920"/>
            <a:ext cx="1584360" cy="216000"/>
          </a:xfrm>
          <a:prstGeom prst="rightArrow">
            <a:avLst>
              <a:gd name="adj1" fmla="val 50000"/>
              <a:gd name="adj2" fmla="val 49647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Стрелка вправо 18"/>
          <p:cNvSpPr/>
          <p:nvPr/>
        </p:nvSpPr>
        <p:spPr>
          <a:xfrm rot="1098600">
            <a:off x="5159520" y="4487760"/>
            <a:ext cx="1684080" cy="250920"/>
          </a:xfrm>
          <a:prstGeom prst="rightArrow">
            <a:avLst>
              <a:gd name="adj1" fmla="val 50000"/>
              <a:gd name="adj2" fmla="val 49902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Стрелка вправо 19"/>
          <p:cNvSpPr/>
          <p:nvPr/>
        </p:nvSpPr>
        <p:spPr>
          <a:xfrm rot="1776600">
            <a:off x="5051160" y="5073120"/>
            <a:ext cx="1652400" cy="187560"/>
          </a:xfrm>
          <a:prstGeom prst="rightArrow">
            <a:avLst>
              <a:gd name="adj1" fmla="val 50000"/>
              <a:gd name="adj2" fmla="val 50127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Стрелка вправо 20"/>
          <p:cNvSpPr/>
          <p:nvPr/>
        </p:nvSpPr>
        <p:spPr>
          <a:xfrm rot="5400000">
            <a:off x="4073400" y="5079600"/>
            <a:ext cx="833400" cy="26856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Стрелка вправо 21"/>
          <p:cNvSpPr/>
          <p:nvPr/>
        </p:nvSpPr>
        <p:spPr>
          <a:xfrm rot="8470800">
            <a:off x="2671200" y="5059080"/>
            <a:ext cx="1360440" cy="2588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Стрелка вправо 22"/>
          <p:cNvSpPr/>
          <p:nvPr/>
        </p:nvSpPr>
        <p:spPr>
          <a:xfrm rot="9837600">
            <a:off x="2198160" y="4352040"/>
            <a:ext cx="1689120" cy="228600"/>
          </a:xfrm>
          <a:prstGeom prst="rightArrow">
            <a:avLst>
              <a:gd name="adj1" fmla="val 50000"/>
              <a:gd name="adj2" fmla="val 49807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Стрелка вправо 23"/>
          <p:cNvSpPr/>
          <p:nvPr/>
        </p:nvSpPr>
        <p:spPr>
          <a:xfrm rot="11589600">
            <a:off x="2153520" y="3271320"/>
            <a:ext cx="1671480" cy="2430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5"/>
          <p:cNvGrpSpPr/>
          <p:nvPr/>
        </p:nvGrpSpPr>
        <p:grpSpPr>
          <a:xfrm>
            <a:off x="285840" y="152280"/>
            <a:ext cx="8642880" cy="6246360"/>
            <a:chOff x="285840" y="152280"/>
            <a:chExt cx="8642880" cy="6246360"/>
          </a:xfrm>
        </p:grpSpPr>
        <p:cxnSp>
          <p:nvCxnSpPr>
            <p:cNvPr id="84" name="_s1028"/>
            <p:cNvCxnSpPr>
              <a:stCxn id="85" idx="0"/>
              <a:endCxn id="86" idx="2"/>
            </p:cNvCxnSpPr>
            <p:nvPr/>
          </p:nvCxnSpPr>
          <p:spPr>
            <a:xfrm flipV="1" rot="16200000">
              <a:off x="5148720" y="2111040"/>
              <a:ext cx="1243440" cy="23281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87" name="_s1029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821680" y="2111760"/>
              <a:ext cx="1243440" cy="232704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86" name="_s1030"/>
            <p:cNvSpPr/>
            <p:nvPr/>
          </p:nvSpPr>
          <p:spPr>
            <a:xfrm>
              <a:off x="2612160" y="152280"/>
              <a:ext cx="3989160" cy="2501640"/>
            </a:xfrm>
            <a:prstGeom prst="roundRect">
              <a:avLst>
                <a:gd name="adj" fmla="val 16667"/>
              </a:avLst>
            </a:prstGeom>
            <a:solidFill>
              <a:srgbClr val="8eb3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66"/>
                  </a:solidFill>
                  <a:latin typeface="Times New Roman"/>
                </a:rPr>
                <a:t>Онтогенез</a:t>
              </a:r>
              <a:endParaRPr b="0" lang="en-US" sz="3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_s1031"/>
            <p:cNvSpPr/>
            <p:nvPr/>
          </p:nvSpPr>
          <p:spPr>
            <a:xfrm>
              <a:off x="285840" y="3897000"/>
              <a:ext cx="3989160" cy="2501640"/>
            </a:xfrm>
            <a:prstGeom prst="roundRect">
              <a:avLst>
                <a:gd name="adj" fmla="val 16667"/>
              </a:avLst>
            </a:prstGeom>
            <a:solidFill>
              <a:srgbClr val="8eb3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556575"/>
                  </a:solidFill>
                  <a:uFillTx/>
                  <a:latin typeface="Times New Roman"/>
                  <a:hlinkClick r:id="rId1"/>
                </a:rPr>
                <a:t>Эмбриональный</a:t>
              </a:r>
              <a:r>
                <a:rPr b="1" lang="en-US" sz="3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–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от образования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зиготы до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рождения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4939560" y="3897000"/>
              <a:ext cx="3989160" cy="2501640"/>
            </a:xfrm>
            <a:prstGeom prst="roundRect">
              <a:avLst>
                <a:gd name="adj" fmla="val 16667"/>
              </a:avLst>
            </a:prstGeom>
            <a:solidFill>
              <a:srgbClr val="8eb3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556575"/>
                  </a:solidFill>
                  <a:uFillTx/>
                  <a:latin typeface="Times New Roman"/>
                  <a:hlinkClick r:id="rId2"/>
                </a:rPr>
                <a:t>Пост -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556575"/>
                  </a:solidFill>
                  <a:uFillTx/>
                  <a:latin typeface="Times New Roman"/>
                  <a:hlinkClick r:id="rId3"/>
                </a:rPr>
                <a:t>эмбриональны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0000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от рождения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imes New Roman"/>
                </a:rPr>
                <a:t>до смерти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Факторы влияющие на развитие зародыш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1676160"/>
            <a:ext cx="82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5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6" descr="i?id=7709629&amp;tov=3"/>
          <p:cNvPicPr/>
          <p:nvPr/>
        </p:nvPicPr>
        <p:blipFill>
          <a:blip r:embed="rId1"/>
          <a:stretch/>
        </p:blipFill>
        <p:spPr>
          <a:xfrm>
            <a:off x="3851280" y="3357720"/>
            <a:ext cx="134604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Скругленный прямоугольник 5"/>
          <p:cNvSpPr/>
          <p:nvPr/>
        </p:nvSpPr>
        <p:spPr>
          <a:xfrm>
            <a:off x="395280" y="2781360"/>
            <a:ext cx="1706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Физ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Скругленный прямоугольник 7"/>
          <p:cNvSpPr/>
          <p:nvPr/>
        </p:nvSpPr>
        <p:spPr>
          <a:xfrm>
            <a:off x="324000" y="4292640"/>
            <a:ext cx="187164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Наследственн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факторы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8"/>
          <p:cNvSpPr/>
          <p:nvPr/>
        </p:nvSpPr>
        <p:spPr>
          <a:xfrm>
            <a:off x="2843280" y="220500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Химическ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воздейств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9"/>
          <p:cNvSpPr/>
          <p:nvPr/>
        </p:nvSpPr>
        <p:spPr>
          <a:xfrm>
            <a:off x="5148360" y="2205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Ку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Скругленный прямоугольник 10"/>
          <p:cNvSpPr/>
          <p:nvPr/>
        </p:nvSpPr>
        <p:spPr>
          <a:xfrm>
            <a:off x="6875640" y="3213000"/>
            <a:ext cx="18730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аркот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е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Скругленный прямоугольник 11"/>
          <p:cNvSpPr/>
          <p:nvPr/>
        </p:nvSpPr>
        <p:spPr>
          <a:xfrm>
            <a:off x="6875640" y="4581360"/>
            <a:ext cx="151272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лког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Скругленный прямоугольник 12"/>
          <p:cNvSpPr/>
          <p:nvPr/>
        </p:nvSpPr>
        <p:spPr>
          <a:xfrm>
            <a:off x="1692360" y="558972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ирусные 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бактериаль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инфекции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4"/>
          <p:cNvSpPr/>
          <p:nvPr/>
        </p:nvSpPr>
        <p:spPr>
          <a:xfrm>
            <a:off x="5219640" y="5589720"/>
            <a:ext cx="1944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тре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Стрелка вправо 15"/>
          <p:cNvSpPr/>
          <p:nvPr/>
        </p:nvSpPr>
        <p:spPr>
          <a:xfrm rot="13632000">
            <a:off x="3915360" y="3051360"/>
            <a:ext cx="480960" cy="206280"/>
          </a:xfrm>
          <a:prstGeom prst="rightArrow">
            <a:avLst>
              <a:gd name="adj1" fmla="val 50000"/>
              <a:gd name="adj2" fmla="val 50269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Стрелка вправо 16"/>
          <p:cNvSpPr/>
          <p:nvPr/>
        </p:nvSpPr>
        <p:spPr>
          <a:xfrm rot="18459600">
            <a:off x="4849200" y="3002400"/>
            <a:ext cx="517320" cy="21420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Стрелка вправо 17"/>
          <p:cNvSpPr/>
          <p:nvPr/>
        </p:nvSpPr>
        <p:spPr>
          <a:xfrm rot="349800">
            <a:off x="5208120" y="3499920"/>
            <a:ext cx="1584360" cy="270000"/>
          </a:xfrm>
          <a:prstGeom prst="rightArrow">
            <a:avLst>
              <a:gd name="adj1" fmla="val 50000"/>
              <a:gd name="adj2" fmla="val 49742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Стрелка вправо 18"/>
          <p:cNvSpPr/>
          <p:nvPr/>
        </p:nvSpPr>
        <p:spPr>
          <a:xfrm rot="1098600">
            <a:off x="5173560" y="4490640"/>
            <a:ext cx="1684440" cy="158760"/>
          </a:xfrm>
          <a:prstGeom prst="rightArrow">
            <a:avLst>
              <a:gd name="adj1" fmla="val 50000"/>
              <a:gd name="adj2" fmla="val 5020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Стрелка вправо 19"/>
          <p:cNvSpPr/>
          <p:nvPr/>
        </p:nvSpPr>
        <p:spPr>
          <a:xfrm rot="1776600">
            <a:off x="5109840" y="4970520"/>
            <a:ext cx="1652400" cy="28080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Стрелка вправо 21"/>
          <p:cNvSpPr/>
          <p:nvPr/>
        </p:nvSpPr>
        <p:spPr>
          <a:xfrm rot="8470800">
            <a:off x="2698560" y="5106600"/>
            <a:ext cx="1360440" cy="2300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22"/>
          <p:cNvSpPr/>
          <p:nvPr/>
        </p:nvSpPr>
        <p:spPr>
          <a:xfrm rot="9837600">
            <a:off x="2210760" y="4425840"/>
            <a:ext cx="1649160" cy="169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Стрелка вправо 23"/>
          <p:cNvSpPr/>
          <p:nvPr/>
        </p:nvSpPr>
        <p:spPr>
          <a:xfrm rot="11589600">
            <a:off x="2134800" y="3339720"/>
            <a:ext cx="1671840" cy="2746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8eb3c8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Закрепл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Дайте 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Индивидуальное развитие организма – э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Оплодотворенная яйцеклетка – э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яд митотических делений следующих друг за другом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Шарообразный однослойный зародыш с полостью внутри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вухслойный зародыш с полостью внутри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Наружный слой клеток двухслойного зародыша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нутренний слой клеток двухслойного зародыша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Третий зародышевый листок – э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22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Эмбриональное развитие организма»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71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1. Узнать, что такое эмбриональное разви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2. Выделить основные этапы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3. Установить какие изменения происходят на каждом этап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4. Выяснить из чего и как формируется зародыш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5. Условия, влияющие на развитие зароды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9560" y="836640"/>
            <a:ext cx="674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Изучением вопросов, связанных с индивидуальным развитием организмов, занимается </a:t>
            </a:r>
            <a:r>
              <a:rPr b="0" i="1" lang="ru-RU" sz="4400" spc="-1" strike="noStrike">
                <a:solidFill>
                  <a:srgbClr val="000066"/>
                </a:solidFill>
                <a:latin typeface="Times New Roman"/>
              </a:rPr>
              <a:t>эмбриология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от греч. е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bryon –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зародыш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Карл Эрнест фон Бэр </a:t>
            </a:r>
            <a:br>
              <a:rPr sz="4000"/>
            </a:b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1792 – 18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карл бэр"/>
          <p:cNvPicPr/>
          <p:nvPr/>
        </p:nvPicPr>
        <p:blipFill>
          <a:blip r:embed="rId1"/>
          <a:stretch/>
        </p:blipFill>
        <p:spPr>
          <a:xfrm>
            <a:off x="581040" y="1989000"/>
            <a:ext cx="3198960" cy="4248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4875120" y="2276640"/>
            <a:ext cx="426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снователем современн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эмбриологии считается академик Российской Академии К.М.Бэ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1828 году он опубликовал сочинение «История развития животных», в котором доказывал, что человек развивается по единому плану со всеми позвоночными живот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8675640" y="6308640"/>
            <a:ext cx="360360" cy="405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5000"/>
              <a:gd name="textAreaBottom" fmla="*/ 381960 h 405000"/>
            </a:gdLst>
            <a:ahLst/>
            <a:rect l="textAreaLeft" t="textAreaTop" r="textAreaRight" b="textAreaBottom"/>
            <a:pathLst>
              <a:path w="21600" h="24273">
                <a:moveTo>
                  <a:pt x="0" y="0"/>
                </a:moveTo>
                <a:lnTo>
                  <a:pt x="21600" y="0"/>
                </a:lnTo>
                <a:lnTo>
                  <a:pt x="21600" y="24273"/>
                </a:lnTo>
                <a:lnTo>
                  <a:pt x="0" y="24273"/>
                </a:lnTo>
                <a:close/>
              </a:path>
              <a:path fill="lightenLess" w="21600" h="24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3">
                <a:moveTo>
                  <a:pt x="21600" y="0"/>
                </a:moveTo>
                <a:lnTo>
                  <a:pt x="21600" y="24273"/>
                </a:lnTo>
                <a:lnTo>
                  <a:pt x="20200" y="22873"/>
                </a:lnTo>
                <a:lnTo>
                  <a:pt x="20200" y="1400"/>
                </a:lnTo>
                <a:close/>
              </a:path>
              <a:path fill="darkenLess" w="21600" h="24273">
                <a:moveTo>
                  <a:pt x="21600" y="24273"/>
                </a:moveTo>
                <a:lnTo>
                  <a:pt x="0" y="24273"/>
                </a:lnTo>
                <a:lnTo>
                  <a:pt x="1400" y="22873"/>
                </a:lnTo>
                <a:lnTo>
                  <a:pt x="20200" y="22873"/>
                </a:lnTo>
                <a:close/>
              </a:path>
              <a:path fill="lighten" w="21600" h="24273">
                <a:moveTo>
                  <a:pt x="0" y="24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3"/>
                </a:lnTo>
                <a:close/>
              </a:path>
              <a:path fill="darken" w="21600" h="24273">
                <a:moveTo>
                  <a:pt x="10800" y="5174"/>
                </a:moveTo>
                <a:lnTo>
                  <a:pt x="13376" y="7785"/>
                </a:lnTo>
                <a:lnTo>
                  <a:pt x="13376" y="6044"/>
                </a:lnTo>
                <a:lnTo>
                  <a:pt x="15152" y="6044"/>
                </a:lnTo>
                <a:lnTo>
                  <a:pt x="15152" y="9560"/>
                </a:lnTo>
                <a:lnTo>
                  <a:pt x="17763" y="12137"/>
                </a:lnTo>
                <a:lnTo>
                  <a:pt x="16109" y="12137"/>
                </a:lnTo>
                <a:lnTo>
                  <a:pt x="16109" y="19326"/>
                </a:lnTo>
                <a:lnTo>
                  <a:pt x="5491" y="19326"/>
                </a:lnTo>
                <a:lnTo>
                  <a:pt x="5491" y="12137"/>
                </a:lnTo>
                <a:lnTo>
                  <a:pt x="3837" y="12137"/>
                </a:lnTo>
                <a:close/>
              </a:path>
              <a:path fill="darkenLess" w="21600" h="24273">
                <a:moveTo>
                  <a:pt x="13376" y="7785"/>
                </a:moveTo>
                <a:lnTo>
                  <a:pt x="13376" y="6044"/>
                </a:lnTo>
                <a:lnTo>
                  <a:pt x="15152" y="6044"/>
                </a:lnTo>
                <a:lnTo>
                  <a:pt x="15152" y="9560"/>
                </a:lnTo>
                <a:close/>
              </a:path>
              <a:path fill="darkenLess" w="21600" h="24273">
                <a:moveTo>
                  <a:pt x="9877" y="15635"/>
                </a:moveTo>
                <a:lnTo>
                  <a:pt x="11723" y="15635"/>
                </a:lnTo>
                <a:lnTo>
                  <a:pt x="11723" y="19326"/>
                </a:lnTo>
                <a:lnTo>
                  <a:pt x="16109" y="19326"/>
                </a:lnTo>
                <a:lnTo>
                  <a:pt x="16109" y="12137"/>
                </a:lnTo>
                <a:lnTo>
                  <a:pt x="5491" y="12137"/>
                </a:lnTo>
                <a:lnTo>
                  <a:pt x="5491" y="19326"/>
                </a:lnTo>
                <a:lnTo>
                  <a:pt x="9877" y="19326"/>
                </a:lnTo>
                <a:close/>
              </a:path>
            </a:pathLst>
          </a:custGeom>
          <a:solidFill>
            <a:srgbClr val="6f97b3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9520" y="260280"/>
            <a:ext cx="74948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Этапы эмбрионального развит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3915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процесс дробл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формирование бластул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гастр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нейр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гистогенез и органогене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. 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роб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Развитие организма начинается с           одноклеточной стадии, которая происходит с момента слияния сперматозоида и яйцек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6"/>
          <p:cNvPicPr/>
          <p:nvPr/>
        </p:nvPicPr>
        <p:blipFill>
          <a:blip r:embed="rId1"/>
          <a:stretch/>
        </p:blipFill>
        <p:spPr>
          <a:xfrm>
            <a:off x="468360" y="3789360"/>
            <a:ext cx="165420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3" name="Picture 5" descr="опл1"/>
          <p:cNvPicPr/>
          <p:nvPr/>
        </p:nvPicPr>
        <p:blipFill>
          <a:blip r:embed="rId2"/>
          <a:stretch/>
        </p:blipFill>
        <p:spPr>
          <a:xfrm>
            <a:off x="2627280" y="3789360"/>
            <a:ext cx="165564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4" name="Picture 6" descr="311"/>
          <p:cNvPicPr/>
          <p:nvPr/>
        </p:nvPicPr>
        <p:blipFill>
          <a:blip r:embed="rId3"/>
          <a:stretch/>
        </p:blipFill>
        <p:spPr>
          <a:xfrm>
            <a:off x="4788000" y="3789360"/>
            <a:ext cx="165564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5" name="Picture 7" descr="5"/>
          <p:cNvPicPr/>
          <p:nvPr/>
        </p:nvPicPr>
        <p:blipFill>
          <a:blip r:embed="rId4"/>
          <a:stretch/>
        </p:blipFill>
        <p:spPr>
          <a:xfrm>
            <a:off x="7020000" y="3789360"/>
            <a:ext cx="1873080" cy="180036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"/>
          <p:cNvPicPr/>
          <p:nvPr/>
        </p:nvPicPr>
        <p:blipFill>
          <a:blip r:embed="rId1"/>
          <a:stretch/>
        </p:blipFill>
        <p:spPr>
          <a:xfrm>
            <a:off x="108000" y="44280"/>
            <a:ext cx="2160360" cy="23148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107" name="Picture 5" descr="11"/>
          <p:cNvPicPr/>
          <p:nvPr/>
        </p:nvPicPr>
        <p:blipFill>
          <a:blip r:embed="rId2"/>
          <a:stretch/>
        </p:blipFill>
        <p:spPr>
          <a:xfrm>
            <a:off x="1690560" y="2997360"/>
            <a:ext cx="2521080" cy="230328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2556000" y="33336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зникшее при оплодотвор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дро, обычно уже через несколько минут начинает делиться, вместе с ним делиться и цитопла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7" descr="13"/>
          <p:cNvPicPr/>
          <p:nvPr/>
        </p:nvPicPr>
        <p:blipFill>
          <a:blip r:embed="rId3"/>
          <a:stretch/>
        </p:blipFill>
        <p:spPr>
          <a:xfrm>
            <a:off x="6754680" y="115920"/>
            <a:ext cx="2281320" cy="2232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4500720" y="314172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бразующиеся клетки, ещё сильно отличаются от клеток взрослого организма, называютс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бластомерам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от греч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lastos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зародыш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ros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ча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22440" y="5805360"/>
            <a:ext cx="82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 делении бластомеров размеры их не увеличиваются, поэтому процесс деления носит назва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роб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6:55:14Z</dcterms:created>
  <dc:creator>Алевтина</dc:creator>
  <dc:description/>
  <dc:language>en-US</dc:language>
  <cp:lastModifiedBy>Оленька</cp:lastModifiedBy>
  <dcterms:modified xsi:type="dcterms:W3CDTF">2013-12-18T15:26:33Z</dcterms:modified>
  <cp:revision>72</cp:revision>
  <dc:subject/>
  <dc:title>Слайд 1</dc:title>
</cp:coreProperties>
</file>