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7F6F-978B-4486-BF4A-C20DA9AB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576D-97D0-4372-B20F-15857794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50E0-1EC6-46CE-8B78-ADBB3DBE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C929-EFD9-4B74-B0AA-8D6606A0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DDC2-4D04-459B-82BA-CFF6CAB5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C4F3-4B3F-49DA-A9CB-04160436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EAEA-43C3-479E-9AD4-ABDD023E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4A1F-D250-4193-A666-7AF0E871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E6E7-586B-4598-BE2E-8E844284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CEF6-C27D-4362-BD89-8111B70E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B794-A477-46CD-BDBE-8837EFD3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6FFA-6BC2-4B4E-8FE4-36109E4B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83C6-B210-4B4B-B8B9-4293FECD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F5A4-570D-4CA4-A3FA-8C9711DF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D5D6-B752-409F-A715-45E25F8F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F0A1-FE7F-4E82-BCF2-020C1E82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064A-B4BA-413F-B72C-0DBC2EA3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93A4-B202-4E9B-974A-81661F95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8AB2-D482-49AA-BDAF-22BC46E0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0A2E-4069-44B1-817A-4DF811EC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EE5B-5757-43DF-A8F4-0DD945DA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1404-4007-41C8-A174-B631A6A0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A36F-0C70-436A-9288-23BAB749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CBEA-FEE1-4CF5-806E-2F6F2CD2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8f0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E3ED-C7AA-4701-9656-B2D9BF81BB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8f0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2F4C-1BBB-4BBF-9685-49AC602618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240"/>
            <a:ext cx="5867640" cy="40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Monotype Corsiva"/>
              </a:rPr>
              <a:t>Методы формирования самоконтроля на уроках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5714640"/>
            <a:ext cx="57913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Жигальцова Татьяна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book"/>
          <p:cNvPicPr/>
          <p:nvPr/>
        </p:nvPicPr>
        <p:blipFill>
          <a:blip r:embed="rId1"/>
          <a:stretch/>
        </p:blipFill>
        <p:spPr>
          <a:xfrm>
            <a:off x="789120" y="4170240"/>
            <a:ext cx="1838160" cy="1419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ручка"/>
          <p:cNvPicPr/>
          <p:nvPr/>
        </p:nvPicPr>
        <p:blipFill>
          <a:blip r:embed="rId2"/>
          <a:stretch/>
        </p:blipFill>
        <p:spPr>
          <a:xfrm>
            <a:off x="1873080" y="4187880"/>
            <a:ext cx="900360" cy="10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6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3852720" y="3230640"/>
                <a:ext cx="23162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r>
                          <m:t xml:space="preserve">0,2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1569960" y="3936960"/>
                <a:ext cx="2905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3341520" y="4448160"/>
                <a:ext cx="24768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Line 5"/>
          <p:cNvSpPr/>
          <p:nvPr/>
        </p:nvSpPr>
        <p:spPr>
          <a:xfrm>
            <a:off x="1569960" y="360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4510080" y="2281320"/>
                <a:ext cx="10018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Line 7"/>
          <p:cNvSpPr/>
          <p:nvPr/>
        </p:nvSpPr>
        <p:spPr>
          <a:xfrm>
            <a:off x="2484360" y="2281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763640" y="201960"/>
            <a:ext cx="675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В цирк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оун одной левой поднимает огромную гирю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 которой написано 500 кг. На самом деле масса гири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о раз меньше. Объём этой гири 0,2 м</a:t>
            </a:r>
            <a:r>
              <a:rPr b="0" lang="ru-RU" sz="2000" spc="-1" strike="noStrike" baseline="30000">
                <a:solidFill>
                  <a:srgbClr val="8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 Вычисли плот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цирковой ги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32000" y="1864440"/>
            <a:ext cx="5616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                                    Реш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5 кг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1330560" y="2702520"/>
            <a:ext cx="23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2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627200" y="444708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3646080" y="4431240"/>
            <a:ext cx="13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25 к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1860480" y="38988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3216240" y="5929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  ОШИБ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Графическая проверка решения задач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-468360" y="1740240"/>
            <a:ext cx="5732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представлен графи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мости модуля скор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обиля от време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путь, пройден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обилем в интервале от момен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ени 0 с до момента времени 4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начала отсчета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8" descr="get_file?id=1580"/>
          <p:cNvPicPr/>
          <p:nvPr/>
        </p:nvPicPr>
        <p:blipFill>
          <a:blip r:embed="rId1"/>
          <a:stretch/>
        </p:blipFill>
        <p:spPr>
          <a:xfrm>
            <a:off x="4859280" y="3046320"/>
            <a:ext cx="345780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Графическая проверка решения задач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55640" y="1435320"/>
            <a:ext cx="4508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движения материальной точки имеет вид х = 0,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ить путь, пройденный материальной точкой за 4 с. Написать формулу зависимо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построить график. Проверить решение задачи графическ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941720" y="3500280"/>
            <a:ext cx="374508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гры с жесткими правилами: «домино», «лото», «лабиринт», «зашифрованное слово» и т. п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«Закон сохранения механической энергии»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авьте у результатов решения задач соответствующие буквы и прочитайте зашифрованное в задании слово (ускорение свободного падения принять равным 10 м/с2)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Какова максимальная высота, на которую поднимется камень, брошенный вертикально вверх со скоростью 20 м/с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С какой начальной скоростью нужно бросить вниз мяч с высоты 5 м, чтобы он подпрыгнул на высоту 10 м (удар считать абсолютно упругим)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Какова в момент удара о землю кинетическая энергия тела массой 0.5 кг, упавшего вертикально вниз с высоты 6 м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Какова скорость шарика, брошенного вертикально вниз с высоты 3 м с начальной скоростью 2 м/с, в момент удара о воду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С какой начальной скоростью нужно бросить вертикально вверх мяч, чтобы он поднялся на высоту 5 м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 думаете, почему зашифровали именно это слово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 5 20  4 10  5   8 25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А  М  Е  Ы  Р  Л  У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Май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800000"/>
                </a:solidFill>
                <a:uFillTx/>
                <a:latin typeface="Monotype Corsiva"/>
              </a:rPr>
              <a:t>Самоконтроль </a:t>
            </a:r>
            <a:r>
              <a:rPr b="0" i="1" lang="ru-RU" sz="3600" spc="-1" strike="noStrike">
                <a:solidFill>
                  <a:srgbClr val="800000"/>
                </a:solidFill>
                <a:latin typeface="Monotype Corsiva"/>
              </a:rPr>
              <a:t> –</a:t>
            </a:r>
            <a:br>
              <a:rPr sz="3600"/>
            </a:br>
            <a:r>
              <a:rPr b="0" i="1" lang="ru-RU" sz="3600" spc="-1" strike="noStrike">
                <a:solidFill>
                  <a:srgbClr val="800000"/>
                </a:solidFill>
                <a:latin typeface="Monotype Corsiva"/>
              </a:rPr>
              <a:t> это один из важнейших факторов, </a:t>
            </a:r>
            <a:br>
              <a:rPr sz="3600"/>
            </a:br>
            <a:r>
              <a:rPr b="0" i="1" lang="ru-RU" sz="3600" spc="-1" strike="noStrike">
                <a:solidFill>
                  <a:srgbClr val="800000"/>
                </a:solidFill>
                <a:latin typeface="Monotype Corsiva"/>
              </a:rPr>
              <a:t> обеспечивающий самостоятельную деятельность учащихся. Его назначение заключается в своевременном предотвращении ошибо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Способ самоконтроля при решении физических задач - проверка размерности полученной величи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3902040" y="2368440"/>
                <a:ext cx="782640" cy="15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948360" y="2289240"/>
                <a:ext cx="82260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Rectangle 7"/>
          <p:cNvSpPr/>
          <p:nvPr/>
        </p:nvSpPr>
        <p:spPr>
          <a:xfrm>
            <a:off x="2916360" y="2871360"/>
            <a:ext cx="9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869080" y="275904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858200" y="295308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3012480" y="472392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=[с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дача: Груз, прикрепленный к пружине жесткостью 40 Н/м, за 20 мин совершает 60 колебаний. Определить массу груза.                    Формулы для решения 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T=2\pi\sqrt{\frac{m}{k}}"/>
          <p:cNvPicPr/>
          <p:nvPr/>
        </p:nvPicPr>
        <p:blipFill>
          <a:blip r:embed="rId1"/>
          <a:stretch/>
        </p:blipFill>
        <p:spPr>
          <a:xfrm>
            <a:off x="755640" y="3489480"/>
            <a:ext cx="3311640" cy="10508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5139000" y="376380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0" y="309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1"/>
              <p:cNvSpPr txBox="1"/>
              <p:nvPr/>
            </p:nvSpPr>
            <p:spPr>
              <a:xfrm>
                <a:off x="6111720" y="3211560"/>
                <a:ext cx="7765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13"/>
          <p:cNvSpPr/>
          <p:nvPr/>
        </p:nvSpPr>
        <p:spPr>
          <a:xfrm>
            <a:off x="1800" y="3488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1042920" y="55605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4"/>
              <p:cNvSpPr txBox="1"/>
              <p:nvPr/>
            </p:nvSpPr>
            <p:spPr>
              <a:xfrm>
                <a:off x="1979640" y="51228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κ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Rectangle 16"/>
          <p:cNvSpPr/>
          <p:nvPr/>
        </p:nvSpPr>
        <p:spPr>
          <a:xfrm>
            <a:off x="4287960" y="36392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749920" y="5454000"/>
            <a:ext cx="8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7"/>
              <p:cNvSpPr txBox="1"/>
              <p:nvPr/>
            </p:nvSpPr>
            <p:spPr>
              <a:xfrm>
                <a:off x="6622920" y="5122800"/>
                <a:ext cx="1549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  <m:f>
                      <m:num>
                        <m:r>
                          <m:t xml:space="preserve">м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Rectangle 19"/>
          <p:cNvSpPr/>
          <p:nvPr/>
        </p:nvSpPr>
        <p:spPr>
          <a:xfrm>
            <a:off x="6624720" y="3656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1045080" y="473436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ая форму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5117400" y="47343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размер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Проверка задачи с помощью формулировки обратной задачи, когда полученное в ходе решения задачи значение используется для расчета одного из известных параметров. </a:t>
            </a:r>
            <a:br>
              <a:rPr sz="2800"/>
            </a:b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ую работу совершает человек при поднятии груза массой 2 кг на высоту 1 м с ускорением 3 м/с2? Проверьте свой результат, составив и решив обратную задач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шение: согласно второму закону Ньютон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отсюда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А так как работ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 каким ускорением человек должен поднимать груз массой 2 кг на высоту 1 м, если при этом он совершает работу, равную 26 Дж?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Оценка результата с точки зрения здравого смысла. Подобный вид самоконтроля применим в двух случаях: при неверном решении задачи и умышленном составлении задания с неверными заданными параметр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643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полностью погрузился в воду, налитую в ванну с вертикальными стенками, при этом уровень воды поднялся на 1 см. Какова масса ребенка, если средняя плотность тела человека 1,2 г/см3, а площадь ванны 1 м2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у ребенк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ρ. Объем ребенка равен объему вытесненной жидкост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аким образом, масса ребенка определится из выраж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ρ =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дставим численные значения известных величин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х 0,01х 1,2 = 0,012 кг = 12 г (?!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айди ошибку на схе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" descr="img23"/>
          <p:cNvPicPr/>
          <p:nvPr/>
        </p:nvPicPr>
        <p:blipFill>
          <a:blip r:embed="rId1"/>
          <a:stretch/>
        </p:blipFill>
        <p:spPr>
          <a:xfrm>
            <a:off x="1676520" y="1700280"/>
            <a:ext cx="2376360" cy="1525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img24"/>
          <p:cNvPicPr/>
          <p:nvPr/>
        </p:nvPicPr>
        <p:blipFill>
          <a:blip r:embed="rId2"/>
          <a:stretch/>
        </p:blipFill>
        <p:spPr>
          <a:xfrm>
            <a:off x="909720" y="3753000"/>
            <a:ext cx="77770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1:22:33Z</dcterms:created>
  <dc:creator>User</dc:creator>
  <dc:description/>
  <dc:language>en-US</dc:language>
  <cp:lastModifiedBy>Админ</cp:lastModifiedBy>
  <dcterms:modified xsi:type="dcterms:W3CDTF">2015-02-13T01:33:17Z</dcterms:modified>
  <cp:revision>47</cp:revision>
  <dc:subject/>
  <dc:title>Методическое объединение классных руководителей</dc:title>
</cp:coreProperties>
</file>