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15D7-7762-4F8F-B744-E1B48865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52AF-2012-4279-9F21-3A9AF0DF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346F-A813-48BA-BC72-CDAE68A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ABA6-5EA8-4796-933E-F367B8F1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31B-24FD-446C-ACE3-0BD103E6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B585-B681-4A84-858B-799CAE6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C051-91DA-465E-946E-9101D8A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A8ED-5A8E-43EF-8871-0F82CADA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48EE-1864-405F-9274-F95C94F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5578-AC69-4398-9EEF-BE70E6B6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7C0F-0832-48A3-89B5-A63CB63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CC9F-4953-495E-A2DA-DA835CEB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D261-CD74-4C4E-8880-88403484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8393-732F-4471-A237-D28C765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546A-FFCA-4C23-8C0A-F76D99F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DF5-29FE-4F4E-8DB1-38264BB0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5EB0-8713-4063-85A9-1D9169C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07D7-DEF1-4930-A89C-57C24B99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69EF-3A4F-4484-B637-61B8D8A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B404-481A-41BD-ACED-1155B953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AE6B-12B3-49F9-8653-45F4247A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12A3-EAE3-4B62-9AA0-F5C7CFFE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F272-71B1-4996-A6C3-5D028C2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CA4F-5874-428B-BD6E-557D575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DFB2-F9A0-4392-B3DE-34CBCAFB0E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41A7-9242-45B0-A685-DEADA29E58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240"/>
            <a:ext cx="5867640" cy="40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Monotype Corsiva"/>
              </a:rPr>
              <a:t>Методы формирования самоконтроля на уроках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714640"/>
            <a:ext cx="5791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Жигальцова Татья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book"/>
          <p:cNvPicPr/>
          <p:nvPr/>
        </p:nvPicPr>
        <p:blipFill>
          <a:blip r:embed="rId1"/>
          <a:stretch/>
        </p:blipFill>
        <p:spPr>
          <a:xfrm>
            <a:off x="789120" y="4170240"/>
            <a:ext cx="1838160" cy="141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ручка"/>
          <p:cNvPicPr/>
          <p:nvPr/>
        </p:nvPicPr>
        <p:blipFill>
          <a:blip r:embed="rId2"/>
          <a:stretch/>
        </p:blipFill>
        <p:spPr>
          <a:xfrm>
            <a:off x="1873080" y="4187880"/>
            <a:ext cx="90036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6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3852720" y="3230640"/>
                <a:ext cx="23162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t xml:space="preserve">0,2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569960" y="3936960"/>
                <a:ext cx="2905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3341520" y="4448160"/>
                <a:ext cx="2476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Line 5"/>
          <p:cNvSpPr/>
          <p:nvPr/>
        </p:nvSpPr>
        <p:spPr>
          <a:xfrm>
            <a:off x="1569960" y="360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510080" y="2281320"/>
                <a:ext cx="1001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Line 7"/>
          <p:cNvSpPr/>
          <p:nvPr/>
        </p:nvSpPr>
        <p:spPr>
          <a:xfrm>
            <a:off x="2484360" y="2281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763640" y="201960"/>
            <a:ext cx="675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В цир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ун одной левой поднимает огромную гир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которой написано 500 кг. На самом деле масса гири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о раз меньше. Объём этой гири 0,2 м</a:t>
            </a:r>
            <a:r>
              <a:rPr b="0" lang="ru-RU" sz="20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Вычисли плот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ирковой ги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32000" y="1864440"/>
            <a:ext cx="5616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                                    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5 кг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330560" y="2702520"/>
            <a:ext cx="23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2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27200" y="44470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646080" y="4431240"/>
            <a:ext cx="13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25 к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860480" y="38988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3216240" y="5929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  ОШИБ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Графическая проверка решения задач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468360" y="1740240"/>
            <a:ext cx="573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представлен графи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мости модуля скор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я от време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путь, пройде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ем в интервале от мом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и 0 с до момента времени 4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начала отсчета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get_file?id=1580"/>
          <p:cNvPicPr/>
          <p:nvPr/>
        </p:nvPicPr>
        <p:blipFill>
          <a:blip r:embed="rId1"/>
          <a:stretch/>
        </p:blipFill>
        <p:spPr>
          <a:xfrm>
            <a:off x="4859280" y="3046320"/>
            <a:ext cx="34578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Графическая проверка решения задач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55640" y="1435320"/>
            <a:ext cx="4508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движения материальной точки имеет вид х = 0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ить путь, пройденный материальной точкой за 4 с. Написать формулу зависим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построить график. Проверить решение задачи графичес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941720" y="3500280"/>
            <a:ext cx="3745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гры с жесткими правилами: «домино», «лото», «лабиринт», «зашифрованное слово» и т. 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«Закон сохранения механической энергии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вьте у результатов решения задач соответствующие буквы и прочитайте зашифрованное в задании слово (ускорение свободного падения принять равным 10 м/с2)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Какова максимальная высота, на которую поднимется камень, брошенный вертикально вверх со скоростью 20 м/с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 какой начальной скоростью нужно бросить вниз мяч с высоты 5 м, чтобы он подпрыгнул на высоту 10 м (удар считать абсолютно упругим)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акова в момент удара о землю кинетическая энергия тела массой 0.5 кг, упавшего вертикально вниз с высоты 6 м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акова скорость шарика, брошенного вертикально вниз с высоты 3 м с начальной скоростью 2 м/с, в момент удара о воду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С какой начальной скоростью нужно бросить вертикально вверх мяч, чтобы он поднялся на высоту 5 м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думаете, почему зашифровали именно это слово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 5 20  4 10  5   8 25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А  М  Е  Ы  Р  Л  У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Май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800000"/>
                </a:solidFill>
                <a:uFillTx/>
                <a:latin typeface="Monotype Corsiva"/>
              </a:rPr>
              <a:t>Самоконтроль </a:t>
            </a:r>
            <a:r>
              <a:rPr b="0" i="1" lang="ru-RU" sz="3600" spc="-1" strike="noStrike">
                <a:solidFill>
                  <a:srgbClr val="800000"/>
                </a:solidFill>
                <a:latin typeface="Monotype Corsiva"/>
              </a:rPr>
              <a:t> –</a:t>
            </a:r>
            <a:br>
              <a:rPr sz="3600"/>
            </a:br>
            <a:r>
              <a:rPr b="0" i="1" lang="ru-RU" sz="3600" spc="-1" strike="noStrike">
                <a:solidFill>
                  <a:srgbClr val="800000"/>
                </a:solidFill>
                <a:latin typeface="Monotype Corsiva"/>
              </a:rPr>
              <a:t> это один из важнейших факторов, </a:t>
            </a:r>
            <a:br>
              <a:rPr sz="3600"/>
            </a:br>
            <a:r>
              <a:rPr b="0" i="1" lang="ru-RU" sz="3600" spc="-1" strike="noStrike">
                <a:solidFill>
                  <a:srgbClr val="800000"/>
                </a:solidFill>
                <a:latin typeface="Monotype Corsiva"/>
              </a:rPr>
              <a:t> обеспечивающий самостоятельную деятельность учащихся. Его назначение заключается в своевременном предотвращении ошиб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Способ самоконтроля при решении физических задач - проверка размерности полученной величи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3902040" y="2368440"/>
                <a:ext cx="7826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948360" y="2289240"/>
                <a:ext cx="82260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Rectangle 7"/>
          <p:cNvSpPr/>
          <p:nvPr/>
        </p:nvSpPr>
        <p:spPr>
          <a:xfrm>
            <a:off x="2916360" y="2871360"/>
            <a:ext cx="9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869080" y="275904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858200" y="295308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012480" y="472392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=[с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дача: Груз, прикрепленный к пружине жесткостью 40 Н/м, за 20 мин совершает 60 колебаний. Определить массу груза.                    Формулы для решения 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T=2\pi\sqrt{\frac{m}{k}}"/>
          <p:cNvPicPr/>
          <p:nvPr/>
        </p:nvPicPr>
        <p:blipFill>
          <a:blip r:embed="rId1"/>
          <a:stretch/>
        </p:blipFill>
        <p:spPr>
          <a:xfrm>
            <a:off x="755640" y="3489480"/>
            <a:ext cx="3311640" cy="1050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139000" y="376380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6111720" y="3211560"/>
                <a:ext cx="7765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13"/>
          <p:cNvSpPr/>
          <p:nvPr/>
        </p:nvSpPr>
        <p:spPr>
          <a:xfrm>
            <a:off x="1800" y="3488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042920" y="55605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1979640" y="51228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κ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6"/>
          <p:cNvSpPr/>
          <p:nvPr/>
        </p:nvSpPr>
        <p:spPr>
          <a:xfrm>
            <a:off x="4287960" y="36392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749920" y="545400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6622920" y="5122800"/>
                <a:ext cx="1549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  <m:f>
                      <m:num>
                        <m:r>
                          <m:t xml:space="preserve">м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9"/>
          <p:cNvSpPr/>
          <p:nvPr/>
        </p:nvSpPr>
        <p:spPr>
          <a:xfrm>
            <a:off x="6624720" y="365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045080" y="473436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ая форму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5117400" y="47343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размер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Проверка задачи с помощью формулировки обратной задачи, когда полученное в ходе решения задачи значение используется для расчета одного из известных параметров. </a:t>
            </a:r>
            <a:br>
              <a:rPr sz="2800"/>
            </a:b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ую работу совершает человек при поднятии груза массой 2 кг на высоту 1 м с ускорением 3 м/с2? Проверьте свой результат, составив и решив обратную задач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шение: согласно второму закону Ньютон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отсюда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А так как работ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 каким ускорением человек должен поднимать груз массой 2 кг на высоту 1 м, если при этом он совершает работу, равную 26 Дж?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Оценка результата с точки зрения здравого смысла. Подобный вид самоконтроля применим в двух случаях: при неверном решении задачи и умышленном составлении задания с неверными заданными параметр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43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полностью погрузился в воду, налитую в ванну с вертикальными стенками, при этом уровень воды поднялся на 1 см. Какова масса ребенка, если средняя плотность тела человека 1,2 г/см3, а площадь ванны 1 м2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у ребенк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ρ. Объем ребенка равен объему вытесненной жидкост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аким образом, масса ребенка определится из выраж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ρ =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ставим численные значения известных величин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х 0,01х 1,2 = 0,012 кг = 12 г (?!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692280"/>
            <a:ext cx="701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йди ошибку на сх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img23"/>
          <p:cNvPicPr/>
          <p:nvPr/>
        </p:nvPicPr>
        <p:blipFill>
          <a:blip r:embed="rId1"/>
          <a:stretch/>
        </p:blipFill>
        <p:spPr>
          <a:xfrm>
            <a:off x="1676520" y="1700280"/>
            <a:ext cx="2376360" cy="1525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img24"/>
          <p:cNvPicPr/>
          <p:nvPr/>
        </p:nvPicPr>
        <p:blipFill>
          <a:blip r:embed="rId2"/>
          <a:stretch/>
        </p:blipFill>
        <p:spPr>
          <a:xfrm>
            <a:off x="909720" y="3753000"/>
            <a:ext cx="77770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1:22:33Z</dcterms:created>
  <dc:creator>User</dc:creator>
  <dc:description/>
  <dc:language>en-US</dc:language>
  <cp:lastModifiedBy>Админ</cp:lastModifiedBy>
  <dcterms:modified xsi:type="dcterms:W3CDTF">2015-02-13T01:33:17Z</dcterms:modified>
  <cp:revision>47</cp:revision>
  <dc:subject/>
  <dc:title>Методическое объединение классных руководителей</dc:title>
</cp:coreProperties>
</file>