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4FDE-BF04-4EFE-AB96-A073CEEC8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0BF7-C6DA-40D1-8759-DE27581E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72F6-46A8-42CB-826A-2437BB879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5CF6-C4D5-4C12-86BE-CF2D3C16C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C453-94A5-44BD-AAFB-24E13697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3229-BF51-4DA6-A952-62100209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310E-7F2D-4544-AE82-805CDF15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B21B-DB70-405C-A4F7-FB281450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2D0B-F688-45E5-A822-113AB84D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0668-592C-4D42-ADC5-ABA21AF3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5E51-2AD8-4E46-BA14-A6989E24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7D36-92D4-43D6-95C0-AC90D566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d55"/>
            </a:gs>
            <a:gs pos="100000">
              <a:srgbClr val="deedb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D099-D2D5-4B15-89BF-A52D341C94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d55"/>
            </a:gs>
            <a:gs pos="100000">
              <a:srgbClr val="deedb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9440" y="34560"/>
            <a:ext cx="20145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2ffd"/>
                </a:solidFill>
                <a:latin typeface="Monotype Corsiva"/>
              </a:rPr>
              <a:t>Гиппар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33080" y="641520"/>
            <a:ext cx="346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00ff1"/>
                </a:solidFill>
                <a:latin typeface="Times New Roman"/>
              </a:rPr>
              <a:t>около 190-125 до н.э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6720" y="1555920"/>
            <a:ext cx="4175280" cy="4968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0" y="2379240"/>
            <a:ext cx="45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4d1c"/>
                </a:solidFill>
                <a:latin typeface="Times New Roman"/>
              </a:rPr>
              <a:t>Гиппарх - древнегреческий ученый, один из основоположников астроном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88000" y="4905360"/>
            <a:ext cx="398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дился в городе Никее, жил и работал на острове Родо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445000"/>
            <a:ext cx="1081080" cy="648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9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d55"/>
            </a:gs>
            <a:gs pos="100000">
              <a:srgbClr val="deedb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1339920"/>
            <a:ext cx="4465440" cy="3944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3520" y="7452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2ffd"/>
                </a:solidFill>
                <a:latin typeface="Monotype Corsiva"/>
              </a:rPr>
              <a:t>ЕВКЛИ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8360" y="1339920"/>
            <a:ext cx="1766880" cy="2736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484360" y="2133720"/>
            <a:ext cx="1739880" cy="2663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071800" y="214920"/>
            <a:ext cx="56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b764f6"/>
                </a:solidFill>
                <a:latin typeface="Times New Roman"/>
              </a:rPr>
              <a:t>, древнегреческий математик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59280" y="1166760"/>
            <a:ext cx="38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Работал в Александр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в 3 в. до н. э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43280" y="2535120"/>
            <a:ext cx="46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4d1c"/>
                </a:solidFill>
                <a:latin typeface="Times New Roman"/>
              </a:rPr>
              <a:t>Главный труд «Начала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4d1c"/>
                </a:solidFill>
                <a:latin typeface="Times New Roman"/>
              </a:rPr>
              <a:t>(15 книг), содержащий осно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51560" y="393372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8a80"/>
                </a:solidFill>
                <a:latin typeface="Times New Roman"/>
              </a:rPr>
              <a:t>античной матема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23960" y="4437000"/>
            <a:ext cx="36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8a80"/>
                </a:solidFill>
                <a:latin typeface="Times New Roman"/>
              </a:rPr>
              <a:t>элементарной геомет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34880" y="3500280"/>
            <a:ext cx="20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8a80"/>
                </a:solidFill>
                <a:latin typeface="Times New Roman"/>
              </a:rPr>
              <a:t>теории чисе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72480" y="4869000"/>
            <a:ext cx="37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8a80"/>
                </a:solidFill>
                <a:latin typeface="Times New Roman"/>
              </a:rPr>
              <a:t>общей теории отношен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17520" y="5734080"/>
            <a:ext cx="58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8a80"/>
                </a:solidFill>
                <a:latin typeface="Times New Roman"/>
              </a:rPr>
              <a:t>метода определения площадей и объем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98600" y="5300640"/>
            <a:ext cx="38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8a80"/>
                </a:solidFill>
                <a:latin typeface="Times New Roman"/>
              </a:rPr>
              <a:t>элементы теории предел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00280" y="6165720"/>
            <a:ext cx="726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fd"/>
                </a:solidFill>
                <a:latin typeface="Times New Roman"/>
              </a:rPr>
              <a:t>О</a:t>
            </a:r>
            <a:r>
              <a:rPr b="1" lang="ru-RU" sz="2400" spc="-1" strike="noStrike">
                <a:solidFill>
                  <a:srgbClr val="2f2ffd"/>
                </a:solidFill>
                <a:latin typeface="Times New Roman"/>
              </a:rPr>
              <a:t>казал огромное влияние на развитие матема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1628640"/>
            <a:ext cx="93492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3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d55"/>
            </a:gs>
            <a:gs pos="100000">
              <a:srgbClr val="deedb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338400" y="-90360"/>
            <a:ext cx="313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2ffd"/>
                </a:solidFill>
                <a:latin typeface="Monotype Corsiva"/>
              </a:rPr>
              <a:t>Клавди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2ffd"/>
                </a:solidFill>
                <a:latin typeface="Monotype Corsiva"/>
              </a:rPr>
              <a:t>Птолем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3384720" cy="4114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3960720" cy="3960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100920" y="1736640"/>
            <a:ext cx="322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2f2f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ffd"/>
                </a:solidFill>
                <a:latin typeface="Times New Roman"/>
              </a:rPr>
              <a:t>греческий астрон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f2f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ffd"/>
                </a:solidFill>
                <a:latin typeface="Times New Roman"/>
              </a:rPr>
              <a:t>математ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f2f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ffd"/>
                </a:solidFill>
                <a:latin typeface="Times New Roman"/>
              </a:rPr>
              <a:t>геогра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17800" y="1341360"/>
            <a:ext cx="16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4736"/>
                </a:solidFill>
                <a:latin typeface="Times New Roman"/>
              </a:rPr>
              <a:t>Птолеме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473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e44736"/>
                </a:solidFill>
                <a:latin typeface="Times New Roman"/>
              </a:rPr>
              <a:t>Клавд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76320" y="6093000"/>
            <a:ext cx="726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дин из наиболее выдающихся ученых древ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98120" y="3860640"/>
            <a:ext cx="31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4d1c"/>
                </a:solidFill>
                <a:latin typeface="Times New Roman"/>
              </a:rPr>
              <a:t>Жил в Александр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71640" y="2997360"/>
            <a:ext cx="122400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d55"/>
            </a:gs>
            <a:gs pos="100000">
              <a:srgbClr val="deedb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-324360" y="43920"/>
            <a:ext cx="6983640" cy="18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f2ffd"/>
                </a:solidFill>
                <a:latin typeface="Monotype Corsiva"/>
              </a:rPr>
              <a:t>Баттани аль-Баттани Абу Абдаллах Мухаммед бен Джаби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48428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ff"/>
                </a:solidFill>
                <a:latin typeface="Times New Roman"/>
              </a:rPr>
              <a:t>858 — 92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2733480" cy="3313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713760" y="2707200"/>
            <a:ext cx="49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рабский астроном-наблюдател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16360" y="587700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4736"/>
                </a:solidFill>
                <a:latin typeface="Times New Roman"/>
              </a:rPr>
              <a:t>Родом из Баттана (Сирия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36680" y="4148280"/>
            <a:ext cx="60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4d1c"/>
                </a:solidFill>
                <a:latin typeface="Times New Roman"/>
              </a:rPr>
              <a:t>Ввёл в употребление тригонометрическ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4d1c"/>
                </a:solidFill>
                <a:latin typeface="Times New Roman"/>
              </a:rPr>
              <a:t>функции (синус, тангенс и котангенс).</a:t>
            </a:r>
            <a:r>
              <a:rPr b="1" lang="en-US" sz="2400" spc="-1" strike="noStrike">
                <a:solidFill>
                  <a:srgbClr val="0f4d1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6000"/>
                            </p:stCondLst>
                            <p:childTnLst>
                              <p:par>
                                <p:cTn id="1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d55"/>
            </a:gs>
            <a:gs pos="100000">
              <a:srgbClr val="deedb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586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f2ffd"/>
                </a:solidFill>
                <a:latin typeface="Monotype Corsiva"/>
              </a:rPr>
              <a:t>Абу-ль-Вефа (Абу-ль-Уафа) Мохаммед бен Мохаммед</a:t>
            </a:r>
            <a:r>
              <a:rPr b="0" i="1" lang="ru-RU" sz="4000" spc="-1" strike="noStrike">
                <a:solidFill>
                  <a:srgbClr val="2f2ffd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8000" y="126828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ff"/>
                </a:solidFill>
                <a:latin typeface="Times New Roman"/>
              </a:rPr>
              <a:t>10.6.940 — 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71600" y="1571760"/>
            <a:ext cx="3163680" cy="3657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244760" y="2347920"/>
            <a:ext cx="36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рабский астроном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тематик из Хорасана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08360" y="3932280"/>
            <a:ext cx="50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4d1c"/>
                </a:solidFill>
                <a:latin typeface="Times New Roman"/>
              </a:rPr>
              <a:t>Автор оригинального сочинения о геометрических построени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96880" y="5589720"/>
            <a:ext cx="44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ffd"/>
                </a:solidFill>
                <a:latin typeface="Times New Roman"/>
              </a:rPr>
              <a:t>Переводчик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f2ffd"/>
                </a:solidFill>
                <a:latin typeface="Times New Roman"/>
              </a:rPr>
              <a:t>трудов Диофанта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6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8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d55"/>
            </a:gs>
            <a:gs pos="100000">
              <a:srgbClr val="deedb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30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f2ffd"/>
                </a:solidFill>
                <a:latin typeface="Monotype Corsiva"/>
              </a:rPr>
              <a:t>Насирэддин Туси Абу Джафар Мухаммед ибн Мухаммед ибн Хасан Абу Бак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36000" y="1557360"/>
            <a:ext cx="298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ff"/>
                </a:solidFill>
                <a:latin typeface="Times New Roman"/>
              </a:rPr>
              <a:t>18.2.1201, Ту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ff"/>
                </a:solidFill>
                <a:latin typeface="Times New Roman"/>
              </a:rPr>
              <a:t>25.6.1274, Багда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3666960" cy="3960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736520" y="2965680"/>
            <a:ext cx="364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ёный-энциклопедист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сударственный деятель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621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Трактат, исцеляющий сомнение по поводу параллельных линий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71600" y="4365720"/>
            <a:ext cx="41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4d1c"/>
                </a:solidFill>
                <a:latin typeface="Times New Roman"/>
              </a:rPr>
              <a:t>Автор работ по математике</a:t>
            </a:r>
            <a:r>
              <a:rPr b="1" lang="ru-RU" sz="2400" spc="-1" strike="noStrike">
                <a:solidFill>
                  <a:srgbClr val="0f4d1c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f4d1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98640" y="4894200"/>
            <a:ext cx="31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Изложение Евклида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2560" y="5327640"/>
            <a:ext cx="289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Трактат о полн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етырехсторонник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6500"/>
                            </p:stCondLst>
                            <p:childTnLst>
                              <p:par>
                                <p:cTn id="2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70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07-02-11T21:45:59Z</dcterms:modified>
  <cp:revision>11</cp:revision>
  <dc:subject/>
  <dc:title>PowerPoint Presentation</dc:title>
</cp:coreProperties>
</file>