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3FA-AD0E-43BC-87E3-2EB0BEC5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A80-D5C8-47BD-BABF-A0E78EF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36E-5202-4C6C-ADC3-E32D07E9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745-B6D6-48EC-B28C-86272B2E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DAD-0FC8-4B6F-A9C7-DD236FA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1F2-8256-4E3F-B116-A6EAC68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299-44A7-4FEE-810A-1ED71907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4BD-AB3C-4B7C-94D9-20BC757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B34-9C73-43D6-88E4-8F7B983B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AFD-8155-4058-8C5B-E89C0BA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28C-3611-4F48-957B-C9D4D83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20D-7C03-427F-8D67-E506A6F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6649-A7E1-421E-8775-698BA4414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440" y="34560"/>
            <a:ext cx="20145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Гиппар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3080" y="64152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ff1"/>
                </a:solidFill>
                <a:latin typeface="Times New Roman"/>
              </a:rPr>
              <a:t>около 190-125 до н.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" y="1555920"/>
            <a:ext cx="41752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237924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Гиппарх - древнегреческий ученый, один из основоположников астроном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490536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ся в городе Никее, жил и работал на острове Род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445000"/>
            <a:ext cx="108108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339920"/>
            <a:ext cx="4465440" cy="394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520" y="7452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339920"/>
            <a:ext cx="176688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84360" y="2133720"/>
            <a:ext cx="1739880" cy="266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71800" y="2149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b764f6"/>
                </a:solidFill>
                <a:latin typeface="Times New Roman"/>
              </a:rPr>
              <a:t>, древнегреческий математ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1667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ботал в Александ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3 в. до н. э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5351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Главный труд «Начал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(15 книг), содержащий 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1560" y="39337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античной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3960" y="44370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элементарной гео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4880" y="3500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теории чис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2480" y="4869000"/>
            <a:ext cx="37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общей теории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7520" y="57340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метода определения площадей и объе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98600" y="530064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элементы теории пре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00280" y="616572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fd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казал огромное влияние на развитие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628640"/>
            <a:ext cx="934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338400" y="-90360"/>
            <a:ext cx="31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Клавд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Птолем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3847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00920" y="1736640"/>
            <a:ext cx="32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греческий астро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геогра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800" y="134136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Птолем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Клавд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609300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ин из наиболее выдающихся ученых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98120" y="386064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Жил в Александ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2997360"/>
            <a:ext cx="122400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43920"/>
            <a:ext cx="698364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Баттани аль-Баттани Абу Абдаллах Мухаммед бен Джаби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48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858 — 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733480" cy="331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13760" y="27072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абский астроном-наблюдател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587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Родом из Баттана (Сир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6680" y="414828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Ввёл в употребление тригонометр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функции (синус, тангенс и котангенс).</a:t>
            </a: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Абу-ль-Вефа (Абу-ль-Уафа) Мохаммед бен Мохаммед</a:t>
            </a:r>
            <a:r>
              <a:rPr b="0" i="1" lang="ru-RU" sz="4000" spc="-1" strike="noStrike">
                <a:solidFill>
                  <a:srgbClr val="2f2ffd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8000" y="12682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10.6.940 — 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00" y="1571760"/>
            <a:ext cx="31636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44760" y="2347920"/>
            <a:ext cx="36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абский астроном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к из Хорасан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932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Автор оригинального сочинения о геометрических постро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6880" y="5589720"/>
            <a:ext cx="44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Переводчик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трудов Диофанта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3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Насирэддин Туси Абу Джафар Мухаммед ибн Мухаммед ибн Хасан Абу Бак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6000" y="1557360"/>
            <a:ext cx="29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18.2.1201, Ту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25.6.1274, Багд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666960" cy="396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36520" y="296568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ёный-энциклопедист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деятель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21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актат, исцеляющий сомнение по поводу параллельных линий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1600" y="4365720"/>
            <a:ext cx="41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Автор работ по математике</a:t>
            </a: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8640" y="48942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Изложение Евклид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2560" y="532764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актат о пол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ырехсторонн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07-02-11T21:45:59Z</dcterms:modified>
  <cp:revision>11</cp:revision>
  <dc:subject/>
  <dc:title>PowerPoint Presentation</dc:title>
</cp:coreProperties>
</file>