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497-8BB2-41BA-B421-D888234A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93F-FB12-4EA2-8991-4F3BD108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A37-99EB-4D43-B239-A459A093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C46-C493-4631-ADAB-EB521481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8AF-A84C-4182-AC4B-A48B5147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129-125E-4F15-A647-71C725CC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982-6973-477C-B7C8-DF6799EC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371-832D-4F59-A2F0-17BCD124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AA6-BF67-48D4-AF67-828EB3A5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0EF-96C0-4DFA-A233-9F0F953A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4BF-8A30-44FE-B188-4CB2F495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C63-78AF-46A6-B9E3-48538BE0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F12E-41EE-4744-985C-A36E388E4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Урок русского языка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 класс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«Школа Росс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19076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: Понятие об имени существительн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Наука о язы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нят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нят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об име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уществительно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асскажите обо мн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84400" y="1600200"/>
            <a:ext cx="3173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тр. 52 упр.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ходьб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ла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рисед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е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393840" y="378000"/>
            <a:ext cx="8292960" cy="6099120"/>
            <a:chOff x="393840" y="378000"/>
            <a:chExt cx="8292960" cy="609912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393840" y="378000"/>
              <a:ext cx="829296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502360" y="1146960"/>
              <a:ext cx="4216680" cy="339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440" y="1447560"/>
            <a:ext cx="70102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чинаем наш у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ния  пойдут вам впр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у новую пройдите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понятия учи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определени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орошего учени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j0432665"/>
          <p:cNvPicPr/>
          <p:nvPr/>
        </p:nvPicPr>
        <p:blipFill>
          <a:blip r:embed="rId1"/>
          <a:stretch/>
        </p:blipFill>
        <p:spPr>
          <a:xfrm>
            <a:off x="304920" y="304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тр. 53 упр.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Научное понят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йств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в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Стр. 54 упр.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оцен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219320" y="1600200"/>
            <a:ext cx="7238880" cy="4724280"/>
            <a:chOff x="1219320" y="1600200"/>
            <a:chExt cx="7238880" cy="47242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19320" y="1600200"/>
              <a:ext cx="723888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059640" y="2195640"/>
              <a:ext cx="3680640" cy="263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_______________________________________________________________________________________________________________________________________________________________________________________________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тог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лавное, что надо запомни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не удало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ня удивил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не понравило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 порадовался з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 хочу поблагодарить … з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 могу похвалить себя з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омните мен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84400" y="1600200"/>
            <a:ext cx="3173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екретно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40120" y="1600200"/>
            <a:ext cx="3262320" cy="4525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19280" y="274680"/>
            <a:ext cx="4103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ТО? Ч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означа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ПРЕД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ЯВЛЕНИЯ 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9960" y="1600200"/>
            <a:ext cx="3173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13000" y="274680"/>
            <a:ext cx="4518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знач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19760" y="1600200"/>
            <a:ext cx="349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651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ТО 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ТО С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означа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ЙСТВИЕ  предм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8303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1-02-11T17:27:2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