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E1EC-E94F-4D94-9CD3-4D40E51A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1C8D-20D5-479B-BA38-A2A31734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A652-DF81-4942-9772-44A11351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641-F42B-4464-BE88-E196E6BA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8F3C-7154-4A33-AB8A-2CDEC982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21A-54B8-49C7-861E-F5FCCFD5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60D-B380-48B7-8F58-17BB3B26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129-23C9-4D25-B461-03585078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564-6B2C-4839-A045-7B88B299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922-02E7-458B-91A0-E57D7BFB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618-DA5F-4CED-AE5E-28453BED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93C-9FEC-416A-9639-5D6118EE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58B2-CD05-4AE7-979D-EC3344202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Урок русского языка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 класс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«Школа Росс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190760"/>
            <a:ext cx="71625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: Понятие об имени существительн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381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Наука о язы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нят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нят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об име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уществительно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Расскажите обо мн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84400" y="1600200"/>
            <a:ext cx="3173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тр. 52 упр.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м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м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м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ходьб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ла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рисед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е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393840" y="378000"/>
            <a:ext cx="8292960" cy="6099120"/>
            <a:chOff x="393840" y="378000"/>
            <a:chExt cx="8292960" cy="609912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393840" y="378000"/>
              <a:ext cx="829296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502360" y="1146960"/>
              <a:ext cx="4216680" cy="339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440" y="1447560"/>
            <a:ext cx="70102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чинаем наш ур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ния  пойдут вам впр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у новую пройдите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понятия учи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определени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орошего учени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j0432665"/>
          <p:cNvPicPr/>
          <p:nvPr/>
        </p:nvPicPr>
        <p:blipFill>
          <a:blip r:embed="rId1"/>
          <a:stretch/>
        </p:blipFill>
        <p:spPr>
          <a:xfrm>
            <a:off x="304920" y="3049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тр. 53 упр.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м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Научное понят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м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йств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в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Стр. 54 упр.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оцен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219320" y="1600200"/>
            <a:ext cx="7238880" cy="4724280"/>
            <a:chOff x="1219320" y="1600200"/>
            <a:chExt cx="7238880" cy="47242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19320" y="1600200"/>
              <a:ext cx="723888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059640" y="2195640"/>
              <a:ext cx="3680640" cy="263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_______________________________________________________________________________________________________________________________________________________________________________________________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тог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лавное, что надо запомни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не удалос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ня удивил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не понравилос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 порадовался з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 хочу поблагодарить … з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 могу похвалить себя з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омните мен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984400" y="1600200"/>
            <a:ext cx="3173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екретно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40120" y="1600200"/>
            <a:ext cx="3262320" cy="45259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19280" y="274680"/>
            <a:ext cx="4103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ТО? Ч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означа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ПРЕД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ЯВЛЕНИЯ ПРИ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9960" y="1600200"/>
            <a:ext cx="3173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13000" y="274680"/>
            <a:ext cx="4518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знач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19760" y="1600200"/>
            <a:ext cx="349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651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ТО 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ТО С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означа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ЙСТВИЕ  предм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28303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1-02-11T17:27:2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