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1B9-B604-4251-8FE2-05381F6C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824-FA7F-48D2-9774-EBC7F5C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CC2-3AF2-4AA8-9B3D-3244FF72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6C2-CC6C-4A1C-A596-BF44302C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B832-3AC3-4A91-AD84-A761116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1BE-C94A-4214-A693-8FDAACF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AD30-2E2E-46D2-A5F0-0F4DCF56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A0C5-A4EE-41DA-B1AD-3CD9E70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D12D-926F-4A6E-8BA5-8893505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466-F2E3-4C23-AE9E-97D3749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883-9024-40BB-9B27-6186C3EE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A1A-E3DD-4953-AA7D-A870453C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6CE7-E4CD-431E-B0D2-458C3F9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1F87-3F01-46C2-B2E7-CE96511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8C7-3649-46A1-8EBD-E530F184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EEB8-BD24-4A36-B243-1AC65AE6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D3CF-3D59-46E0-8D92-CAF83D1B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6815-DE3E-468F-8152-54154909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498F-BD63-49A0-8225-57C8D1F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D404-23B2-44F9-BA7A-AD593A8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6DEF-C7BC-4FB1-B034-396369B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E6CF-71E2-4910-91F5-2AD17513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BD0-F1EA-49B0-8AC8-3D0819E0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93F0-C7A7-4006-98E7-52E9D48D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443F-B13B-4170-AC0D-815E1CE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7B2E-EF00-4574-B890-3610A25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787D-EB20-4AE5-851B-C8BDD97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1EFE-9698-46A2-8345-4E9145E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3683-4467-401D-923B-225CA64C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A91F-232F-49F0-8920-658F90B6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574E-D2FC-49A3-B55C-B990A14F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F5CD-DF2D-4B4A-BB05-AAADD128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F862-2D6C-4BA8-80B8-D6467AF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FDD-6C7E-4B83-8C84-722CA698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9162-16B5-4487-B721-51E3CBFE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0191-3125-4BB7-9DC1-491156F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5E99-B07D-4126-BD66-6F90B64A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7566-50A3-40FA-80E0-CCCCE9A4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9551-8E85-4C47-A4DF-FC40730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1BB0-394F-46C7-9B33-E1B713D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FFD06-66FC-492F-8463-B99D7A0E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EECE-6464-45E4-B4AF-74A04750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4F4A-3DF5-4343-ABD2-E740F181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B57-B157-46FD-BD25-6650A9CA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82F-3882-40CA-AC1C-343CCA8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F0F-0683-490F-AD86-B0944BD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056-51B9-4DE6-B67E-08A0D7F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9A4-1958-4ACF-83FF-7788547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A8D-9C24-40FB-9D0B-292B054869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6F78-2C47-47D6-AB6B-5EC4A2BC34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744-BF34-4A4A-8DE5-66E8630F0FD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C06F-791B-49CE-9254-710FD99C1E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06320" y="1457280"/>
            <a:ext cx="7864560" cy="174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600" y="428400"/>
            <a:ext cx="78548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кружная научно-практическая конференция младших школьник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кция «эколог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786120" y="354024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втор 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дрова Ольга, ученица 1 клас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БОУ  ООШ№21 г.о.Чапаевск Самарской области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082680" y="60721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о.Чапаевск,201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у замерзания воды определим опытом№6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htmlimage_006"/>
          <p:cNvPicPr/>
          <p:nvPr/>
        </p:nvPicPr>
        <p:blipFill>
          <a:blip r:embed="rId1"/>
          <a:stretch/>
        </p:blipFill>
        <p:spPr>
          <a:xfrm>
            <a:off x="285840" y="2214720"/>
            <a:ext cx="4427280" cy="248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SCF1001"/>
          <p:cNvPicPr/>
          <p:nvPr/>
        </p:nvPicPr>
        <p:blipFill>
          <a:blip r:embed="rId2"/>
          <a:stretch/>
        </p:blipFill>
        <p:spPr>
          <a:xfrm>
            <a:off x="5857920" y="22147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F1006"/>
          <p:cNvPicPr/>
          <p:nvPr/>
        </p:nvPicPr>
        <p:blipFill>
          <a:blip r:embed="rId3"/>
          <a:stretch/>
        </p:blipFill>
        <p:spPr>
          <a:xfrm>
            <a:off x="5214960" y="3929040"/>
            <a:ext cx="150804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857160" y="1092960"/>
            <a:ext cx="7715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  <a:ea typeface="Times New Roman"/>
              </a:rPr>
              <a:t>Через 6 часов посмотрели, вода водопроводная, из Черного моря и Азовского замерзла, а из Средиземного моря замерзла не до конца, значит ей нужны для замерзания более низкие темп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  <a:ea typeface="Times New Roman"/>
              </a:rPr>
              <a:t>А если попробовать лед на вкус, то он не имеет соленого привкуса, значит вода стала пресной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9ca3"/>
                </a:solidFill>
                <a:latin typeface="Constantia"/>
                <a:ea typeface="Times New Roman"/>
              </a:rPr>
              <a:t>Такую воду можно использовать в широком назначении</a:t>
            </a:r>
            <a:r>
              <a:rPr b="0" lang="ru-RU" sz="1400" spc="-1" strike="noStrike">
                <a:solidFill>
                  <a:srgbClr val="089ca3"/>
                </a:solidFill>
                <a:latin typeface="Constanti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87248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42960" y="1000080"/>
          <a:ext cx="8001000" cy="5492880"/>
        </p:xfrm>
        <a:graphic>
          <a:graphicData uri="http://schemas.openxmlformats.org/drawingml/2006/table">
            <a:tbl>
              <a:tblPr/>
              <a:tblGrid>
                <a:gridCol w="1679400"/>
                <a:gridCol w="1706760"/>
                <a:gridCol w="1393920"/>
                <a:gridCol w="1501560"/>
                <a:gridCol w="1719360"/>
              </a:tblGrid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вск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зем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роводная 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кип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замерз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к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ость ( плот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14240" y="296280"/>
            <a:ext cx="7929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Я </a:t>
            </a:r>
            <a:r>
              <a:rPr b="0" lang="ru-RU" sz="20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сделала сведущие выводы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отличный раствор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– главное свойство морской 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зависит от пло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леной и пресной воде предметы держатся по-разному: тонут или пла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оды измеряется прибором  - ареоме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кипения и замерзания различ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пути получения пресной воды из мор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«переходит» в пресную через испарение и замер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– источник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чистоты вод Мирового океана – главное дело каждого жителя планеты З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е море - очень подходит для детей: летом здесь редки шторма – ведь Чёрное море небольшое, ветру труднее раскачать волны; здесь почти нет опасных для человека морских животных, а в воде мало соли, и она не щиплет глаза. Здесь - хорошо учиться нырять, впервые знакомиться с подводны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85840" y="1428480"/>
            <a:ext cx="84009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Одним из важнейших природных богатств является вода. Вода находятся в тесной взаимосвязи с окружающей природой и хозяйственной деятельностью человека.       Воды теплых морей, кроме прекрасного отдыха, дайвинга, укрепления здоровья и иммунитета, представляют значительный интерес с научной и экологической точки зр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 же изучая свойства морской воды, я приобрела  первый  самостоятельный  исследовательский опы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ю нашего исследования явилось изучение физических свойств воды, взятой в различных морях. Для сравнения взяли пробы воды из Азовского моря (около городского пляжа г. Керчь) и Черного моря (около городского пляжа г. Геленджик) и Средиземного моря (около городского пляжа г. Кемер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лог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чество морской  воды и ее свойст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ли, что морская вода в теплых морях одинакова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71388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 использовались следующие методы ис­следования:  наблюдение; сравнение; анализ; обобщение, работа в  сети Интернет, эксперимент, (проводились в школьной лаборатории и  в домашних условиях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just">
              <a:lnSpc>
                <a:spcPct val="100000"/>
              </a:lnSpc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и периодическую печать по теме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just">
              <a:lnSpc>
                <a:spcPct val="100000"/>
              </a:lnSpc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методики для определения наличия солей в водах Черного и Азовского, и Средиземного мор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зрачность 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лотность в водах  Черного и Азовского, и Средиземного морей и сравнить полученные результа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емпературу кипения и затвердевания морской 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642960" y="726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и сравнить физические и химические свойства морской 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–какая она?  В нашей местности нет моря, но отдыхая летом на различных морях мы привезли образцы с трех морей: Черноного, Азовского и Средиземного. Мы искали ответы на следующие вопросы: Почему вода в море соленая? Как доказать что в морской воде содержится сол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следующи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№1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mlimage_005"/>
          <p:cNvPicPr/>
          <p:nvPr/>
        </p:nvPicPr>
        <p:blipFill>
          <a:blip r:embed="rId1"/>
          <a:stretch/>
        </p:blipFill>
        <p:spPr>
          <a:xfrm>
            <a:off x="4214880" y="4213080"/>
            <a:ext cx="41432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5480" y="1000080"/>
            <a:ext cx="84294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мере испарения на нитке стали скапливаться кристаллики соли, что доказывает, что морская вода солена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е всего кристалликов было на нитке, погруженной в воду из Средиземного мо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htmlimage_003"/>
          <p:cNvPicPr/>
          <p:nvPr/>
        </p:nvPicPr>
        <p:blipFill>
          <a:blip r:embed="rId1"/>
          <a:stretch/>
        </p:blipFill>
        <p:spPr>
          <a:xfrm>
            <a:off x="1500120" y="3143160"/>
            <a:ext cx="61088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л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ыт№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642960" y="124560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зяли образцы воды из 3-х морей и питьевую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сыпали в эти 4 сосуда одинаковое количество зем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али воде отстоя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морской воде, особенно из Средиземного моря вода осела на грунт и стала прозрачной, а в пресной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падении реки в море растворенные ее частицы оседают на дно, от воздействия соли и других факторов. Морская вода способствует выпадению содержащихся в не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ов и значит она более прозрачна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DSCF0943"/>
          <p:cNvPicPr/>
          <p:nvPr/>
        </p:nvPicPr>
        <p:blipFill>
          <a:blip r:embed="rId1"/>
          <a:stretch/>
        </p:blipFill>
        <p:spPr>
          <a:xfrm>
            <a:off x="5000760" y="4672080"/>
            <a:ext cx="36194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зрачность воды проверим </a:t>
            </a: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пытом №3:</a:t>
            </a:r>
            <a:br>
              <a:rPr sz="20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Самостоятельное определение и оценка качества воды, а точнее, уровня ее прозрачности, может быть осуществлено следующим образом. Нальем в стеклянную емкость воду и посмотрим сквозь воду на свет.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htmlimage_007"/>
          <p:cNvPicPr/>
          <p:nvPr/>
        </p:nvPicPr>
        <p:blipFill>
          <a:blip r:embed="rId1"/>
          <a:stretch/>
        </p:blipFill>
        <p:spPr>
          <a:xfrm>
            <a:off x="3672000" y="3643200"/>
            <a:ext cx="47577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воды проверим опытом№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500040" y="2303640"/>
            <a:ext cx="8143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омет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ибор для измерения плотности жидкостей. Мы взяли этот прибор в школьном кабинете физики и вместе с учителем провели следующее: измерили плотность образцов воды из наших 3-х мор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е море - 1015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зовское море - 1010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земное море -  1023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у: кипения морской воды определим опытом№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3" descr="htmlimage"/>
          <p:cNvPicPr/>
          <p:nvPr/>
        </p:nvPicPr>
        <p:blipFill>
          <a:blip r:embed="rId1"/>
          <a:stretch/>
        </p:blipFill>
        <p:spPr>
          <a:xfrm>
            <a:off x="3571920" y="2428920"/>
            <a:ext cx="5371920" cy="3965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DSCF1014"/>
          <p:cNvPicPr/>
          <p:nvPr/>
        </p:nvPicPr>
        <p:blipFill>
          <a:blip r:embed="rId2"/>
          <a:stretch/>
        </p:blipFill>
        <p:spPr>
          <a:xfrm>
            <a:off x="500040" y="2357280"/>
            <a:ext cx="24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7:30:21Z</dcterms:created>
  <dc:creator>Светлана</dc:creator>
  <dc:description/>
  <dc:language>en-US</dc:language>
  <cp:lastModifiedBy>Директор</cp:lastModifiedBy>
  <dcterms:modified xsi:type="dcterms:W3CDTF">2015-10-15T06:33:27Z</dcterms:modified>
  <cp:revision>31</cp:revision>
  <dc:subject/>
  <dc:title>Слайд 1</dc:title>
</cp:coreProperties>
</file>