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9EE-3B5E-4238-BFF8-BEF968FF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5FD-CCBD-4238-BBDE-A0E6CA98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FFC-6219-4F6B-A18F-0349201A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DA8-A580-491E-8958-9C9A7722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B036-BA86-4141-88DF-7CD3644C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B9F7-4D47-41FE-A383-937C55B6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92D8-5342-42E5-B6CD-2A9B8B3A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C34D-0083-44D3-B504-05AF2BF4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CA2E-765A-4124-B62C-A31B1D1E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ED5E-8977-4E3A-99FA-D69AC35C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E77A-57CB-404B-9149-06780AFA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B0E-5D48-48C2-B156-E5F496BD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1049-E15B-4BE5-BE0E-545E3D9A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0E22-9F05-4D28-95FE-76FA8CEB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2541-2E20-412F-BFDB-F75DA14C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F944-AAF8-43A1-BF5D-D47D5FF6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AA06-3E01-4AD0-90C4-C465A3EC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DB55-4FED-4E4D-A775-565CF204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E3C0-7011-43B1-A4B6-9EA17BDE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C150D-7CDA-49F7-B830-439ABB18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1759-D643-461F-B99E-5EB67002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E9D74-0FD7-4B2C-9E5A-E8C5B171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6C2-256A-4344-8464-81013416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9C46C-D2EC-4FDD-BAB2-E45DE71C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1412C-6ED4-4CC4-BC67-FC226460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6E9B4-FB16-4F7D-873F-01467568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D336C-31A8-4457-8779-F9B086F4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A5958-EC18-4551-8428-EEE8B0D0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81BB3-8ACE-45EA-B6FA-33DBE876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A7BE0-E4E9-45FA-BC7C-D2312532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57450-88E7-4B4F-97D5-BE0E46FE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19203-5E55-4212-A0C1-A2220562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CDE2C-9800-4117-B943-7F1ACC2A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9A45-7AFD-4F2E-91B8-7A668A88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755D4-8456-4A35-86D2-43E10F7C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B5E8F-3BD7-42DB-B738-59FD7B83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58116-111D-405A-9C59-89DD12CA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3CF9E-1517-40CE-9BEB-D6020304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37EB-1EA0-4B50-8043-C277390A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91F6D-44FF-4D36-9A15-38F4BA0B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335C2-A0B1-4165-B656-E16D74A7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7E424-0DFA-427F-A62E-B3A593B9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ACDA5-5B02-450D-A32C-DC2ADBA9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63A-F0F9-432A-873C-A16303BC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357-F383-48A0-BAA6-0A92BC5D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143-3B64-49A8-8390-DE373EAF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6C4-B186-4FD0-BD2C-4C1860F7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7B5-5B1C-485C-84A2-B6E541D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7D8F-399B-4F10-9542-F485C045D2C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F839-F93E-4227-A27C-8D8D98473DD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7F2D-9372-4F22-980E-986C8A68B0E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231A-63B7-4B19-9ABF-E12D6F2F021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06320" y="1457280"/>
            <a:ext cx="7864560" cy="1743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42600" y="428400"/>
            <a:ext cx="78548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кружная научно-практическая конференция младших школьнико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екция «экология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3786120" y="3540240"/>
            <a:ext cx="535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втор 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дрова Ольга, ученица 1 класс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БОУ  ООШ№21 г.о.Чапаевск Самарской области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3082680" y="60721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.о.Чапаевск,2013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у замерзания воды определим опытом№6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htmlimage_006"/>
          <p:cNvPicPr/>
          <p:nvPr/>
        </p:nvPicPr>
        <p:blipFill>
          <a:blip r:embed="rId1"/>
          <a:stretch/>
        </p:blipFill>
        <p:spPr>
          <a:xfrm>
            <a:off x="285840" y="2214720"/>
            <a:ext cx="4427280" cy="2482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DSCF1001"/>
          <p:cNvPicPr/>
          <p:nvPr/>
        </p:nvPicPr>
        <p:blipFill>
          <a:blip r:embed="rId2"/>
          <a:stretch/>
        </p:blipFill>
        <p:spPr>
          <a:xfrm>
            <a:off x="5857920" y="221472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DSCF1006"/>
          <p:cNvPicPr/>
          <p:nvPr/>
        </p:nvPicPr>
        <p:blipFill>
          <a:blip r:embed="rId3"/>
          <a:stretch/>
        </p:blipFill>
        <p:spPr>
          <a:xfrm>
            <a:off x="5214960" y="3929040"/>
            <a:ext cx="1508040" cy="26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857160" y="1092960"/>
            <a:ext cx="7715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nstantia"/>
                <a:ea typeface="Times New Roman"/>
              </a:rPr>
              <a:t>Через 6 часов посмотрели, вода водопроводная, из Черного моря и Азовского замерзла, а из Средиземного моря замерзла не до конца, значит ей нужны для замерзания более низкие темп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nstantia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76a3"/>
                </a:solidFill>
                <a:latin typeface="Constantia"/>
                <a:ea typeface="Times New Roman"/>
              </a:rPr>
              <a:t>А если попробовать лед на вкус, то он не имеет соленого привкуса, значит вода стала пресной!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9ca3"/>
                </a:solidFill>
                <a:latin typeface="Constantia"/>
                <a:ea typeface="Times New Roman"/>
              </a:rPr>
              <a:t>Такую воду можно использовать в широком назначении</a:t>
            </a:r>
            <a:r>
              <a:rPr b="0" lang="ru-RU" sz="1400" spc="-1" strike="noStrike">
                <a:solidFill>
                  <a:srgbClr val="089ca3"/>
                </a:solidFill>
                <a:latin typeface="Constanti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87248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42960" y="1000080"/>
          <a:ext cx="8001000" cy="5492880"/>
        </p:xfrm>
        <a:graphic>
          <a:graphicData uri="http://schemas.openxmlformats.org/drawingml/2006/table">
            <a:tbl>
              <a:tblPr/>
              <a:tblGrid>
                <a:gridCol w="1679400"/>
                <a:gridCol w="1706760"/>
                <a:gridCol w="1393920"/>
                <a:gridCol w="1501560"/>
                <a:gridCol w="1719360"/>
              </a:tblGrid>
              <a:tr h="844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е мо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вское мо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иземное мо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проводная 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цвет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цве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цве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цве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запа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запа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кип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замерз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-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-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-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е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е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соле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вк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еность ( плотн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 кг/м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 кг/м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г/м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714240" y="296280"/>
            <a:ext cx="7929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aaf2"/>
                </a:solidFill>
                <a:latin typeface="Times New Roman"/>
                <a:ea typeface="Times New Roman"/>
              </a:rPr>
              <a:t>Я </a:t>
            </a:r>
            <a:r>
              <a:rPr b="0" lang="ru-RU" sz="2000" spc="-1" strike="noStrike">
                <a:solidFill>
                  <a:srgbClr val="59aaf2"/>
                </a:solidFill>
                <a:latin typeface="Times New Roman"/>
                <a:ea typeface="Times New Roman"/>
              </a:rPr>
              <a:t>сделала сведущие выводы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– отличный раствор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еность – главное свойство морской 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еность зависит от пло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леной и пресной воде предметы держатся по-разному: тонут или пла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воды измеряется прибором  - ареоме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кипения и замерзания различ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е пути получения пресной воды из мор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кая вода «переходит» в пресную через испарение и замерз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кая вода – источник здоров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чистоты вод Мирового океана – главное дело каждого жителя планеты Зем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е море - очень подходит для детей: летом здесь редки шторма – ведь Чёрное море небольшое, ветру труднее раскачать волны; здесь почти нет опасных для человека морских животных, а в воде мало соли, и она не щиплет глаза. Здесь - хорошо учиться нырять, впервые знакомиться с подводным ми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85840" y="1428480"/>
            <a:ext cx="84009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Одним из важнейших природных богатств является вода. Вода находятся в тесной взаимосвязи с окружающей природой и хозяйственной деятельностью человека.       Воды теплых морей, кроме прекрасного отдыха, дайвинга, укрепления здоровья и иммунитета, представляют значительный интерес с научной и экологической точки зрен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 же изучая свойства морской воды, я приобрела  первый  самостоятельный  исследовательский опыт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ью нашего исследования явилось изучение физических свойств воды, взятой в различных морях. Для сравнения взяли пробы воды из Азовского моря (около городского пляжа г. Керчь) и Черного моря (около городского пляжа г. Геленджик) и Средиземного моря (около городского пляжа г. Кемер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лог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чество морской  воды и ее свойств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исследования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ли, что морская вода в теплых морях одинакова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85840" y="713880"/>
            <a:ext cx="8400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 использовались следующие методы ис­следования:  наблюдение; сравнение; анализ; обобщение, работа в  сети Интернет, эксперимент, (проводились в школьной лаборатории и  в домашних условиях)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65040" algn="just">
              <a:lnSpc>
                <a:spcPct val="100000"/>
              </a:lnSpc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научную литературу и периодическую печать по теме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365040" algn="just">
              <a:lnSpc>
                <a:spcPct val="100000"/>
              </a:lnSpc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методики для определения наличия солей в водах Черного и Азовского, и Средиземного мор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прозрачность вод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плотность в водах  Черного и Азовского, и Средиземного морей и сравнить полученные результат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температуру кипения и затвердевания морской вод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вывод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642960" y="7268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и сравнить физические и химические свойства морской в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кая вода –какая она?  В нашей местности нет моря, но отдыхая летом на различных морях мы привезли образцы с трех морей: Черноного, Азовского и Средиземного. Мы искали ответы на следующие вопросы: Почему вода в море соленая? Как доказать что в морской воде содержится соль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и следующий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№1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mlimage_005"/>
          <p:cNvPicPr/>
          <p:nvPr/>
        </p:nvPicPr>
        <p:blipFill>
          <a:blip r:embed="rId1"/>
          <a:stretch/>
        </p:blipFill>
        <p:spPr>
          <a:xfrm>
            <a:off x="4214880" y="4213080"/>
            <a:ext cx="41432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85480" y="1000080"/>
            <a:ext cx="84294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вод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мере испарения на нитке стали скапливаться кристаллики соли, что доказывает, что морская вода солена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ольше всего кристалликов было на нитке, погруженной в воду из Средиземного мор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1" descr="htmlimage_003"/>
          <p:cNvPicPr/>
          <p:nvPr/>
        </p:nvPicPr>
        <p:blipFill>
          <a:blip r:embed="rId1"/>
          <a:stretch/>
        </p:blipFill>
        <p:spPr>
          <a:xfrm>
            <a:off x="1500120" y="3143160"/>
            <a:ext cx="610884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0004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ли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пыт№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642960" y="1245600"/>
            <a:ext cx="7643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зяли образцы воды из 3-х морей и питьевую в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сыпали в эти 4 сосуда одинаковое количество зем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али воде отстоя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 морской воде, особенно из Средиземного моря вода осела на грунт и стала прозрачной, а в пресной 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падении реки в море растворенные ее частицы оседают на дно, от воздействия соли и других факторов. Морская вода способствует выпадению содержащихся в ней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ков и значит она более прозрачна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DSCF0943"/>
          <p:cNvPicPr/>
          <p:nvPr/>
        </p:nvPicPr>
        <p:blipFill>
          <a:blip r:embed="rId1"/>
          <a:stretch/>
        </p:blipFill>
        <p:spPr>
          <a:xfrm>
            <a:off x="5000760" y="4672080"/>
            <a:ext cx="36194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озрачность воды проверим </a:t>
            </a: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пытом №3:</a:t>
            </a:r>
            <a:br>
              <a:rPr sz="2000"/>
            </a:b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Самостоятельное определение и оценка качества воды, а точнее, уровня ее прозрачности, может быть осуществлено следующим образом. Нальем в стеклянную емкость воду и посмотрим сквозь воду на свет.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htmlimage_007"/>
          <p:cNvPicPr/>
          <p:nvPr/>
        </p:nvPicPr>
        <p:blipFill>
          <a:blip r:embed="rId1"/>
          <a:stretch/>
        </p:blipFill>
        <p:spPr>
          <a:xfrm>
            <a:off x="3672000" y="3643200"/>
            <a:ext cx="47577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еность воды проверим опытом№4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500040" y="2303640"/>
            <a:ext cx="81439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омет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рибор для измерения плотности жидкостей. Мы взяли этот прибор в школьном кабинете физики и вместе с учителем провели следующее: измерили плотность образцов воды из наших 3-х мор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е море - 1015 кг/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зовское море - 1010 кг/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земное море -  1023 кг/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у: кипения морской воды определим опытом№5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3" descr="htmlimage"/>
          <p:cNvPicPr/>
          <p:nvPr/>
        </p:nvPicPr>
        <p:blipFill>
          <a:blip r:embed="rId1"/>
          <a:stretch/>
        </p:blipFill>
        <p:spPr>
          <a:xfrm>
            <a:off x="3571920" y="2428920"/>
            <a:ext cx="5371920" cy="3965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DSCF1014"/>
          <p:cNvPicPr/>
          <p:nvPr/>
        </p:nvPicPr>
        <p:blipFill>
          <a:blip r:embed="rId2"/>
          <a:stretch/>
        </p:blipFill>
        <p:spPr>
          <a:xfrm>
            <a:off x="500040" y="2357280"/>
            <a:ext cx="247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5T17:30:21Z</dcterms:created>
  <dc:creator>Светлана</dc:creator>
  <dc:description/>
  <dc:language>en-US</dc:language>
  <cp:lastModifiedBy>Директор</cp:lastModifiedBy>
  <dcterms:modified xsi:type="dcterms:W3CDTF">2015-10-15T06:33:27Z</dcterms:modified>
  <cp:revision>31</cp:revision>
  <dc:subject/>
  <dc:title>Слайд 1</dc:title>
</cp:coreProperties>
</file>