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7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4C2-EB26-4FF7-B15C-FF0F68E3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27B-C005-4310-9B0A-E7841124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2E3-AD26-42A1-8EC3-5FA5D074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543-CA40-4466-A93B-EC115B8F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A1F-B6EF-42DF-88EA-3604F336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31A-80C2-4D87-B842-CAF3D74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6DF-AEC5-48FB-B039-1ECAD8EF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940-2E40-415B-8B72-CD1DD3D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7F9-B96D-4B54-8537-7EEAF4E5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989-B5DA-42BF-82D8-A5850D2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417-8F41-4B84-9600-1C2E7BA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054-552E-4AC2-AA7F-FEAA8BE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0A0-0A1A-44AA-896B-CD917FB3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907560"/>
            <a:ext cx="42447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Евдокимова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Юлия Владимировн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«СОШ №7»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Южноуральск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MVV_7246"/>
          <p:cNvPicPr/>
          <p:nvPr/>
        </p:nvPicPr>
        <p:blipFill>
          <a:blip r:embed="rId1"/>
          <a:stretch/>
        </p:blipFill>
        <p:spPr>
          <a:xfrm>
            <a:off x="971640" y="907920"/>
            <a:ext cx="3549600" cy="533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MVV_7246"/>
          <p:cNvPicPr/>
          <p:nvPr/>
        </p:nvPicPr>
        <p:blipFill>
          <a:blip r:embed="rId2"/>
          <a:stretch/>
        </p:blipFill>
        <p:spPr>
          <a:xfrm>
            <a:off x="928800" y="928800"/>
            <a:ext cx="354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иды учебных ситуаций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проблема (технология проблемного обучения)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оценк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иллюстрация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туация - упражнение (текст, таблица, схема, алгоритм, задача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Моделирование учебной ситуации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пределение педагогических задач, решаемых на данном этапе учебного процесс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тбор учебного материал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пределение способов организации учебных ситуаций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прогнозирование возможных действий детей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бования к созданию учебной ситуации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ет возрастных и физиологических особенностей ребенк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ет специфики учебного предмет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ет уровня сформированности действий ученика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Что мы запоминаем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0 % - того, что читае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0 % - того, что слыш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 % - того, что вид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50 % - того, что слышим и вид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70 % - того, что говорим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90 % - того, что говорим и делаем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дон Драйнер, Джанет Вос «Революция в обучении», 2004 г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4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Птица (72)"/>
          <p:cNvPicPr/>
          <p:nvPr/>
        </p:nvPicPr>
        <p:blipFill>
          <a:blip r:embed="rId1"/>
          <a:stretch/>
        </p:blipFill>
        <p:spPr>
          <a:xfrm>
            <a:off x="826920" y="1700280"/>
            <a:ext cx="2810160" cy="432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329"/>
          <p:cNvPicPr/>
          <p:nvPr/>
        </p:nvPicPr>
        <p:blipFill>
          <a:blip r:embed="rId2"/>
          <a:stretch/>
        </p:blipFill>
        <p:spPr>
          <a:xfrm>
            <a:off x="5902200" y="2781360"/>
            <a:ext cx="2708280" cy="36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Атмосфера (23)"/>
          <p:cNvPicPr/>
          <p:nvPr/>
        </p:nvPicPr>
        <p:blipFill>
          <a:blip r:embed="rId3"/>
          <a:stretch/>
        </p:blipFill>
        <p:spPr>
          <a:xfrm>
            <a:off x="2916360" y="765000"/>
            <a:ext cx="28796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c40fbd7437d без фона"/>
          <p:cNvPicPr/>
          <p:nvPr/>
        </p:nvPicPr>
        <p:blipFill>
          <a:blip r:embed="rId1"/>
          <a:stretch/>
        </p:blipFill>
        <p:spPr>
          <a:xfrm>
            <a:off x="5651640" y="476280"/>
            <a:ext cx="3154320" cy="604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Детки (58)"/>
          <p:cNvPicPr/>
          <p:nvPr/>
        </p:nvPicPr>
        <p:blipFill>
          <a:blip r:embed="rId2"/>
          <a:stretch/>
        </p:blipFill>
        <p:spPr>
          <a:xfrm>
            <a:off x="1332000" y="2565360"/>
            <a:ext cx="2003400" cy="291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635280" y="692280"/>
            <a:ext cx="1800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50920" y="1125000"/>
            <a:ext cx="47149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Как всё сложно!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5758fd255b28"/>
          <p:cNvPicPr/>
          <p:nvPr/>
        </p:nvPicPr>
        <p:blipFill>
          <a:blip r:embed="rId1"/>
          <a:stretch/>
        </p:blipFill>
        <p:spPr>
          <a:xfrm>
            <a:off x="324000" y="907920"/>
            <a:ext cx="3892320" cy="5340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,,37051749,00"/>
          <p:cNvPicPr/>
          <p:nvPr/>
        </p:nvPicPr>
        <p:blipFill>
          <a:blip r:embed="rId2"/>
          <a:stretch/>
        </p:blipFill>
        <p:spPr>
          <a:xfrm>
            <a:off x="5435640" y="2924280"/>
            <a:ext cx="37083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Как помочь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ебёнку учиться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с удовольствием?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существительное"/>
          <p:cNvPicPr/>
          <p:nvPr/>
        </p:nvPicPr>
        <p:blipFill>
          <a:blip r:embed="rId1"/>
          <a:stretch/>
        </p:blipFill>
        <p:spPr>
          <a:xfrm>
            <a:off x="395280" y="2205000"/>
            <a:ext cx="3049560" cy="4367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глагол"/>
          <p:cNvPicPr/>
          <p:nvPr/>
        </p:nvPicPr>
        <p:blipFill>
          <a:blip r:embed="rId2"/>
          <a:stretch/>
        </p:blipFill>
        <p:spPr>
          <a:xfrm>
            <a:off x="5796000" y="2276640"/>
            <a:ext cx="3093840" cy="4305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прилагательное"/>
          <p:cNvPicPr/>
          <p:nvPr/>
        </p:nvPicPr>
        <p:blipFill>
          <a:blip r:embed="rId3"/>
          <a:stretch/>
        </p:blipFill>
        <p:spPr>
          <a:xfrm>
            <a:off x="2916360" y="333360"/>
            <a:ext cx="30463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лураспад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, в течение которого распадается половина атомов радиоактивного вещества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ольшой толковый словарь русского языка. - СПб.: Норинт. С. А. Кузнецов. 1998  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DSC026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существительное"/>
          <p:cNvPicPr/>
          <p:nvPr/>
        </p:nvPicPr>
        <p:blipFill>
          <a:blip r:embed="rId1"/>
          <a:stretch/>
        </p:blipFill>
        <p:spPr>
          <a:xfrm>
            <a:off x="395280" y="2205000"/>
            <a:ext cx="3049560" cy="43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глагол"/>
          <p:cNvPicPr/>
          <p:nvPr/>
        </p:nvPicPr>
        <p:blipFill>
          <a:blip r:embed="rId2"/>
          <a:stretch/>
        </p:blipFill>
        <p:spPr>
          <a:xfrm>
            <a:off x="5796000" y="2276640"/>
            <a:ext cx="3093840" cy="43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прилагательное"/>
          <p:cNvPicPr/>
          <p:nvPr/>
        </p:nvPicPr>
        <p:blipFill>
          <a:blip r:embed="rId3"/>
          <a:stretch/>
        </p:blipFill>
        <p:spPr>
          <a:xfrm>
            <a:off x="2916360" y="333360"/>
            <a:ext cx="30463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щ. – предмет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л. – признак предмета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какой? какая? какое? какие?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л. – действие предмета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что делает? что сделает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ущ. - прил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Ёжик маленький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маленький ежик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360" y="3357720"/>
            <a:ext cx="66960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ущ. -  гл.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Ёжик бежит.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ежит ёжик.  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раво выбора - комфортные условия для деятельности.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озможные темы коллажей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рошее настроение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 такое радость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и друзья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я семья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й мир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лыбк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43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9840" y="59184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апы формирования мотивации на  уроке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уализация исходной мотивации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силить мотивы ориентации на предстоящую работу, непроизвольные мотивы удивления и любознательност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крепление и усиление возникшей мотивации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зывать интерес к нескольким способам решения задач и их сопоставить (познавательные мотивы), привлечь к разным способам сотрудничества (социальные мотивы)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флексия деятельност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риобрести положительный личный опыт и осознать потребность в дальнейшем учении.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От ситуации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успеха на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уроке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- к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успеху в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жизни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блемные ситуации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ети учатся лучше и в тысячу раз успешнее, если им дают возможность самостоятельно исследовать основы изучаемого материала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итер Клай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DSC02684"/>
          <p:cNvPicPr/>
          <p:nvPr/>
        </p:nvPicPr>
        <p:blipFill>
          <a:blip r:embed="rId1"/>
          <a:stretch/>
        </p:blipFill>
        <p:spPr>
          <a:xfrm>
            <a:off x="4859280" y="836640"/>
            <a:ext cx="4038480" cy="3029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2" name="Picture 6" descr="DSC02681"/>
          <p:cNvPicPr/>
          <p:nvPr/>
        </p:nvPicPr>
        <p:blipFill>
          <a:blip r:embed="rId2"/>
          <a:stretch/>
        </p:blipFill>
        <p:spPr>
          <a:xfrm>
            <a:off x="539640" y="765000"/>
            <a:ext cx="4038840" cy="3029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3" name="Picture 6" descr="18"/>
          <p:cNvPicPr/>
          <p:nvPr/>
        </p:nvPicPr>
        <p:blipFill>
          <a:blip r:embed="rId3"/>
          <a:stretch/>
        </p:blipFill>
        <p:spPr>
          <a:xfrm>
            <a:off x="2411280" y="3956040"/>
            <a:ext cx="41817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Ежегодное обновление в мире: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5% - теоретические знания;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20%  - технология, техника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Учебное исследование: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оверка гипотезы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Результат, вывод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доллара к пяти центам…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окнами дома  пожилого человека повадились играть дети. Они собирались на лужайке, бегали и шумели, чем сильно нарушали его спокойствие. Просьбы и уговоры играть подальше не помогали. И тогда он  вышел к детям и сказал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Вы замечательно сегодня бегали, резвились и кричали – за это каждый из вас получит  по 1 доллару».                                                                                                                                                                          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были довольны. Мало того, что им нравилась игра, они еще и заработали деньги. На другой  день хозяин дома вышел к шумным  ребятам и сказал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Мои обстоятельства изменились, и сегодня я могу вам дать лишь по 50 центов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взяли деньги, но играли и кричали уже с меньшим энтузиазмом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едующий день этот мудрый человек раздал детям по 20 центов и сказал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Приходите завтра, я вам дам по 5 центов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что недовольные дети ответили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«Вот еще! Будем тут бегать и кричать за 5 центов!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этот пожилой человек избавился от громкого шума под своими окнами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sunflower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5758fd255b28"/>
          <p:cNvPicPr/>
          <p:nvPr/>
        </p:nvPicPr>
        <p:blipFill>
          <a:blip r:embed="rId1"/>
          <a:stretch/>
        </p:blipFill>
        <p:spPr>
          <a:xfrm>
            <a:off x="324000" y="981000"/>
            <a:ext cx="3989160" cy="5473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492000" y="1052280"/>
            <a:ext cx="5327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ак помочь ребёнку учиться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 удовольствием?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MVV_7314"/>
          <p:cNvPicPr/>
          <p:nvPr/>
        </p:nvPicPr>
        <p:blipFill>
          <a:blip r:embed="rId1"/>
          <a:stretch/>
        </p:blipFill>
        <p:spPr>
          <a:xfrm>
            <a:off x="684360" y="476280"/>
            <a:ext cx="8064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</a:rPr>
              <a:t>Стандарты - социальная конвенциональная норма, общественный договор между семьей, обществом и государством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819A-7723-45AE-BC90-5D19DB03BE3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_s1030"/>
          <p:cNvSpPr/>
          <p:nvPr/>
        </p:nvSpPr>
        <p:spPr>
          <a:xfrm>
            <a:off x="2857680" y="4714920"/>
            <a:ext cx="4103640" cy="20001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_s1032"/>
          <p:cNvSpPr/>
          <p:nvPr/>
        </p:nvSpPr>
        <p:spPr>
          <a:xfrm>
            <a:off x="4933800" y="1916280"/>
            <a:ext cx="4210200" cy="1908000"/>
          </a:xfrm>
          <a:prstGeom prst="ellipse">
            <a:avLst/>
          </a:prstGeom>
          <a:solidFill>
            <a:srgbClr val="ccffff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_s1028"/>
          <p:cNvSpPr/>
          <p:nvPr/>
        </p:nvSpPr>
        <p:spPr>
          <a:xfrm>
            <a:off x="0" y="1916280"/>
            <a:ext cx="4284720" cy="1942920"/>
          </a:xfrm>
          <a:prstGeom prst="ellipse">
            <a:avLst/>
          </a:prstGeom>
          <a:solidFill>
            <a:srgbClr val="cc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2060640"/>
            <a:ext cx="3960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ная успеш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 успеш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пеш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003640" y="2060640"/>
            <a:ext cx="414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Безопасность и здоровь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Свобода и ответств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Социальная справедлив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Благо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000240" y="4500720"/>
            <a:ext cx="39276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Национальное един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Безопаснос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Конкурентоспособ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3857760" y="1357200"/>
            <a:ext cx="17748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Задача «новой школы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лавные задачи современной школы – раскрытие способностей каждого ученика, воспитание порядочного и патриотичного человек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чности, готовой к жизни в высокотехнологичном, конкурентном мир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Школьное обучение должно быть построено так, чтобы выпускники могли самостоятельно ставить и достигать серьёзных целей, умело реагировать на разные жизненные ситуаци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Наша новая школа»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  мастер-класса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«Формирование мотивации школьников через моделирование учебной ситуации»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ак помочь ребёнку учиться 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 удовольствием?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Учебная ситуация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собая единица учебного процесса, в которой дети с помощью учителя обнаруживают предмет своего действия, исследуют его,  преобразуют, переформулируют или предлагают свое описание, при этом запоминают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оздание учебной ситуации предполагает: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личие у детей познавательного мотива и конкретной учебной цели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олнение учениками определенных действий для приобретения недостающих знани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учеников умения контролировать свои действия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ключение содержания обучения в контекст решения значимых жизненных задач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44:53Z</dcterms:created>
  <dc:creator>Пользователь</dc:creator>
  <dc:description/>
  <dc:language>en-US</dc:language>
  <cp:lastModifiedBy>Rysev</cp:lastModifiedBy>
  <dcterms:modified xsi:type="dcterms:W3CDTF">2015-10-15T08:03:24Z</dcterms:modified>
  <cp:revision>73</cp:revision>
  <dc:subject/>
  <dc:title> Мастер класс</dc:title>
</cp:coreProperties>
</file>