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gif" ContentType="image/gif"/>
  <Override PartName="/ppt/media/image13.jpeg" ContentType="image/jpeg"/>
  <Override PartName="/ppt/media/image8.jpeg" ContentType="image/jpeg"/>
  <Override PartName="/ppt/media/image7.gif" ContentType="image/gif"/>
  <Override PartName="/ppt/media/image6.gif" ContentType="image/gif"/>
  <Override PartName="/ppt/media/image5.gif" ContentType="image/gif"/>
  <Override PartName="/ppt/media/image14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19DF-0C72-4F21-A86E-579BD36B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764-8BA2-4B20-84E2-A08ADB38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9B2E-636F-4382-92E1-B323D97A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81B7-A524-41EA-8112-EF883FC8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5B7B-150F-49A5-80A4-F9ED22E6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A2A4-C1F5-415A-B003-F2EFF3F5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F92-8FEF-4BC0-9DAB-97091990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908-8DB2-4BC6-B06F-E0EF2419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DC8-EE49-48DA-84A3-23AFD19B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A94-0D46-448E-B01E-74BF22DA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142C-6924-4F77-B1FF-37E91363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3D4-BFB1-4EF7-9697-8869E7B7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E55D-9EBD-4A25-B452-F73C99541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28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907560"/>
            <a:ext cx="42447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Евдокимова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Юлия Владимировн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У «СОШ №7»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Южноуральск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5" descr="MVV_7246"/>
          <p:cNvPicPr/>
          <p:nvPr/>
        </p:nvPicPr>
        <p:blipFill>
          <a:blip r:embed="rId1"/>
          <a:stretch/>
        </p:blipFill>
        <p:spPr>
          <a:xfrm>
            <a:off x="971640" y="907920"/>
            <a:ext cx="3549600" cy="5334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MVV_7246"/>
          <p:cNvPicPr/>
          <p:nvPr/>
        </p:nvPicPr>
        <p:blipFill>
          <a:blip r:embed="rId2"/>
          <a:stretch/>
        </p:blipFill>
        <p:spPr>
          <a:xfrm>
            <a:off x="928800" y="928800"/>
            <a:ext cx="3549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Виды учебных ситуаций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итуация - проблема (технология проблемного обучения)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итуация - оценка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итуация - иллюстрация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итуация - упражнение (текст, таблица, схема, алгоритм, задача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Моделирование учебной ситуации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определение педагогических задач, решаемых на данном этапе учебного процесса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отбор учебного материала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определение способов организации учебных ситуаций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прогнозирование возможных действий детей.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ребования к созданию учебной ситуации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чет возрастных и физиологических особенностей ребенка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чет специфики учебного предмета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чет уровня сформированности действий ученика.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Что мы запоминаем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0 % - того, что читаем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0 % - того, что слышим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0 % - того, что видим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50 % - того, что слышим и видим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70 % - того, что говорим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90 % - того, что говорим и делаем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ордон Драйнер, Джанет Вос «Революция в обучении», 2004 г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49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Птица (72)"/>
          <p:cNvPicPr/>
          <p:nvPr/>
        </p:nvPicPr>
        <p:blipFill>
          <a:blip r:embed="rId1"/>
          <a:stretch/>
        </p:blipFill>
        <p:spPr>
          <a:xfrm>
            <a:off x="826920" y="1700280"/>
            <a:ext cx="2810160" cy="432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329"/>
          <p:cNvPicPr/>
          <p:nvPr/>
        </p:nvPicPr>
        <p:blipFill>
          <a:blip r:embed="rId2"/>
          <a:stretch/>
        </p:blipFill>
        <p:spPr>
          <a:xfrm>
            <a:off x="5902200" y="2781360"/>
            <a:ext cx="2708280" cy="3600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Атмосфера (23)"/>
          <p:cNvPicPr/>
          <p:nvPr/>
        </p:nvPicPr>
        <p:blipFill>
          <a:blip r:embed="rId3"/>
          <a:stretch/>
        </p:blipFill>
        <p:spPr>
          <a:xfrm>
            <a:off x="2916360" y="765000"/>
            <a:ext cx="28796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5c40fbd7437d без фона"/>
          <p:cNvPicPr/>
          <p:nvPr/>
        </p:nvPicPr>
        <p:blipFill>
          <a:blip r:embed="rId1"/>
          <a:stretch/>
        </p:blipFill>
        <p:spPr>
          <a:xfrm>
            <a:off x="5651640" y="476280"/>
            <a:ext cx="3154320" cy="604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Детки (58)"/>
          <p:cNvPicPr/>
          <p:nvPr/>
        </p:nvPicPr>
        <p:blipFill>
          <a:blip r:embed="rId2"/>
          <a:stretch/>
        </p:blipFill>
        <p:spPr>
          <a:xfrm>
            <a:off x="1332000" y="2565360"/>
            <a:ext cx="2003400" cy="2911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635280" y="692280"/>
            <a:ext cx="1800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50920" y="1125000"/>
            <a:ext cx="47149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Как всё сложно!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5758fd255b28"/>
          <p:cNvPicPr/>
          <p:nvPr/>
        </p:nvPicPr>
        <p:blipFill>
          <a:blip r:embed="rId1"/>
          <a:stretch/>
        </p:blipFill>
        <p:spPr>
          <a:xfrm>
            <a:off x="324000" y="907920"/>
            <a:ext cx="3892320" cy="5340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0,,37051749,00"/>
          <p:cNvPicPr/>
          <p:nvPr/>
        </p:nvPicPr>
        <p:blipFill>
          <a:blip r:embed="rId2"/>
          <a:stretch/>
        </p:blipFill>
        <p:spPr>
          <a:xfrm>
            <a:off x="5435640" y="2924280"/>
            <a:ext cx="370836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Как помочь 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ребёнку учиться 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с удовольствием? 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существительное"/>
          <p:cNvPicPr/>
          <p:nvPr/>
        </p:nvPicPr>
        <p:blipFill>
          <a:blip r:embed="rId1"/>
          <a:stretch/>
        </p:blipFill>
        <p:spPr>
          <a:xfrm>
            <a:off x="395280" y="2205000"/>
            <a:ext cx="3049560" cy="4367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глагол"/>
          <p:cNvPicPr/>
          <p:nvPr/>
        </p:nvPicPr>
        <p:blipFill>
          <a:blip r:embed="rId2"/>
          <a:stretch/>
        </p:blipFill>
        <p:spPr>
          <a:xfrm>
            <a:off x="5796000" y="2276640"/>
            <a:ext cx="3093840" cy="4305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прилагательное"/>
          <p:cNvPicPr/>
          <p:nvPr/>
        </p:nvPicPr>
        <p:blipFill>
          <a:blip r:embed="rId3"/>
          <a:stretch/>
        </p:blipFill>
        <p:spPr>
          <a:xfrm>
            <a:off x="2916360" y="333360"/>
            <a:ext cx="30463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Полураспад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ремя, в течение которого распадается половина атомов радиоактивного вещества.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Большой толковый словарь русского языка. - СПб.: Норинт. С. А. Кузнецов. 1998   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DSC026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существительное"/>
          <p:cNvPicPr/>
          <p:nvPr/>
        </p:nvPicPr>
        <p:blipFill>
          <a:blip r:embed="rId1"/>
          <a:stretch/>
        </p:blipFill>
        <p:spPr>
          <a:xfrm>
            <a:off x="395280" y="2205000"/>
            <a:ext cx="3049560" cy="436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глагол"/>
          <p:cNvPicPr/>
          <p:nvPr/>
        </p:nvPicPr>
        <p:blipFill>
          <a:blip r:embed="rId2"/>
          <a:stretch/>
        </p:blipFill>
        <p:spPr>
          <a:xfrm>
            <a:off x="5796000" y="2276640"/>
            <a:ext cx="3093840" cy="4305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прилагательное"/>
          <p:cNvPicPr/>
          <p:nvPr/>
        </p:nvPicPr>
        <p:blipFill>
          <a:blip r:embed="rId3"/>
          <a:stretch/>
        </p:blipFill>
        <p:spPr>
          <a:xfrm>
            <a:off x="2916360" y="333360"/>
            <a:ext cx="30463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ущ. – предмет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кто? что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л. – признак предмета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какой? какая? какое? какие?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л. – действие предмета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что делает? что сделает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сущ. - прил.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Ёжик маленький.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маленький ежик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6360" y="3357720"/>
            <a:ext cx="6696000" cy="27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сущ. -  гл.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Ёжик бежит.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Бежит ёжик.  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Право выбора - комфортные условия для деятельности.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Возможные темы коллажей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орошее настроение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Что такое радость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и друзья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я семья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й мир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лыбка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43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9840" y="591840"/>
            <a:ext cx="87138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Этапы формирования мотивации на  уроке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ктуализация исходной мотивации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силить мотивы ориентации на предстоящую работу, непроизвольные мотивы удивления и любознательности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дкрепление и усиление возникшей мотивации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ызывать интерес к нескольким способам решения задач и их сопоставить (познавательные мотивы), привлечь к разным способам сотрудничества (социальные мотивы)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флексия деятельност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приобрести положительный личный опыт и осознать потребность в дальнейшем учении. 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От ситуации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успеха на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уроке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 - к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успеху в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жизни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роблемные ситуации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Дети учатся лучше и в тысячу раз успешнее, если им дают возможность самостоятельно исследовать основы изучаемого материала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итер Клайн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DSC02684"/>
          <p:cNvPicPr/>
          <p:nvPr/>
        </p:nvPicPr>
        <p:blipFill>
          <a:blip r:embed="rId1"/>
          <a:stretch/>
        </p:blipFill>
        <p:spPr>
          <a:xfrm>
            <a:off x="4859280" y="836640"/>
            <a:ext cx="4038480" cy="30290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12" name="Picture 6" descr="DSC02681"/>
          <p:cNvPicPr/>
          <p:nvPr/>
        </p:nvPicPr>
        <p:blipFill>
          <a:blip r:embed="rId2"/>
          <a:stretch/>
        </p:blipFill>
        <p:spPr>
          <a:xfrm>
            <a:off x="539640" y="765000"/>
            <a:ext cx="4038840" cy="30290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13" name="Picture 6" descr="18"/>
          <p:cNvPicPr/>
          <p:nvPr/>
        </p:nvPicPr>
        <p:blipFill>
          <a:blip r:embed="rId3"/>
          <a:stretch/>
        </p:blipFill>
        <p:spPr>
          <a:xfrm>
            <a:off x="2411280" y="3956040"/>
            <a:ext cx="41817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Ежегодное обновление в мире:</a:t>
            </a: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5% - теоретические знания;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20%  - технология, техника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Учебное исследование: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роблема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Гипотеза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роверка гипотезы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Результат, вывод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 доллара к пяти центам…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 окнами дома  пожилого человека повадились играть дети. Они собирались на лужайке, бегали и шумели, чем сильно нарушали его спокойствие. Просьбы и уговоры играть подальше не помогали. И тогда он  вышел к детям и сказал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«Вы замечательно сегодня бегали, резвились и кричали – за это каждый из вас получит  по 1 доллару».                                                                                                                                                                                  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и были довольны. Мало того, что им нравилась игра, они еще и заработали деньги. На другой  день хозяин дома вышел к шумным  ребятам и сказал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«Мои обстоятельства изменились, и сегодня я могу вам дать лишь по 50 центов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и взяли деньги, но играли и кричали уже с меньшим энтузиазмом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ледующий день этот мудрый человек раздал детям по 20 центов и сказал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«Приходите завтра, я вам дам по 5 центов»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что недовольные дети ответили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«Вот еще! Будем тут бегать и кричать за 5 центов!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этот пожилой человек избавился от громкого шума под своими окнами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sunflowerfield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5758fd255b28"/>
          <p:cNvPicPr/>
          <p:nvPr/>
        </p:nvPicPr>
        <p:blipFill>
          <a:blip r:embed="rId1"/>
          <a:stretch/>
        </p:blipFill>
        <p:spPr>
          <a:xfrm>
            <a:off x="324000" y="981000"/>
            <a:ext cx="3989160" cy="5473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492000" y="1052280"/>
            <a:ext cx="5327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Как помочь ребёнку учиться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с удовольствием?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MVV_7314"/>
          <p:cNvPicPr/>
          <p:nvPr/>
        </p:nvPicPr>
        <p:blipFill>
          <a:blip r:embed="rId1"/>
          <a:stretch/>
        </p:blipFill>
        <p:spPr>
          <a:xfrm>
            <a:off x="684360" y="476280"/>
            <a:ext cx="806436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Times New Roman"/>
              </a:rPr>
              <a:t>Стандарты - социальная конвенциональная норма, общественный договор между семьей, обществом и государством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849E-D2CA-447C-91F1-032D2DBAD5D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_s1030"/>
          <p:cNvSpPr/>
          <p:nvPr/>
        </p:nvSpPr>
        <p:spPr>
          <a:xfrm>
            <a:off x="2857680" y="4714920"/>
            <a:ext cx="4103640" cy="20001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_s1032"/>
          <p:cNvSpPr/>
          <p:nvPr/>
        </p:nvSpPr>
        <p:spPr>
          <a:xfrm>
            <a:off x="4933800" y="1916280"/>
            <a:ext cx="4210200" cy="1908000"/>
          </a:xfrm>
          <a:prstGeom prst="ellipse">
            <a:avLst/>
          </a:prstGeom>
          <a:solidFill>
            <a:srgbClr val="ccffff">
              <a:alpha val="50000"/>
            </a:srgbClr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_s1028"/>
          <p:cNvSpPr/>
          <p:nvPr/>
        </p:nvSpPr>
        <p:spPr>
          <a:xfrm>
            <a:off x="0" y="1916280"/>
            <a:ext cx="4284720" cy="1942920"/>
          </a:xfrm>
          <a:prstGeom prst="ellipse">
            <a:avLst/>
          </a:prstGeom>
          <a:solidFill>
            <a:srgbClr val="cc99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0" y="2060640"/>
            <a:ext cx="3960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М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чностная успеш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ая успеш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фессиональ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пеш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003640" y="2060640"/>
            <a:ext cx="4140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ОБЩ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  <a:ea typeface="Times New Roman"/>
              </a:rPr>
              <a:t>Безопасность и здоровь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  <a:ea typeface="Times New Roman"/>
              </a:rPr>
              <a:t>Свобода и ответствен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  <a:ea typeface="Times New Roman"/>
              </a:rPr>
              <a:t>Социальная справедлив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  <a:ea typeface="Times New Roman"/>
              </a:rPr>
              <a:t>Благосостоя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000240" y="4500720"/>
            <a:ext cx="39276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ГОСУДАР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Национальное един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Безопаснос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Развитие человеческого потенци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Конкурентоспособ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1" descr="Мальчикбезфона"/>
          <p:cNvPicPr/>
          <p:nvPr/>
        </p:nvPicPr>
        <p:blipFill>
          <a:blip r:embed="rId1"/>
          <a:stretch/>
        </p:blipFill>
        <p:spPr>
          <a:xfrm>
            <a:off x="3857760" y="1357200"/>
            <a:ext cx="17748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Задача «новой школы»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лавные задачи современной школы – раскрытие способностей каждого ученика, воспитание порядочного и патриотичного человека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ичности, готовой к жизни в высокотехнологичном, конкурентном мир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Школьное обучение должно быть построено так, чтобы выпускники могли самостоятельно ставить и достигать серьёзных целей, умело реагировать на разные жизненные ситуации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«Наша новая школа»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Тема  мастер-класса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«Формирование мотивации школьников через моделирование учебной ситуации»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Как помочь ребёнку учиться 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с удовольствием?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Учебная ситуация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особая единица учебного процесса, в которой дети с помощью учителя обнаруживают предмет своего действия, исследуют его,  преобразуют, переформулируют или предлагают свое описание, при этом запоминают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Создание учебной ситуации предполагает: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личие у детей познавательного мотива и конкретной учебной цели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ыполнение учениками определенных действий для приобретения недостающих знаний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у учеников умения контролировать свои действия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ключение содержания обучения в контекст решения значимых жизненных задач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7:44:53Z</dcterms:created>
  <dc:creator>Пользователь</dc:creator>
  <dc:description/>
  <dc:language>en-US</dc:language>
  <cp:lastModifiedBy>Rysev</cp:lastModifiedBy>
  <dcterms:modified xsi:type="dcterms:W3CDTF">2015-10-15T08:03:24Z</dcterms:modified>
  <cp:revision>73</cp:revision>
  <dc:subject/>
  <dc:title> Мастер класс</dc:title>
</cp:coreProperties>
</file>