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4.jpeg" ContentType="image/jpeg"/>
  <Override PartName="/ppt/media/image2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D11-5EB1-4241-B6FD-9344099A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648-9C2F-4A88-B4C4-6E001957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A2436-9D64-4F24-9347-D4FB1190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A632D-2847-44E2-A07A-F5437B9F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19461-664B-45E5-9CD7-F26464A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F3D8-0D97-4709-B3EF-5C5F49EB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AD69B-BCF9-4FBE-9F5B-4227F61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8A3E8-0252-4B8D-A4DE-D275D309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A3863-8A88-4A80-B296-FF309D7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20865-74F8-4263-BBF0-01FA76E6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061AA-F3C8-4362-AF6F-D647B5C0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025-EC09-4A06-867C-FDF50D8A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C0B-8EC1-4652-B850-0D313389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5856-B1D1-4A75-8A0B-6615BAB4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D2C6-8B60-467D-B0AB-90125622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7774-72FA-4A46-B72B-BD78C5D1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AD86-F3A6-4795-BEF4-8E9B6344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527D-AF5E-4F4D-9452-22985135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341F-31E3-4803-BE2E-9D2FE22B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4076-6D1C-4D50-94C9-4249F3C5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C57-2486-46FD-8DFF-5B70F64C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505-F870-4664-BC6A-135B0520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7879-5356-43A7-82F6-6B0B9D4B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2097-443A-42A7-860D-3FA6FCA2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AA55-7C7C-4097-B3ED-E4083E48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704-7ED3-46DF-AFC8-8457AE99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81E4-554B-4BF5-9938-4CACAAC3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50A3-B8AA-4DAF-A25D-0D97AC6C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BEEF-AD47-4C6B-839D-8A11747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1861-16EC-44CB-82B6-51EAB9C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A9C5-9B72-4E73-85D5-17292F6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F52-31C4-4ABD-A900-7286F31F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11A0-A993-4066-9D14-9BECD109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C12A-70AF-48DE-A660-E4E660D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36D5-FB48-47B2-B41F-731F59E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DBF7-82C4-4C95-A6F2-6A0189BF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5842-544B-446E-9561-BE14B73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D01F-2B74-422D-8937-1A56FAB0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E0A7-C6F2-4B04-9ACB-AEB854B4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6F387-54BD-4785-BCB3-7CE90A4A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024E-5616-402D-B794-7A55829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C91E-0E6C-4FB6-8DC0-A864C367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33F-C273-41B7-8E1A-4B764047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BECB-CAD2-4750-B7CC-D48414E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F421-A79A-4FCE-A0D5-8F87D8C5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74258-1F8D-4BAF-AE3A-906EE5D8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0E0F-51AE-45A0-A180-A234CCE9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6539-AF0F-491A-8EBF-F1030D9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1B59-4F17-4940-A38C-560B639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D088-13DE-4D50-9B30-087C7D5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488F-FECD-45CC-8ACD-2F8BF656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C336-129B-42FE-8D41-B3E328F7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2D67C-1AA8-4E51-9898-691D7861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8F8-5947-4D94-83CA-68DA48C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BDE4-8608-48EC-A78A-6B23C21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4A2BF-B8E5-444A-8A7B-D596D94D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8E8B-C2C4-405E-8ED6-D1EC454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7584-D131-435D-9DA7-5316923B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F67AF-A5E8-40E3-AB11-98DCA05C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F178-F88C-49A7-95FB-1FA179E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D4526-9A41-444D-A1BC-08A7F7E8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2963-8B8B-47EA-9D8E-8432905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482A-42AE-4B22-857E-DD190B62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178C-245A-44C1-A07B-53D18E91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CF8-1B6B-4262-ADB1-46BBA8C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369D-FF03-4F45-8253-635167E5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3B478-3B15-46AB-A911-840E4C2F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F1F16-9766-4A92-A83D-093C209A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467D6-FA2B-40FC-AF56-59BCF277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1D18-F0BB-462C-AE78-7191AAD5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364A-0303-4E0B-9ECD-A5EF3953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DE59-AEA5-43BA-BBD8-6C4B0B23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3EEA5-4508-4629-9A37-089884C3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04DD3-6D3C-4F0D-911C-D5ED0F8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CDC9-CAE6-4DC7-AD9A-2F88019E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0E1-8CB9-4DF4-9726-FF9C002F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7169-F3BC-4E9D-B86D-B5CA467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C9AF3-E3FC-41D0-B500-168659D1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5772-D725-4D8E-8A8C-246892D3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52B12-490D-400A-9531-117E0B8D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044E8-B4E5-4DE7-B25E-73ED2E34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C92BB-1407-46AF-8709-631881D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287AC-264E-4233-8211-FD780623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D0A3-D35B-4D82-9516-7066CB21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8518-7A41-427B-84DA-DAECF0E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3E3E6-D028-4327-A32A-30D7062A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CFA-2C44-4508-B5E9-B1DB19F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34DDA-D668-48D6-B654-86E6F40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D32B-79A0-4934-8576-750D0B6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3C36-57EE-48C3-99F8-A28462D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C6F4-2C26-4C4A-AF97-545E5051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C4D2E-46A1-4DA5-B106-8B3AFE40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955AF-3E5F-45A3-B013-36A74139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76F9-494B-46E4-B3C3-B80A80B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17A96-4AB5-4904-AACC-EA165B67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CD75F-C3E4-4443-943D-DFE4359D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60A46-276E-4C50-80CE-FF5A87A2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EAD-DC33-461C-83ED-CCE782C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B396-DCA2-41DC-84F0-02A470DA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5DD47-DB71-4B0E-9518-8D375E18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DE09D-1AD5-484F-A69B-95B521F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9A94-9871-4A6A-990C-4BB2D15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534F1-5F65-42D7-9BD6-D40A1401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AAD6E-54A0-431B-9E4D-0DBD214E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2C41-B635-4D2F-B7A4-A97F4B7C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96F53-EA21-483D-AB1D-E445CDC3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6E8AE-FFEB-41DE-8ABB-40DF3F1D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7FD14-15D4-4D70-9235-F65319DB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89C-3C61-4124-BE58-10ACD6A732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359-FC23-4B3B-8B1C-9DE8EE1247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1032-0EA2-4CC6-BEAA-2509143612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6A5-4E5A-4533-9894-FCBB4954A3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9706-7EBC-4D2A-9EB6-D55C1ABF61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9B57-62AF-472A-BA7D-4885890CD0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E94E-AEBE-4857-A8A1-D3CFD00683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E9CC-ABB0-4546-BD0F-906DA1AE1D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52A-7597-4035-9E29-D1210F0ED2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nkozlov.ru/upload/images/0409/04092421452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inozal.tomsk.ru/uploads/posts/2010-08/1281117549_fedor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ookin.org.ru/book/547418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r.ru/books/p161890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har.ru/books/p794825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okdk.com/super/300/30/9785913151230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mrz.ru/catimg/32/327203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bushkini-skazki.ru/uploads/posts/2009-10/1256672756_mojdodyr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emiart.ru/forum/uploads3/post-40364-12413547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megadoski.ru/s_images/12679520699763.jpg" TargetMode="External"/><Relationship Id="rId3" Type="http://schemas.openxmlformats.org/officeDocument/2006/relationships/hyperlink" Target="http://nkozlov.ru/upload/images/0409/040924214526.jpg" TargetMode="External"/><Relationship Id="rId4" Type="http://schemas.openxmlformats.org/officeDocument/2006/relationships/hyperlink" Target="http://www.spa-resorts.cz/temp/presentation_zoom_teeth_3.jpg" TargetMode="External"/><Relationship Id="rId5" Type="http://schemas.openxmlformats.org/officeDocument/2006/relationships/hyperlink" Target="http://dic.academic.ru/pictures/wiki/files/70/Figure-skates-1.jpg" TargetMode="External"/><Relationship Id="rId6" Type="http://schemas.openxmlformats.org/officeDocument/2006/relationships/hyperlink" Target="http://www.veefore.ru/pics2/ice_8383.jpg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megadoski.ru/s_images/1267952069976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pa-resorts.cz/temp/presentation_zoom_teeth_3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dic.academic.ru/pictures/wiki/files/70/Figure-skates-1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veefore.ru/pics2/ice_8383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img-fotki.yandex.ru/get/3302/wladwald.b/0_293ae_2de74526_XL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za.ru/pics/2009/04/08/316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248000" y="1176480"/>
            <a:ext cx="4402440" cy="4127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Картинка 1 из 154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197000"/>
            <a:ext cx="3419280" cy="3809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468360" y="476280"/>
            <a:ext cx="82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Verdana"/>
              </a:rPr>
              <a:t>Урок литературного чт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83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580000" y="1699920"/>
            <a:ext cx="3106800" cy="38163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о тарелки вьются-вьются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 Федоре не даются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"Лучше в поле пропадём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 к Федоре не пойдём!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..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"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5" descr="Картинка 12 из 14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341360"/>
            <a:ext cx="38163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858920" y="1197000"/>
            <a:ext cx="3241800" cy="547200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 меня зазвонил телефон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то говорит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Слон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Откуда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т верблю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Что вам надо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Шоколад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Для ког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 Для сына моего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5" descr="Картинка 164 из 13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97000"/>
            <a:ext cx="340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00360" y="1197000"/>
            <a:ext cx="4259160" cy="4248000"/>
          </a:xfrm>
          <a:prstGeom prst="rect">
            <a:avLst/>
          </a:prstGeom>
          <a:solidFill>
            <a:srgbClr val="d2a01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Как у наших у воро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удо-дерево растёт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удо, чудо, чудо, чуд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Расчудесное!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е листочки на нём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е цветочки на нём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 чулки да башмаки, Словно яблоки!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..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5" descr="Картинка 22 из 6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97000"/>
            <a:ext cx="3902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148360" y="1699920"/>
            <a:ext cx="2952720" cy="43196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аленькие дети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и за что на све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е ходите в Афри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Африку гулять!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.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5" descr="Картинка 2 из 10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751200" cy="50007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"/>
          <p:cNvSpPr/>
          <p:nvPr/>
        </p:nvSpPr>
        <p:spPr>
          <a:xfrm>
            <a:off x="3072240" y="26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716000" y="1413000"/>
            <a:ext cx="3527640" cy="485928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Солнце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по небу гуляло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И за тучу забежало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Глянул заинька в окно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Стало заиньке темно…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5" descr="Картинка 3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19320"/>
            <a:ext cx="33130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9" descr="Картинка 2 из 4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628800" cy="50403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4793400" y="1844640"/>
            <a:ext cx="3749760" cy="228852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мяукали котя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 Надоело нам мяукать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 хотим как порос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юкать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2987640" y="2602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Картинка 10 из 104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3767040" cy="5400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-181080" y="630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4601520" y="1484280"/>
            <a:ext cx="4155480" cy="32925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друг, из мами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спаль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оногий и хромо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гает умываль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качает голов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2929320" y="26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Picture 5" descr="Картинка 169 из 13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859280" y="1341360"/>
            <a:ext cx="4043520" cy="446400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хали медведи На велосипеде. А за ними кот Задом наперё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за ним комарик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 воздушном шарике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Picture 4" descr="082ec9b854e90a57c64315117ddb244c"/>
          <p:cNvPicPr/>
          <p:nvPr/>
        </p:nvPicPr>
        <p:blipFill>
          <a:blip r:embed="rId1"/>
          <a:stretch/>
        </p:blipFill>
        <p:spPr>
          <a:xfrm>
            <a:off x="179280" y="1341360"/>
            <a:ext cx="4724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4638600" y="1844640"/>
            <a:ext cx="4037040" cy="39333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Зафыркал индю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запыхтел он ужасн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нос у него ста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 ярости красны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крикнул индю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рундулю! Брундулю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ейчас я теб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загублю, задавлю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Рисунок 5" descr="picture.jpg"/>
          <p:cNvPicPr/>
          <p:nvPr/>
        </p:nvPicPr>
        <p:blipFill>
          <a:blip r:embed="rId1"/>
          <a:stretch/>
        </p:blipFill>
        <p:spPr>
          <a:xfrm>
            <a:off x="395280" y="2060640"/>
            <a:ext cx="4183200" cy="2952720"/>
          </a:xfrm>
          <a:prstGeom prst="rect">
            <a:avLst/>
          </a:prstGeom>
          <a:ln w="0">
            <a:noFill/>
          </a:ln>
        </p:spPr>
      </p:pic>
      <p:sp>
        <p:nvSpPr>
          <p:cNvPr id="457" name="TextBox 6"/>
          <p:cNvSpPr/>
          <p:nvPr/>
        </p:nvSpPr>
        <p:spPr>
          <a:xfrm>
            <a:off x="1367640" y="5300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ибиго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4e3b30"/>
                </a:solidFill>
                <a:uFillTx/>
                <a:latin typeface="Franklin Gothic Medium"/>
              </a:rPr>
              <a:t>КОРНЕЙ  ИВАНОВИЧ  ЧУКОВСКИЙ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Picture 4" descr="chukovskiy"/>
          <p:cNvPicPr/>
          <p:nvPr/>
        </p:nvPicPr>
        <p:blipFill>
          <a:blip r:embed="rId1"/>
          <a:stretch/>
        </p:blipFill>
        <p:spPr>
          <a:xfrm>
            <a:off x="179280" y="1341360"/>
            <a:ext cx="4157640" cy="49672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500720" y="1341360"/>
            <a:ext cx="4356000" cy="602208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исател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литературовед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ереводчи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октор филологически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аук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втор всем известны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етских сказо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стих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5" descr=""/>
          <p:cNvPicPr/>
          <p:nvPr/>
        </p:nvPicPr>
        <p:blipFill>
          <a:blip r:embed="rId1"/>
          <a:stretch/>
        </p:blipFill>
        <p:spPr>
          <a:xfrm>
            <a:off x="347760" y="835200"/>
            <a:ext cx="84358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5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8435880" cy="1114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megadoski.ru/s_images/1267952069976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nkozlov.ru/upload/images/0409/040924214526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://www.spa-resorts.cz/temp/presentation_zoom_teeth_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http://dic.academic.ru/pictures/wiki/files/70/Figure-skates-1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www.veefore.ru/pics2/ice_838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img-samara.fotki.yandex.ru/get/3302/wladwald.b/0_293ae_2de74526_X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proza.ru/pics/2009/04/08/316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char.ru/books/161890_CHudo-derevo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char.ru/char_tmp__char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bookdk.com/super/300/30/9785913151230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www.kmrz.ru/catimg/32/32720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babushkini-skazki.ru/uploads/posts/2009-10/1256672756_mojdodyr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http://demiart.ru/forum/uploads3/post-40364-1241354703.jpg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3"/>
          <p:cNvSpPr/>
          <p:nvPr/>
        </p:nvSpPr>
        <p:spPr>
          <a:xfrm>
            <a:off x="0" y="333360"/>
            <a:ext cx="88930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Автор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Учитель  начальных классов ГБОУ школ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№588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Пунько Ольга Александров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post-12-1238531352"/>
          <p:cNvPicPr/>
          <p:nvPr/>
        </p:nvPicPr>
        <p:blipFill>
          <a:blip r:embed="rId2"/>
          <a:stretch/>
        </p:blipFill>
        <p:spPr>
          <a:xfrm>
            <a:off x="250920" y="1413000"/>
            <a:ext cx="4387680" cy="5040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5003640" y="1773360"/>
            <a:ext cx="3579840" cy="350676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Я родил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Петербург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1882 году, позже переехал в Одесс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19240" y="401760"/>
            <a:ext cx="8467560" cy="1251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284720" y="1628280"/>
            <a:ext cx="4402080" cy="44276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ыл белый д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Чудесный д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что-то застучало в нё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он разбился, и оттуд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Живое выбежало чудо —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Такое тёплое, такое пушистое и золото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7" descr="Картинка 2 из 57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133720"/>
            <a:ext cx="3816360" cy="30589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8"/>
          <p:cNvSpPr/>
          <p:nvPr/>
        </p:nvSpPr>
        <p:spPr>
          <a:xfrm>
            <a:off x="826920" y="5445000"/>
            <a:ext cx="2881440" cy="648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йцо и цыпле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8466120" cy="1249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427280" y="1628640"/>
            <a:ext cx="4249800" cy="445608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Красные двер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пещере мо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елые звер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идя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У двер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 мясо и хлеб — всю добычу мо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Я с радостью белым зверям отдаю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5" descr="Картинка 53 из 7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276640"/>
            <a:ext cx="3672000" cy="26175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971640" y="5300640"/>
            <a:ext cx="252072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бы и зу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66120" cy="1236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211640" y="1599840"/>
            <a:ext cx="4248000" cy="37004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ва коня у мен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ва ко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 воде они возят ме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во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верд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ловно каменна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6" descr="Картинка 4 из 29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7"/>
          <p:cNvSpPr/>
          <p:nvPr/>
        </p:nvSpPr>
        <p:spPr>
          <a:xfrm>
            <a:off x="971640" y="5516640"/>
            <a:ext cx="2808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ь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317520" y="0"/>
            <a:ext cx="8466120" cy="12859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356000" y="1600200"/>
            <a:ext cx="4176720" cy="377352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астёт она вниз головою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е летом растёт, а зимою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о солнце её припечёт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плачет она и умрё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5" descr="Картинка 5 из 3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700280"/>
            <a:ext cx="2790720" cy="3809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1403280" y="5805360"/>
            <a:ext cx="2305080" cy="432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уль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467560" cy="1285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427280" y="1557360"/>
            <a:ext cx="4475160" cy="406080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На малину налетели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Поклевать её хотел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Но увидели урода —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И скорей из огорода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А урод сидит на палке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С бородою из мочалк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5" descr="Картинка 62 из 6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060640"/>
            <a:ext cx="3690720" cy="2770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395280" y="5229360"/>
            <a:ext cx="388944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тицы и пугало огород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19280" y="102960"/>
            <a:ext cx="34671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9" name="Picture 5" descr="Картинка 7 из 178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3532320" cy="46814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6"/>
          <p:cNvSpPr/>
          <p:nvPr/>
        </p:nvSpPr>
        <p:spPr>
          <a:xfrm>
            <a:off x="4062240" y="1844640"/>
            <a:ext cx="4673520" cy="3020040"/>
          </a:xfrm>
          <a:prstGeom prst="rect">
            <a:avLst/>
          </a:prstGeom>
          <a:solidFill>
            <a:srgbClr val="d2a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пришла к Айболиту лис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Ой, меня укусила оса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пришел к Айболиту барбос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Меня курица клюнула в но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4:09:52Z</dcterms:created>
  <dc:creator>Admin</dc:creator>
  <dc:description/>
  <dc:language>en-US</dc:language>
  <cp:lastModifiedBy>User</cp:lastModifiedBy>
  <dcterms:modified xsi:type="dcterms:W3CDTF">2015-10-15T10:56:00Z</dcterms:modified>
  <cp:revision>21</cp:revision>
  <dc:subject/>
  <dc:title>Корней Иванович Чуковский</dc:title>
</cp:coreProperties>
</file>