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4.jpeg" ContentType="image/jpeg"/>
  <Override PartName="/ppt/media/image2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CBE-84E6-4BA7-B364-992D3E34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F1C-35EF-4697-B69F-03BD2FF7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78E3E-C95A-49F8-BD6C-F86003A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67E5A-25F3-49FD-B25E-8971CAAA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CF2C6-2745-491E-8044-25F71BA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4C70B-EAB8-49EB-A88C-B19E101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F1E5-6529-4057-A74D-30DB2DA4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669A4-C70E-476C-BFB3-26185185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3A4DF-A4A3-4E8A-A0BF-4C08CBFB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F7D71-CE31-40F0-9247-983E22E6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4FA7B-28E8-4C76-BD05-5874C609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95F-79AC-4FC6-8B96-DECA5D67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F90-227D-4E32-95CF-7CD4DB65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CCD8-99E2-4796-8E9C-09FF40F3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93A0-C995-4902-A01A-8CB0D666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AAC3-66D3-45F9-BDDF-F45A0BB3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A031-581E-4052-8E32-3E2E6FB3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46A6-59D1-4791-AA8D-0F9F95E0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E8D-99F8-467D-A2FB-2BB8C17F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DA1B-2B52-4AD9-8DE8-70ED635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33B-342B-4EE3-BED3-E49434FA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AD95-6B88-428C-B4F9-1B1B095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4642-F3AB-407F-B1C3-DCD63ACF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DA6F-60F4-4C99-9289-D769B98A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AA96-6C3E-49EE-84AB-CD6A158A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7F12-4B5E-4D3D-9CA9-CA963BDD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5C92-5D80-4B89-A4DD-1F889B50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5C58-6F4B-4DBE-913F-4D969F2A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76E8-9A45-4176-B100-E62538CE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C5BF-8412-4A56-A79A-3D6EFC2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3412-395A-4A3E-90B4-682B5AE9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ECF-F542-4105-8B87-EB3B1C6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E9BD-FF40-4239-8C27-AE95ADF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F43C-E042-42F5-8456-4BEC224E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E2A3-1E2B-41A6-9EF9-75F6A37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1525-D09B-42E1-979F-F423479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AA07-0710-4DC2-B74C-E6937FC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7E33-2860-45BE-A968-9AFCA923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89DE-EB6A-4DFB-8CA3-EE0E431D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AA8E-934C-4A71-B3DB-C5742D75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C5D37-4828-4B93-9521-973CBD3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72AF6-E1CC-4D22-BF49-4B830180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1D5-6187-43E6-B6C5-2278B2B0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523E-F685-4D1A-8904-FD8DBE7E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841B-FBDA-4CEC-86AA-021220E0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25C7-21C1-4481-95D9-C531282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3406-096E-4A0A-8C36-C435E35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931C-94FA-44B2-89DC-61456BDD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1ADA-B9C5-48F2-9EA1-4F7A725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6277-CE65-4D9B-A948-56E50917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54C0-8BF5-49BD-A14F-A3D51D20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B30D-0F64-4797-AA4C-3F198133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63779-15A3-4341-AB37-588F5971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6EC-0EB7-4F59-84C9-0E486558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358BD-E9A1-472B-B1E4-E4EFB10C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A981-B113-49C8-B124-5A295E93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7C52-7E46-48DF-92AD-46F8CA97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F48E-94A2-45C1-A212-8842F074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0841A-AD11-450F-846A-7A91E97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33528-415C-49E3-8527-7FBA550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ED87B-9FAF-4539-A9B3-5389E39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F965D-5588-4A22-B013-4A3BD33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17CF-4387-4080-ABA8-4AAD7FB3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3BFF5-3E82-4CBD-8F82-53A747A7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25A-08FC-4F03-813D-5D715BB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752A-DAD9-49A8-B0B2-CAD74A4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F204-6787-4D60-B01D-AC60848E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6AD35-2439-4190-963D-C19FF4B5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D0E06-C21F-46C0-AB0B-70504CDA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4E1E-EC76-4F2F-AE56-FE9A6FC5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7DC5-9FDE-4A7D-97E0-0C806730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45A8-D0DF-4ECD-AA6A-8D15A92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D68E-815C-405B-90A8-AD6C3A3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9F0E-C0B2-4CD6-A90B-97E91A1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30F3B-D7BC-4AF4-BB2B-EB3EFAF2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0FD-26B7-4E8F-8957-018E8F0B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B7D6F-9E89-4BB7-850B-15939C3D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6185-CFD3-4411-8C0A-06BE30D5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67B3-B9A8-47B1-9708-51E33CDB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5A8BF-E7F6-47F4-ADE4-7449F255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E8CB8-E821-491D-8256-88289D82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64CB6-6C69-4585-8792-1CE5067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8AA62-6C0B-4599-BA4C-7910F686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124CF-5757-4227-B98C-35892D66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CFE5-3DE9-45F8-AA49-5FADCE3E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46DA-2976-4A0F-937D-6B203DF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EA8-9C8D-424C-BEC1-B963468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B884-93CC-4D01-A69B-3C31E69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9364-8093-4605-9538-922A803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BCAB-C02F-439C-86B9-06652DE2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1216-4D44-4422-B9AD-11775E00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C3572-F20D-4B18-B701-2382A351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AF473-B7FF-4399-B928-C61751C1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F7F59-31D1-43DB-9B0A-BB1788D9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77D33-C1EF-4D6D-9100-15765D06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4DD5-C8FD-4A0E-9EE8-69F1BEA8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32AF-5ED6-410D-AA60-252A4B31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C25-0D80-4D44-9206-D62E118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4215-D90C-4517-A9B2-917A4AE7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0BF97-0CFE-44AE-BDEC-61C1E91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643A4-60AE-4EBD-9E82-7067D70A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95F2C-9E2E-4816-AB54-6C280E3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0A090-E58A-493E-AA05-E86AD26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B64F-DE79-48D5-9B38-6E783EB1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6B71E-99A5-4AA3-94B8-D8635C71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88309-F34D-4A9D-99DD-F2674FE0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C2484-81FA-4C5E-A43D-BD7403BF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C1BEC-D533-4AB6-8B1D-7ADC993A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2796-D88A-4400-8C33-EF9A837340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11F2-0E5F-4FDD-91A3-908DEA9C1B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1A61-5A8E-45FD-9BA6-5600DE8B7E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F6E5-1CCA-4378-89BA-94B0FA67CD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F1E4-9860-4F61-A24D-FC58A40C24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1BD7-5556-46FC-919C-B063FA17C9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0435-CF33-436A-BECD-A0C618080E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058D-826F-42FC-8E07-864A39537B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5FA-E93B-4600-AF9E-2728335B11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nkozlov.ru/upload/images/0409/04092421452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inozal.tomsk.ru/uploads/posts/2010-08/1281117549_fedor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ookin.org.ru/book/547418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r.ru/books/p161890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har.ru/books/p794825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okdk.com/super/300/30/9785913151230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mrz.ru/catimg/32/327203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bushkini-skazki.ru/uploads/posts/2009-10/1256672756_mojdodyr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emiart.ru/forum/uploads3/post-40364-12413547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megadoski.ru/s_images/12679520699763.jpg" TargetMode="External"/><Relationship Id="rId3" Type="http://schemas.openxmlformats.org/officeDocument/2006/relationships/hyperlink" Target="http://nkozlov.ru/upload/images/0409/040924214526.jpg" TargetMode="External"/><Relationship Id="rId4" Type="http://schemas.openxmlformats.org/officeDocument/2006/relationships/hyperlink" Target="http://www.spa-resorts.cz/temp/presentation_zoom_teeth_3.jpg" TargetMode="External"/><Relationship Id="rId5" Type="http://schemas.openxmlformats.org/officeDocument/2006/relationships/hyperlink" Target="http://dic.academic.ru/pictures/wiki/files/70/Figure-skates-1.jpg" TargetMode="External"/><Relationship Id="rId6" Type="http://schemas.openxmlformats.org/officeDocument/2006/relationships/hyperlink" Target="http://www.veefore.ru/pics2/ice_8383.jpg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megadoski.ru/s_images/1267952069976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pa-resorts.cz/temp/presentation_zoom_teeth_3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dic.academic.ru/pictures/wiki/files/70/Figure-skates-1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veefore.ru/pics2/ice_8383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img-fotki.yandex.ru/get/3302/wladwald.b/0_293ae_2de74526_XL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za.ru/pics/2009/04/08/316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248000" y="1176480"/>
            <a:ext cx="4402440" cy="4127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Картинка 1 из 154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197000"/>
            <a:ext cx="3419280" cy="3809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468360" y="476280"/>
            <a:ext cx="82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Verdana"/>
              </a:rPr>
              <a:t>Урок литературного чт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83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580000" y="1699920"/>
            <a:ext cx="3106800" cy="38163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о тарелки вьются-вьются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 Федоре не даются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"Лучше в поле пропадём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 к Федоре не пойдём!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..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"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5" descr="Картинка 12 из 14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341360"/>
            <a:ext cx="38163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858920" y="1197000"/>
            <a:ext cx="3241800" cy="547200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 меня зазвонил телефон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то говорит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Слон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Откуда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т верблю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Что вам надо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Шоколад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Для ког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Для сына моего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5" descr="Картинка 164 из 13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97000"/>
            <a:ext cx="340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00360" y="1197000"/>
            <a:ext cx="4259160" cy="4248000"/>
          </a:xfrm>
          <a:prstGeom prst="rect">
            <a:avLst/>
          </a:prstGeom>
          <a:solidFill>
            <a:srgbClr val="d2a01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Как у наших у воро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удо-дерево растёт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удо, чудо, чудо, чуд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Расчудесное!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е листочки на нём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е цветочки на нём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 чулки да башмаки, Словно яблоки!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..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5" descr="Картинка 22 из 6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97000"/>
            <a:ext cx="3902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148360" y="1699920"/>
            <a:ext cx="2952720" cy="43196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аленькие дети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и за что на све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е ходите в Афри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Африку гулять!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.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5" descr="Картинка 2 из 10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751200" cy="50007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"/>
          <p:cNvSpPr/>
          <p:nvPr/>
        </p:nvSpPr>
        <p:spPr>
          <a:xfrm>
            <a:off x="3072240" y="26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716000" y="1413000"/>
            <a:ext cx="3527640" cy="485928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Солнце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по небу гуляло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И за тучу забежало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Глянул заинька в окно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Стало заиньке темно…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5" descr="Картинка 3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19320"/>
            <a:ext cx="33130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9" descr="Картинка 2 из 4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628800" cy="50403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4793400" y="1844640"/>
            <a:ext cx="3749760" cy="228852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мяукали котя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 Надоело нам мяукать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 хотим как порос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юкать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2987640" y="2602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Картинка 10 из 104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3767040" cy="5400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-181080" y="630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4601520" y="1484280"/>
            <a:ext cx="4155480" cy="32925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друг, из мами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спаль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оногий и хромо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гает умываль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качает голов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2929320" y="26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Picture 5" descr="Картинка 169 из 13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859280" y="1341360"/>
            <a:ext cx="4043520" cy="446400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хали медведи На велосипеде. А за ними кот Задом наперё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за ним комарик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 воздушном шарике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Picture 4" descr="082ec9b854e90a57c64315117ddb244c"/>
          <p:cNvPicPr/>
          <p:nvPr/>
        </p:nvPicPr>
        <p:blipFill>
          <a:blip r:embed="rId1"/>
          <a:stretch/>
        </p:blipFill>
        <p:spPr>
          <a:xfrm>
            <a:off x="179280" y="1341360"/>
            <a:ext cx="4724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4638600" y="1844640"/>
            <a:ext cx="4037040" cy="39333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Зафыркал индю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запыхтел он ужасн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нос у него ста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 ярости красны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крикнул индю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рундулю! Брундулю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ейчас я теб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загублю, задавлю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Рисунок 5" descr="picture.jpg"/>
          <p:cNvPicPr/>
          <p:nvPr/>
        </p:nvPicPr>
        <p:blipFill>
          <a:blip r:embed="rId1"/>
          <a:stretch/>
        </p:blipFill>
        <p:spPr>
          <a:xfrm>
            <a:off x="395280" y="2060640"/>
            <a:ext cx="4183200" cy="2952720"/>
          </a:xfrm>
          <a:prstGeom prst="rect">
            <a:avLst/>
          </a:prstGeom>
          <a:ln w="0">
            <a:noFill/>
          </a:ln>
        </p:spPr>
      </p:pic>
      <p:sp>
        <p:nvSpPr>
          <p:cNvPr id="457" name="TextBox 6"/>
          <p:cNvSpPr/>
          <p:nvPr/>
        </p:nvSpPr>
        <p:spPr>
          <a:xfrm>
            <a:off x="1367640" y="5300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ибиго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4e3b30"/>
                </a:solidFill>
                <a:uFillTx/>
                <a:latin typeface="Franklin Gothic Medium"/>
              </a:rPr>
              <a:t>КОРНЕЙ  ИВАНОВИЧ  ЧУКОВСКИЙ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Picture 4" descr="chukovskiy"/>
          <p:cNvPicPr/>
          <p:nvPr/>
        </p:nvPicPr>
        <p:blipFill>
          <a:blip r:embed="rId1"/>
          <a:stretch/>
        </p:blipFill>
        <p:spPr>
          <a:xfrm>
            <a:off x="179280" y="1341360"/>
            <a:ext cx="4157640" cy="49672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500720" y="1341360"/>
            <a:ext cx="4356000" cy="602208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исател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литературовед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ереводчи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октор филологически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аук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втор всем известны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етских сказо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стих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5" descr=""/>
          <p:cNvPicPr/>
          <p:nvPr/>
        </p:nvPicPr>
        <p:blipFill>
          <a:blip r:embed="rId1"/>
          <a:stretch/>
        </p:blipFill>
        <p:spPr>
          <a:xfrm>
            <a:off x="347760" y="835200"/>
            <a:ext cx="84358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5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8435880" cy="1114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megadoski.ru/s_images/1267952069976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nkozlov.ru/upload/images/0409/040924214526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://www.spa-resorts.cz/temp/presentation_zoom_teeth_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http://dic.academic.ru/pictures/wiki/files/70/Figure-skates-1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www.veefore.ru/pics2/ice_838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img-samara.fotki.yandex.ru/get/3302/wladwald.b/0_293ae_2de74526_X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proza.ru/pics/2009/04/08/316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char.ru/books/161890_CHudo-derevo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char.ru/char_tmp__char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bookdk.com/super/300/30/9785913151230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kmrz.ru/catimg/32/32720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babushkini-skazki.ru/uploads/posts/2009-10/1256672756_mojdodyr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demiart.ru/forum/uploads3/post-40364-124135470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3"/>
          <p:cNvSpPr/>
          <p:nvPr/>
        </p:nvSpPr>
        <p:spPr>
          <a:xfrm>
            <a:off x="0" y="333360"/>
            <a:ext cx="88930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Автор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Учитель  начальных классов ГБОУ школ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№588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Пунько Ольга Александров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post-12-1238531352"/>
          <p:cNvPicPr/>
          <p:nvPr/>
        </p:nvPicPr>
        <p:blipFill>
          <a:blip r:embed="rId2"/>
          <a:stretch/>
        </p:blipFill>
        <p:spPr>
          <a:xfrm>
            <a:off x="250920" y="1413000"/>
            <a:ext cx="4387680" cy="5040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5003640" y="1773360"/>
            <a:ext cx="3579840" cy="35067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Я родил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Петербург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1882 году, позже переехал в Одесс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19240" y="401760"/>
            <a:ext cx="8467560" cy="1251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284720" y="1628280"/>
            <a:ext cx="4402080" cy="44276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ыл белый д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удесный д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что-то застучало в нё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он разбился, и оттуд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Живое выбежало чудо —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Такое тёплое, такое пушистое и золото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7" descr="Картинка 2 из 57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133720"/>
            <a:ext cx="3816360" cy="30589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8"/>
          <p:cNvSpPr/>
          <p:nvPr/>
        </p:nvSpPr>
        <p:spPr>
          <a:xfrm>
            <a:off x="826920" y="5445000"/>
            <a:ext cx="2881440" cy="648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йцо и цыпле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8466120" cy="1249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427280" y="1628640"/>
            <a:ext cx="4249800" cy="445608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Красные двер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пещере мо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елые звер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идя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У двер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мясо и хлеб — всю добычу мо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Я с радостью белым зверям отдаю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5" descr="Картинка 53 из 7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276640"/>
            <a:ext cx="3672000" cy="26175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971640" y="5300640"/>
            <a:ext cx="252072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бы и зу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66120" cy="1236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211640" y="1599840"/>
            <a:ext cx="4248000" cy="37004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ва коня у мен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ва ко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 воде они возят ме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во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верд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ловно каменна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6" descr="Картинка 4 из 29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7"/>
          <p:cNvSpPr/>
          <p:nvPr/>
        </p:nvSpPr>
        <p:spPr>
          <a:xfrm>
            <a:off x="971640" y="5516640"/>
            <a:ext cx="2808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ь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317520" y="0"/>
            <a:ext cx="8466120" cy="12859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356000" y="1600200"/>
            <a:ext cx="4176720" cy="377352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астёт она вниз головою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е летом растёт, а зимою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о солнце её припечёт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плачет она и умрё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5" descr="Картинка 5 из 3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700280"/>
            <a:ext cx="2790720" cy="3809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1403280" y="5805360"/>
            <a:ext cx="2305080" cy="432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уль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467560" cy="1285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427280" y="1557360"/>
            <a:ext cx="4475160" cy="406080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На малину налетели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Поклевать её хотел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Но увидели урода —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И скорей из огорода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А урод сидит на палке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С бородою из мочалк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5" descr="Картинка 62 из 6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060640"/>
            <a:ext cx="3690720" cy="2770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395280" y="5229360"/>
            <a:ext cx="388944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тицы и пугало огород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19280" y="102960"/>
            <a:ext cx="34671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9" name="Picture 5" descr="Картинка 7 из 178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3532320" cy="46814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6"/>
          <p:cNvSpPr/>
          <p:nvPr/>
        </p:nvSpPr>
        <p:spPr>
          <a:xfrm>
            <a:off x="4062240" y="1844640"/>
            <a:ext cx="4673520" cy="30200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пришла к Айболиту лис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Ой, меня укусила оса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пришел к Айболиту барбос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Меня курица клюнула в но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4:09:52Z</dcterms:created>
  <dc:creator>Admin</dc:creator>
  <dc:description/>
  <dc:language>en-US</dc:language>
  <cp:lastModifiedBy>User</cp:lastModifiedBy>
  <dcterms:modified xsi:type="dcterms:W3CDTF">2015-10-15T10:56:00Z</dcterms:modified>
  <cp:revision>21</cp:revision>
  <dc:subject/>
  <dc:title>Корней Иванович Чуковский</dc:title>
</cp:coreProperties>
</file>