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4487-60F8-4E1E-ACDF-D79E864C2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AD78-B966-4844-860E-AC78F40178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9E87-D448-4BDC-B126-305BBF10AC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27E1-6171-46B8-BB7A-BCA2C56302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76BD-A2BD-4666-A8ED-EF227D1DD8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092-18DE-4B45-ADBF-613127B83D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89C6-5A15-4E9E-BDB8-0EADC2A6E0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A8B9-B458-4530-8014-AB93BF799A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D1EE-2B7B-4A01-A555-3B2DBB7FC0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4DF8-CDF6-4CD7-9A8C-97EABB804D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E687-D7A3-49B6-A911-33957A508A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1EBC-26F1-45CC-8775-0A3FE24D0D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FC2-186C-411F-8092-0FF4FCD774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195-2768-4AA7-9C78-5028EB9A78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504B-172D-415C-B76E-DCCA4B9A03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D89A-1217-4695-9BEA-6E993E2660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023B-C6B1-43CC-9EA5-BE094C4159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AE95-E67F-4C17-A833-E90FEC206D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BAFC-ED93-4C8A-91D5-2B0A6C8BE5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D914-0C83-4C8B-9C3C-5053B76EE7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7CA7-2105-4C1B-B1C7-1A11538F31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6FF3-467A-41C3-9547-80ED48442B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00AF-69A3-4083-BAFD-3FF3B37FD1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231C-D0D8-4566-8BA9-3E9FE39406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4D7B-863F-450D-8A41-B1B3E1F04B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F680-CA93-49FC-B4C7-FE47240057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2EAC-2D96-4292-96F6-D21E65E690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5B8-8D75-4466-909A-487E7FF2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046-D122-4BFC-BB2C-354CA40B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395-65F3-46D4-AB1D-DD9B2022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CFF-14E6-4490-9E71-3E1C56C1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A878-481A-4B23-ACD9-BDBCC599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8C33-1E2B-474E-A79B-6A6B43AD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E592-3798-419F-BE8E-D009BD48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03A8-2811-4CD6-A323-E13ED860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5F75-B5DC-4071-B704-C756B826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70F-A258-4FF3-B930-3169C817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8DD9-718A-45DD-B30B-54A43C9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49A-B25E-4935-9FFE-EEC045E1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CA23-225A-49F0-8D33-60915C13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007C-2303-4A29-9CAF-2A32E449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F82D-387A-4032-849C-FBC9619E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237F-B838-493A-B8DA-6DEE8ADB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EC95-3297-43A0-8B1D-074B9379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919-BE45-4847-9D3F-F4C39D3A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E2D-C081-440F-8ECB-2AFDF90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363-DC35-4C21-990A-F05BDFED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33E-0A04-4923-81FC-0BB5BD83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703-9479-4331-9662-2273F55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4F8-408A-4429-BA08-2BE95E1D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6DA-AA06-4460-B7EF-49AFD18E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352A-C654-4D51-B49F-BF416852740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DAB5-EB72-4C44-AA4E-80C099C86A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IMGP14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бак наносит телу вред, для организма сотню бед приносит он. И разум разрушает , целые нации, народы он едким дымом отупля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первый год все знают, куренье – это яд! И это так. Предупреждал давно об этом нам всем известный Оноре де Бальз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IMGP1411"/>
          <p:cNvPicPr/>
          <p:nvPr/>
        </p:nvPicPr>
        <p:blipFill>
          <a:blip r:embed="rId1"/>
          <a:stretch/>
        </p:blipFill>
        <p:spPr>
          <a:xfrm>
            <a:off x="250920" y="404640"/>
            <a:ext cx="4392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ход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ти здоровый и активный образ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бегать друзей – курильщ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алять волю, вырабатывать самодисципли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ть положительные привы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ть положительный пример окружающ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му не курить и быть примером для друг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нтитабачная викторин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6" descr="IMGP1420"/>
          <p:cNvPicPr/>
          <p:nvPr/>
        </p:nvPicPr>
        <p:blipFill>
          <a:blip r:embed="rId1"/>
          <a:stretch/>
        </p:blipFill>
        <p:spPr>
          <a:xfrm>
            <a:off x="611280" y="1409760"/>
            <a:ext cx="7848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1).Существуют ли сигареты, которые не приносят вреда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ареты с фильтр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ареты с низким  содержанием никот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. Сколько вредных веществ содержится в табачном дым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0-30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00-300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ыше 4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3). Сколько процентов вредных веществ способен задержать сигаретный фильтр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е более 20 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0 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0 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). Как влияет курение на работу сердц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едляет его рабо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ставляет учащенно бить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влия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). Что происходит с физическими возможностями человек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ни повышают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ни не меняют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ни понижаю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). Сколько микрочастиц сажи содержится в 1 куб. см табачного дым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о 3 миллио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о 10000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о 1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7). Что вреднее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ым от сигаре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ым от газовой гарел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хлопные га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). Кто из царей России ввел запрет на курен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ей Михайлович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тр 1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катерина 2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9).При каком русском царе табак появился в России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4" marL="1728000" indent="-191880">
              <a:spcBef>
                <a:spcPts val="700"/>
              </a:spcBef>
              <a:buClr>
                <a:srgbClr val="ffcc66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Иване Грозн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-191880">
              <a:spcBef>
                <a:spcPts val="700"/>
              </a:spcBef>
              <a:buClr>
                <a:srgbClr val="ffcc66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етре 1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-191880">
              <a:spcBef>
                <a:spcPts val="700"/>
              </a:spcBef>
              <a:buClr>
                <a:srgbClr val="ffcc66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Екатерине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).Если человек начал курить в 15 лет, на сколько уменьшается продолжительность его жиз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 1-2 г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 5-6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 8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7280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1). Зависит ли возможность бросить курить от стажа курения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ж не имеет зна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дольше куришь, тем сложнее броси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больше куришь, тем легче бросить кур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2). Верно ли , что в большинстве стран модно кур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ить никогда не было мод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ить мод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да на курение в большинстве стран прошла.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3). Что такое пассивное курени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ждение в помещении, где куря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куришь за компан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не затягиваешься сигаре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4). Как курение влияет на массу человека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ижает е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ает е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изменяет его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Цель 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97203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вивать у ребят осознанное неприят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табака как одного из способов воздействи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 личность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5). На сколько лет рискует раньше умереть женщина , муж которой курит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4 г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5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). Много ли мужчин осуждает курение женщи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-20 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0-60 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80 %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7). Из тысячи подростков , начавших курить, как много умрут от болезней, связанных с курением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е менее 100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нее 200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ло 250 челове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). Каков , на ваш взгляд, процент желающих бросить курит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5 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5 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5%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9). У кого наибольшая зависимость от табака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 тех, кто начал курить до 20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 тех, кто начал курить после 20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ачная зависимость не связана с возрастом, в котором человек начал кур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). Какие заболевания считаются наиболее связанными с курени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лер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легко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IMGP14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вод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 – пагубная привы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ят не только взрослые, но и де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 вредит не только здоровью курящего, но и здоровью окружающ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рослые не хотят замечать курения дет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желание людей понимать вреда ку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* * *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еловек , переставший пить и курить, приобретает ту умственную ясность и спокойствие ума, который с новой верной стороны освещает для него все явления жи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.Н.Толст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IMGP14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рия табакокурения.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ст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). Родина таба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Южная Афр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Южная Амер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Южный полю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. Как называли жители Кубы траву, употребляемую для курен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гар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апиру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амокру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3). Кто обнаружил в табаке никотин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125360"/>
            <a:ext cx="8134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Жан-Жак Русс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Жан-Поль Бельмонд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Жан Ни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).Екатерина Медичи использовала нюхательный табак как лекарственное средство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т насмор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игр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остуд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5). В какой стране табак в 16 веке был объявлен « забавой дьявола»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спания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95280" y="1628640"/>
            <a:ext cx="8207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тал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Бразил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). Как называется книга, написанная английским королем Яковым Первым в 1604 год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 О вреде курения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 О пользе курения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 Об истории трубк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7). Большие дозы никотина действуют подобно яд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шья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ар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ильной кислоте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8). Для чего чистят курительные труб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собрать остатки таба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удалить табачный дего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нечего дела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9). Самый популярный способ употребления табака в США до 19 век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юх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в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0). Кого называют « курильщиками по неволе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, кто находится в обществе кур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, кого заставляют курить принудитель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, кто курит в тюрьм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чины кур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успокаивает нервы                          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пытство                                                 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ание избавиться от мн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варищей о трусости, слабости                     5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сивый вид пачки                                      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да                                                              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ание быть самостоятельным                   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ражание                                                    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я семья                                                      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избытка свободного времени                      3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ричины                                               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– порок не только злой, еще он с запахом ужас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закурил? Они всегда с тобой? Поверь, ты это делаешь напрас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ь дым табачный с разумом не ладит. И « лишний» рубль тоже пропад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 здоровье пожалей, и близких своих тож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IMGP1410"/>
          <p:cNvPicPr/>
          <p:nvPr/>
        </p:nvPicPr>
        <p:blipFill>
          <a:blip r:embed="rId1"/>
          <a:stretch/>
        </p:blipFill>
        <p:spPr>
          <a:xfrm>
            <a:off x="324000" y="549360"/>
            <a:ext cx="41716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14:34Z</dcterms:created>
  <dc:creator>1</dc:creator>
  <dc:description/>
  <dc:language>en-US</dc:language>
  <cp:lastModifiedBy>Оля</cp:lastModifiedBy>
  <dcterms:modified xsi:type="dcterms:W3CDTF">2015-10-14T21:35:09Z</dcterms:modified>
  <cp:revision>34</cp:revision>
  <dc:subject/>
  <dc:title>Слайд 1</dc:title>
</cp:coreProperties>
</file>