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0E19-D4CE-4AF8-AC4D-317D4F7A0F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D46C-F756-42CF-BE08-8AD8F5AD4F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691B-E168-43AA-BE1B-6DF49DCA35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79B6-FC9A-4443-9284-8BB13C0FEA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8B37-32A9-4D38-B8EB-072C63E1E1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A320-B9DD-4406-AF8C-6C8B8E5CBE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C4FE-9651-45D5-A6E4-1F8E3FF850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C753-B294-4581-87A1-0D528B539C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8759-3C71-44A7-B186-2B99784E6E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12C1-3F5D-46DB-A39A-C5D5778C36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38D0-4462-469C-AE60-50780A1478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6CE4-42A6-46E2-8EA3-4D0AA5B283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297E-99CD-48DA-9EB0-44DDCD24CB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FCC3-D784-4782-8643-4E60789E1C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C812-9C70-4CA5-93B2-2F642AB251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DD76-AE9C-4DFB-B433-12431AC2BD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2C7D-45BA-46EB-94C7-8230393B66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BC7F-3396-4F6C-BA4E-9AE7918E89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CF70-C720-497B-947B-71C851E2E5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FDCA-66A7-4F56-8F40-77D1286DA2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ABF8-0D5B-480F-A969-30A55CB7E3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6509-CA51-41A2-820A-8869B99069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C408-5D76-4A0E-9685-8BDD8B7FE7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F462-B522-4059-8919-308423725E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295E-35DE-496B-AA12-408907DC6C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9F96-09BC-441D-90F6-A5D5580AD9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2C88-89C4-4E0A-94FD-D0EF312352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5B7E-CC99-4C59-B58A-EEE5FA69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9F10-3F46-438C-9B7C-1EFF5332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2D01-D707-469A-9DF3-C927C394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A432-FB5E-4988-A6F8-62A85336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31D7-2652-4D36-ADBA-BD16D9EF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D938-BB9C-462C-85F9-F0975661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46F0-66B4-4EB6-9061-C65F60B4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0553-01BE-450C-BDA3-F2B08A7B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9D08-F970-464A-820C-5B13CAD9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A5FA-251B-4F8C-8D0A-BAE26CC9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28EA-8013-4C11-A2C0-5693D1A5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80A7-307E-498F-8C8B-28A7AAB8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339E-F926-4F7D-9941-17D86E7F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F4D2-D755-44B7-AA1E-B0BAFB78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1B37-49AC-4C06-B453-86034779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5CEF-B912-4C65-ADC9-15A3A969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8503-6519-41A8-9573-792180AB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2E71-72C2-490D-85A7-A1343D73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2273-045F-40ED-A1B9-AE4ACB15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4A4-C40B-4DED-88A0-37116670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78C9-FD22-41A2-BBAA-3F245830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BD1E-EAA8-400A-85A9-A6F6A026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4B11-4E14-4288-8F0B-3CA0F7E7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9D93-72CD-49B4-9A19-D70F594D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C906-9A08-4E11-8B36-C9810D3504C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839D-D6CC-4C54-BBFE-F7CD035A188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IMGP14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бак наносит телу вред, для организма сотню бед приносит он. И разум разрушает , целые нации, народы он едким дымом отупля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первый год все знают, куренье – это яд! И это так. Предупреждал давно об этом нам всем известный Оноре де Бальза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7" descr="IMGP1411"/>
          <p:cNvPicPr/>
          <p:nvPr/>
        </p:nvPicPr>
        <p:blipFill>
          <a:blip r:embed="rId1"/>
          <a:stretch/>
        </p:blipFill>
        <p:spPr>
          <a:xfrm>
            <a:off x="250920" y="404640"/>
            <a:ext cx="43923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ыход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сти здоровый и активный образ жиз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бегать друзей – курильщи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калять волю, вырабатывать самодисциплин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ировать положительные привыч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пользовать положительный пример окружающи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ому не курить и быть примером для други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нтитабачная викторин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Picture 6" descr="IMGP1420"/>
          <p:cNvPicPr/>
          <p:nvPr/>
        </p:nvPicPr>
        <p:blipFill>
          <a:blip r:embed="rId1"/>
          <a:stretch/>
        </p:blipFill>
        <p:spPr>
          <a:xfrm>
            <a:off x="611280" y="1409760"/>
            <a:ext cx="7848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1).Существуют ли сигареты, которые не приносят вреда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гареты с фильтр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гареты с низким  содержанием никотин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). Сколько вредных веществ содержится в табачном дым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0-30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00-300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ыше 400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3). Сколько процентов вредных веществ способен задержать сигаретный фильтр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не более 20 %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0 %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0 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4). Как влияет курение на работу сердц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медляет его работ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ставляет учащенно бить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влия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5). Что происходит с физическими возможностями человек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ни повышают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ни не меняют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ни понижаю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6). Сколько микрочастиц сажи содержится в 1 куб. см табачного дым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до 3 миллион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до 10000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до 100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7). Что вреднее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дым от сигарет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дым от газовой гарел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хлопные газ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8). Кто из царей России ввел запрет на курени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ексей Михайлович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тр 1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катерина 2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9).При каком русском царе табак появился в России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4" marL="1728000" indent="-191880">
              <a:spcBef>
                <a:spcPts val="700"/>
              </a:spcBef>
              <a:buClr>
                <a:srgbClr val="ffcc66"/>
              </a:buClr>
              <a:buFont typeface="Tahom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Иване Грозн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728000" indent="-191880">
              <a:spcBef>
                <a:spcPts val="700"/>
              </a:spcBef>
              <a:buClr>
                <a:srgbClr val="ffcc66"/>
              </a:buClr>
              <a:buFont typeface="Tahom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етре 1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728000" indent="-191880">
              <a:spcBef>
                <a:spcPts val="700"/>
              </a:spcBef>
              <a:buClr>
                <a:srgbClr val="ffcc66"/>
              </a:buClr>
              <a:buFont typeface="Tahom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Екатерине 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728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).Если человек начал курить в 15 лет, на сколько уменьшается продолжительность его жизн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28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а 1-2 год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728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а 5-6 ле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728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а 8 л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7280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11). Зависит ли возможность бросить курить от стажа курения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ж не имеет знач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м дольше куришь, тем сложнее броси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м больше куришь, тем легче бросить кури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2). Верно ли , что в большинстве стран модно кури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рить никогда не было модн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рить модн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да на курение в большинстве стран прошла.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13). Что такое пассивное курение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хождение в помещении, где куря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гда куришь за компани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гда не затягиваешься сигарет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4). Как курение влияет на массу человека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нижает ег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ышает ег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изменяет его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Цель 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844280"/>
            <a:ext cx="97203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звивать у ребят осознанное неприят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табака как одного из способов воздействия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на личность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15). На сколько лет рискует раньше умереть женщина , муж которой курит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4 год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10 ле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15 л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6). Много ли мужчин осуждает курение женщи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0-20 %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0-60 %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ее 80 %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17). Из тысячи подростков , начавших курить, как много умрут от болезней, связанных с курением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е менее 100 челов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менее 200 челов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оло 250 челове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8). Каков , на ваш взгляд, процент желающих бросить курит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5 %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5 %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5%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19). У кого наибольшая зависимость от табака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у тех, кто начал курить до 20 ле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у тех, кто начал курить после 20 ле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бачная зависимость не связана с возрастом, в котором человек начал кури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0). Какие заболевания считаются наиболее связанными с курение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лерг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к легког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ги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IMGP14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ывод 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урение – пагубная привыч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урят не только взрослые, но и де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урение вредит не только здоровью курящего, но и здоровью окружающ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зрослые не хотят замечать курения деть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желание людей понимать вреда кур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* * *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Человек , переставший пить и курить, приобретает ту умственную ясность и спокойствие ума, который с новой верной стороны освещает для него все явления жизн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Л.Н.Толсто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IMGP14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стория табакокурения. 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ест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). Родина таба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Южная Афри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Южная Амери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Южный полю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). Как называли жители Кубы траву, употребляемую для курения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игар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апиру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амокрут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3). Кто обнаружил в табаке никотин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1125360"/>
            <a:ext cx="81342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Жан-Жак Русс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Жан-Поль Бельмонд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Жан Ник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4).Екатерина Медичи использовала нюхательный табак как лекарственное средство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т насмор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мигре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ростуды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5). В какой стране табак в 16 веке был объявлен « забавой дьявола»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Испания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95280" y="1628640"/>
            <a:ext cx="82072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Итал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Бразил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6). Как называется книга, написанная английским королем Яковым Первым в 1604 году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« О вреде курения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« О пользе курения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« Об истории трубки»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7). Большие дозы никотина действуют подобно яду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ышьяк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урар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ильной кислоте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8). Для чего чистят курительные трубк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бы собрать остатки таба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бы удалить табачный дего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 нечего дела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9). Самый популярный способ употребления табака в США до 19 века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ре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юха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ва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0). Кого называют « курильщиками по неволе»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х, кто находится в обществе курящи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х, кого заставляют курить принудительн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х, кто курит в тюрьм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ичины курения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урение успокаивает нервы                           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юбопытство                                                 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лание избавиться от мн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варищей о трусости, слабости                     5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асивый вид пачки                                       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да                                                              1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лание быть самостоятельным                    1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ражание                                                    3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воя семья                                                      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 избытка свободного времени                      3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угие причины                                               2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урение – порок не только злой, еще он с запахом ужасны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ы закурил? Они всегда с тобой? Поверь, ты это делаешь напрас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дь дым табачный с разумом не ладит. И « лишний» рубль тоже пропад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е здоровье пожалей, и близких своих тож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7" descr="IMGP1410"/>
          <p:cNvPicPr/>
          <p:nvPr/>
        </p:nvPicPr>
        <p:blipFill>
          <a:blip r:embed="rId1"/>
          <a:stretch/>
        </p:blipFill>
        <p:spPr>
          <a:xfrm>
            <a:off x="324000" y="549360"/>
            <a:ext cx="41716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14:34Z</dcterms:created>
  <dc:creator>1</dc:creator>
  <dc:description/>
  <dc:language>en-US</dc:language>
  <cp:lastModifiedBy>Оля</cp:lastModifiedBy>
  <dcterms:modified xsi:type="dcterms:W3CDTF">2015-10-14T21:35:09Z</dcterms:modified>
  <cp:revision>34</cp:revision>
  <dc:subject/>
  <dc:title>Слайд 1</dc:title>
</cp:coreProperties>
</file>