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1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857-B15C-47A3-9553-9BFDFB5F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232-2F27-40FA-8C7D-2BC47AD6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2B4-0489-4F80-AADB-8126D2E6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D2E-0318-41C3-BB45-5D98E512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37F-1E99-4B35-B9E1-D56A06E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A55-4DD5-4A6C-B8C6-3674C5C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D03B-8E81-4796-A2B3-0E48B73B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4702-1B57-44B3-9DFD-EC965570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E16-D978-4E1D-BB81-F2EE467B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D5C0-EDA4-4D26-AF49-3812BCCB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71CA-11C5-4E4C-9E96-2C6D5F6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48A-B05E-4766-83D7-F81E6736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BDA-DC9C-461E-8A46-1C69D59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CB52-A414-4195-8C6E-FB03871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072-2049-45F6-92C3-EAD9E88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EC8-BCD4-4313-87E5-D29D2445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109C-EF2A-41E0-948A-377BA92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594-28BD-4DBA-9FD0-A60CC130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034-820F-45EC-A4E2-5AF03AA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1B8-2D8A-4DF9-81AB-B64A434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1C6-0706-4873-9736-9A11662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F02-83CF-42A9-8DC8-AAB57EE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486-6822-4489-B826-093FAA2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8CE-8751-4799-BD2F-FCC08A9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1A1-EF01-4E50-B596-089303D58AC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1" name="Picture 4" descr="A:\minispir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163-84C1-449D-860A-52FEC1A8C5A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0.jpeg"/><Relationship Id="rId12" Type="http://schemas.openxmlformats.org/officeDocument/2006/relationships/image" Target="../media/image30.jpeg"/><Relationship Id="rId13" Type="http://schemas.openxmlformats.org/officeDocument/2006/relationships/image" Target="../media/image30.jpeg"/><Relationship Id="rId14" Type="http://schemas.openxmlformats.org/officeDocument/2006/relationships/image" Target="../media/image35.jpeg"/><Relationship Id="rId15" Type="http://schemas.openxmlformats.org/officeDocument/2006/relationships/image" Target="../media/image35.jpeg"/><Relationship Id="rId16" Type="http://schemas.openxmlformats.org/officeDocument/2006/relationships/image" Target="../media/image35.jpeg"/><Relationship Id="rId17" Type="http://schemas.openxmlformats.org/officeDocument/2006/relationships/image" Target="../media/image32.jpeg"/><Relationship Id="rId18" Type="http://schemas.openxmlformats.org/officeDocument/2006/relationships/image" Target="../media/image32.jpeg"/><Relationship Id="rId19" Type="http://schemas.openxmlformats.org/officeDocument/2006/relationships/image" Target="../media/image34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Логопедические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игралки-обучалки</a:t>
            </a:r>
            <a:br>
              <a:rPr sz="4400"/>
            </a:b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( опыт работы по коррекции звукопроизношения у дошкольников с ОНР (общим недоразвитием речи) с использованием авторских логопедических пособий)</a:t>
            </a:r>
            <a:br>
              <a:rPr sz="2400"/>
            </a:b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4" name="Picture 22" descr="solnishko копия"/>
          <p:cNvPicPr/>
          <p:nvPr/>
        </p:nvPicPr>
        <p:blipFill>
          <a:blip r:embed="rId1"/>
          <a:stretch/>
        </p:blipFill>
        <p:spPr>
          <a:xfrm>
            <a:off x="971640" y="260280"/>
            <a:ext cx="3456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C:\Users\User\Desktop\фото к витит. карточке\IMG_6536.JPG"/>
          <p:cNvPicPr/>
          <p:nvPr/>
        </p:nvPicPr>
        <p:blipFill>
          <a:blip r:embed="rId1"/>
          <a:stretch/>
        </p:blipFill>
        <p:spPr>
          <a:xfrm>
            <a:off x="6510240" y="3357720"/>
            <a:ext cx="2297160" cy="3213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Рисунок 1" descr="C:\Users\User\Desktop\фото к витит. карточке\IMG_6544.JPG"/>
          <p:cNvPicPr/>
          <p:nvPr/>
        </p:nvPicPr>
        <p:blipFill>
          <a:blip r:embed="rId2"/>
          <a:stretch/>
        </p:blipFill>
        <p:spPr>
          <a:xfrm>
            <a:off x="919080" y="333360"/>
            <a:ext cx="6110280" cy="4259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900000" y="4869000"/>
            <a:ext cx="5610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Использование авторского логопедического пособ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Разговорчивые язычки» 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на заняти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по автоматизации звуко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Цель: уточнение положения органов артикуляци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755640" y="404640"/>
            <a:ext cx="8137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Использование авторских мнемотаблиц звук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а занятия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844560" y="1919160"/>
            <a:ext cx="2809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немотаблицы  служат наглядной опорой, позволяющей быстр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и правильно запомнить артикуляцию звука.</a:t>
            </a:r>
            <a:br>
              <a:rPr sz="1800"/>
            </a:b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Рисунок 2" descr="C:\Users\User\Desktop\фото к витит. карточке\_DSC6291.JPG"/>
          <p:cNvPicPr/>
          <p:nvPr/>
        </p:nvPicPr>
        <p:blipFill>
          <a:blip r:embed="rId1"/>
          <a:stretch/>
        </p:blipFill>
        <p:spPr>
          <a:xfrm>
            <a:off x="3675240" y="2044800"/>
            <a:ext cx="5073480" cy="332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0" name="Прямоугольник 5"/>
          <p:cNvSpPr/>
          <p:nvPr/>
        </p:nvSpPr>
        <p:spPr>
          <a:xfrm>
            <a:off x="900000" y="105264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Цель: формируют у детей представление о положении органов артикуляционного аппарата в момент произнесения звука и соответствующей его характеристике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900000" y="5373720"/>
            <a:ext cx="79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Для постановки основных звуков к каждому  занятию мною разработаны мнемотаблицы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Ниже представлена мнемотаблица для артикуляции звука «ш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img043"/>
          <p:cNvPicPr/>
          <p:nvPr/>
        </p:nvPicPr>
        <p:blipFill>
          <a:blip r:embed="rId1"/>
          <a:stretch/>
        </p:blipFill>
        <p:spPr>
          <a:xfrm>
            <a:off x="4122720" y="333360"/>
            <a:ext cx="12844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971640" y="1628640"/>
          <a:ext cx="7777080" cy="4896000"/>
        </p:xfrm>
        <a:graphic>
          <a:graphicData uri="http://schemas.openxmlformats.org/drawingml/2006/table">
            <a:tbl>
              <a:tblPr/>
              <a:tblGrid>
                <a:gridCol w="1439640"/>
                <a:gridCol w="1584360"/>
                <a:gridCol w="1656000"/>
                <a:gridCol w="1512720"/>
                <a:gridCol w="1584360"/>
              </a:tblGrid>
              <a:tr h="156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  <a:tr h="171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51a00"/>
                      </a:solidFill>
                    </a:lnL>
                    <a:lnR w="5760">
                      <a:solidFill>
                        <a:srgbClr val="351a00"/>
                      </a:solidFill>
                    </a:lnR>
                    <a:lnT w="5760">
                      <a:solidFill>
                        <a:srgbClr val="351a00"/>
                      </a:solidFill>
                    </a:lnT>
                    <a:lnB w="5760">
                      <a:solidFill>
                        <a:srgbClr val="351a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Рисунок 22" descr="img155"/>
          <p:cNvPicPr/>
          <p:nvPr/>
        </p:nvPicPr>
        <p:blipFill>
          <a:blip r:embed="rId2"/>
          <a:stretch/>
        </p:blipFill>
        <p:spPr>
          <a:xfrm>
            <a:off x="1042920" y="2133720"/>
            <a:ext cx="125748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3" descr="img157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627280" y="2048040"/>
            <a:ext cx="1114560" cy="742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4" descr="img156"/>
          <p:cNvPicPr/>
          <p:nvPr/>
        </p:nvPicPr>
        <p:blipFill>
          <a:blip r:embed="rId4"/>
          <a:stretch/>
        </p:blipFill>
        <p:spPr>
          <a:xfrm>
            <a:off x="4356000" y="2066760"/>
            <a:ext cx="87624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5" descr="img027"/>
          <p:cNvPicPr/>
          <p:nvPr/>
        </p:nvPicPr>
        <p:blipFill>
          <a:blip r:embed="rId5"/>
          <a:stretch/>
        </p:blipFill>
        <p:spPr>
          <a:xfrm>
            <a:off x="5867280" y="1900080"/>
            <a:ext cx="990720" cy="1019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6" descr="img028"/>
          <p:cNvPicPr/>
          <p:nvPr/>
        </p:nvPicPr>
        <p:blipFill>
          <a:blip r:embed="rId6"/>
          <a:stretch/>
        </p:blipFill>
        <p:spPr>
          <a:xfrm>
            <a:off x="7451640" y="1947960"/>
            <a:ext cx="97164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7" descr="img037"/>
          <p:cNvPicPr/>
          <p:nvPr/>
        </p:nvPicPr>
        <p:blipFill>
          <a:blip r:embed="rId7"/>
          <a:stretch/>
        </p:blipFill>
        <p:spPr>
          <a:xfrm>
            <a:off x="1324080" y="3429000"/>
            <a:ext cx="695160" cy="1247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8" descr="img037"/>
          <p:cNvPicPr/>
          <p:nvPr/>
        </p:nvPicPr>
        <p:blipFill>
          <a:blip r:embed="rId8"/>
          <a:stretch/>
        </p:blipFill>
        <p:spPr>
          <a:xfrm>
            <a:off x="437184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9" descr="img037"/>
          <p:cNvPicPr/>
          <p:nvPr/>
        </p:nvPicPr>
        <p:blipFill>
          <a:blip r:embed="rId9"/>
          <a:stretch/>
        </p:blipFill>
        <p:spPr>
          <a:xfrm>
            <a:off x="601488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0" descr="img037"/>
          <p:cNvPicPr/>
          <p:nvPr/>
        </p:nvPicPr>
        <p:blipFill>
          <a:blip r:embed="rId10"/>
          <a:stretch/>
        </p:blipFill>
        <p:spPr>
          <a:xfrm>
            <a:off x="7589880" y="3429000"/>
            <a:ext cx="695160" cy="12477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2" descr="img037"/>
          <p:cNvPicPr/>
          <p:nvPr/>
        </p:nvPicPr>
        <p:blipFill>
          <a:blip r:embed="rId11"/>
          <a:stretch/>
        </p:blipFill>
        <p:spPr>
          <a:xfrm>
            <a:off x="2836800" y="3429000"/>
            <a:ext cx="695520" cy="12477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3" descr="раскраски по темам игрушки057"/>
          <p:cNvPicPr/>
          <p:nvPr/>
        </p:nvPicPr>
        <p:blipFill>
          <a:blip r:embed="rId12">
            <a:lum contrast="20000"/>
          </a:blip>
          <a:stretch/>
        </p:blipFill>
        <p:spPr>
          <a:xfrm>
            <a:off x="1257480" y="5157720"/>
            <a:ext cx="828360" cy="1098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4" descr="раскраски по темам игрушки061"/>
          <p:cNvPicPr/>
          <p:nvPr/>
        </p:nvPicPr>
        <p:blipFill>
          <a:blip r:embed="rId13">
            <a:lum contrast="20000"/>
          </a:blip>
          <a:stretch/>
        </p:blipFill>
        <p:spPr>
          <a:xfrm>
            <a:off x="2681280" y="5464080"/>
            <a:ext cx="922320" cy="4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5" descr="раскраски по темам игрушки063"/>
          <p:cNvPicPr/>
          <p:nvPr/>
        </p:nvPicPr>
        <p:blipFill>
          <a:blip r:embed="rId14">
            <a:lum contrast="20000"/>
          </a:blip>
          <a:stretch/>
        </p:blipFill>
        <p:spPr>
          <a:xfrm>
            <a:off x="4317840" y="5121360"/>
            <a:ext cx="893880" cy="1135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6" descr="раскраски по темам игрушки066"/>
          <p:cNvPicPr/>
          <p:nvPr/>
        </p:nvPicPr>
        <p:blipFill>
          <a:blip r:embed="rId15">
            <a:lum contrast="20000"/>
          </a:blip>
          <a:stretch/>
        </p:blipFill>
        <p:spPr>
          <a:xfrm>
            <a:off x="5952960" y="5529240"/>
            <a:ext cx="905040" cy="4906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7" descr="img035"/>
          <p:cNvPicPr/>
          <p:nvPr/>
        </p:nvPicPr>
        <p:blipFill>
          <a:blip r:embed="rId16">
            <a:lum contrast="60000"/>
          </a:blip>
          <a:stretch/>
        </p:blipFill>
        <p:spPr>
          <a:xfrm>
            <a:off x="7508880" y="5184720"/>
            <a:ext cx="91440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900000" y="620640"/>
            <a:ext cx="7920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Закрепление звука в слога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точняем  положение артикуляционных органов при произношении гласных звуков и каждый звук изображается с помощью ротика (артикулемы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Постепенно все знания о гласных звуках объединяются в  мнемосхему, с опорой на которую формируется понятие о гласных звуках. С детьми заучивается стихотворение о гласных звуках, а запомнить его  помогает авторская мнемосхема. Дети с помощью этой схемы очень быстро узнают и запоминают гласные звуки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900000" y="54936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«Гласные звуки петь мы рады, нет во рту для них преграды. А, О, У, И,Э,Ы – их запомним мы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1" name="Рисунок 2" descr="img15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703680" y="153972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img154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922400" y="3284640"/>
            <a:ext cx="5505480" cy="1417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img127"/>
          <p:cNvPicPr/>
          <p:nvPr/>
        </p:nvPicPr>
        <p:blipFill>
          <a:blip r:embed="rId3"/>
          <a:stretch/>
        </p:blipFill>
        <p:spPr>
          <a:xfrm>
            <a:off x="1616040" y="4702320"/>
            <a:ext cx="65055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332000" y="404640"/>
            <a:ext cx="705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Работа над гласными звуками идёт параллельно с работой над постановкой нарушенного согласного звук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Это необходимо для соединения неречевых символов гласных звуков и согласных. 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503680" cy="36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6" name="Прямоугольник 2"/>
          <p:cNvSpPr/>
          <p:nvPr/>
        </p:nvSpPr>
        <p:spPr>
          <a:xfrm>
            <a:off x="900000" y="5533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Для автоматизации звука в слогах в самостоятельной речи использую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моё авторское  пособ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«Волшебный сад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116000" y="47628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Далее в логопедической работе идёт закрепление звука в словах и предложениях, отработка лексико-грамматических категорий. Для этого используется моё авторское пособ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«Чудесная лестница»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8" name="Рисунок 1" descr="C:\Users\User\Desktop\фото к витит. карточке\IMG_6556.JPG"/>
          <p:cNvPicPr/>
          <p:nvPr/>
        </p:nvPicPr>
        <p:blipFill>
          <a:blip r:embed="rId1"/>
          <a:stretch/>
        </p:blipFill>
        <p:spPr>
          <a:xfrm>
            <a:off x="5065560" y="1341360"/>
            <a:ext cx="3695760" cy="5113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9" name="Прямоугольник 3"/>
          <p:cNvSpPr/>
          <p:nvPr/>
        </p:nvSpPr>
        <p:spPr>
          <a:xfrm>
            <a:off x="1116000" y="2349360"/>
            <a:ext cx="3672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Мобильность данного пособия и разнообразие картинного материала, игр, новые сверх задачи позволяют поддерживать интерес ребёнка к занятиям на высоком уровне, проводить автоматизацию нового звука в самостоятельной реч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971640" y="549360"/>
            <a:ext cx="7777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Введение нового звука в активное пользование в слогах и словах очень эфффективно осуществлять использу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логопедические чистоговорки.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Все символы и схемы должны быть хорошо знакомы детям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На начальном этапе работы я использую неречевые символы звуков и опорные предметные картинки. Сначала рассматривается схема чистоговорки, уточняется её содержание, количество повторений. Я даю детям образец, а возможные варианты концовки  мы обсуждаем совместно с ребенко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Рисунок 2" descr="img045"/>
          <p:cNvPicPr/>
          <p:nvPr/>
        </p:nvPicPr>
        <p:blipFill>
          <a:blip r:embed="rId1"/>
          <a:stretch/>
        </p:blipFill>
        <p:spPr>
          <a:xfrm>
            <a:off x="1227240" y="335124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" descr="img045"/>
          <p:cNvPicPr/>
          <p:nvPr/>
        </p:nvPicPr>
        <p:blipFill>
          <a:blip r:embed="rId2"/>
          <a:stretch/>
        </p:blipFill>
        <p:spPr>
          <a:xfrm>
            <a:off x="2917800" y="335124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img045"/>
          <p:cNvPicPr/>
          <p:nvPr/>
        </p:nvPicPr>
        <p:blipFill>
          <a:blip r:embed="rId3"/>
          <a:stretch/>
        </p:blipFill>
        <p:spPr>
          <a:xfrm>
            <a:off x="4564080" y="333864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img132"/>
          <p:cNvPicPr/>
          <p:nvPr/>
        </p:nvPicPr>
        <p:blipFill>
          <a:blip r:embed="rId4"/>
          <a:stretch/>
        </p:blipFill>
        <p:spPr>
          <a:xfrm>
            <a:off x="1847880" y="335124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img132"/>
          <p:cNvPicPr/>
          <p:nvPr/>
        </p:nvPicPr>
        <p:blipFill>
          <a:blip r:embed="rId5"/>
          <a:stretch/>
        </p:blipFill>
        <p:spPr>
          <a:xfrm>
            <a:off x="3505320" y="334332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img132"/>
          <p:cNvPicPr/>
          <p:nvPr/>
        </p:nvPicPr>
        <p:blipFill>
          <a:blip r:embed="rId6"/>
          <a:stretch/>
        </p:blipFill>
        <p:spPr>
          <a:xfrm>
            <a:off x="5148360" y="3306600"/>
            <a:ext cx="380880" cy="581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img100"/>
          <p:cNvPicPr/>
          <p:nvPr/>
        </p:nvPicPr>
        <p:blipFill>
          <a:blip r:embed="rId7"/>
          <a:stretch/>
        </p:blipFill>
        <p:spPr>
          <a:xfrm>
            <a:off x="3995640" y="3395520"/>
            <a:ext cx="447840" cy="466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img100"/>
          <p:cNvPicPr/>
          <p:nvPr/>
        </p:nvPicPr>
        <p:blipFill>
          <a:blip r:embed="rId8"/>
          <a:stretch/>
        </p:blipFill>
        <p:spPr>
          <a:xfrm>
            <a:off x="2340000" y="3400560"/>
            <a:ext cx="44748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img169"/>
          <p:cNvPicPr/>
          <p:nvPr/>
        </p:nvPicPr>
        <p:blipFill>
          <a:blip r:embed="rId9"/>
          <a:stretch/>
        </p:blipFill>
        <p:spPr>
          <a:xfrm>
            <a:off x="7648560" y="3035160"/>
            <a:ext cx="990720" cy="1123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3" descr="img101"/>
          <p:cNvPicPr/>
          <p:nvPr/>
        </p:nvPicPr>
        <p:blipFill>
          <a:blip r:embed="rId10"/>
          <a:stretch/>
        </p:blipFill>
        <p:spPr>
          <a:xfrm>
            <a:off x="6191280" y="3333600"/>
            <a:ext cx="714240" cy="486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4" descr="img045"/>
          <p:cNvPicPr/>
          <p:nvPr/>
        </p:nvPicPr>
        <p:blipFill>
          <a:blip r:embed="rId11"/>
          <a:stretch/>
        </p:blipFill>
        <p:spPr>
          <a:xfrm>
            <a:off x="1219320" y="491796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img045"/>
          <p:cNvPicPr/>
          <p:nvPr/>
        </p:nvPicPr>
        <p:blipFill>
          <a:blip r:embed="rId12"/>
          <a:stretch/>
        </p:blipFill>
        <p:spPr>
          <a:xfrm>
            <a:off x="2938320" y="490860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6" descr="img045"/>
          <p:cNvPicPr/>
          <p:nvPr/>
        </p:nvPicPr>
        <p:blipFill>
          <a:blip r:embed="rId13"/>
          <a:stretch/>
        </p:blipFill>
        <p:spPr>
          <a:xfrm>
            <a:off x="4610160" y="489096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img128"/>
          <p:cNvPicPr/>
          <p:nvPr/>
        </p:nvPicPr>
        <p:blipFill>
          <a:blip r:embed="rId14"/>
          <a:stretch/>
        </p:blipFill>
        <p:spPr>
          <a:xfrm>
            <a:off x="1847880" y="501336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8" descr="img128"/>
          <p:cNvPicPr/>
          <p:nvPr/>
        </p:nvPicPr>
        <p:blipFill>
          <a:blip r:embed="rId15"/>
          <a:stretch/>
        </p:blipFill>
        <p:spPr>
          <a:xfrm>
            <a:off x="3522600" y="500868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9" descr="img128"/>
          <p:cNvPicPr/>
          <p:nvPr/>
        </p:nvPicPr>
        <p:blipFill>
          <a:blip r:embed="rId16"/>
          <a:stretch/>
        </p:blipFill>
        <p:spPr>
          <a:xfrm>
            <a:off x="5181480" y="495792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0" descr="img100"/>
          <p:cNvPicPr/>
          <p:nvPr/>
        </p:nvPicPr>
        <p:blipFill>
          <a:blip r:embed="rId17"/>
          <a:stretch/>
        </p:blipFill>
        <p:spPr>
          <a:xfrm>
            <a:off x="4040280" y="4954680"/>
            <a:ext cx="447480" cy="4665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1" descr="img100"/>
          <p:cNvPicPr/>
          <p:nvPr/>
        </p:nvPicPr>
        <p:blipFill>
          <a:blip r:embed="rId18"/>
          <a:stretch/>
        </p:blipFill>
        <p:spPr>
          <a:xfrm>
            <a:off x="2395440" y="4994280"/>
            <a:ext cx="447840" cy="4665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2" descr="img101"/>
          <p:cNvPicPr/>
          <p:nvPr/>
        </p:nvPicPr>
        <p:blipFill>
          <a:blip r:embed="rId19"/>
          <a:stretch/>
        </p:blipFill>
        <p:spPr>
          <a:xfrm>
            <a:off x="6211800" y="4935600"/>
            <a:ext cx="714600" cy="485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3" descr="img171"/>
          <p:cNvPicPr/>
          <p:nvPr/>
        </p:nvPicPr>
        <p:blipFill>
          <a:blip r:embed="rId20"/>
          <a:stretch/>
        </p:blipFill>
        <p:spPr>
          <a:xfrm>
            <a:off x="7648560" y="4570560"/>
            <a:ext cx="1028880" cy="13809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4"/>
          <p:cNvSpPr/>
          <p:nvPr/>
        </p:nvSpPr>
        <p:spPr>
          <a:xfrm>
            <a:off x="1022400" y="3987720"/>
            <a:ext cx="76150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Са               са                са                             оса                     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042920" y="5877000"/>
            <a:ext cx="77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Arial"/>
              </a:rPr>
              <a:t>Сы               сы               сы                          бус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IMG_6516"/>
          <p:cNvPicPr/>
          <p:nvPr/>
        </p:nvPicPr>
        <p:blipFill>
          <a:blip r:embed="rId1"/>
          <a:stretch/>
        </p:blipFill>
        <p:spPr>
          <a:xfrm>
            <a:off x="1116000" y="404640"/>
            <a:ext cx="5111640" cy="345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4" name="Рисунок 2" descr="C:\Users\User\Desktop\фото к витит. карточке\IMG_6495.JPG"/>
          <p:cNvPicPr/>
          <p:nvPr/>
        </p:nvPicPr>
        <p:blipFill>
          <a:blip r:embed="rId2"/>
          <a:stretch/>
        </p:blipFill>
        <p:spPr>
          <a:xfrm>
            <a:off x="6334200" y="3760920"/>
            <a:ext cx="2376360" cy="2746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5" name="Picture 21" descr="solnishko копия (копия)"/>
          <p:cNvPicPr/>
          <p:nvPr/>
        </p:nvPicPr>
        <p:blipFill>
          <a:blip r:embed="rId3"/>
          <a:stretch/>
        </p:blipFill>
        <p:spPr>
          <a:xfrm>
            <a:off x="6334200" y="620640"/>
            <a:ext cx="2354040" cy="2714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258920" y="4149720"/>
            <a:ext cx="4681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5f3a"/>
                </a:solidFill>
                <a:latin typeface="Times New Roman"/>
              </a:rPr>
              <a:t>Развитие у детей рефлексии.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бота с авторским пособием «Озеро настроения»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воспитанники могут оценить своё отношение к занятию, результат своей работы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C:\Users\User\Desktop\фото к витит. карточке\IMG_6615.JPG"/>
          <p:cNvPicPr/>
          <p:nvPr/>
        </p:nvPicPr>
        <p:blipFill>
          <a:blip r:embed="rId1"/>
          <a:stretch/>
        </p:blipFill>
        <p:spPr>
          <a:xfrm>
            <a:off x="1258920" y="1484280"/>
            <a:ext cx="7397640" cy="5004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78" name="Прямоугольник 3"/>
          <p:cNvSpPr/>
          <p:nvPr/>
        </p:nvSpPr>
        <p:spPr>
          <a:xfrm>
            <a:off x="900000" y="189000"/>
            <a:ext cx="784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Работа с логопедическим  пособием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d3319"/>
                </a:solidFill>
                <a:latin typeface="Times New Roman"/>
              </a:rPr>
              <a:t>для развития звукового анализа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«Домики для звуков»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826920" y="4221000"/>
            <a:ext cx="2881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900000" y="203508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учитель –логопед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высшей квалификационной категори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Муниципального бюджетного дошкольного образовательного учреждения «Детский сад №5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компенсирующего вида»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города Пикалев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Бокситогорского район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Ленинградской област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6" name="Объект 3" descr="img211"/>
          <p:cNvPicPr/>
          <p:nvPr/>
        </p:nvPicPr>
        <p:blipFill>
          <a:blip r:embed="rId1"/>
          <a:stretch/>
        </p:blipFill>
        <p:spPr>
          <a:xfrm>
            <a:off x="5681520" y="2000160"/>
            <a:ext cx="3094200" cy="4114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7" name="Прямоугольник 2"/>
          <p:cNvSpPr/>
          <p:nvPr/>
        </p:nvSpPr>
        <p:spPr>
          <a:xfrm>
            <a:off x="1174680" y="692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34d26"/>
                </a:solidFill>
                <a:latin typeface="Times New Roman"/>
              </a:rPr>
              <a:t>Сумерина Лариса Юрьевна</a:t>
            </a:r>
            <a:r>
              <a:rPr b="0" lang="ru-RU" sz="4000" spc="-1" strike="noStrike">
                <a:solidFill>
                  <a:srgbClr val="734d2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7"/>
          <p:cNvSpPr/>
          <p:nvPr/>
        </p:nvSpPr>
        <p:spPr>
          <a:xfrm>
            <a:off x="971640" y="404640"/>
            <a:ext cx="7848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В результате планомерной работы в соответствии с принципами и подходами, определёнными федеральными государственными требованиями в условиях коррекционно-развивающего пространства мы добиваемся создания благоприятных условий для успешной коррекции и развития каждого ребёнк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Интересные формы взаимодействия с семьями воспитанников позволяют вовлекать родителей в педагогическую деятельность, делать коррекционно-образовательный процесс наиболее востребованным, понятным, интересным и привлекательным для современных родителей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34d26"/>
                </a:solidFill>
                <a:latin typeface="Times New Roman"/>
              </a:rPr>
              <a:t>Метод мнемотехники  и моделирования можно и нужно использовать в системе  коррекционной работы с детьми дошкольного возраста с ОНР, как эффективное средство коррекции звукопроизнош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читывая положительные результаты моей деятельности предполагаю в перспективе создание учебно – методического комплекса для педагогов дошкольных учреждений по коррекции звукопроизношения у детей дошкольного возраста с тяжёлыми речевыми нарушениями с использованием метода мнемотехник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0080" y="307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34d26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Picture 21" descr="solnishko копия (копия)"/>
          <p:cNvPicPr/>
          <p:nvPr/>
        </p:nvPicPr>
        <p:blipFill>
          <a:blip r:embed="rId1"/>
          <a:stretch/>
        </p:blipFill>
        <p:spPr>
          <a:xfrm>
            <a:off x="5910120" y="3814920"/>
            <a:ext cx="2671920" cy="240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olnishko копия"/>
          <p:cNvPicPr/>
          <p:nvPr/>
        </p:nvPicPr>
        <p:blipFill>
          <a:blip r:embed="rId2"/>
          <a:stretch/>
        </p:blipFill>
        <p:spPr>
          <a:xfrm>
            <a:off x="1187280" y="404640"/>
            <a:ext cx="2953080" cy="26575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900000" y="6093000"/>
            <a:ext cx="784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  <a:ea typeface="Arial"/>
              </a:rPr>
              <a:t>Все представленные фотоматериалы использованы с согласия родителе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оё педагогическое кредо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971640" y="1557360"/>
            <a:ext cx="3671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85840" indent="-285840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971640" y="170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«От милосердия – к педагогике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от коррекции – к коммуникации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от традиций – к инновациям!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Рисунок 1" descr="C:\Users\User\Desktop\фото к витит. карточке\IMG_6531.JPG"/>
          <p:cNvPicPr/>
          <p:nvPr/>
        </p:nvPicPr>
        <p:blipFill>
          <a:blip r:embed="rId1"/>
          <a:stretch/>
        </p:blipFill>
        <p:spPr>
          <a:xfrm>
            <a:off x="2195640" y="3137040"/>
            <a:ext cx="5400720" cy="344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1"/>
          <p:cNvSpPr/>
          <p:nvPr/>
        </p:nvSpPr>
        <p:spPr>
          <a:xfrm>
            <a:off x="971640" y="333360"/>
            <a:ext cx="7777080" cy="5759640"/>
          </a:xfrm>
          <a:prstGeom prst="roundRect">
            <a:avLst>
              <a:gd name="adj" fmla="val 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словия педагогической деятельност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ои воспитанники – это дошкольники, посещающие группу компенсирующей направленности для детей с тяжелыми нарушениями речи, имеющие множественные сопутствующие диагнозы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авильная организация обучения детей с ОНР – очень сложное дело. Поэтому наряду с общепринятыми приемами и принципами вполне обосновано использование оригинальных, творческих методик, эффективность которых очевидн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Основной целью коррекционной работы при нарушении произношения звуков является формирование умений и навыков правильного воспроизведения звуков в речевом потоке. Поэтому необходим экономный и эффективный способ обучения ребенка правильному произношению звуков. Одним из таких способов является метод</a:t>
            </a: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мнемотехники и метод наглядного моделирован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118728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”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4d26"/>
                </a:solidFill>
                <a:latin typeface="Times New Roman"/>
              </a:rPr>
              <a:t>К.Д.Ушинский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258920" y="2421000"/>
            <a:ext cx="727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 — система различных приёмов, облегчающих запоминание и увеличивающих объём памяти путём образования дополнительных ассоциаций, организация учебного процесса в виде игры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971640" y="3716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900000" y="26028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спользовани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вторских логопедических пособий позволяет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активизировать интерес детей к занятиям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символическая аналогия облегчает и ускоряет процесс запоминания и усвоения материала детьм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применение графической аналогии учит детей видеть главное, помогает систематизировать полученные зна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26"/>
                </a:solidFill>
                <a:latin typeface="Times New Roman"/>
              </a:rPr>
              <a:t>при формировании правильного произношения развивается память, мышление, воображение, внимание, так как  именно они тесно связаны с полноценным развитием реч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73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971640" y="260280"/>
            <a:ext cx="7921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734d26"/>
                </a:solidFill>
                <a:latin typeface="Times New Roman"/>
              </a:rPr>
              <a:t>Использование авторской логопедической игрушки (разговорчивой обезьянки Фимы) позволяет ребёнку четко представить работу артикуляционного аппарата и быстро выучить комплекс артикуляционной гимнастик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Рисунок 1" descr="C:\Users\User\Desktop\фото к витит. карточке\IMG_6522.JPG"/>
          <p:cNvPicPr/>
          <p:nvPr/>
        </p:nvPicPr>
        <p:blipFill>
          <a:blip r:embed="rId1"/>
          <a:stretch/>
        </p:blipFill>
        <p:spPr>
          <a:xfrm>
            <a:off x="1731960" y="1557360"/>
            <a:ext cx="6462720" cy="4111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9" name="Прямоугольник 3"/>
          <p:cNvSpPr/>
          <p:nvPr/>
        </p:nvSpPr>
        <p:spPr>
          <a:xfrm>
            <a:off x="1219320" y="5732640"/>
            <a:ext cx="7488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  <a:ea typeface="Arial"/>
              </a:rPr>
              <a:t>Эти моменты создают на занятиях положительный эмоциональный настрой, что способствует закреплению материал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Изображение 013"/>
          <p:cNvPicPr/>
          <p:nvPr/>
        </p:nvPicPr>
        <p:blipFill>
          <a:blip r:embed="rId1"/>
          <a:stretch/>
        </p:blipFill>
        <p:spPr>
          <a:xfrm>
            <a:off x="971640" y="260280"/>
            <a:ext cx="4937040" cy="3170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1" name="Picture 3" descr="E:\фото к витит. карточке\IMG_6527.JPG"/>
          <p:cNvPicPr/>
          <p:nvPr/>
        </p:nvPicPr>
        <p:blipFill>
          <a:blip r:embed="rId2"/>
          <a:stretch/>
        </p:blipFill>
        <p:spPr>
          <a:xfrm>
            <a:off x="6012000" y="2349360"/>
            <a:ext cx="2808000" cy="421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Рисунок 3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360072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258920" y="549360"/>
            <a:ext cx="7345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34d26"/>
                </a:solidFill>
                <a:latin typeface="Times New Roman"/>
              </a:rPr>
              <a:t>Формирование первичных произносительных умений и навы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авильное артикулирование звука, уточненное при помо­щи наглядной модели, улучшает качество приема и воспроиз­ведения звуков. Слушание звука и «видение» правильной артикуляции с помощью моделей — начало активного развития у детей собственных произносительных навыков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734d26"/>
                </a:solidFill>
                <a:latin typeface="Times New Roman"/>
              </a:rPr>
              <a:t>Применение моделей при постановке звуков, независимо от вида речевых нарушений, помогает ребенку осмыслить процесс постановки звука и быть не просто пассивным исполнителем воли взрослого, а активным участником. Модель служит наглядной опорой, постоянно «напоминая» артикуляцию не произносимого звука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21:02:34Z</dcterms:created>
  <dc:creator>N06</dc:creator>
  <dc:description/>
  <dc:language>en-US</dc:language>
  <cp:lastModifiedBy>User</cp:lastModifiedBy>
  <dcterms:modified xsi:type="dcterms:W3CDTF">2015-10-15T08:00:04Z</dcterms:modified>
  <cp:revision>189</cp:revision>
  <dc:subject/>
  <dc:title>«ОДАРЕННОСТЬ:ПОНЯТИЕ,ПРИЗНАКИ, ВИДЫ, МЕТОДЫ ИССЛЕДОВАНИЯ»</dc:title>
</cp:coreProperties>
</file>