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11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2EF-8BCC-41B0-94C5-8FC3F69E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6898-E6E3-49FB-B2A5-B310BFD9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F1C-FB9F-4FFA-9B78-9512A408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991-B61D-4AAD-9354-461158CF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0DA3-F76D-47AC-B5FF-99FC8620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28A7-ADAE-4C35-BF22-3CBEC3AD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30C7-FC40-428D-BEFF-5A5F6BD1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0BB6-FF34-4ACA-B677-53F693B9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3D4D-08BD-4693-94F7-73F1A7F0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8C35-AB9B-4A23-9B36-99B2EA1D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4C9C-AABC-4A6E-8DE3-6D69F7A1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E59D-281F-4733-B8C2-1567BCD1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5123-36D9-42CA-9279-E3D95BAA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3FF8-4163-4F92-BA4A-EE4FFAD2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E600-FDA6-4ED4-A2AD-8F976C39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1F68-D786-4803-B572-4CB22680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15EB-3B4A-4EED-B981-52FC7326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1F79-ECD7-46AC-A9B0-0198C6EF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895-D96D-44E0-9C7C-6236E2B7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9916-896C-4881-A580-E598A7A8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B33-7971-4CC8-ADB7-297A03CF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E53-A34B-4C8A-A768-15EDB154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375-695D-44E8-B3A8-20DA7463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395-336B-4DED-9EAD-E7D89607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6810-C685-436E-9B53-32EFDDF0B8D8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4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5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51" name="Picture 4" descr="A:\minispir.GIF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1336-3DBB-448D-9368-8E9B80B45C0F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0.jpeg"/><Relationship Id="rId12" Type="http://schemas.openxmlformats.org/officeDocument/2006/relationships/image" Target="../media/image30.jpeg"/><Relationship Id="rId13" Type="http://schemas.openxmlformats.org/officeDocument/2006/relationships/image" Target="../media/image30.jpeg"/><Relationship Id="rId14" Type="http://schemas.openxmlformats.org/officeDocument/2006/relationships/image" Target="../media/image35.jpeg"/><Relationship Id="rId15" Type="http://schemas.openxmlformats.org/officeDocument/2006/relationships/image" Target="../media/image35.jpeg"/><Relationship Id="rId16" Type="http://schemas.openxmlformats.org/officeDocument/2006/relationships/image" Target="../media/image35.jpeg"/><Relationship Id="rId17" Type="http://schemas.openxmlformats.org/officeDocument/2006/relationships/image" Target="../media/image32.jpeg"/><Relationship Id="rId18" Type="http://schemas.openxmlformats.org/officeDocument/2006/relationships/image" Target="../media/image32.jpeg"/><Relationship Id="rId19" Type="http://schemas.openxmlformats.org/officeDocument/2006/relationships/image" Target="../media/image34.jpeg"/><Relationship Id="rId20" Type="http://schemas.openxmlformats.org/officeDocument/2006/relationships/image" Target="../media/image36.jpeg"/><Relationship Id="rId2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2997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Логопедические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игралки-обучалки</a:t>
            </a:r>
            <a:br>
              <a:rPr sz="4400"/>
            </a:br>
            <a:r>
              <a:rPr b="0" lang="ru-RU" sz="2400" spc="-1" strike="noStrike">
                <a:solidFill>
                  <a:srgbClr val="734d26"/>
                </a:solidFill>
                <a:latin typeface="Times New Roman"/>
              </a:rPr>
              <a:t>( опыт работы по коррекции звукопроизношения у дошкольников с ОНР (общим недоразвитием речи) с использованием авторских логопедических пособий)</a:t>
            </a:r>
            <a:br>
              <a:rPr sz="2400"/>
            </a:b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4" name="Picture 22" descr="solnishko копия"/>
          <p:cNvPicPr/>
          <p:nvPr/>
        </p:nvPicPr>
        <p:blipFill>
          <a:blip r:embed="rId1"/>
          <a:stretch/>
        </p:blipFill>
        <p:spPr>
          <a:xfrm>
            <a:off x="971640" y="260280"/>
            <a:ext cx="3456000" cy="3110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C:\Users\User\Desktop\фото к витит. карточке\IMG_6536.JPG"/>
          <p:cNvPicPr/>
          <p:nvPr/>
        </p:nvPicPr>
        <p:blipFill>
          <a:blip r:embed="rId1"/>
          <a:stretch/>
        </p:blipFill>
        <p:spPr>
          <a:xfrm>
            <a:off x="6510240" y="3357720"/>
            <a:ext cx="2297160" cy="3213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5" name="Рисунок 1" descr="C:\Users\User\Desktop\фото к витит. карточке\IMG_6544.JPG"/>
          <p:cNvPicPr/>
          <p:nvPr/>
        </p:nvPicPr>
        <p:blipFill>
          <a:blip r:embed="rId2"/>
          <a:stretch/>
        </p:blipFill>
        <p:spPr>
          <a:xfrm>
            <a:off x="919080" y="333360"/>
            <a:ext cx="6110280" cy="42591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16" name="Прямоугольник 1"/>
          <p:cNvSpPr/>
          <p:nvPr/>
        </p:nvSpPr>
        <p:spPr>
          <a:xfrm>
            <a:off x="900000" y="4869000"/>
            <a:ext cx="56102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34d26"/>
                </a:solidFill>
                <a:latin typeface="Times New Roman"/>
              </a:rPr>
              <a:t>Использование авторского логопедического пособ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«Разговорчивые язычки» </a:t>
            </a:r>
            <a:r>
              <a:rPr b="1" i="1" lang="ru-RU" sz="1800" spc="-1" strike="noStrike">
                <a:solidFill>
                  <a:srgbClr val="734d26"/>
                </a:solidFill>
                <a:latin typeface="Times New Roman"/>
              </a:rPr>
              <a:t>на занятии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34d26"/>
                </a:solidFill>
                <a:latin typeface="Times New Roman"/>
              </a:rPr>
              <a:t>по автоматизации звуков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34d26"/>
                </a:solidFill>
                <a:latin typeface="Times New Roman"/>
              </a:rPr>
              <a:t>Цель: уточнение положения органов артикуляции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755640" y="404640"/>
            <a:ext cx="813744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Использование авторских мнемотаблиц звуков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на занятиях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844560" y="1919160"/>
            <a:ext cx="2809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Мнемотаблицы  служат наглядной опорой, позволяющей быстро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и правильно запомнить артикуляцию звука.</a:t>
            </a:r>
            <a:br>
              <a:rPr sz="1800"/>
            </a:b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9" name="Рисунок 2" descr="C:\Users\User\Desktop\фото к витит. карточке\_DSC6291.JPG"/>
          <p:cNvPicPr/>
          <p:nvPr/>
        </p:nvPicPr>
        <p:blipFill>
          <a:blip r:embed="rId1"/>
          <a:stretch/>
        </p:blipFill>
        <p:spPr>
          <a:xfrm>
            <a:off x="3675240" y="2044800"/>
            <a:ext cx="5073480" cy="3328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0" name="Прямоугольник 5"/>
          <p:cNvSpPr/>
          <p:nvPr/>
        </p:nvSpPr>
        <p:spPr>
          <a:xfrm>
            <a:off x="900000" y="1052640"/>
            <a:ext cx="784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Цель: формируют у детей представление о положении органов артикуляционного аппарата в момент произнесения звука и соответствующей его характеристике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900000" y="5373720"/>
            <a:ext cx="7920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Для постановки основных звуков к каждому  занятию мною разработаны мнемотаблицы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Ниже представлена мнемотаблица для артикуляции звука «ш»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img043"/>
          <p:cNvPicPr/>
          <p:nvPr/>
        </p:nvPicPr>
        <p:blipFill>
          <a:blip r:embed="rId1"/>
          <a:stretch/>
        </p:blipFill>
        <p:spPr>
          <a:xfrm>
            <a:off x="4122720" y="333360"/>
            <a:ext cx="128448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971640" y="1628640"/>
          <a:ext cx="7777080" cy="4896000"/>
        </p:xfrm>
        <a:graphic>
          <a:graphicData uri="http://schemas.openxmlformats.org/drawingml/2006/table">
            <a:tbl>
              <a:tblPr/>
              <a:tblGrid>
                <a:gridCol w="1439640"/>
                <a:gridCol w="1584360"/>
                <a:gridCol w="1656000"/>
                <a:gridCol w="1512720"/>
                <a:gridCol w="1584360"/>
              </a:tblGrid>
              <a:tr h="156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</a:tr>
              <a:tr h="1710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</a:tr>
              <a:tr h="1620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Рисунок 22" descr="img155"/>
          <p:cNvPicPr/>
          <p:nvPr/>
        </p:nvPicPr>
        <p:blipFill>
          <a:blip r:embed="rId2"/>
          <a:stretch/>
        </p:blipFill>
        <p:spPr>
          <a:xfrm>
            <a:off x="1042920" y="2133720"/>
            <a:ext cx="1257480" cy="5713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3" descr="img157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2627280" y="2048040"/>
            <a:ext cx="1114560" cy="7426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4" descr="img156"/>
          <p:cNvPicPr/>
          <p:nvPr/>
        </p:nvPicPr>
        <p:blipFill>
          <a:blip r:embed="rId4"/>
          <a:stretch/>
        </p:blipFill>
        <p:spPr>
          <a:xfrm>
            <a:off x="4356000" y="2066760"/>
            <a:ext cx="876240" cy="6858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25" descr="img027"/>
          <p:cNvPicPr/>
          <p:nvPr/>
        </p:nvPicPr>
        <p:blipFill>
          <a:blip r:embed="rId5"/>
          <a:stretch/>
        </p:blipFill>
        <p:spPr>
          <a:xfrm>
            <a:off x="5867280" y="1900080"/>
            <a:ext cx="990720" cy="10191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6" descr="img028"/>
          <p:cNvPicPr/>
          <p:nvPr/>
        </p:nvPicPr>
        <p:blipFill>
          <a:blip r:embed="rId6"/>
          <a:stretch/>
        </p:blipFill>
        <p:spPr>
          <a:xfrm>
            <a:off x="7451640" y="1947960"/>
            <a:ext cx="971640" cy="9237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27" descr="img037"/>
          <p:cNvPicPr/>
          <p:nvPr/>
        </p:nvPicPr>
        <p:blipFill>
          <a:blip r:embed="rId7"/>
          <a:stretch/>
        </p:blipFill>
        <p:spPr>
          <a:xfrm>
            <a:off x="1324080" y="3429000"/>
            <a:ext cx="695160" cy="12477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28" descr="img037"/>
          <p:cNvPicPr/>
          <p:nvPr/>
        </p:nvPicPr>
        <p:blipFill>
          <a:blip r:embed="rId8"/>
          <a:stretch/>
        </p:blipFill>
        <p:spPr>
          <a:xfrm>
            <a:off x="4371840" y="3429000"/>
            <a:ext cx="695520" cy="12477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9" descr="img037"/>
          <p:cNvPicPr/>
          <p:nvPr/>
        </p:nvPicPr>
        <p:blipFill>
          <a:blip r:embed="rId9"/>
          <a:stretch/>
        </p:blipFill>
        <p:spPr>
          <a:xfrm>
            <a:off x="6014880" y="3429000"/>
            <a:ext cx="695520" cy="12477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0" descr="img037"/>
          <p:cNvPicPr/>
          <p:nvPr/>
        </p:nvPicPr>
        <p:blipFill>
          <a:blip r:embed="rId10"/>
          <a:stretch/>
        </p:blipFill>
        <p:spPr>
          <a:xfrm>
            <a:off x="7589880" y="3429000"/>
            <a:ext cx="695160" cy="12477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32" descr="img037"/>
          <p:cNvPicPr/>
          <p:nvPr/>
        </p:nvPicPr>
        <p:blipFill>
          <a:blip r:embed="rId11"/>
          <a:stretch/>
        </p:blipFill>
        <p:spPr>
          <a:xfrm>
            <a:off x="2836800" y="3429000"/>
            <a:ext cx="695520" cy="12477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3" descr="раскраски по темам игрушки057"/>
          <p:cNvPicPr/>
          <p:nvPr/>
        </p:nvPicPr>
        <p:blipFill>
          <a:blip r:embed="rId12">
            <a:lum contrast="20000"/>
          </a:blip>
          <a:stretch/>
        </p:blipFill>
        <p:spPr>
          <a:xfrm>
            <a:off x="1257480" y="5157720"/>
            <a:ext cx="828360" cy="10987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34" descr="раскраски по темам игрушки061"/>
          <p:cNvPicPr/>
          <p:nvPr/>
        </p:nvPicPr>
        <p:blipFill>
          <a:blip r:embed="rId13">
            <a:lum contrast="20000"/>
          </a:blip>
          <a:stretch/>
        </p:blipFill>
        <p:spPr>
          <a:xfrm>
            <a:off x="2681280" y="5464080"/>
            <a:ext cx="922320" cy="486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35" descr="раскраски по темам игрушки063"/>
          <p:cNvPicPr/>
          <p:nvPr/>
        </p:nvPicPr>
        <p:blipFill>
          <a:blip r:embed="rId14">
            <a:lum contrast="20000"/>
          </a:blip>
          <a:stretch/>
        </p:blipFill>
        <p:spPr>
          <a:xfrm>
            <a:off x="4317840" y="5121360"/>
            <a:ext cx="893880" cy="11350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6" descr="раскраски по темам игрушки066"/>
          <p:cNvPicPr/>
          <p:nvPr/>
        </p:nvPicPr>
        <p:blipFill>
          <a:blip r:embed="rId15">
            <a:lum contrast="20000"/>
          </a:blip>
          <a:stretch/>
        </p:blipFill>
        <p:spPr>
          <a:xfrm>
            <a:off x="5952960" y="5529240"/>
            <a:ext cx="905040" cy="4906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37" descr="img035"/>
          <p:cNvPicPr/>
          <p:nvPr/>
        </p:nvPicPr>
        <p:blipFill>
          <a:blip r:embed="rId16">
            <a:lum contrast="60000"/>
          </a:blip>
          <a:stretch/>
        </p:blipFill>
        <p:spPr>
          <a:xfrm>
            <a:off x="7508880" y="5184720"/>
            <a:ext cx="914400" cy="1181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900000" y="620640"/>
            <a:ext cx="79200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Закрепление звука в слогах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точняем  положение артикуляционных органов при произношении гласных звуков и каждый звук изображается с помощью ротика (артикулемы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Постепенно все знания о гласных звуках объединяются в  мнемосхему, с опорой на которую формируется понятие о гласных звуках. С детьми заучивается стихотворение о гласных звуках, а запомнить его  помогает авторская мнемосхема. Дети с помощью этой схемы очень быстро узнают и запоминают гласные звуки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900000" y="549360"/>
            <a:ext cx="79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«Гласные звуки петь мы рады, нет во рту для них преграды. А, О, У, И,Э,Ы – их запомним мы»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1" name="Рисунок 2" descr="img153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703680" y="1539720"/>
            <a:ext cx="1942920" cy="17272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3" descr="img154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1922400" y="3284640"/>
            <a:ext cx="5505480" cy="14176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img127"/>
          <p:cNvPicPr/>
          <p:nvPr/>
        </p:nvPicPr>
        <p:blipFill>
          <a:blip r:embed="rId3"/>
          <a:stretch/>
        </p:blipFill>
        <p:spPr>
          <a:xfrm>
            <a:off x="1616040" y="4702320"/>
            <a:ext cx="650556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1332000" y="404640"/>
            <a:ext cx="7056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  <a:ea typeface="Arial"/>
              </a:rPr>
              <a:t>	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  <a:ea typeface="Arial"/>
              </a:rPr>
              <a:t>Работа над гласными звуками идёт параллельно с работой над постановкой нарушенного согласного звук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  <a:ea typeface="Arial"/>
              </a:rPr>
              <a:t>	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  <a:ea typeface="Arial"/>
              </a:rPr>
              <a:t>Это необходимо для соединения неречевых символов гласных звуков и согласных.  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5503680" cy="3671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46" name="Прямоугольник 2"/>
          <p:cNvSpPr/>
          <p:nvPr/>
        </p:nvSpPr>
        <p:spPr>
          <a:xfrm>
            <a:off x="900000" y="55339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  <a:ea typeface="Arial"/>
              </a:rPr>
              <a:t>Для автоматизации звука в слогах в самостоятельной речи использую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  <a:ea typeface="Arial"/>
              </a:rPr>
              <a:t>моё авторское  пособие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«Волшебный сад»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1116000" y="476280"/>
            <a:ext cx="755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  <a:ea typeface="Arial"/>
              </a:rPr>
              <a:t>	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  <a:ea typeface="Arial"/>
              </a:rPr>
              <a:t>Далее в логопедической работе идёт закрепление звука в словах и предложениях, отработка лексико-грамматических категорий. Для этого используется моё авторское пособие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«Чудесная лестница»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8" name="Рисунок 1" descr="C:\Users\User\Desktop\фото к витит. карточке\IMG_6556.JPG"/>
          <p:cNvPicPr/>
          <p:nvPr/>
        </p:nvPicPr>
        <p:blipFill>
          <a:blip r:embed="rId1"/>
          <a:stretch/>
        </p:blipFill>
        <p:spPr>
          <a:xfrm>
            <a:off x="5065560" y="1341360"/>
            <a:ext cx="3695760" cy="5113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49" name="Прямоугольник 3"/>
          <p:cNvSpPr/>
          <p:nvPr/>
        </p:nvSpPr>
        <p:spPr>
          <a:xfrm>
            <a:off x="1116000" y="2349360"/>
            <a:ext cx="3672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  <a:ea typeface="Arial"/>
              </a:rPr>
              <a:t>Мобильность данного пособия и разнообразие картинного материала, игр, новые сверх задачи позволяют поддерживать интерес ребёнка к занятиям на высоком уровне, проводить автоматизацию нового звука в самостоятельной речи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971640" y="549360"/>
            <a:ext cx="77770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Введение нового звука в активное пользование в слогах и словах очень эфффективно осуществлять используя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логопедические чистоговорки. </a:t>
            </a: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Все символы и схемы должны быть хорошо знакомы детям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На начальном этапе работы я использую неречевые символы звуков и опорные предметные картинки. Сначала рассматривается схема чистоговорки, уточняется её содержание, количество повторений. Я даю детям образец, а возможные варианты концовки  мы обсуждаем совместно с ребенком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1" name="Рисунок 2" descr="img045"/>
          <p:cNvPicPr/>
          <p:nvPr/>
        </p:nvPicPr>
        <p:blipFill>
          <a:blip r:embed="rId1"/>
          <a:stretch/>
        </p:blipFill>
        <p:spPr>
          <a:xfrm>
            <a:off x="1227240" y="335124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3" descr="img045"/>
          <p:cNvPicPr/>
          <p:nvPr/>
        </p:nvPicPr>
        <p:blipFill>
          <a:blip r:embed="rId2"/>
          <a:stretch/>
        </p:blipFill>
        <p:spPr>
          <a:xfrm>
            <a:off x="2917800" y="335124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4" descr="img045"/>
          <p:cNvPicPr/>
          <p:nvPr/>
        </p:nvPicPr>
        <p:blipFill>
          <a:blip r:embed="rId3"/>
          <a:stretch/>
        </p:blipFill>
        <p:spPr>
          <a:xfrm>
            <a:off x="4564080" y="333864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img132"/>
          <p:cNvPicPr/>
          <p:nvPr/>
        </p:nvPicPr>
        <p:blipFill>
          <a:blip r:embed="rId4"/>
          <a:stretch/>
        </p:blipFill>
        <p:spPr>
          <a:xfrm>
            <a:off x="1847880" y="3351240"/>
            <a:ext cx="380880" cy="5810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6" descr="img132"/>
          <p:cNvPicPr/>
          <p:nvPr/>
        </p:nvPicPr>
        <p:blipFill>
          <a:blip r:embed="rId5"/>
          <a:stretch/>
        </p:blipFill>
        <p:spPr>
          <a:xfrm>
            <a:off x="3505320" y="3343320"/>
            <a:ext cx="380880" cy="5810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7" descr="img132"/>
          <p:cNvPicPr/>
          <p:nvPr/>
        </p:nvPicPr>
        <p:blipFill>
          <a:blip r:embed="rId6"/>
          <a:stretch/>
        </p:blipFill>
        <p:spPr>
          <a:xfrm>
            <a:off x="5148360" y="3306600"/>
            <a:ext cx="380880" cy="5810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9" descr="img100"/>
          <p:cNvPicPr/>
          <p:nvPr/>
        </p:nvPicPr>
        <p:blipFill>
          <a:blip r:embed="rId7"/>
          <a:stretch/>
        </p:blipFill>
        <p:spPr>
          <a:xfrm>
            <a:off x="3995640" y="3395520"/>
            <a:ext cx="447840" cy="4669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0" descr="img100"/>
          <p:cNvPicPr/>
          <p:nvPr/>
        </p:nvPicPr>
        <p:blipFill>
          <a:blip r:embed="rId8"/>
          <a:stretch/>
        </p:blipFill>
        <p:spPr>
          <a:xfrm>
            <a:off x="2340000" y="3400560"/>
            <a:ext cx="447480" cy="4665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1" descr="img169"/>
          <p:cNvPicPr/>
          <p:nvPr/>
        </p:nvPicPr>
        <p:blipFill>
          <a:blip r:embed="rId9"/>
          <a:stretch/>
        </p:blipFill>
        <p:spPr>
          <a:xfrm>
            <a:off x="7648560" y="3035160"/>
            <a:ext cx="990720" cy="11239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3" descr="img101"/>
          <p:cNvPicPr/>
          <p:nvPr/>
        </p:nvPicPr>
        <p:blipFill>
          <a:blip r:embed="rId10"/>
          <a:stretch/>
        </p:blipFill>
        <p:spPr>
          <a:xfrm>
            <a:off x="6191280" y="3333600"/>
            <a:ext cx="714240" cy="4860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4" descr="img045"/>
          <p:cNvPicPr/>
          <p:nvPr/>
        </p:nvPicPr>
        <p:blipFill>
          <a:blip r:embed="rId11"/>
          <a:stretch/>
        </p:blipFill>
        <p:spPr>
          <a:xfrm>
            <a:off x="1219320" y="491796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5" descr="img045"/>
          <p:cNvPicPr/>
          <p:nvPr/>
        </p:nvPicPr>
        <p:blipFill>
          <a:blip r:embed="rId12"/>
          <a:stretch/>
        </p:blipFill>
        <p:spPr>
          <a:xfrm>
            <a:off x="2938320" y="490860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6" descr="img045"/>
          <p:cNvPicPr/>
          <p:nvPr/>
        </p:nvPicPr>
        <p:blipFill>
          <a:blip r:embed="rId13"/>
          <a:stretch/>
        </p:blipFill>
        <p:spPr>
          <a:xfrm>
            <a:off x="4610160" y="489096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7" descr="img128"/>
          <p:cNvPicPr/>
          <p:nvPr/>
        </p:nvPicPr>
        <p:blipFill>
          <a:blip r:embed="rId14"/>
          <a:stretch/>
        </p:blipFill>
        <p:spPr>
          <a:xfrm>
            <a:off x="1847880" y="5013360"/>
            <a:ext cx="514440" cy="3808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8" descr="img128"/>
          <p:cNvPicPr/>
          <p:nvPr/>
        </p:nvPicPr>
        <p:blipFill>
          <a:blip r:embed="rId15"/>
          <a:stretch/>
        </p:blipFill>
        <p:spPr>
          <a:xfrm>
            <a:off x="3522600" y="5008680"/>
            <a:ext cx="514440" cy="3808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9" descr="img128"/>
          <p:cNvPicPr/>
          <p:nvPr/>
        </p:nvPicPr>
        <p:blipFill>
          <a:blip r:embed="rId16"/>
          <a:stretch/>
        </p:blipFill>
        <p:spPr>
          <a:xfrm>
            <a:off x="5181480" y="4957920"/>
            <a:ext cx="514440" cy="3808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20" descr="img100"/>
          <p:cNvPicPr/>
          <p:nvPr/>
        </p:nvPicPr>
        <p:blipFill>
          <a:blip r:embed="rId17"/>
          <a:stretch/>
        </p:blipFill>
        <p:spPr>
          <a:xfrm>
            <a:off x="4040280" y="4954680"/>
            <a:ext cx="447480" cy="4665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21" descr="img100"/>
          <p:cNvPicPr/>
          <p:nvPr/>
        </p:nvPicPr>
        <p:blipFill>
          <a:blip r:embed="rId18"/>
          <a:stretch/>
        </p:blipFill>
        <p:spPr>
          <a:xfrm>
            <a:off x="2395440" y="4994280"/>
            <a:ext cx="447840" cy="46656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22" descr="img101"/>
          <p:cNvPicPr/>
          <p:nvPr/>
        </p:nvPicPr>
        <p:blipFill>
          <a:blip r:embed="rId19"/>
          <a:stretch/>
        </p:blipFill>
        <p:spPr>
          <a:xfrm>
            <a:off x="6211800" y="4935600"/>
            <a:ext cx="714600" cy="4856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23" descr="img171"/>
          <p:cNvPicPr/>
          <p:nvPr/>
        </p:nvPicPr>
        <p:blipFill>
          <a:blip r:embed="rId20"/>
          <a:stretch/>
        </p:blipFill>
        <p:spPr>
          <a:xfrm>
            <a:off x="7648560" y="4570560"/>
            <a:ext cx="1028880" cy="138096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24"/>
          <p:cNvSpPr/>
          <p:nvPr/>
        </p:nvSpPr>
        <p:spPr>
          <a:xfrm>
            <a:off x="1022400" y="3987720"/>
            <a:ext cx="76150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  <a:ea typeface="Arial"/>
              </a:rPr>
              <a:t>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  <a:ea typeface="Arial"/>
              </a:rPr>
              <a:t>Са               са                са                             оса                                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042920" y="5877000"/>
            <a:ext cx="7705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  <a:ea typeface="Arial"/>
              </a:rPr>
              <a:t>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  <a:ea typeface="Arial"/>
              </a:rPr>
              <a:t>Сы               сы               сы                          бусы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1" descr="IMG_6516"/>
          <p:cNvPicPr/>
          <p:nvPr/>
        </p:nvPicPr>
        <p:blipFill>
          <a:blip r:embed="rId1"/>
          <a:stretch/>
        </p:blipFill>
        <p:spPr>
          <a:xfrm>
            <a:off x="1116000" y="404640"/>
            <a:ext cx="5111640" cy="3456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74" name="Рисунок 2" descr="C:\Users\User\Desktop\фото к витит. карточке\IMG_6495.JPG"/>
          <p:cNvPicPr/>
          <p:nvPr/>
        </p:nvPicPr>
        <p:blipFill>
          <a:blip r:embed="rId2"/>
          <a:stretch/>
        </p:blipFill>
        <p:spPr>
          <a:xfrm>
            <a:off x="6334200" y="3760920"/>
            <a:ext cx="2376360" cy="2746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75" name="Picture 21" descr="solnishko копия (копия)"/>
          <p:cNvPicPr/>
          <p:nvPr/>
        </p:nvPicPr>
        <p:blipFill>
          <a:blip r:embed="rId3"/>
          <a:stretch/>
        </p:blipFill>
        <p:spPr>
          <a:xfrm>
            <a:off x="6334200" y="620640"/>
            <a:ext cx="2354040" cy="27147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4"/>
          <p:cNvSpPr/>
          <p:nvPr/>
        </p:nvSpPr>
        <p:spPr>
          <a:xfrm>
            <a:off x="1258920" y="4149720"/>
            <a:ext cx="4681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35f3a"/>
                </a:solidFill>
                <a:latin typeface="Times New Roman"/>
              </a:rPr>
              <a:t>Развитие у детей рефлексии.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абота с авторским пособием «Озеро настроения»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(</a:t>
            </a:r>
            <a:r>
              <a:rPr b="1" i="1" lang="ru-RU" sz="1800" spc="-1" strike="noStrike">
                <a:solidFill>
                  <a:srgbClr val="734d26"/>
                </a:solidFill>
                <a:latin typeface="Times New Roman"/>
              </a:rPr>
              <a:t>воспитанники могут оценить своё отношение к занятию, результат своей работы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1" descr="C:\Users\User\Desktop\фото к витит. карточке\IMG_6615.JPG"/>
          <p:cNvPicPr/>
          <p:nvPr/>
        </p:nvPicPr>
        <p:blipFill>
          <a:blip r:embed="rId1"/>
          <a:stretch/>
        </p:blipFill>
        <p:spPr>
          <a:xfrm>
            <a:off x="1258920" y="1484280"/>
            <a:ext cx="7397640" cy="5004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78" name="Прямоугольник 3"/>
          <p:cNvSpPr/>
          <p:nvPr/>
        </p:nvSpPr>
        <p:spPr>
          <a:xfrm>
            <a:off x="900000" y="189000"/>
            <a:ext cx="784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3319"/>
                </a:solidFill>
                <a:latin typeface="Times New Roman"/>
              </a:rPr>
              <a:t>Работа с логопедическим  пособием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331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d3319"/>
                </a:solidFill>
                <a:latin typeface="Times New Roman"/>
              </a:rPr>
              <a:t>для развития звукового анализа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«Домики для звуков»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Прямоугольник 4"/>
          <p:cNvSpPr/>
          <p:nvPr/>
        </p:nvSpPr>
        <p:spPr>
          <a:xfrm>
            <a:off x="826920" y="4221000"/>
            <a:ext cx="2881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2"/>
          <p:cNvSpPr/>
          <p:nvPr/>
        </p:nvSpPr>
        <p:spPr>
          <a:xfrm>
            <a:off x="900000" y="2035080"/>
            <a:ext cx="496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учитель –логопед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высшей квалификационной категории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Муниципального бюджетного дошкольного образовательного учреждения «Детский сад №5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компенсирующего вида»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города Пикалево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Бокситогорского район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Ленинградской области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6" name="Объект 3" descr="img211"/>
          <p:cNvPicPr/>
          <p:nvPr/>
        </p:nvPicPr>
        <p:blipFill>
          <a:blip r:embed="rId1"/>
          <a:stretch/>
        </p:blipFill>
        <p:spPr>
          <a:xfrm>
            <a:off x="5681520" y="2000160"/>
            <a:ext cx="3094200" cy="4114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7" name="Прямоугольник 2"/>
          <p:cNvSpPr/>
          <p:nvPr/>
        </p:nvSpPr>
        <p:spPr>
          <a:xfrm>
            <a:off x="1174680" y="69228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34d26"/>
                </a:solidFill>
                <a:latin typeface="Times New Roman"/>
              </a:rPr>
              <a:t>Сумерина Лариса Юрьевна</a:t>
            </a:r>
            <a:r>
              <a:rPr b="0" lang="ru-RU" sz="4000" spc="-1" strike="noStrike">
                <a:solidFill>
                  <a:srgbClr val="734d2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7"/>
          <p:cNvSpPr/>
          <p:nvPr/>
        </p:nvSpPr>
        <p:spPr>
          <a:xfrm>
            <a:off x="971640" y="404640"/>
            <a:ext cx="784836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734d26"/>
                </a:solidFill>
                <a:latin typeface="Times New Roman"/>
              </a:rPr>
              <a:t>В результате планомерной работы в соответствии с принципами и подходами, определёнными федеральными государственными требованиями в условиях коррекционно-развивающего пространства мы добиваемся создания благоприятных условий для успешной коррекции и развития каждого ребёнк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4d2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734d26"/>
                </a:solidFill>
                <a:latin typeface="Times New Roman"/>
              </a:rPr>
              <a:t>Интересные формы взаимодействия с семьями воспитанников позволяют вовлекать родителей в педагогическую деятельность, делать коррекционно-образовательный процесс наиболее востребованным, понятным, интересным и привлекательным для современных родителей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4d2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734d26"/>
                </a:solidFill>
                <a:latin typeface="Times New Roman"/>
              </a:rPr>
              <a:t>Метод мнемотехники  и моделирования можно и нужно использовать в системе  коррекционной работы с детьми дошкольного возраста с ОНР, как эффективное средство коррекции звукопроизнош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читывая положительные результаты моей деятельности предполагаю в перспективе создание учебно – методического комплекса для педагогов дошкольных учреждений по коррекции звукопроизношения у детей дошкольного возраста с тяжёлыми речевыми нарушениями с использованием метода мнемотехник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0080" y="3071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34d26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82" name="Picture 21" descr="solnishko копия (копия)"/>
          <p:cNvPicPr/>
          <p:nvPr/>
        </p:nvPicPr>
        <p:blipFill>
          <a:blip r:embed="rId1"/>
          <a:stretch/>
        </p:blipFill>
        <p:spPr>
          <a:xfrm>
            <a:off x="5910120" y="3814920"/>
            <a:ext cx="2671920" cy="2403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olnishko копия"/>
          <p:cNvPicPr/>
          <p:nvPr/>
        </p:nvPicPr>
        <p:blipFill>
          <a:blip r:embed="rId2"/>
          <a:stretch/>
        </p:blipFill>
        <p:spPr>
          <a:xfrm>
            <a:off x="1187280" y="404640"/>
            <a:ext cx="2953080" cy="265752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1"/>
          <p:cNvSpPr/>
          <p:nvPr/>
        </p:nvSpPr>
        <p:spPr>
          <a:xfrm>
            <a:off x="900000" y="6093000"/>
            <a:ext cx="78487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  <a:ea typeface="Arial"/>
              </a:rPr>
              <a:t>Все представленные фотоматериалы использованы с согласия родителе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Моё педагогическое кредо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971640" y="1557360"/>
            <a:ext cx="36716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85840" indent="-285840">
              <a:buClr>
                <a:srgbClr val="402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971640" y="1700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«От милосердия – к педагогике,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от коррекции – к коммуникации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от традиций – к инновациям!»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1" name="Рисунок 1" descr="C:\Users\User\Desktop\фото к витит. карточке\IMG_6531.JPG"/>
          <p:cNvPicPr/>
          <p:nvPr/>
        </p:nvPicPr>
        <p:blipFill>
          <a:blip r:embed="rId1"/>
          <a:stretch/>
        </p:blipFill>
        <p:spPr>
          <a:xfrm>
            <a:off x="2195640" y="3137040"/>
            <a:ext cx="5400720" cy="3446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Скругленный прямоугольник 1"/>
          <p:cNvSpPr/>
          <p:nvPr/>
        </p:nvSpPr>
        <p:spPr>
          <a:xfrm>
            <a:off x="971640" y="333360"/>
            <a:ext cx="7777080" cy="5759640"/>
          </a:xfrm>
          <a:prstGeom prst="roundRect">
            <a:avLst>
              <a:gd name="adj" fmla="val 5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Условия педагогической деятельности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4d26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Мои воспитанники – это дошкольники, посещающие группу компенсирующей направленности для детей с тяжелыми нарушениями речи, имеющие множественные сопутствующие диагнозы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Правильная организация обучения детей с ОНР – очень сложное дело. Поэтому наряду с общепринятыми приемами и принципами вполне обосновано использование оригинальных, творческих методик, эффективность которых очевидн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Основной целью коррекционной работы при нарушении произношения звуков является формирование умений и навыков правильного воспроизведения звуков в речевом потоке. Поэтому необходим экономный и эффективный способ обучения ребенка правильному произношению звуков. Одним из таких способов является метод</a:t>
            </a:r>
            <a:r>
              <a:rPr b="1" lang="ru-RU" sz="1800" spc="-1" strike="noStrike">
                <a:solidFill>
                  <a:srgbClr val="734d2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мнемотехники и метод наглядного моделирования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1187280" y="404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4d26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734d26"/>
                </a:solidFill>
                <a:latin typeface="Times New Roman"/>
              </a:rPr>
              <a:t>Учите ребёнка каким-нибудь неизвестным ему пяти словам – он будет долго и напрасно мучиться, но свяжите двадцать таких слов с картинками, и он их усвоит на лету”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4d26"/>
                </a:solidFill>
                <a:latin typeface="Times New Roman"/>
              </a:rPr>
              <a:t>К.Д.Ушинский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1258920" y="2421000"/>
            <a:ext cx="727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Мнемотехника</a:t>
            </a:r>
            <a:r>
              <a:rPr b="0" lang="ru-RU" sz="2400" spc="-1" strike="noStrike">
                <a:solidFill>
                  <a:srgbClr val="734d26"/>
                </a:solidFill>
                <a:latin typeface="Times New Roman"/>
              </a:rPr>
              <a:t> — система различных приёмов, облегчающих запоминание и увеличивающих объём памяти путём образования дополнительных ассоциаций, организация учебного процесса в виде игры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Прямоугольник 1"/>
          <p:cNvSpPr/>
          <p:nvPr/>
        </p:nvSpPr>
        <p:spPr>
          <a:xfrm>
            <a:off x="971640" y="37162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"/>
          <p:cNvSpPr/>
          <p:nvPr/>
        </p:nvSpPr>
        <p:spPr>
          <a:xfrm>
            <a:off x="900000" y="260280"/>
            <a:ext cx="79930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Использование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вторских логопедических пособий позволяет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73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4d26"/>
                </a:solidFill>
                <a:latin typeface="Times New Roman"/>
              </a:rPr>
              <a:t>активизировать интерес детей к занятиям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73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4d26"/>
                </a:solidFill>
                <a:latin typeface="Times New Roman"/>
              </a:rPr>
              <a:t>символическая аналогия облегчает и ускоряет процесс запоминания и усвоения материала детьм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73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4d26"/>
                </a:solidFill>
                <a:latin typeface="Times New Roman"/>
              </a:rPr>
              <a:t>применение графической аналогии учит детей видеть главное, помогает систематизировать полученные знания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73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4d26"/>
                </a:solidFill>
                <a:latin typeface="Times New Roman"/>
              </a:rPr>
              <a:t>при формировании правильного произношения развивается память, мышление, воображение, внимание, так как  именно они тесно связаны с полноценным развитием реч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73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971640" y="260280"/>
            <a:ext cx="792144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734d26"/>
                </a:solidFill>
                <a:latin typeface="Times New Roman"/>
              </a:rPr>
              <a:t>Использование авторской логопедической игрушки (разговорчивой обезьянки Фимы) позволяет ребёнку четко представить работу артикуляционного аппарата и быстро выучить комплекс артикуляционной гимнастики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8" name="Рисунок 1" descr="C:\Users\User\Desktop\фото к витит. карточке\IMG_6522.JPG"/>
          <p:cNvPicPr/>
          <p:nvPr/>
        </p:nvPicPr>
        <p:blipFill>
          <a:blip r:embed="rId1"/>
          <a:stretch/>
        </p:blipFill>
        <p:spPr>
          <a:xfrm>
            <a:off x="1731960" y="1557360"/>
            <a:ext cx="6462720" cy="41115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9" name="Прямоугольник 3"/>
          <p:cNvSpPr/>
          <p:nvPr/>
        </p:nvSpPr>
        <p:spPr>
          <a:xfrm>
            <a:off x="1219320" y="5732640"/>
            <a:ext cx="7488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  <a:ea typeface="Arial"/>
              </a:rPr>
              <a:t>Эти моменты создают на занятиях положительный эмоциональный настрой, что способствует закреплению материала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  <a:ea typeface="Arial"/>
              </a:rPr>
              <a:t> 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Изображение 013"/>
          <p:cNvPicPr/>
          <p:nvPr/>
        </p:nvPicPr>
        <p:blipFill>
          <a:blip r:embed="rId1"/>
          <a:stretch/>
        </p:blipFill>
        <p:spPr>
          <a:xfrm>
            <a:off x="971640" y="260280"/>
            <a:ext cx="4937040" cy="31701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1" name="Picture 3" descr="E:\фото к витит. карточке\IMG_6527.JPG"/>
          <p:cNvPicPr/>
          <p:nvPr/>
        </p:nvPicPr>
        <p:blipFill>
          <a:blip r:embed="rId2"/>
          <a:stretch/>
        </p:blipFill>
        <p:spPr>
          <a:xfrm>
            <a:off x="6012000" y="2349360"/>
            <a:ext cx="2808000" cy="4211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2" name="Рисунок 3" descr=""/>
          <p:cNvPicPr/>
          <p:nvPr/>
        </p:nvPicPr>
        <p:blipFill>
          <a:blip r:embed="rId3"/>
          <a:stretch/>
        </p:blipFill>
        <p:spPr>
          <a:xfrm>
            <a:off x="1908000" y="3860640"/>
            <a:ext cx="3600720" cy="17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1258920" y="549360"/>
            <a:ext cx="734544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Формирование первичных произносительных умений и навыков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Правильное артикулирование звука, уточненное при помо­щи наглядной модели, улучшает качество приема и воспроиз­ведения звуков. Слушание звука и «видение» правильной артикуляции с помощью моделей — начало активного развития у детей собственных произносительных навыков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Применение моделей при постановке звуков, независимо от вида речевых нарушений, помогает ребенку осмыслить процесс постановки звука и быть не просто пассивным исполнителем воли взрослого, а активным участником. Модель служит наглядной опорой, постоянно «напоминая» артикуляцию не произносимого звука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9T21:02:34Z</dcterms:created>
  <dc:creator>N06</dc:creator>
  <dc:description/>
  <dc:language>en-US</dc:language>
  <cp:lastModifiedBy>User</cp:lastModifiedBy>
  <dcterms:modified xsi:type="dcterms:W3CDTF">2015-10-15T08:00:04Z</dcterms:modified>
  <cp:revision>189</cp:revision>
  <dc:subject/>
  <dc:title>«ОДАРЕННОСТЬ:ПОНЯТИЕ,ПРИЗНАКИ, ВИДЫ, МЕТОДЫ ИССЛЕДОВАНИЯ»</dc:title>
</cp:coreProperties>
</file>