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36.png" ContentType="image/png"/>
  <Override PartName="/ppt/media/image6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AE6F-307D-4285-B81E-522817BD5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DA52-CD0E-4C52-A86F-FC71CFD3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42E1-659A-4B28-9489-7C19C7959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7295-A6D1-443E-B028-50ED47491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7691-D0EE-4BDE-A1BF-017F0CF7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390E-E9BB-4DA5-8A9D-BB6F0979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C7CA-2973-4209-8F48-9136EB28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D68B-A7B2-4C8D-8DCB-3BF81C56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1F9B-B3FB-4642-BBA3-E0A485ED0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65BD-BFAE-401E-ADB9-888AB3AB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8AAA-D624-4871-837C-B176F8EE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47D9-8EE0-4A02-9319-AA7039BD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1524-06AA-490C-A14D-CC046DD178C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5121-A19A-453C-833B-7A1809B55C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6/67/Chengdu-pandas-d04.jpg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e/BlackRhino-USFWS.jpg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segodnya.ua/img/forall/a/2086/10.jpg" TargetMode="External"/><Relationship Id="rId3" Type="http://schemas.openxmlformats.org/officeDocument/2006/relationships/image" Target="../media/image26.jpeg"/><Relationship Id="rId4" Type="http://schemas.openxmlformats.org/officeDocument/2006/relationships/hyperlink" Target="http://forum.exler.ru/arc/uploads/83/post-1242384883.jpg" TargetMode="External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London_Zoo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photoposts.ru/uploads/full/6/1/7/6175161e785ec92c2eeb07639b8db3cff3ec5442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superdekret.ru/wp-content/uploads/2009/02/gritos.jp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www.cdnn.info/news/eco/do_not_feed_animals_23292.gif" TargetMode="External"/><Relationship Id="rId6" Type="http://schemas.openxmlformats.org/officeDocument/2006/relationships/image" Target="../media/image6.png"/><Relationship Id="rId7" Type="http://schemas.openxmlformats.org/officeDocument/2006/relationships/hyperlink" Target="http://www.xpresstags.com/companies/safetyxpress/detailed/k/k-1399.gif" TargetMode="External"/><Relationship Id="rId8" Type="http://schemas.openxmlformats.org/officeDocument/2006/relationships/image" Target="../media/image7.png"/><Relationship Id="rId9" Type="http://schemas.openxmlformats.org/officeDocument/2006/relationships/hyperlink" Target="http://www.trafficsignstore.com/R5-6.jpg" TargetMode="External"/><Relationship Id="rId10" Type="http://schemas.openxmlformats.org/officeDocument/2006/relationships/image" Target="../media/image8.jpeg"/><Relationship Id="rId11" Type="http://schemas.openxmlformats.org/officeDocument/2006/relationships/hyperlink" Target="http://www.speedysigns.com/images/decals/jpg/H/439/855.jpg" TargetMode="External"/><Relationship Id="rId12" Type="http://schemas.openxmlformats.org/officeDocument/2006/relationships/image" Target="../media/image9.jpeg"/><Relationship Id="rId13" Type="http://schemas.openxmlformats.org/officeDocument/2006/relationships/image" Target="../media/image10.jpeg"/><Relationship Id="rId14" Type="http://schemas.openxmlformats.org/officeDocument/2006/relationships/hyperlink" Target="http://www.opt-mir.ru/data/c/l/8764-000-a.jpg" TargetMode="External"/><Relationship Id="rId15" Type="http://schemas.openxmlformats.org/officeDocument/2006/relationships/image" Target="../media/image11.jpe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19.beon.ru/30/53/355330/69/19807669/pic0267.gif" TargetMode="External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hyperlink" Target="http://r5.mesa.k12.co.us/letters.jpg" TargetMode="External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Eras Bold ITC"/>
              </a:rPr>
              <a:t>Презентация к уроку по теме: «Путешествие по</a:t>
            </a:r>
            <a:br>
              <a:rPr sz="4000"/>
            </a:br>
            <a:r>
              <a:rPr b="0" lang="ru-RU" sz="4000" spc="-1" strike="noStrike">
                <a:solidFill>
                  <a:srgbClr val="a50021"/>
                </a:solidFill>
                <a:latin typeface="Eras Bold ITC"/>
              </a:rPr>
              <a:t> Лондонскому зоопарк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Eras Bold ITC"/>
              </a:rPr>
              <a:t>Мухамедшина Наиля Фаритов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Eras Bold ITC"/>
              </a:rPr>
              <a:t>учитель иностранных язы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Eras Bold ITC"/>
              </a:rPr>
              <a:t>МБОУ «Параньгинская СОШ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8846-69C0-464F-927E-46EE38F36C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64000" y="1599840"/>
            <a:ext cx="37800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62120" y="4038480"/>
            <a:ext cx="434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alibri"/>
              </a:rPr>
              <a:t>Later, </a:t>
            </a:r>
            <a:r>
              <a:rPr b="1" lang="en-US" sz="3200" spc="-1" strike="noStrike">
                <a:solidFill>
                  <a:srgbClr val="ff6600"/>
                </a:solidFill>
                <a:latin typeface="Calibri"/>
              </a:rPr>
              <a:t>Queen</a:t>
            </a:r>
            <a:r>
              <a:rPr b="1" lang="ru-RU" sz="3200" spc="-1" strike="noStrike">
                <a:solidFill>
                  <a:srgbClr val="ff66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Calibri"/>
              </a:rPr>
              <a:t>Charlotte</a:t>
            </a:r>
            <a:r>
              <a:rPr b="1" lang="en-US" sz="3200" spc="-1" strike="noStrike">
                <a:solidFill>
                  <a:srgbClr val="a50021"/>
                </a:solidFill>
                <a:latin typeface="Calibri"/>
              </a:rPr>
              <a:t> was given </a:t>
            </a:r>
            <a:r>
              <a:rPr b="1" lang="en-US" sz="3200" spc="-1" strike="noStrike">
                <a:solidFill>
                  <a:srgbClr val="ff6600"/>
                </a:solidFill>
                <a:latin typeface="Calibri"/>
              </a:rPr>
              <a:t>the first zebra</a:t>
            </a:r>
            <a:r>
              <a:rPr b="1" lang="en-US" sz="3200" spc="-1" strike="noStrike">
                <a:solidFill>
                  <a:srgbClr val="a50021"/>
                </a:solidFill>
                <a:latin typeface="Calibri"/>
              </a:rPr>
              <a:t> to come to Brit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1"/>
          <a:stretch/>
        </p:blipFill>
        <p:spPr>
          <a:xfrm>
            <a:off x="5816520" y="2743200"/>
            <a:ext cx="3143160" cy="388620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21" name="Picture 9" descr=""/>
          <p:cNvPicPr/>
          <p:nvPr/>
        </p:nvPicPr>
        <p:blipFill>
          <a:blip r:embed="rId2"/>
          <a:srcRect l="1080" t="2160" r="1080" b="2879"/>
          <a:stretch/>
        </p:blipFill>
        <p:spPr>
          <a:xfrm>
            <a:off x="509760" y="306360"/>
            <a:ext cx="4695480" cy="341964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EC62-4C97-4130-96A5-62FC7CDCC8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7" descr="AK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410080" y="4343040"/>
            <a:ext cx="37339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Giraffes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ave been an attraction at London Zoo since four of them arrived in 183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8" descr="giraffe1"/>
          <p:cNvPicPr/>
          <p:nvPr/>
        </p:nvPicPr>
        <p:blipFill>
          <a:blip r:embed="rId2"/>
          <a:stretch/>
        </p:blipFill>
        <p:spPr>
          <a:xfrm>
            <a:off x="6019920" y="152280"/>
            <a:ext cx="2895480" cy="251316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B505-A9EC-4D53-B217-41EE5DA391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Файл:Chengdu-pandas-d0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WordArt 6"/>
          <p:cNvSpPr txBox="1"/>
          <p:nvPr/>
        </p:nvSpPr>
        <p:spPr>
          <a:xfrm>
            <a:off x="857160" y="152280"/>
            <a:ext cx="74296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663300"/>
                  </a:solidFill>
                  <a:miter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Eras Bold ITC"/>
              </a:rPr>
              <a:t>The Giant Panda</a:t>
            </a:r>
            <a:endParaRPr b="0" lang="en-US" sz="3200" spc="1" strike="noStrike">
              <a:ln w="9360">
                <a:solidFill>
                  <a:srgbClr val="663300"/>
                </a:solidFill>
                <a:miter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Eras Bold ITC"/>
              <a:ea typeface="Eras Bold ITC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6C8B-FB51-4FB3-9724-2F56F40403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kenya_2808"/>
          <p:cNvPicPr/>
          <p:nvPr/>
        </p:nvPicPr>
        <p:blipFill>
          <a:blip r:embed="rId1"/>
          <a:srcRect l="2362" t="0" r="14173" b="6378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131" name="WordArt 8"/>
          <p:cNvSpPr txBox="1"/>
          <p:nvPr/>
        </p:nvSpPr>
        <p:spPr>
          <a:xfrm>
            <a:off x="457200" y="152280"/>
            <a:ext cx="80773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663300"/>
                  </a:solidFill>
                  <a:miter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Eras Bold ITC"/>
              </a:rPr>
              <a:t>The African Elephant</a:t>
            </a:r>
            <a:endParaRPr b="0" lang="en-US" sz="3200" spc="1" strike="noStrike">
              <a:ln w="9360">
                <a:solidFill>
                  <a:srgbClr val="663300"/>
                </a:solidFill>
                <a:miter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Eras Bold ITC"/>
              <a:ea typeface="Eras Bold ITC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3193-03FE-4043-80AE-293F01412F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Datei:BlackRhino-USFWS.jpg">
            <a:hlinkClick r:id="rId1"/>
          </p:cNvPr>
          <p:cNvPicPr/>
          <p:nvPr/>
        </p:nvPicPr>
        <p:blipFill>
          <a:blip r:embed="rId2"/>
          <a:srcRect l="11313" t="0" r="0" b="0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4" name="WordArt 6"/>
          <p:cNvSpPr txBox="1"/>
          <p:nvPr/>
        </p:nvSpPr>
        <p:spPr>
          <a:xfrm>
            <a:off x="838080" y="380880"/>
            <a:ext cx="7467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663300"/>
                  </a:solidFill>
                  <a:miter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Eras Bold ITC"/>
              </a:rPr>
              <a:t>The Black Rhino</a:t>
            </a:r>
            <a:endParaRPr b="0" lang="en-US" sz="3200" spc="1" strike="noStrike">
              <a:ln w="9360">
                <a:solidFill>
                  <a:srgbClr val="663300"/>
                </a:solidFill>
                <a:miter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Eras Bold ITC"/>
              <a:ea typeface="Eras Bold IT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4"/>
          <p:cNvSpPr txBox="1"/>
          <p:nvPr/>
        </p:nvSpPr>
        <p:spPr>
          <a:xfrm>
            <a:off x="1066680" y="228600"/>
            <a:ext cx="70106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rnd" w="15840">
                  <a:solidFill>
                    <a:srgbClr val="006600"/>
                  </a:solidFill>
                  <a:custDash>
                    <a:ds d="100000" sp="1000"/>
                  </a:custDash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Eras Bold ITC"/>
              </a:rPr>
              <a:t>It is interesting to know!</a:t>
            </a:r>
            <a:endParaRPr b="0" lang="en-US" sz="3200" spc="1" strike="noStrike">
              <a:ln cap="rnd" w="15840">
                <a:solidFill>
                  <a:srgbClr val="006600"/>
                </a:solidFill>
                <a:custDash>
                  <a:ds d="100000" sp="1000"/>
                </a:custDash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Eras Bold ITC"/>
              <a:ea typeface="Eras Bold ITC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4144320" y="1600200"/>
            <a:ext cx="45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Eras Bold ITC"/>
              </a:rPr>
              <a:t>can clean ears with its tongu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2347200" y="2819520"/>
            <a:ext cx="44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Eras Bold ITC"/>
              </a:rPr>
              <a:t>can jump as high as 3 mete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3472200" y="4267080"/>
            <a:ext cx="52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Eras Bold ITC"/>
              </a:rPr>
              <a:t>eats leaves and never drinks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2819520" y="556272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Eras Bold ITC"/>
              </a:rPr>
              <a:t>body can be more than 3 meters long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2509200" y="160020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Eras Bold ITC"/>
              </a:rPr>
              <a:t>A giraf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315360" y="2819520"/>
            <a:ext cx="183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Eras Bold ITC"/>
              </a:rPr>
              <a:t>A kangar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1972800" y="426708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Eras Bold ITC"/>
              </a:rPr>
              <a:t>A ko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714960" y="5562720"/>
            <a:ext cx="21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Eras Bold ITC"/>
              </a:rPr>
              <a:t>An elephant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3506760" y="1600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1769400" y="2819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Eras Bold ITC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274320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Eras Bold ITC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2531520" y="548640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Eras Bold ITC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9" descr="1210144689_1169985180_jiraf15"/>
          <p:cNvPicPr/>
          <p:nvPr/>
        </p:nvPicPr>
        <p:blipFill>
          <a:blip r:embed="rId1"/>
          <a:stretch/>
        </p:blipFill>
        <p:spPr>
          <a:xfrm>
            <a:off x="7010280" y="2266920"/>
            <a:ext cx="1752840" cy="131292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149" name="Picture 21" descr="Картинка 3 из 8732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3429000"/>
            <a:ext cx="1314360" cy="1752480"/>
          </a:xfrm>
          <a:prstGeom prst="rect">
            <a:avLst/>
          </a:prstGeom>
          <a:ln w="76320">
            <a:solidFill>
              <a:srgbClr val="0000cc"/>
            </a:solidFill>
            <a:miter/>
          </a:ln>
        </p:spPr>
      </p:pic>
      <p:pic>
        <p:nvPicPr>
          <p:cNvPr id="150" name="Picture 23" descr="Картинка 1 из 1525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04920" y="1219320"/>
            <a:ext cx="1852560" cy="123336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151" name="Picture 25" descr="a9250effdaaa"/>
          <p:cNvPicPr/>
          <p:nvPr/>
        </p:nvPicPr>
        <p:blipFill>
          <a:blip r:embed="rId6"/>
          <a:stretch/>
        </p:blipFill>
        <p:spPr>
          <a:xfrm>
            <a:off x="7391520" y="4876920"/>
            <a:ext cx="1193760" cy="167616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4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4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4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0F82-2479-40D2-B203-487E7E92C9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739520" y="274680"/>
            <a:ext cx="177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saw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3686040" y="304920"/>
            <a:ext cx="177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saw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5488920" y="334800"/>
            <a:ext cx="160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sa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1755000" y="1066680"/>
            <a:ext cx="170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l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3740760" y="1066680"/>
            <a:ext cx="302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t the zo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1752480" y="1828800"/>
            <a:ext cx="19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saw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3686040" y="1828800"/>
            <a:ext cx="177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saw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5488920" y="1828800"/>
            <a:ext cx="160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sa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1832760" y="2666880"/>
            <a:ext cx="207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bab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3968280" y="2666880"/>
            <a:ext cx="251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lepha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6556680" y="2666880"/>
            <a:ext cx="119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6"/>
          <p:cNvSpPr/>
          <p:nvPr/>
        </p:nvSpPr>
        <p:spPr>
          <a:xfrm>
            <a:off x="3686040" y="3429000"/>
            <a:ext cx="177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saw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7"/>
          <p:cNvSpPr/>
          <p:nvPr/>
        </p:nvSpPr>
        <p:spPr>
          <a:xfrm>
            <a:off x="1755360" y="3429000"/>
            <a:ext cx="177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saw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8"/>
          <p:cNvSpPr/>
          <p:nvPr/>
        </p:nvSpPr>
        <p:spPr>
          <a:xfrm>
            <a:off x="5565240" y="3429000"/>
            <a:ext cx="160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sa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9"/>
          <p:cNvSpPr/>
          <p:nvPr/>
        </p:nvSpPr>
        <p:spPr>
          <a:xfrm>
            <a:off x="1755360" y="4038480"/>
            <a:ext cx="156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bi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0"/>
          <p:cNvSpPr/>
          <p:nvPr/>
        </p:nvSpPr>
        <p:spPr>
          <a:xfrm>
            <a:off x="3508560" y="4038480"/>
            <a:ext cx="136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re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1"/>
          <p:cNvSpPr/>
          <p:nvPr/>
        </p:nvSpPr>
        <p:spPr>
          <a:xfrm>
            <a:off x="4959360" y="4038480"/>
            <a:ext cx="288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kangaro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2"/>
          <p:cNvSpPr/>
          <p:nvPr/>
        </p:nvSpPr>
        <p:spPr>
          <a:xfrm>
            <a:off x="5638680" y="4724280"/>
            <a:ext cx="160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sa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3"/>
          <p:cNvSpPr/>
          <p:nvPr/>
        </p:nvSpPr>
        <p:spPr>
          <a:xfrm>
            <a:off x="3683160" y="4800600"/>
            <a:ext cx="177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saw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4"/>
          <p:cNvSpPr/>
          <p:nvPr/>
        </p:nvSpPr>
        <p:spPr>
          <a:xfrm>
            <a:off x="1752480" y="4800600"/>
            <a:ext cx="177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saw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5"/>
          <p:cNvSpPr/>
          <p:nvPr/>
        </p:nvSpPr>
        <p:spPr>
          <a:xfrm>
            <a:off x="1755000" y="5562720"/>
            <a:ext cx="160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sa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6"/>
          <p:cNvSpPr/>
          <p:nvPr/>
        </p:nvSpPr>
        <p:spPr>
          <a:xfrm>
            <a:off x="3591000" y="5562720"/>
            <a:ext cx="461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m at the Zo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6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0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0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8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6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0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0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6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8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9FA4-B9EC-45E1-987C-3F25AFE25E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WordArt 4"/>
          <p:cNvSpPr txBox="1"/>
          <p:nvPr/>
        </p:nvSpPr>
        <p:spPr>
          <a:xfrm>
            <a:off x="609480" y="380880"/>
            <a:ext cx="80773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25560">
                  <a:solidFill>
                    <a:srgbClr val="663300"/>
                  </a:solidFill>
                  <a:miter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Eras Bold ITC"/>
              </a:rPr>
              <a:t>Is London Zoo one of the best zoos in the world?</a:t>
            </a:r>
            <a:endParaRPr b="0" lang="en-US" sz="3200" spc="1" strike="noStrike">
              <a:ln w="25560">
                <a:solidFill>
                  <a:srgbClr val="663300"/>
                </a:solidFill>
                <a:miter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Eras Bold ITC"/>
              <a:ea typeface="Eras Bold ITC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441360" y="47401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 rot="265200">
            <a:off x="1312920" y="1738440"/>
            <a:ext cx="70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t helps to save endangered animals and bi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 rot="21266400">
            <a:off x="328680" y="2678760"/>
            <a:ext cx="658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Visitors can see the animals at feeding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1676520" y="388620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he animals do not live in cages t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1756440" y="4876920"/>
            <a:ext cx="692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The zoo has over 5,000 different ins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6" descr=""/>
          <p:cNvPicPr/>
          <p:nvPr/>
        </p:nvPicPr>
        <p:blipFill>
          <a:blip r:embed="rId1"/>
          <a:stretch/>
        </p:blipFill>
        <p:spPr>
          <a:xfrm>
            <a:off x="3129120" y="4419720"/>
            <a:ext cx="2885760" cy="1904760"/>
          </a:xfrm>
          <a:prstGeom prst="rect">
            <a:avLst/>
          </a:prstGeom>
          <a:ln w="19080">
            <a:solidFill>
              <a:srgbClr val="663300"/>
            </a:solidFill>
            <a:miter/>
          </a:ln>
        </p:spPr>
      </p:pic>
      <p:pic>
        <p:nvPicPr>
          <p:cNvPr id="183" name="Picture 17" descr=""/>
          <p:cNvPicPr/>
          <p:nvPr/>
        </p:nvPicPr>
        <p:blipFill>
          <a:blip r:embed="rId2"/>
          <a:stretch/>
        </p:blipFill>
        <p:spPr>
          <a:xfrm>
            <a:off x="3073320" y="685800"/>
            <a:ext cx="2995560" cy="184932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84" name="Picture 20" descr=""/>
          <p:cNvPicPr/>
          <p:nvPr/>
        </p:nvPicPr>
        <p:blipFill>
          <a:blip r:embed="rId3"/>
          <a:stretch/>
        </p:blipFill>
        <p:spPr>
          <a:xfrm rot="20457600">
            <a:off x="151920" y="4114800"/>
            <a:ext cx="2819520" cy="210816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pic>
        <p:nvPicPr>
          <p:cNvPr id="185" name="Picture 19" descr=""/>
          <p:cNvPicPr/>
          <p:nvPr/>
        </p:nvPicPr>
        <p:blipFill>
          <a:blip r:embed="rId4"/>
          <a:stretch/>
        </p:blipFill>
        <p:spPr>
          <a:xfrm rot="1140000">
            <a:off x="6172200" y="3962520"/>
            <a:ext cx="2971800" cy="222228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sp>
        <p:nvSpPr>
          <p:cNvPr id="18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83E9-CBC5-4A9D-895A-E952251FCE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228600" y="1522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4" descr="450px-London_Zoo_00887[1]"/>
          <p:cNvPicPr/>
          <p:nvPr/>
        </p:nvPicPr>
        <p:blipFill>
          <a:blip r:embed="rId5"/>
          <a:stretch/>
        </p:blipFill>
        <p:spPr>
          <a:xfrm rot="20650800">
            <a:off x="685800" y="398520"/>
            <a:ext cx="2158920" cy="287820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pic>
        <p:nvPicPr>
          <p:cNvPr id="189" name="Picture 22" descr=""/>
          <p:cNvPicPr/>
          <p:nvPr/>
        </p:nvPicPr>
        <p:blipFill>
          <a:blip r:embed="rId6"/>
          <a:stretch/>
        </p:blipFill>
        <p:spPr>
          <a:xfrm>
            <a:off x="4800600" y="3276720"/>
            <a:ext cx="1905120" cy="190476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  <p:pic>
        <p:nvPicPr>
          <p:cNvPr id="190" name="Picture 18" descr=""/>
          <p:cNvPicPr/>
          <p:nvPr/>
        </p:nvPicPr>
        <p:blipFill>
          <a:blip r:embed="rId7"/>
          <a:stretch/>
        </p:blipFill>
        <p:spPr>
          <a:xfrm rot="1149600">
            <a:off x="6477120" y="533160"/>
            <a:ext cx="2031840" cy="3047760"/>
          </a:xfrm>
          <a:prstGeom prst="rect">
            <a:avLst/>
          </a:prstGeom>
          <a:ln w="19080">
            <a:solidFill>
              <a:srgbClr val="663300"/>
            </a:solidFill>
            <a:miter/>
          </a:ln>
        </p:spPr>
      </p:pic>
      <p:pic>
        <p:nvPicPr>
          <p:cNvPr id="191" name="Picture 21" descr=""/>
          <p:cNvPicPr/>
          <p:nvPr/>
        </p:nvPicPr>
        <p:blipFill>
          <a:blip r:embed="rId8"/>
          <a:stretch/>
        </p:blipFill>
        <p:spPr>
          <a:xfrm>
            <a:off x="2666880" y="3124080"/>
            <a:ext cx="1905120" cy="190512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  <p:sp>
        <p:nvSpPr>
          <p:cNvPr id="192" name="WordArt 15"/>
          <p:cNvSpPr txBox="1"/>
          <p:nvPr/>
        </p:nvSpPr>
        <p:spPr>
          <a:xfrm>
            <a:off x="762120" y="2724120"/>
            <a:ext cx="7467480" cy="146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47520">
                  <a:solidFill>
                    <a:srgbClr val="a50021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Eras Bold ITC"/>
              </a:rPr>
              <a:t>Be kind to animals!</a:t>
            </a:r>
            <a:endParaRPr b="0" lang="en-US" sz="3200" spc="1" strike="noStrike">
              <a:ln w="47520">
                <a:solidFill>
                  <a:srgbClr val="a50021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Eras Bold ITC"/>
              <a:ea typeface="Eras Bold ITC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000"/>
                            </p:stCondLst>
                            <p:childTnLst>
                              <p:par>
                                <p:cTn id="4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000"/>
                            </p:stCondLst>
                            <p:childTnLst>
                              <p:par>
                                <p:cTn id="4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0"/>
                            </p:stCondLst>
                            <p:childTnLst>
                              <p:par>
                                <p:cTn id="4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6000"/>
                            </p:stCondLst>
                            <p:childTnLst>
                              <p:par>
                                <p:cTn id="4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6500"/>
                            </p:stCondLst>
                            <p:childTnLst>
                              <p:par>
                                <p:cTn id="4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7000"/>
                            </p:stCondLst>
                            <p:childTnLst>
                              <p:par>
                                <p:cTn id="4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50021"/>
                </a:solidFill>
                <a:latin typeface="Arial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n.wikipedia.org/wiki/London_Zo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en.wiki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lenagold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jazztour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britishcouncil.org/ru/kids-so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britishcouncil.org/kids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zsl.org/zsl-london-zoo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images.yandex.ru/yandsearch?text=London%20zoo&amp;stype=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5338-FCAD-483B-BBBD-732BB3C1D1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1211386156_westminster_palace"/>
          <p:cNvPicPr/>
          <p:nvPr/>
        </p:nvPicPr>
        <p:blipFill>
          <a:blip r:embed="rId1"/>
          <a:stretch/>
        </p:blipFill>
        <p:spPr>
          <a:xfrm>
            <a:off x="380880" y="333360"/>
            <a:ext cx="4800600" cy="359892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45" name="Rectangle 5"/>
          <p:cNvSpPr/>
          <p:nvPr/>
        </p:nvSpPr>
        <p:spPr>
          <a:xfrm>
            <a:off x="304920" y="257040"/>
            <a:ext cx="4952880" cy="3753000"/>
          </a:xfrm>
          <a:prstGeom prst="rect">
            <a:avLst/>
          </a:prstGeom>
          <a:solidFill>
            <a:srgbClr val="95f664"/>
          </a:solidFill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856800" y="746280"/>
            <a:ext cx="4042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Eras Bold ITC"/>
              </a:rPr>
              <a:t>This town is th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Eras Bold ITC"/>
              </a:rPr>
              <a:t>capital 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Eras Bold ITC"/>
              </a:rPr>
              <a:t>Great Britain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1326600" y="1506600"/>
            <a:ext cx="2823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Eras Bold ITC"/>
              </a:rPr>
              <a:t>LOND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543"/>
          <p:cNvPicPr/>
          <p:nvPr/>
        </p:nvPicPr>
        <p:blipFill>
          <a:blip r:embed="rId2"/>
          <a:srcRect l="0" t="0" r="3780" b="3702"/>
          <a:stretch/>
        </p:blipFill>
        <p:spPr>
          <a:xfrm>
            <a:off x="5943600" y="2895480"/>
            <a:ext cx="2749680" cy="374184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49" name="Rectangle 13"/>
          <p:cNvSpPr/>
          <p:nvPr/>
        </p:nvSpPr>
        <p:spPr>
          <a:xfrm>
            <a:off x="5867280" y="2819520"/>
            <a:ext cx="2971800" cy="3886200"/>
          </a:xfrm>
          <a:prstGeom prst="rect">
            <a:avLst/>
          </a:prstGeom>
          <a:solidFill>
            <a:srgbClr val="95f664"/>
          </a:solidFill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Eras Bold ITC"/>
              </a:rPr>
              <a:t>This is a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Eras Bold ITC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Eras Bold ITC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Eras Bold ITC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Eras Bold ITC"/>
              </a:rPr>
              <a:t>endange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Eras Bold ITC"/>
              </a:rPr>
              <a:t>animals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7934-9EB2-4EE5-9C2E-9B86ED9B11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914400" y="1676520"/>
            <a:ext cx="78487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22320">
                  <a:solidFill>
                    <a:srgbClr val="663300"/>
                  </a:solidFill>
                  <a:miter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Eras Bold ITC"/>
              </a:rPr>
              <a:t>Is London Zoo </a:t>
            </a:r>
            <a:endParaRPr b="0" lang="en-US" sz="3200" spc="1" strike="noStrike">
              <a:ln w="22320">
                <a:solidFill>
                  <a:srgbClr val="663300"/>
                </a:solidFill>
                <a:miter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Eras Bold ITC"/>
              <a:ea typeface="Eras Bol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22320">
                  <a:solidFill>
                    <a:srgbClr val="663300"/>
                  </a:solidFill>
                  <a:miter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Eras Bold ITC"/>
              </a:rPr>
              <a:t>one of the best zoos </a:t>
            </a:r>
            <a:endParaRPr b="0" lang="en-US" sz="3200" spc="1" strike="noStrike">
              <a:ln w="22320">
                <a:solidFill>
                  <a:srgbClr val="663300"/>
                </a:solidFill>
                <a:miter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Eras Bold ITC"/>
              <a:ea typeface="Eras Bol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22320">
                  <a:solidFill>
                    <a:srgbClr val="663300"/>
                  </a:solidFill>
                  <a:miter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Eras Bold ITC"/>
              </a:rPr>
              <a:t>in the world?</a:t>
            </a:r>
            <a:endParaRPr b="0" lang="en-US" sz="3200" spc="1" strike="noStrike">
              <a:ln w="22320">
                <a:solidFill>
                  <a:srgbClr val="663300"/>
                </a:solidFill>
                <a:miter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Eras Bold ITC"/>
              <a:ea typeface="Eras Bold IT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11"/>
          <p:cNvSpPr txBox="1"/>
          <p:nvPr/>
        </p:nvSpPr>
        <p:spPr>
          <a:xfrm>
            <a:off x="3143160" y="1143000"/>
            <a:ext cx="28576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Eras Bold ITC"/>
              </a:rPr>
              <a:t>animals</a:t>
            </a:r>
            <a:endParaRPr b="0" lang="en-US" sz="3200" spc="1" strike="noStrike">
              <a:ln w="2232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Eras Bold ITC"/>
              <a:ea typeface="Eras Bold ITC"/>
            </a:endParaRPr>
          </a:p>
        </p:txBody>
      </p:sp>
      <p:sp>
        <p:nvSpPr>
          <p:cNvPr id="53" name="WordArt 12"/>
          <p:cNvSpPr txBox="1"/>
          <p:nvPr/>
        </p:nvSpPr>
        <p:spPr>
          <a:xfrm>
            <a:off x="914400" y="1676520"/>
            <a:ext cx="1371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Eras Bold ITC"/>
              </a:rPr>
              <a:t>wild</a:t>
            </a:r>
            <a:endParaRPr b="0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Eras Bold ITC"/>
              <a:ea typeface="Eras Bold ITC"/>
            </a:endParaRPr>
          </a:p>
        </p:txBody>
      </p:sp>
      <p:sp>
        <p:nvSpPr>
          <p:cNvPr id="54" name="WordArt 13"/>
          <p:cNvSpPr txBox="1"/>
          <p:nvPr/>
        </p:nvSpPr>
        <p:spPr>
          <a:xfrm>
            <a:off x="6629400" y="1600200"/>
            <a:ext cx="22096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Eras Bold ITC"/>
              </a:rPr>
              <a:t>domestic</a:t>
            </a:r>
            <a:endParaRPr b="0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Eras Bold ITC"/>
              <a:ea typeface="Eras Bold ITC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457200" y="4876920"/>
            <a:ext cx="131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a c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991080" y="5562720"/>
            <a:ext cx="153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a zeb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7"/>
          <p:cNvSpPr/>
          <p:nvPr/>
        </p:nvSpPr>
        <p:spPr>
          <a:xfrm>
            <a:off x="2210760" y="4876920"/>
            <a:ext cx="10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a 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3600720" y="4876920"/>
            <a:ext cx="194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a mon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3962520" y="2514600"/>
            <a:ext cx="60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6021000" y="5638680"/>
            <a:ext cx="15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a rabb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5412240" y="6278400"/>
            <a:ext cx="114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a 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3"/>
          <p:cNvSpPr/>
          <p:nvPr/>
        </p:nvSpPr>
        <p:spPr>
          <a:xfrm flipV="1" rot="10843800">
            <a:off x="5943240" y="4875840"/>
            <a:ext cx="237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an eleph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2287080" y="6095880"/>
            <a:ext cx="13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a ti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5"/>
          <p:cNvSpPr/>
          <p:nvPr/>
        </p:nvSpPr>
        <p:spPr>
          <a:xfrm>
            <a:off x="4573440" y="5562720"/>
            <a:ext cx="11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a d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6"/>
          <p:cNvSpPr/>
          <p:nvPr/>
        </p:nvSpPr>
        <p:spPr>
          <a:xfrm>
            <a:off x="2896920" y="5562720"/>
            <a:ext cx="11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a 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8"/>
          <p:cNvSpPr/>
          <p:nvPr/>
        </p:nvSpPr>
        <p:spPr>
          <a:xfrm>
            <a:off x="6477120" y="22096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a c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9"/>
          <p:cNvSpPr/>
          <p:nvPr/>
        </p:nvSpPr>
        <p:spPr>
          <a:xfrm>
            <a:off x="7392600" y="2697120"/>
            <a:ext cx="11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a 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0"/>
          <p:cNvSpPr/>
          <p:nvPr/>
        </p:nvSpPr>
        <p:spPr>
          <a:xfrm>
            <a:off x="991440" y="2133720"/>
            <a:ext cx="20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a mon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1"/>
          <p:cNvSpPr/>
          <p:nvPr/>
        </p:nvSpPr>
        <p:spPr>
          <a:xfrm>
            <a:off x="228240" y="2697120"/>
            <a:ext cx="243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an eleph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2"/>
          <p:cNvSpPr/>
          <p:nvPr/>
        </p:nvSpPr>
        <p:spPr>
          <a:xfrm>
            <a:off x="1448640" y="327672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a zeb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3"/>
          <p:cNvSpPr/>
          <p:nvPr/>
        </p:nvSpPr>
        <p:spPr>
          <a:xfrm>
            <a:off x="6477840" y="327672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a 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4"/>
          <p:cNvSpPr/>
          <p:nvPr/>
        </p:nvSpPr>
        <p:spPr>
          <a:xfrm>
            <a:off x="7391880" y="373392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a d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5"/>
          <p:cNvSpPr/>
          <p:nvPr/>
        </p:nvSpPr>
        <p:spPr>
          <a:xfrm>
            <a:off x="6477480" y="4267080"/>
            <a:ext cx="164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a rabb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6"/>
          <p:cNvSpPr/>
          <p:nvPr/>
        </p:nvSpPr>
        <p:spPr>
          <a:xfrm>
            <a:off x="305640" y="38098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a ti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7"/>
          <p:cNvSpPr/>
          <p:nvPr/>
        </p:nvSpPr>
        <p:spPr>
          <a:xfrm>
            <a:off x="1600920" y="426708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a 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8"/>
          <p:cNvSpPr/>
          <p:nvPr/>
        </p:nvSpPr>
        <p:spPr>
          <a:xfrm>
            <a:off x="990720" y="3049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0" lang="en-US" sz="3600" spc="-1" strike="noStrike">
                <a:solidFill>
                  <a:srgbClr val="008000"/>
                </a:solidFill>
                <a:latin typeface="Arial Black"/>
              </a:rPr>
              <a:t>crocodil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is </a:t>
            </a:r>
            <a:r>
              <a:rPr b="0" lang="en-US" sz="3600" spc="-1" strike="noStrike">
                <a:solidFill>
                  <a:srgbClr val="0000cc"/>
                </a:solidFill>
                <a:latin typeface="Arial Black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0000cc"/>
                </a:solidFill>
                <a:latin typeface="Arial Black"/>
              </a:rPr>
              <a:t>wild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anim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1"/>
          <p:cNvSpPr/>
          <p:nvPr/>
        </p:nvSpPr>
        <p:spPr>
          <a:xfrm rot="1401000">
            <a:off x="6094440" y="1444680"/>
            <a:ext cx="633240" cy="228600"/>
          </a:xfrm>
          <a:prstGeom prst="rightArrow">
            <a:avLst>
              <a:gd name="adj1" fmla="val 50000"/>
              <a:gd name="adj2" fmla="val 692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32"/>
          <p:cNvSpPr/>
          <p:nvPr/>
        </p:nvSpPr>
        <p:spPr>
          <a:xfrm flipH="1" rot="20212800">
            <a:off x="2345400" y="144936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5460-A25A-4E08-9A95-7D12E7AD0C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Картинка 1 из 12211">
            <a:hlinkClick r:id="rId1"/>
          </p:cNvPr>
          <p:cNvPicPr/>
          <p:nvPr/>
        </p:nvPicPr>
        <p:blipFill>
          <a:blip r:embed="rId2"/>
          <a:srcRect l="9856" t="0" r="14387" b="0"/>
          <a:stretch/>
        </p:blipFill>
        <p:spPr>
          <a:xfrm>
            <a:off x="609480" y="1143000"/>
            <a:ext cx="1729080" cy="17146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81" name="Picture 4" descr="Картинка 1 из 472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57800" y="4800600"/>
            <a:ext cx="1206360" cy="149544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82" name="Picture 5" descr="Картинка 13 из 28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3200400"/>
            <a:ext cx="2590560" cy="1027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Картинка 29 из 507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352680" y="1295280"/>
            <a:ext cx="2016360" cy="136044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84" name="Picture 7" descr="Картинка 12 из 44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09480" y="3429000"/>
            <a:ext cx="1828800" cy="1801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Картинка 13 из 1386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666880" y="4800600"/>
            <a:ext cx="1676520" cy="152244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86" name="Rectangle 9"/>
          <p:cNvSpPr/>
          <p:nvPr/>
        </p:nvSpPr>
        <p:spPr>
          <a:xfrm flipV="1" rot="2628600">
            <a:off x="2438280" y="5485320"/>
            <a:ext cx="2133720" cy="88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0" descr="7651f6edd50e"/>
          <p:cNvPicPr/>
          <p:nvPr/>
        </p:nvPicPr>
        <p:blipFill>
          <a:blip r:embed="rId13"/>
          <a:srcRect l="36614" t="27378" r="36614" b="30921"/>
          <a:stretch/>
        </p:blipFill>
        <p:spPr>
          <a:xfrm>
            <a:off x="6934320" y="3429000"/>
            <a:ext cx="1609560" cy="167652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88" name="Picture 11" descr="Картинка 9 из 272">
            <a:hlinkClick r:id="rId14"/>
          </p:cNvPr>
          <p:cNvPicPr/>
          <p:nvPr/>
        </p:nvPicPr>
        <p:blipFill>
          <a:blip r:embed="rId15"/>
          <a:srcRect l="13510" t="12366" r="12383" b="12366"/>
          <a:stretch/>
        </p:blipFill>
        <p:spPr>
          <a:xfrm>
            <a:off x="6629400" y="1143000"/>
            <a:ext cx="1728720" cy="17524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89" name="Text Box 13"/>
          <p:cNvSpPr/>
          <p:nvPr/>
        </p:nvSpPr>
        <p:spPr>
          <a:xfrm>
            <a:off x="1830240" y="2286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4938480" y="1996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8002440" y="2286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6"/>
          <p:cNvSpPr/>
          <p:nvPr/>
        </p:nvSpPr>
        <p:spPr>
          <a:xfrm>
            <a:off x="1906560" y="46483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7"/>
          <p:cNvSpPr/>
          <p:nvPr/>
        </p:nvSpPr>
        <p:spPr>
          <a:xfrm>
            <a:off x="5487840" y="3657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8"/>
          <p:cNvSpPr/>
          <p:nvPr/>
        </p:nvSpPr>
        <p:spPr>
          <a:xfrm>
            <a:off x="3887640" y="5562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9"/>
          <p:cNvSpPr/>
          <p:nvPr/>
        </p:nvSpPr>
        <p:spPr>
          <a:xfrm>
            <a:off x="6097320" y="5715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0"/>
          <p:cNvSpPr/>
          <p:nvPr/>
        </p:nvSpPr>
        <p:spPr>
          <a:xfrm>
            <a:off x="8231040" y="4572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22"/>
          <p:cNvSpPr txBox="1"/>
          <p:nvPr/>
        </p:nvSpPr>
        <p:spPr>
          <a:xfrm>
            <a:off x="1638360" y="304920"/>
            <a:ext cx="58672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22320">
                  <a:solidFill>
                    <a:srgbClr val="663300"/>
                  </a:solidFill>
                  <a:miter/>
                </a:ln>
                <a:solidFill>
                  <a:srgbClr val="ff9900"/>
                </a:solidFill>
                <a:latin typeface="Eras Bold ITC"/>
              </a:rPr>
              <a:t>Rules for Visitors</a:t>
            </a:r>
            <a:endParaRPr b="0" lang="en-US" sz="3200" spc="1" strike="noStrike">
              <a:ln w="22320">
                <a:solidFill>
                  <a:srgbClr val="663300"/>
                </a:solidFill>
                <a:miter/>
              </a:ln>
              <a:solidFill>
                <a:srgbClr val="ff9900"/>
              </a:solidFill>
              <a:latin typeface="Eras Bold ITC"/>
              <a:ea typeface="Eras Bold IT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54AD-B89B-403B-A623-026FB34D47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Image2"/>
          <p:cNvPicPr/>
          <p:nvPr/>
        </p:nvPicPr>
        <p:blipFill>
          <a:blip r:embed="rId1"/>
          <a:stretch/>
        </p:blipFill>
        <p:spPr>
          <a:xfrm>
            <a:off x="1866960" y="1371600"/>
            <a:ext cx="5410080" cy="517536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2057400" y="304920"/>
            <a:ext cx="53722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22320">
                  <a:solidFill>
                    <a:srgbClr val="663300"/>
                  </a:solidFill>
                  <a:miter/>
                </a:ln>
                <a:solidFill>
                  <a:srgbClr val="ff9900"/>
                </a:solidFill>
                <a:latin typeface="Eras Bold ITC"/>
              </a:rPr>
              <a:t>Zookeeper</a:t>
            </a:r>
            <a:endParaRPr b="0" lang="en-US" sz="3200" spc="1" strike="noStrike">
              <a:ln w="22320">
                <a:solidFill>
                  <a:srgbClr val="663300"/>
                </a:solidFill>
                <a:miter/>
              </a:ln>
              <a:solidFill>
                <a:srgbClr val="ff9900"/>
              </a:solidFill>
              <a:latin typeface="Eras Bold ITC"/>
              <a:ea typeface="Eras Bold IT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Картинка 12 из 338522">
            <a:hlinkClick r:id="rId1"/>
          </p:cNvPr>
          <p:cNvPicPr/>
          <p:nvPr/>
        </p:nvPicPr>
        <p:blipFill>
          <a:blip r:embed="rId2"/>
          <a:stretch/>
        </p:blipFill>
        <p:spPr>
          <a:xfrm rot="19862400">
            <a:off x="533520" y="5028840"/>
            <a:ext cx="1447560" cy="1374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02" name="Picture 9" descr="123706"/>
          <p:cNvPicPr/>
          <p:nvPr/>
        </p:nvPicPr>
        <p:blipFill>
          <a:blip r:embed="rId3"/>
          <a:stretch/>
        </p:blipFill>
        <p:spPr>
          <a:xfrm rot="20052000">
            <a:off x="304920" y="380880"/>
            <a:ext cx="1676160" cy="11383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03" name="Picture 11" descr="Картинка 97 из 338522">
            <a:hlinkClick r:id="rId4"/>
          </p:cNvPr>
          <p:cNvPicPr/>
          <p:nvPr/>
        </p:nvPicPr>
        <p:blipFill>
          <a:blip r:embed="rId5"/>
          <a:stretch/>
        </p:blipFill>
        <p:spPr>
          <a:xfrm rot="1855800">
            <a:off x="7314840" y="5181480"/>
            <a:ext cx="1495440" cy="1201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04" name="Text Box 14"/>
          <p:cNvSpPr/>
          <p:nvPr/>
        </p:nvSpPr>
        <p:spPr>
          <a:xfrm>
            <a:off x="2895480" y="4876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1371600" y="166068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Can visitors of the zoo see the animals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at feeding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1447920" y="1660680"/>
            <a:ext cx="601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see the animal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visitors of the zo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eeding time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an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2209680" y="281952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home with me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y of the baby animals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an I tak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0"/>
          <p:cNvSpPr/>
          <p:nvPr/>
        </p:nvSpPr>
        <p:spPr>
          <a:xfrm>
            <a:off x="2286000" y="2819520"/>
            <a:ext cx="64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n I take any of the baby animals home with 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1075320" y="3886200"/>
            <a:ext cx="736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What is the Zoological Society of Lond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1151640" y="3962520"/>
            <a:ext cx="730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Zoological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what is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of London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ciety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13"/>
          <p:cNvSpPr txBox="1"/>
          <p:nvPr/>
        </p:nvSpPr>
        <p:spPr>
          <a:xfrm>
            <a:off x="2514600" y="457200"/>
            <a:ext cx="6095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31680">
                  <a:solidFill>
                    <a:srgbClr val="663300"/>
                  </a:solidFill>
                  <a:miter/>
                </a:ln>
                <a:solidFill>
                  <a:srgbClr val="ff99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Eras Bold ITC"/>
              </a:rPr>
              <a:t>Help the Zookeeper</a:t>
            </a:r>
            <a:endParaRPr b="0" lang="en-US" sz="3200" spc="1" strike="noStrike">
              <a:ln w="31680">
                <a:solidFill>
                  <a:srgbClr val="663300"/>
                </a:solidFill>
                <a:miter/>
              </a:ln>
              <a:solidFill>
                <a:srgbClr val="ff99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Eras Bold ITC"/>
              <a:ea typeface="Eras Bold ITC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3545-24C4-4DA1-9BF1-E43CB70F7B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952880" y="1371600"/>
            <a:ext cx="3827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alibri"/>
              </a:rPr>
              <a:t>Exotic animals were first taken to Britain in the thirteenth century when </a:t>
            </a:r>
            <a:r>
              <a:rPr b="1" lang="en-US" sz="3200" spc="-1" strike="noStrike">
                <a:solidFill>
                  <a:srgbClr val="ff6600"/>
                </a:solidFill>
                <a:latin typeface="Calibri"/>
              </a:rPr>
              <a:t>King Henry</a:t>
            </a:r>
            <a:r>
              <a:rPr b="1" lang="en-US" sz="3200" spc="-1" strike="noStrike">
                <a:solidFill>
                  <a:srgbClr val="ff6600"/>
                </a:solidFill>
                <a:latin typeface="Calibri"/>
              </a:rPr>
              <a:t> III</a:t>
            </a:r>
            <a:r>
              <a:rPr b="1" lang="en-US" sz="3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Calibri"/>
              </a:rPr>
              <a:t>received a gift of </a:t>
            </a:r>
            <a:r>
              <a:rPr b="1" lang="en-US" sz="3200" spc="-1" strike="noStrike">
                <a:solidFill>
                  <a:srgbClr val="ff6600"/>
                </a:solidFill>
                <a:latin typeface="Calibri"/>
              </a:rPr>
              <a:t>3 leopards.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228600" y="476280"/>
            <a:ext cx="4581360" cy="56005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A7B3-2447-4BE5-BF86-0E9CB3A53B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04920" y="15228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alibri"/>
              </a:rPr>
              <a:t>The animals lived in </a:t>
            </a:r>
            <a:r>
              <a:rPr b="1" lang="en-US" sz="3200" spc="-1" strike="noStrike">
                <a:solidFill>
                  <a:srgbClr val="ff6600"/>
                </a:solidFill>
                <a:latin typeface="Calibri"/>
              </a:rPr>
              <a:t>the Tower of London</a:t>
            </a:r>
            <a:r>
              <a:rPr b="1" lang="en-US" sz="3200" spc="-1" strike="noStrike">
                <a:solidFill>
                  <a:srgbClr val="a50021"/>
                </a:solidFill>
                <a:latin typeface="Calibri"/>
              </a:rPr>
              <a:t> in a special place.</a:t>
            </a:r>
            <a:r>
              <a:rPr b="0" lang="en-US" sz="3200" spc="-1" strike="noStrike">
                <a:solidFill>
                  <a:srgbClr val="a50021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04-01T16:29:01Z</dcterms:modified>
  <cp:revision>1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