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36.png" ContentType="image/png"/>
  <Override PartName="/ppt/media/image6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195C-8392-4C72-A7CC-D848114E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5B8-7B47-4E60-ADC5-D7627D45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8A8-00FF-4F99-8491-86C0FC38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E73-F3DD-4849-8B42-BF5365BF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671-78F2-4274-97B0-50083EC0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0C0-9804-4E58-84AC-B00F10B9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0C32-84FF-4374-AF3D-6B395110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6888-C212-4C81-ACFE-16B8B20B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B7C-97CF-41B3-ABF9-E52C2BC9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5A8D-4449-4A17-B02A-2D38729A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89A-7C90-476B-8A5C-AFA57CCA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7AA5-291A-4359-A139-4519B7B9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11A4-3208-4B25-B3AA-E1589970A2D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5430-42BB-467D-8193-E4D9C6108C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7/Chengdu-pandas-d04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e/BlackRhino-USFW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segodnya.ua/img/forall/a/2086/10.jpg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forum.exler.ru/arc/uploads/83/post-1242384883.jpg" TargetMode="External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ondon_Zo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hotoposts.ru/uploads/full/6/1/7/6175161e785ec92c2eeb07639b8db3cff3ec5442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superdekret.ru/wp-content/uploads/2009/02/gritos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cdnn.info/news/eco/do_not_feed_animals_23292.gif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www.xpresstags.com/companies/safetyxpress/detailed/k/k-1399.gif" TargetMode="External"/><Relationship Id="rId8" Type="http://schemas.openxmlformats.org/officeDocument/2006/relationships/image" Target="../media/image7.png"/><Relationship Id="rId9" Type="http://schemas.openxmlformats.org/officeDocument/2006/relationships/hyperlink" Target="http://www.trafficsignstore.com/R5-6.jpg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www.speedysigns.com/images/decals/jpg/H/439/855.jpg" TargetMode="External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hyperlink" Target="http://www.opt-mir.ru/data/c/l/8764-000-a.jpg" TargetMode="External"/><Relationship Id="rId15" Type="http://schemas.openxmlformats.org/officeDocument/2006/relationships/image" Target="../media/image11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19.beon.ru/30/53/355330/69/19807669/pic0267.gif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hyperlink" Target="http://r5.mesa.k12.co.us/letters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Eras Bold ITC"/>
              </a:rPr>
              <a:t>Презентация к уроку по теме: «Путешествие по</a:t>
            </a:r>
            <a:br>
              <a:rPr sz="4000"/>
            </a:br>
            <a:r>
              <a:rPr b="0" lang="ru-RU" sz="4000" spc="-1" strike="noStrike">
                <a:solidFill>
                  <a:srgbClr val="a50021"/>
                </a:solidFill>
                <a:latin typeface="Eras Bold ITC"/>
              </a:rPr>
              <a:t> Лондонскому зоопарк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Eras Bold ITC"/>
              </a:rPr>
              <a:t>Мухамедшина Наиля Фарит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Eras Bold ITC"/>
              </a:rPr>
              <a:t>учитель иностранных язы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Eras Bold ITC"/>
              </a:rPr>
              <a:t>МБОУ «Параньгинская СОШ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E3DA-624E-450A-AA1E-3DA4B6DC5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64000" y="1599840"/>
            <a:ext cx="3780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2120" y="4038480"/>
            <a:ext cx="434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Later, 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Queen</a:t>
            </a: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Charlotte</a:t>
            </a: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 was given 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the first zebra</a:t>
            </a: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 to come to Bri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5816520" y="2743200"/>
            <a:ext cx="3143160" cy="38862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21" name="Picture 9" descr=""/>
          <p:cNvPicPr/>
          <p:nvPr/>
        </p:nvPicPr>
        <p:blipFill>
          <a:blip r:embed="rId2"/>
          <a:srcRect l="1080" t="2160" r="1080" b="2879"/>
          <a:stretch/>
        </p:blipFill>
        <p:spPr>
          <a:xfrm>
            <a:off x="509760" y="306360"/>
            <a:ext cx="4695480" cy="34196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0990-E892-4FDB-861A-F33563B7E5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7" descr="AK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410080" y="4343040"/>
            <a:ext cx="3733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Giraffes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ve been an attraction at London Zoo since four of them arrived in 183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8" descr="giraffe1"/>
          <p:cNvPicPr/>
          <p:nvPr/>
        </p:nvPicPr>
        <p:blipFill>
          <a:blip r:embed="rId2"/>
          <a:stretch/>
        </p:blipFill>
        <p:spPr>
          <a:xfrm>
            <a:off x="6019920" y="152280"/>
            <a:ext cx="2895480" cy="251316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3C05-0C3A-4158-94F2-49989AACFA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Файл:Chengdu-pandas-d0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6"/>
          <p:cNvSpPr txBox="1"/>
          <p:nvPr/>
        </p:nvSpPr>
        <p:spPr>
          <a:xfrm>
            <a:off x="857160" y="152280"/>
            <a:ext cx="7429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The Giant Panda</a:t>
            </a:r>
            <a:endParaRPr b="0" lang="en-US" sz="3200" spc="1" strike="noStrike">
              <a:ln w="9360">
                <a:solidFill>
                  <a:srgbClr val="66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9EAA-6C8D-48FE-A8F7-DABBC9599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kenya_2808"/>
          <p:cNvPicPr/>
          <p:nvPr/>
        </p:nvPicPr>
        <p:blipFill>
          <a:blip r:embed="rId1"/>
          <a:srcRect l="2362" t="0" r="14173" b="6378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31" name="WordArt 8"/>
          <p:cNvSpPr txBox="1"/>
          <p:nvPr/>
        </p:nvSpPr>
        <p:spPr>
          <a:xfrm>
            <a:off x="457200" y="152280"/>
            <a:ext cx="8077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The African Elephant</a:t>
            </a:r>
            <a:endParaRPr b="0" lang="en-US" sz="3200" spc="1" strike="noStrike">
              <a:ln w="9360">
                <a:solidFill>
                  <a:srgbClr val="66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5B67-A343-4589-A7A9-889F098C4A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Datei:BlackRhino-USFWS.jpg">
            <a:hlinkClick r:id="rId1"/>
          </p:cNvPr>
          <p:cNvPicPr/>
          <p:nvPr/>
        </p:nvPicPr>
        <p:blipFill>
          <a:blip r:embed="rId2"/>
          <a:srcRect l="11313" t="0" r="0" b="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4" name="WordArt 6"/>
          <p:cNvSpPr txBox="1"/>
          <p:nvPr/>
        </p:nvSpPr>
        <p:spPr>
          <a:xfrm>
            <a:off x="838080" y="38088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The Black Rhino</a:t>
            </a:r>
            <a:endParaRPr b="0" lang="en-US" sz="3200" spc="1" strike="noStrike">
              <a:ln w="9360">
                <a:solidFill>
                  <a:srgbClr val="66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1066680" y="228600"/>
            <a:ext cx="7010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15840">
                  <a:solidFill>
                    <a:srgbClr val="006600"/>
                  </a:solidFill>
                  <a:custDash>
                    <a:ds d="100000" sp="1000"/>
                  </a:custDash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It is interesting to know!</a:t>
            </a:r>
            <a:endParaRPr b="0" lang="en-US" sz="3200" spc="1" strike="noStrike">
              <a:ln cap="rnd" w="15840">
                <a:solidFill>
                  <a:srgbClr val="006600"/>
                </a:solidFill>
                <a:custDash>
                  <a:ds d="100000" sp="1000"/>
                </a:custDash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144320" y="1600200"/>
            <a:ext cx="45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Eras Bold ITC"/>
              </a:rPr>
              <a:t>can clean ears with its tong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347200" y="2819520"/>
            <a:ext cx="44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Eras Bold ITC"/>
              </a:rPr>
              <a:t>can jump as high as 3 met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472200" y="4267080"/>
            <a:ext cx="52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Eras Bold ITC"/>
              </a:rPr>
              <a:t>eats leaves and never drinks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819520" y="556272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Eras Bold ITC"/>
              </a:rPr>
              <a:t>body can be more than 3 meters lon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509200" y="16002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Eras Bold ITC"/>
              </a:rPr>
              <a:t>A gira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15360" y="281952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Eras Bold ITC"/>
              </a:rPr>
              <a:t>A kangar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972800" y="42670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Eras Bold ITC"/>
              </a:rPr>
              <a:t>A ko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714960" y="556272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Eras Bold ITC"/>
              </a:rPr>
              <a:t>An elephan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3506760" y="1600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1769400" y="2819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Eras Bold ITC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27432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Eras Bold ITC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2531520" y="54864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Eras Bold ITC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9" descr="1210144689_1169985180_jiraf15"/>
          <p:cNvPicPr/>
          <p:nvPr/>
        </p:nvPicPr>
        <p:blipFill>
          <a:blip r:embed="rId1"/>
          <a:stretch/>
        </p:blipFill>
        <p:spPr>
          <a:xfrm>
            <a:off x="7010280" y="2266920"/>
            <a:ext cx="1752840" cy="13129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149" name="Picture 21" descr="Картинка 3 из 873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429000"/>
            <a:ext cx="1314360" cy="175248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150" name="Picture 23" descr="Картинка 1 из 1525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1219320"/>
            <a:ext cx="1852560" cy="12333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151" name="Picture 25" descr="a9250effdaaa"/>
          <p:cNvPicPr/>
          <p:nvPr/>
        </p:nvPicPr>
        <p:blipFill>
          <a:blip r:embed="rId6"/>
          <a:stretch/>
        </p:blipFill>
        <p:spPr>
          <a:xfrm>
            <a:off x="7391520" y="4876920"/>
            <a:ext cx="1193760" cy="16761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E720-692D-4355-8BC0-47EE1402BC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39520" y="274680"/>
            <a:ext cx="17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686040" y="304920"/>
            <a:ext cx="17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5488920" y="33480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755000" y="1066680"/>
            <a:ext cx="170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l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740760" y="1066680"/>
            <a:ext cx="302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t the zo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752480" y="182880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3686040" y="1828800"/>
            <a:ext cx="17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5488920" y="182880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832760" y="2666880"/>
            <a:ext cx="207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bab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3968280" y="2666880"/>
            <a:ext cx="251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eph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556680" y="2666880"/>
            <a:ext cx="119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3686040" y="3429000"/>
            <a:ext cx="17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1755360" y="3429000"/>
            <a:ext cx="17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5565240" y="342900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1755360" y="4038480"/>
            <a:ext cx="156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b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3508560" y="4038480"/>
            <a:ext cx="136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959360" y="4038480"/>
            <a:ext cx="288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angaro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5638680" y="4724280"/>
            <a:ext cx="160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3"/>
          <p:cNvSpPr/>
          <p:nvPr/>
        </p:nvSpPr>
        <p:spPr>
          <a:xfrm>
            <a:off x="3683160" y="4800600"/>
            <a:ext cx="177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1752480" y="4800600"/>
            <a:ext cx="177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5"/>
          <p:cNvSpPr/>
          <p:nvPr/>
        </p:nvSpPr>
        <p:spPr>
          <a:xfrm>
            <a:off x="1755000" y="556272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sa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6"/>
          <p:cNvSpPr/>
          <p:nvPr/>
        </p:nvSpPr>
        <p:spPr>
          <a:xfrm>
            <a:off x="3591000" y="5562720"/>
            <a:ext cx="461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m at the Zo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B9D3-0A9D-487D-B76B-4C5C77F76A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609480" y="380880"/>
            <a:ext cx="8077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556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Is London Zoo one of the best zoos in the world?</a:t>
            </a:r>
            <a:endParaRPr b="0" lang="en-US" sz="3200" spc="1" strike="noStrike">
              <a:ln w="25560">
                <a:solidFill>
                  <a:srgbClr val="66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41360" y="47401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 rot="265200">
            <a:off x="1312920" y="1738440"/>
            <a:ext cx="70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t helps to save endangered animals and bi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 rot="21266400">
            <a:off x="328680" y="2678760"/>
            <a:ext cx="65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Visitors can see the animals at feeding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676520" y="38862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animals do not live in cages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756440" y="4876920"/>
            <a:ext cx="69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he zoo has over 5,000 different ins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" descr=""/>
          <p:cNvPicPr/>
          <p:nvPr/>
        </p:nvPicPr>
        <p:blipFill>
          <a:blip r:embed="rId1"/>
          <a:stretch/>
        </p:blipFill>
        <p:spPr>
          <a:xfrm>
            <a:off x="3129120" y="4419720"/>
            <a:ext cx="2885760" cy="190476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183" name="Picture 17" descr=""/>
          <p:cNvPicPr/>
          <p:nvPr/>
        </p:nvPicPr>
        <p:blipFill>
          <a:blip r:embed="rId2"/>
          <a:stretch/>
        </p:blipFill>
        <p:spPr>
          <a:xfrm>
            <a:off x="3073320" y="685800"/>
            <a:ext cx="2995560" cy="1849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84" name="Picture 20" descr=""/>
          <p:cNvPicPr/>
          <p:nvPr/>
        </p:nvPicPr>
        <p:blipFill>
          <a:blip r:embed="rId3"/>
          <a:stretch/>
        </p:blipFill>
        <p:spPr>
          <a:xfrm rot="20457600">
            <a:off x="151920" y="4114800"/>
            <a:ext cx="2819520" cy="2108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185" name="Picture 19" descr=""/>
          <p:cNvPicPr/>
          <p:nvPr/>
        </p:nvPicPr>
        <p:blipFill>
          <a:blip r:embed="rId4"/>
          <a:stretch/>
        </p:blipFill>
        <p:spPr>
          <a:xfrm rot="1140000">
            <a:off x="6172200" y="3962520"/>
            <a:ext cx="2971800" cy="222228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sp>
        <p:nvSpPr>
          <p:cNvPr id="18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1827-5B19-4FBB-AEE1-C3F2BF6A4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28600" y="152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4" descr="450px-London_Zoo_00887[1]"/>
          <p:cNvPicPr/>
          <p:nvPr/>
        </p:nvPicPr>
        <p:blipFill>
          <a:blip r:embed="rId5"/>
          <a:stretch/>
        </p:blipFill>
        <p:spPr>
          <a:xfrm rot="20650800">
            <a:off x="685800" y="398520"/>
            <a:ext cx="2158920" cy="287820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189" name="Picture 22" descr=""/>
          <p:cNvPicPr/>
          <p:nvPr/>
        </p:nvPicPr>
        <p:blipFill>
          <a:blip r:embed="rId6"/>
          <a:stretch/>
        </p:blipFill>
        <p:spPr>
          <a:xfrm>
            <a:off x="4800600" y="3276720"/>
            <a:ext cx="1905120" cy="190476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pic>
        <p:nvPicPr>
          <p:cNvPr id="190" name="Picture 18" descr=""/>
          <p:cNvPicPr/>
          <p:nvPr/>
        </p:nvPicPr>
        <p:blipFill>
          <a:blip r:embed="rId7"/>
          <a:stretch/>
        </p:blipFill>
        <p:spPr>
          <a:xfrm rot="1149600">
            <a:off x="6477120" y="533160"/>
            <a:ext cx="2031840" cy="304776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191" name="Picture 21" descr=""/>
          <p:cNvPicPr/>
          <p:nvPr/>
        </p:nvPicPr>
        <p:blipFill>
          <a:blip r:embed="rId8"/>
          <a:stretch/>
        </p:blipFill>
        <p:spPr>
          <a:xfrm>
            <a:off x="2666880" y="3124080"/>
            <a:ext cx="1905120" cy="19051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92" name="WordArt 15"/>
          <p:cNvSpPr txBox="1"/>
          <p:nvPr/>
        </p:nvSpPr>
        <p:spPr>
          <a:xfrm>
            <a:off x="762120" y="2724120"/>
            <a:ext cx="746748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47520">
                  <a:solidFill>
                    <a:srgbClr val="a50021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Be kind to animals!</a:t>
            </a:r>
            <a:endParaRPr b="0" lang="en-US" sz="3200" spc="1" strike="noStrike">
              <a:ln w="47520">
                <a:solidFill>
                  <a:srgbClr val="a50021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London_Z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en.wiki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enagold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jazztour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britishcouncil.org/ru/kids-so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britishcouncil.org/kid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zsl.org/zsl-london-zo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images.yandex.ru/yandsearch?text=London%20zoo&amp;stype=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DD0E-713A-47A5-8731-4B9B8CBF65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1211386156_westminster_palace"/>
          <p:cNvPicPr/>
          <p:nvPr/>
        </p:nvPicPr>
        <p:blipFill>
          <a:blip r:embed="rId1"/>
          <a:stretch/>
        </p:blipFill>
        <p:spPr>
          <a:xfrm>
            <a:off x="380880" y="333360"/>
            <a:ext cx="4800600" cy="35989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45" name="Rectangle 5"/>
          <p:cNvSpPr/>
          <p:nvPr/>
        </p:nvSpPr>
        <p:spPr>
          <a:xfrm>
            <a:off x="304920" y="257040"/>
            <a:ext cx="4952880" cy="3753000"/>
          </a:xfrm>
          <a:prstGeom prst="rect">
            <a:avLst/>
          </a:prstGeom>
          <a:solidFill>
            <a:srgbClr val="95f664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856800" y="746280"/>
            <a:ext cx="4042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Eras Bold ITC"/>
              </a:rPr>
              <a:t>This town is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Eras Bold ITC"/>
              </a:rPr>
              <a:t>capital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Eras Bold ITC"/>
              </a:rPr>
              <a:t>Great Britain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326600" y="1506600"/>
            <a:ext cx="282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Eras Bold ITC"/>
              </a:rPr>
              <a:t>LOND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543"/>
          <p:cNvPicPr/>
          <p:nvPr/>
        </p:nvPicPr>
        <p:blipFill>
          <a:blip r:embed="rId2"/>
          <a:srcRect l="0" t="0" r="3780" b="3702"/>
          <a:stretch/>
        </p:blipFill>
        <p:spPr>
          <a:xfrm>
            <a:off x="5943600" y="2895480"/>
            <a:ext cx="2749680" cy="37418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49" name="Rectangle 13"/>
          <p:cNvSpPr/>
          <p:nvPr/>
        </p:nvSpPr>
        <p:spPr>
          <a:xfrm>
            <a:off x="5867280" y="2819520"/>
            <a:ext cx="2971800" cy="3886200"/>
          </a:xfrm>
          <a:prstGeom prst="rect">
            <a:avLst/>
          </a:prstGeom>
          <a:solidFill>
            <a:srgbClr val="95f664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Eras Bold ITC"/>
              </a:rPr>
              <a:t>This is a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Eras Bold ITC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Eras Bold ITC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Eras Bold ITC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Eras Bold ITC"/>
              </a:rPr>
              <a:t>endange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Eras Bold ITC"/>
              </a:rPr>
              <a:t>animals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23C7-F7DA-41C5-AA05-72522F764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914400" y="1676520"/>
            <a:ext cx="78487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Is London Zoo </a:t>
            </a:r>
            <a:endParaRPr b="0" lang="en-US" sz="3200" spc="1" strike="noStrike">
              <a:ln w="22320">
                <a:solidFill>
                  <a:srgbClr val="66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one of the best zoos </a:t>
            </a:r>
            <a:endParaRPr b="0" lang="en-US" sz="3200" spc="1" strike="noStrike">
              <a:ln w="22320">
                <a:solidFill>
                  <a:srgbClr val="66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in the world?</a:t>
            </a:r>
            <a:endParaRPr b="0" lang="en-US" sz="3200" spc="1" strike="noStrike">
              <a:ln w="22320">
                <a:solidFill>
                  <a:srgbClr val="66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11"/>
          <p:cNvSpPr txBox="1"/>
          <p:nvPr/>
        </p:nvSpPr>
        <p:spPr>
          <a:xfrm>
            <a:off x="3143160" y="1143000"/>
            <a:ext cx="2857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animals</a:t>
            </a:r>
            <a:endParaRPr b="0" lang="en-US" sz="3200" spc="1" strike="noStrike">
              <a:ln w="2232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  <p:sp>
        <p:nvSpPr>
          <p:cNvPr id="53" name="WordArt 12"/>
          <p:cNvSpPr txBox="1"/>
          <p:nvPr/>
        </p:nvSpPr>
        <p:spPr>
          <a:xfrm>
            <a:off x="914400" y="1676520"/>
            <a:ext cx="1371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wild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  <p:sp>
        <p:nvSpPr>
          <p:cNvPr id="54" name="WordArt 13"/>
          <p:cNvSpPr txBox="1"/>
          <p:nvPr/>
        </p:nvSpPr>
        <p:spPr>
          <a:xfrm>
            <a:off x="6629400" y="160020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Eras Bold ITC"/>
              </a:rPr>
              <a:t>domestic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57200" y="4876920"/>
            <a:ext cx="13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991080" y="556272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z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2210760" y="487692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3600720" y="487692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mo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962520" y="251460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6021000" y="563868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rab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5412240" y="6278400"/>
            <a:ext cx="11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 flipV="1" rot="10843800">
            <a:off x="5943240" y="4875840"/>
            <a:ext cx="23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n elep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2287080" y="609588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ti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4573440" y="556272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2896920" y="556272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6477120" y="22096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 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9"/>
          <p:cNvSpPr/>
          <p:nvPr/>
        </p:nvSpPr>
        <p:spPr>
          <a:xfrm>
            <a:off x="7392600" y="2697120"/>
            <a:ext cx="11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 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0"/>
          <p:cNvSpPr/>
          <p:nvPr/>
        </p:nvSpPr>
        <p:spPr>
          <a:xfrm>
            <a:off x="991440" y="21337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 mo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1"/>
          <p:cNvSpPr/>
          <p:nvPr/>
        </p:nvSpPr>
        <p:spPr>
          <a:xfrm>
            <a:off x="228240" y="269712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n elep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2"/>
          <p:cNvSpPr/>
          <p:nvPr/>
        </p:nvSpPr>
        <p:spPr>
          <a:xfrm>
            <a:off x="1448640" y="327672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 z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3"/>
          <p:cNvSpPr/>
          <p:nvPr/>
        </p:nvSpPr>
        <p:spPr>
          <a:xfrm>
            <a:off x="6477840" y="327672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 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4"/>
          <p:cNvSpPr/>
          <p:nvPr/>
        </p:nvSpPr>
        <p:spPr>
          <a:xfrm>
            <a:off x="7391880" y="37339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6477480" y="426708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 rab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6"/>
          <p:cNvSpPr/>
          <p:nvPr/>
        </p:nvSpPr>
        <p:spPr>
          <a:xfrm>
            <a:off x="305640" y="3809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 ti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7"/>
          <p:cNvSpPr/>
          <p:nvPr/>
        </p:nvSpPr>
        <p:spPr>
          <a:xfrm>
            <a:off x="1600920" y="42670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990720" y="304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3600" spc="-1" strike="noStrike">
                <a:solidFill>
                  <a:srgbClr val="008000"/>
                </a:solidFill>
                <a:latin typeface="Arial Black"/>
              </a:rPr>
              <a:t>crocodil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is </a:t>
            </a:r>
            <a:r>
              <a:rPr b="0" lang="en-US" sz="3600" spc="-1" strike="noStrike">
                <a:solidFill>
                  <a:srgbClr val="0000cc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Arial Black"/>
              </a:rPr>
              <a:t>wild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anim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1"/>
          <p:cNvSpPr/>
          <p:nvPr/>
        </p:nvSpPr>
        <p:spPr>
          <a:xfrm rot="1401000">
            <a:off x="6094440" y="1444680"/>
            <a:ext cx="633240" cy="228600"/>
          </a:xfrm>
          <a:prstGeom prst="rightArrow">
            <a:avLst>
              <a:gd name="adj1" fmla="val 50000"/>
              <a:gd name="adj2" fmla="val 692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2"/>
          <p:cNvSpPr/>
          <p:nvPr/>
        </p:nvSpPr>
        <p:spPr>
          <a:xfrm flipH="1" rot="20212800">
            <a:off x="2345400" y="144936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4E7E-C977-4A51-8FF1-117827B818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Картинка 1 из 12211">
            <a:hlinkClick r:id="rId1"/>
          </p:cNvPr>
          <p:cNvPicPr/>
          <p:nvPr/>
        </p:nvPicPr>
        <p:blipFill>
          <a:blip r:embed="rId2"/>
          <a:srcRect l="9856" t="0" r="14387" b="0"/>
          <a:stretch/>
        </p:blipFill>
        <p:spPr>
          <a:xfrm>
            <a:off x="609480" y="1143000"/>
            <a:ext cx="1729080" cy="17146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81" name="Picture 4" descr="Картинка 1 из 47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800600"/>
            <a:ext cx="1206360" cy="14954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82" name="Picture 5" descr="Картинка 13 из 28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3200400"/>
            <a:ext cx="2590560" cy="1027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артинка 29 из 507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52680" y="1295280"/>
            <a:ext cx="2016360" cy="13604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84" name="Picture 7" descr="Картинка 12 из 44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9480" y="3429000"/>
            <a:ext cx="1828800" cy="1801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Картинка 13 из 1386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666880" y="4800600"/>
            <a:ext cx="1676520" cy="15224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86" name="Rectangle 9"/>
          <p:cNvSpPr/>
          <p:nvPr/>
        </p:nvSpPr>
        <p:spPr>
          <a:xfrm flipV="1" rot="2628600">
            <a:off x="2438280" y="5485320"/>
            <a:ext cx="213372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7651f6edd50e"/>
          <p:cNvPicPr/>
          <p:nvPr/>
        </p:nvPicPr>
        <p:blipFill>
          <a:blip r:embed="rId13"/>
          <a:srcRect l="36614" t="27378" r="36614" b="30921"/>
          <a:stretch/>
        </p:blipFill>
        <p:spPr>
          <a:xfrm>
            <a:off x="6934320" y="3429000"/>
            <a:ext cx="1609560" cy="1676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88" name="Picture 11" descr="Картинка 9 из 272">
            <a:hlinkClick r:id="rId14"/>
          </p:cNvPr>
          <p:cNvPicPr/>
          <p:nvPr/>
        </p:nvPicPr>
        <p:blipFill>
          <a:blip r:embed="rId15"/>
          <a:srcRect l="13510" t="12366" r="12383" b="12366"/>
          <a:stretch/>
        </p:blipFill>
        <p:spPr>
          <a:xfrm>
            <a:off x="6629400" y="1143000"/>
            <a:ext cx="1728720" cy="1752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89" name="Text Box 13"/>
          <p:cNvSpPr/>
          <p:nvPr/>
        </p:nvSpPr>
        <p:spPr>
          <a:xfrm>
            <a:off x="183024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4938480" y="1996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800244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1906560" y="46483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5487840" y="3657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3887640" y="5562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6097320" y="571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8231040" y="4572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22"/>
          <p:cNvSpPr txBox="1"/>
          <p:nvPr/>
        </p:nvSpPr>
        <p:spPr>
          <a:xfrm>
            <a:off x="1638360" y="304920"/>
            <a:ext cx="5867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latin typeface="Eras Bold ITC"/>
              </a:rPr>
              <a:t>Rules for Visitors</a:t>
            </a:r>
            <a:endParaRPr b="0" lang="en-US" sz="3200" spc="1" strike="noStrike">
              <a:ln w="22320">
                <a:solidFill>
                  <a:srgbClr val="663300"/>
                </a:solidFill>
                <a:miter/>
              </a:ln>
              <a:solidFill>
                <a:srgbClr val="ff9900"/>
              </a:solidFill>
              <a:latin typeface="Eras Bold ITC"/>
              <a:ea typeface="Eras Bold IT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1A7B-9E99-4D69-BAF1-81024718B1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Image2"/>
          <p:cNvPicPr/>
          <p:nvPr/>
        </p:nvPicPr>
        <p:blipFill>
          <a:blip r:embed="rId1"/>
          <a:stretch/>
        </p:blipFill>
        <p:spPr>
          <a:xfrm>
            <a:off x="1866960" y="1371600"/>
            <a:ext cx="5410080" cy="517536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2057400" y="304920"/>
            <a:ext cx="5372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latin typeface="Eras Bold ITC"/>
              </a:rPr>
              <a:t>Zookeeper</a:t>
            </a:r>
            <a:endParaRPr b="0" lang="en-US" sz="3200" spc="1" strike="noStrike">
              <a:ln w="22320">
                <a:solidFill>
                  <a:srgbClr val="663300"/>
                </a:solidFill>
                <a:miter/>
              </a:ln>
              <a:solidFill>
                <a:srgbClr val="ff9900"/>
              </a:solidFill>
              <a:latin typeface="Eras Bold ITC"/>
              <a:ea typeface="Eras Bold IT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Картинка 12 из 338522">
            <a:hlinkClick r:id="rId1"/>
          </p:cNvPr>
          <p:cNvPicPr/>
          <p:nvPr/>
        </p:nvPicPr>
        <p:blipFill>
          <a:blip r:embed="rId2"/>
          <a:stretch/>
        </p:blipFill>
        <p:spPr>
          <a:xfrm rot="19862400">
            <a:off x="533520" y="5028840"/>
            <a:ext cx="1447560" cy="1374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2" name="Picture 9" descr="123706"/>
          <p:cNvPicPr/>
          <p:nvPr/>
        </p:nvPicPr>
        <p:blipFill>
          <a:blip r:embed="rId3"/>
          <a:stretch/>
        </p:blipFill>
        <p:spPr>
          <a:xfrm rot="20052000">
            <a:off x="304920" y="380880"/>
            <a:ext cx="1676160" cy="1138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3" name="Picture 11" descr="Картинка 97 из 338522">
            <a:hlinkClick r:id="rId4"/>
          </p:cNvPr>
          <p:cNvPicPr/>
          <p:nvPr/>
        </p:nvPicPr>
        <p:blipFill>
          <a:blip r:embed="rId5"/>
          <a:stretch/>
        </p:blipFill>
        <p:spPr>
          <a:xfrm rot="1855800">
            <a:off x="7314840" y="5181480"/>
            <a:ext cx="1495440" cy="1201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4" name="Text Box 14"/>
          <p:cNvSpPr/>
          <p:nvPr/>
        </p:nvSpPr>
        <p:spPr>
          <a:xfrm>
            <a:off x="2895480" y="4876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1371600" y="16606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an visitors of the zoo see the animals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t feeding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1447920" y="1660680"/>
            <a:ext cx="601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ee the anima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visitors of the zo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eeding time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a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209680" y="28195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ome with m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y of the baby animals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an I tak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2286000" y="2819520"/>
            <a:ext cx="64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n I take any of the baby animals home with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1075320" y="3886200"/>
            <a:ext cx="73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hat is the Zoological Society of Lond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1151640" y="3962520"/>
            <a:ext cx="73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Zoological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what i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of London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ciety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13"/>
          <p:cNvSpPr txBox="1"/>
          <p:nvPr/>
        </p:nvSpPr>
        <p:spPr>
          <a:xfrm>
            <a:off x="2514600" y="45720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3168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ras Bold ITC"/>
              </a:rPr>
              <a:t>Help the Zookeeper</a:t>
            </a:r>
            <a:endParaRPr b="0" lang="en-US" sz="3200" spc="1" strike="noStrike">
              <a:ln w="31680">
                <a:solidFill>
                  <a:srgbClr val="6633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A21E-EC79-4CC4-ACDD-8F22F6409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952880" y="1371600"/>
            <a:ext cx="38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Exotic animals were first taken to Britain in the thirteenth century when 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King Henry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 III</a:t>
            </a: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received a gift of 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3 leopards.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28600" y="476280"/>
            <a:ext cx="4581360" cy="56005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5EC3-2539-4F4F-B289-EC25C65590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4920" y="1522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The animals lived in 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the Tower of London</a:t>
            </a: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 in a special place.</a:t>
            </a:r>
            <a:r>
              <a:rPr b="0" lang="en-US" sz="3200" spc="-1" strike="noStrike">
                <a:solidFill>
                  <a:srgbClr val="a50021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4-01T16:29:01Z</dcterms:modified>
  <cp:revision>1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