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  <p:custShowLst>
    <p:custShow name="Произвольный показ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</p:sldLst>
    </p:custShow>
    <p:custShow name="Произвольный показ 2" id="1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</p:sldLst>
    </p:custShow>
    <p:custShow name="Копия  Произвольный показ 2" id="2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0346-A30A-4F38-A238-FDA54395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B4EE-3C00-4CEC-9EE0-1810BF0F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4E52-A643-4C3E-A606-2FAA144B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813-7D3C-40B8-B666-3BDA2A5A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937D-1E5C-4605-8E12-6A9A57E6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1692-DCA7-4216-A5E0-CBBD96D9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E745-B0FA-445B-B528-F43FC19E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71D9-AC1B-4407-B9F0-CB82C250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4FAD-3703-4566-AF09-FC0FCA89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47CE-E9CB-4BA2-B3BB-97171E51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186D-2733-47F3-9F24-D170F580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9AB6-308C-4451-8B83-9DE08147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6700-F863-4ECC-8231-2D5242A9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7518-ED7D-455A-A3BD-B1E141DD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0ABD-B941-4641-8EE1-F04A2302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A89D-F304-40E1-9419-9A323AB7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507D-AF0C-4949-A901-BD3E751A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53E-604D-4814-A7B3-5CE7A1A6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DD66-07FE-4CA0-BF51-BAF58A70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178E-18BA-4EAB-A647-31148732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50BB-280B-47F3-911D-30D4496E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B2F-ED8F-44FE-A76C-E6A81DAD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B3AF-915A-4B96-A125-0CE6C48C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9FA-E1EB-4A9A-B90B-11CAB81C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869B-9A5B-4C56-A5C0-06B80561268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4ABD-A45A-47E9-9FC1-9A54F003019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Масленица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20574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водим зиму скоро мы —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 масленицу — встретим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к рады все уже весне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взрослые, и дети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лины пекут хозяюшки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с маслицем, и с медом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тоб дружная была весна —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мкнемся хороводом!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еселый праздник — масленица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всем уж на подходе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ы ждем вас к себе в гости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ля встречи есть ведь повод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381560" y="20955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06:22:04Z</dcterms:created>
  <dc:creator>Nikolai</dc:creator>
  <dc:description/>
  <dc:language>en-US</dc:language>
  <cp:lastModifiedBy>Nikolai</cp:lastModifiedBy>
  <dcterms:modified xsi:type="dcterms:W3CDTF">2015-02-15T14:52:5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