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Произвольный показ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Копия  Произвольный показ 2" id="2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2E7-F097-4CE6-AB76-1D3CF9EB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6CD-AC9A-45F4-9D39-BABDF4E9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072-E15E-4691-9CF7-746AF6A4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5F7-B198-42CC-AD41-A6301446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9D0B-7B9C-4914-B01F-86649D57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6AF4-D9CF-4FA4-B1D1-7AC39FEF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1A9-3120-4E52-B68F-2AC74696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ED38-5B0B-42D8-87CC-AB43AC33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956-2CA3-4BD8-A5D6-30323EF2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524-4D5B-4E3F-88A9-76BB9C3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A0FC-F2EB-4F32-98A6-F9F083F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154-B164-49B1-B873-906AC7CC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4DDB-7ADF-4B97-AFC7-120604C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C21A-B6FA-4DA5-81F9-2572363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9D6-7B73-4EB5-BEA0-04F5237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2DDC-4108-4175-8F03-B73D5CC1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7FC-97BF-4243-A617-F3A7EBA2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F32-00D2-4A58-B813-CC70F3A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6C3-C571-451E-94C7-9F0FFC3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920-E776-4D12-BCB5-8B6D01A5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FB9-736D-49C7-9D71-66F82503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CAB-1DC7-4511-BB3C-99DFCA3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D1B-4D2F-447C-B926-7B3030E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DA1-95E8-4B5E-907D-8C7543E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C40-2277-47CF-AD63-6AE494F134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EB5B-B8A5-4047-A917-D3FBC890E3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Маслениц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20574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одим зиму скоро мы —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масленицу — встрети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рады все уже весне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взрослые, и дет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лины пекут хозяюшк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с маслицем, и с медо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б дружная была весна —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мкнемся хороводом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селый праздник — масленица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сем уж на подход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ждем вас к себе в гост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встречи есть ведь повод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6:22:04Z</dcterms:created>
  <dc:creator>Nikolai</dc:creator>
  <dc:description/>
  <dc:language>en-US</dc:language>
  <cp:lastModifiedBy>Nikolai</cp:lastModifiedBy>
  <dcterms:modified xsi:type="dcterms:W3CDTF">2015-02-15T14:52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