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38B-118A-4F4C-A4BF-795A6A2B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7FD-1978-4F32-B0DC-4F353E4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9EF-8E99-4551-A091-A6FC0E78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C5F-7562-48E4-8B17-5A80BFED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D8F-88EA-46A3-84AF-109E1486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AB7-66A8-4D90-84ED-FC317EF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C61-5E83-4A0A-A2AF-89AB62F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F8E-588F-434A-A47C-B437A2CA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B15-E530-48AD-B13D-A54E42D5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DE1-5524-4C99-82DD-6AB466D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397-51BB-4DF4-8E3A-D1B3667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CCA-3314-4CD5-A465-F1AC9C71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4F51-B570-416E-AA6A-373438CCC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Мастер-класс: «Валяние шерстью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84720" y="1599840"/>
            <a:ext cx="30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ла и провела учитель технолог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тегории Макаренко Рауза Шами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User\Рабочий стол\день посёлка\2679581.jpg"/>
          <p:cNvPicPr/>
          <p:nvPr/>
        </p:nvPicPr>
        <p:blipFill>
          <a:blip r:embed="rId1"/>
          <a:stretch/>
        </p:blipFill>
        <p:spPr>
          <a:xfrm>
            <a:off x="0" y="1353960"/>
            <a:ext cx="604836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следовательность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Застелите рабочее место пупырчатой плёнкой и поместите на неё шабл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Расположите слой кусочков шерсти, располагая волокна в одну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Переверните шаблон и повтор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Выполните второй слой настила, располагая волокна перпендикулярно волокнам первого сл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ереверните шаблон и повтор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ите нужное количество слоёв (3-4 сло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691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Закрываем настил сеткой сбрызгиваем мыльным раствором и делаем разглаживающие дв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Перевернули на другую сторону, края шерсти, подвернули и повторяем пункт 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Сваливаем ( уплотняем) деталь с двух сто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Разрезаем деталь посередине и вынимаем шаб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03640" y="476280"/>
            <a:ext cx="5256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Сваливаем  изделие руками, придавая изделию желаемую фор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User\Рабочий стол\день посёлка\13.JPG"/>
          <p:cNvPicPr/>
          <p:nvPr/>
        </p:nvPicPr>
        <p:blipFill>
          <a:blip r:embed="rId1"/>
          <a:srcRect l="0" t="3801" r="71264" b="67853"/>
          <a:stretch/>
        </p:blipFill>
        <p:spPr>
          <a:xfrm>
            <a:off x="0" y="0"/>
            <a:ext cx="3211560" cy="2376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492360" y="2637000"/>
            <a:ext cx="47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.Сполоснуть изделие и оставить су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делие гот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User\Рабочий стол\день посёлка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50920" y="1916280"/>
            <a:ext cx="88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Шерсть в изделии не должна быть рыхлой, должна быть плот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95280" y="26028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верка качества рабо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глубины ве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3683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тория этого необыкновенного вида рукоделия уходит корнями в далёкое прошло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гласно легенде возникновение первого валяного изделия  связано с Великим потоп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3858" t="30202" r="43567" b="31441"/>
          <a:stretch/>
        </p:blipFill>
        <p:spPr>
          <a:xfrm>
            <a:off x="4221000" y="1628640"/>
            <a:ext cx="4923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Documents and Settings\User\Рабочий стол\день посёлка\история-валя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валя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62028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ают два вида валяния шерсти – сухое и мокр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хое валяние применяется для создания объёмных изделий – игрушек, бижутерии, фигурок, а также нанесения рисунков и узоров на войлок, фетр и предварительно сваленные подел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User\Рабочий стол\день посёлка\big-t2-71.jpg"/>
          <p:cNvPicPr/>
          <p:nvPr/>
        </p:nvPicPr>
        <p:blipFill>
          <a:blip r:embed="rId1"/>
          <a:stretch/>
        </p:blipFill>
        <p:spPr>
          <a:xfrm>
            <a:off x="2771640" y="4226040"/>
            <a:ext cx="37450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24000" y="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крое – данная техника позволяет изготавливать  плоские вещи:  панно, одежду, коврики. Всё, что нужно для этого, это шерсть, мыло и тёпл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User\Рабочий стол\день посёлка\60174997.jpg"/>
          <p:cNvPicPr/>
          <p:nvPr/>
        </p:nvPicPr>
        <p:blipFill>
          <a:blip r:embed="rId1"/>
          <a:stretch/>
        </p:blipFill>
        <p:spPr>
          <a:xfrm>
            <a:off x="1547640" y="2070000"/>
            <a:ext cx="6337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User\Рабочий стол\день посёлка\1393340.4-261x300.jpg"/>
          <p:cNvPicPr/>
          <p:nvPr/>
        </p:nvPicPr>
        <p:blipFill>
          <a:blip r:embed="rId1"/>
          <a:stretch/>
        </p:blipFill>
        <p:spPr>
          <a:xfrm>
            <a:off x="2128680" y="620640"/>
            <a:ext cx="518004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\Рабочий стол\день посёлка\dsc03353.jpg"/>
          <p:cNvPicPr/>
          <p:nvPr/>
        </p:nvPicPr>
        <p:blipFill>
          <a:blip r:embed="rId1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User\Рабочий стол\день посёлка\d76542e58ab91c318765d17b3bff0a17_h.jpg"/>
          <p:cNvPicPr/>
          <p:nvPr/>
        </p:nvPicPr>
        <p:blipFill>
          <a:blip r:embed="rId2"/>
          <a:stretch/>
        </p:blipFill>
        <p:spPr>
          <a:xfrm>
            <a:off x="395280" y="333360"/>
            <a:ext cx="3816360" cy="31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User\Рабочий стол\день посёлка\J-TiNO1PKg.jpg"/>
          <p:cNvPicPr/>
          <p:nvPr/>
        </p:nvPicPr>
        <p:blipFill>
          <a:blip r:embed="rId3"/>
          <a:stretch/>
        </p:blipFill>
        <p:spPr>
          <a:xfrm>
            <a:off x="0" y="3860640"/>
            <a:ext cx="43513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User\Рабочий стол\день посёлка\kAJeTVx5lwk-300x224.jpg"/>
          <p:cNvPicPr/>
          <p:nvPr/>
        </p:nvPicPr>
        <p:blipFill>
          <a:blip r:embed="rId1"/>
          <a:stretch/>
        </p:blipFill>
        <p:spPr>
          <a:xfrm>
            <a:off x="4359240" y="0"/>
            <a:ext cx="4784760" cy="357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User\Рабочий стол\день посёлка\evdhT7FVtLc.jpg"/>
          <p:cNvPicPr/>
          <p:nvPr/>
        </p:nvPicPr>
        <p:blipFill>
          <a:blip r:embed="rId2"/>
          <a:stretch/>
        </p:blipFill>
        <p:spPr>
          <a:xfrm>
            <a:off x="0" y="765000"/>
            <a:ext cx="43797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39640" y="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териалы для валяния сувенирных вал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User\Рабочий стол\день посёлка\mFLA0500.png"/>
          <p:cNvPicPr/>
          <p:nvPr/>
        </p:nvPicPr>
        <p:blipFill>
          <a:blip r:embed="rId1"/>
          <a:stretch/>
        </p:blipFill>
        <p:spPr>
          <a:xfrm>
            <a:off x="6588000" y="1325520"/>
            <a:ext cx="2160720" cy="24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User\Рабочий стол\день посёлка\moskitsetka.jpg"/>
          <p:cNvPicPr/>
          <p:nvPr/>
        </p:nvPicPr>
        <p:blipFill>
          <a:blip r:embed="rId2"/>
          <a:stretch/>
        </p:blipFill>
        <p:spPr>
          <a:xfrm>
            <a:off x="-96840" y="3573360"/>
            <a:ext cx="2558880" cy="187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User\Рабочий стол\день посёлка\air-bubble-2.jpg"/>
          <p:cNvPicPr/>
          <p:nvPr/>
        </p:nvPicPr>
        <p:blipFill>
          <a:blip r:embed="rId3"/>
          <a:stretch/>
        </p:blipFill>
        <p:spPr>
          <a:xfrm>
            <a:off x="0" y="981000"/>
            <a:ext cx="2124000" cy="1874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268360" y="98100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пырчатая пл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211640" y="2492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дкое м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2340000" y="3860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итная сетка, или сетка для подъюб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User\Рабочий стол\день посёлка\g3591055302.jpg"/>
          <p:cNvPicPr/>
          <p:nvPr/>
        </p:nvPicPr>
        <p:blipFill>
          <a:blip r:embed="rId4"/>
          <a:stretch/>
        </p:blipFill>
        <p:spPr>
          <a:xfrm>
            <a:off x="6732720" y="4446720"/>
            <a:ext cx="2411280" cy="2411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4067280" y="5661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сть для вал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5:38:35Z</dcterms:created>
  <dc:creator>User</dc:creator>
  <dc:description/>
  <dc:language>en-US</dc:language>
  <cp:lastModifiedBy>User</cp:lastModifiedBy>
  <dcterms:modified xsi:type="dcterms:W3CDTF">2015-10-15T09:59:41Z</dcterms:modified>
  <cp:revision>33</cp:revision>
  <dc:subject/>
  <dc:title>Слайд 1</dc:title>
</cp:coreProperties>
</file>