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BD9-A887-4FCB-B4BA-9163B990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FEE-709D-4B04-9C6F-2B2405FA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6BE-E7AE-4FF7-89A1-7DB28C6C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770-5223-4DE9-A568-4085F2D9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52B-6E6E-469C-904F-71583B89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85DD-C6F1-4326-883D-7B7E35B6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D01-3E36-4546-8C99-115345D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DB4-49ED-421F-A8DC-DCE6CB6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362B-13F5-4056-B247-9E7861B9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D15-566F-49E4-A74B-E4BFDC2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9EA2-7E7E-4BD2-8A2B-45C31BC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5DC-84C7-47DF-B3CC-BF0B9224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A56-2097-4DDA-A0C9-7EF19AA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5B00-8BB4-415E-B3C7-A10243F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D25-BC13-4295-A15B-027EEAD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AB3D-89E1-4C3C-A136-83230930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310B-680C-4B11-A52F-BDEE7798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3BB-2567-4A65-9F70-037F157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30A-A1E8-43BE-A4F3-7DD447B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356-496C-4886-BC8F-16E0672D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8A0-5B5C-4125-9AC3-3FA5D9F0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793-6E9C-47BB-A31A-9D8EEB3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1ED-416A-4BD2-9E42-45B436E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586-C1E8-4217-85D1-6DB1077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858-9BB8-47CB-B93C-162DDCBF9B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575-9E47-4B8D-B453-80DB877C47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Я - Россиянин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ОД «Мой город – Набережные Челн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щерет Т. 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тшина Ф. 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меянова В Э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БДОУ № 84 « Серебряное копытце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бережные Чел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4032360" cy="295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564000" y="5013360"/>
            <a:ext cx="2876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лица Центральн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60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спект имен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сы Джалил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27280" cy="36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52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ощадь Азатлы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073320" cy="208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3051000" cy="230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3024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знес - Цент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590920" cy="2194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1944720" cy="250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260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юбимое место отдыха детей и взрослы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657520" cy="208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02400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3168720" cy="184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203640" y="321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580000" y="4581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Я          Челны    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2200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4:34:22Z</dcterms:created>
  <dc:creator>Ирина</dc:creator>
  <dc:description/>
  <dc:language>en-US</dc:language>
  <cp:lastModifiedBy>Ирина</cp:lastModifiedBy>
  <dcterms:modified xsi:type="dcterms:W3CDTF">2015-03-09T15:43:48Z</dcterms:modified>
  <cp:revision>35</cp:revision>
  <dc:subject/>
  <dc:title>Набережные Челны</dc:title>
</cp:coreProperties>
</file>