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CA5-2DF0-411E-B59A-23B9ADC1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A30-4A1B-46CE-A51F-4CD2C4EE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B75-C509-49BD-B543-D6E0BD6C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144-D425-44EA-9F0B-4ACD3ED5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123B-6C9A-440C-A8AD-7A42D193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88B9-04DF-417B-B583-5D256968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A289-6C76-4556-B4A6-D85D1A71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AA8-DFB8-4121-8EDF-854E8BBA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B3C5-826D-4C3F-92D3-4DDE1608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D792-FC02-4261-8F1C-2A8657F8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EBB8-74FF-44ED-B769-F4A335A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5B3-FDED-4FD0-840B-E4D1DDDC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4BE9-FC7D-4302-9309-212AECF5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B78D-008E-434A-9C48-BC2004E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79A1-393F-4202-AC9E-2DBE6534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A514-1223-4499-B914-119C0247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3F4B-6861-40FD-8152-25C45600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64D-35D5-414E-8111-9010149F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61B-88D6-43D3-BB50-8360102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472-997E-4BCA-B4A6-05917B3F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5AC-6C9D-4B77-95B7-502BCC73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A0E-E833-4043-95FA-4F61752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1D0-ECDB-4A38-AAC7-F321B407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54F-F650-4C8D-B6F7-C0336B00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FA61-AD48-437A-AFB5-19C1AE53F0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F5D5-FA17-4CF2-957C-90A7E4AD7B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Я - Россиянин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500280"/>
            <a:ext cx="60325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ОД «Мой город – Набережные Челн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ил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щерет Т. 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ртшина Ф. 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смеянова В Э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БДОУ № 84 « Серебряное копытце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бережные Челн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808360" cy="3600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4032360" cy="295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564000" y="5013360"/>
            <a:ext cx="2876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лица Центральн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743280" cy="345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60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спект имен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усы Джалил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527280" cy="36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52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ощадь Азатлы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073320" cy="2089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0" y="4149720"/>
            <a:ext cx="3051000" cy="230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3024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изнес - Цент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590920" cy="2194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1944720" cy="250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2600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юбимое место отдыха детей и взрослы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2657520" cy="2089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024000" cy="2160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3168720" cy="1847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203640" y="321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580000" y="458136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Я          Челны     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2200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4:34:22Z</dcterms:created>
  <dc:creator>Ирина</dc:creator>
  <dc:description/>
  <dc:language>en-US</dc:language>
  <cp:lastModifiedBy>Ирина</cp:lastModifiedBy>
  <dcterms:modified xsi:type="dcterms:W3CDTF">2015-03-09T15:43:48Z</dcterms:modified>
  <cp:revision>35</cp:revision>
  <dc:subject/>
  <dc:title>Набережные Челны</dc:title>
</cp:coreProperties>
</file>