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5DB-E79F-4E65-A365-D5E03D5E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B88-C551-4889-BE3D-D8469FD7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BAA-3610-40CD-84E7-37D44686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5FD-BC7B-4B93-9153-9DFFBEBA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5F6-D776-44AB-B76A-5A14B7A9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21C-B1D0-41D8-92F6-FC9CFA66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818-DEA1-4386-BA59-B22328B4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C36-94C4-45BA-A2EC-36460639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1A7-21F9-4760-8D67-A2110315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61A-5EE0-4DBF-85A5-A4ECA2E5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1F3-315E-45AC-B071-64DB2151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FFD-61C5-45B5-9A1F-88B46453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942F-A732-4E9C-85CF-45F0C9B57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57200" y="30492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казен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ннинская средняя общеобразовательная школ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г.т. Анна Воронеж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200400" y="5257800"/>
            <a:ext cx="53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окопытова Марина Николаевна,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905120" y="2666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математики в 1 классе «Число и цифра нул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6600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ветка.png"/>
          <p:cNvPicPr/>
          <p:nvPr/>
        </p:nvPicPr>
        <p:blipFill>
          <a:blip r:embed="rId1"/>
          <a:stretch/>
        </p:blipFill>
        <p:spPr>
          <a:xfrm rot="19032600">
            <a:off x="6259320" y="944640"/>
            <a:ext cx="2590560" cy="351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ist"/>
          <p:cNvPicPr/>
          <p:nvPr/>
        </p:nvPicPr>
        <p:blipFill>
          <a:blip r:embed="rId2"/>
          <a:stretch/>
        </p:blipFill>
        <p:spPr>
          <a:xfrm rot="17082600">
            <a:off x="4971240" y="2072160"/>
            <a:ext cx="718920" cy="6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list"/>
          <p:cNvPicPr/>
          <p:nvPr/>
        </p:nvPicPr>
        <p:blipFill>
          <a:blip r:embed="rId3"/>
          <a:stretch/>
        </p:blipFill>
        <p:spPr>
          <a:xfrm rot="13587600">
            <a:off x="8182440" y="2986200"/>
            <a:ext cx="718920" cy="6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list"/>
          <p:cNvPicPr/>
          <p:nvPr/>
        </p:nvPicPr>
        <p:blipFill>
          <a:blip r:embed="rId4"/>
          <a:stretch/>
        </p:blipFill>
        <p:spPr>
          <a:xfrm>
            <a:off x="8001000" y="175248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list"/>
          <p:cNvPicPr/>
          <p:nvPr/>
        </p:nvPicPr>
        <p:blipFill>
          <a:blip r:embed="rId5"/>
          <a:stretch/>
        </p:blipFill>
        <p:spPr>
          <a:xfrm rot="13060800">
            <a:off x="7194240" y="2671560"/>
            <a:ext cx="718920" cy="599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list"/>
          <p:cNvPicPr/>
          <p:nvPr/>
        </p:nvPicPr>
        <p:blipFill>
          <a:blip r:embed="rId6"/>
          <a:stretch/>
        </p:blipFill>
        <p:spPr>
          <a:xfrm rot="14227800">
            <a:off x="6107760" y="328824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птиц4.gif"/>
          <p:cNvPicPr/>
          <p:nvPr/>
        </p:nvPicPr>
        <p:blipFill>
          <a:blip r:embed="rId7"/>
          <a:stretch/>
        </p:blipFill>
        <p:spPr>
          <a:xfrm>
            <a:off x="5638680" y="182880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4" descr="птиц4.gif"/>
          <p:cNvPicPr/>
          <p:nvPr/>
        </p:nvPicPr>
        <p:blipFill>
          <a:blip r:embed="rId8"/>
          <a:stretch/>
        </p:blipFill>
        <p:spPr>
          <a:xfrm>
            <a:off x="6477120" y="2133720"/>
            <a:ext cx="761760" cy="8474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5" descr="птиц4.gif"/>
          <p:cNvPicPr/>
          <p:nvPr/>
        </p:nvPicPr>
        <p:blipFill>
          <a:blip r:embed="rId9"/>
          <a:stretch/>
        </p:blipFill>
        <p:spPr>
          <a:xfrm>
            <a:off x="7543800" y="1752480"/>
            <a:ext cx="762120" cy="847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1676520" y="304920"/>
            <a:ext cx="17524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0.00973 C -0.00712 0.01111 -0.01441 0.01343 -0.02257 0.01482 C -0.03056 0.02199 -0.03837 0.03079 -0.04375 0.04144 C -0.04914 0.06412 -0.04653 0.09861 -0.03629 0.11991 C -0.03594 0.12199 -0.03577 0.12431 -0.03507 0.12639 C -0.03438 0.12824 -0.03264 0.1294 -0.03247 0.13148 C -0.03177 0.14491 -0.03212 0.15718 -0.0375 0.16806 C -0.04063 0.18102 -0.03594 0.16551 -0.04254 0.17639 C -0.04341 0.17778 -0.04306 0.1801 -0.04375 0.18148 C -0.04827 0.19051 -0.05521 0.19792 -0.06007 0.20648 C -0.0691 0.22246 -0.06129 0.21158 -0.06754 0.21991 C -0.0698 0.22871 -0.0658 0.23125 -0.0625 0.2382 C -0.06285 0.27547 -0.06216 0.31273 -0.06372 0.34977 C -0.06389 0.35255 -0.0665 0.35417 -0.06754 0.35648 C -0.07292 0.36806 -0.08125 0.38403 -0.09132 0.3882 C -0.09844 0.39468 -0.104 0.40371 -0.11129 0.40973 C -0.11233 0.41065 -0.11372 0.41088 -0.11493 0.41158 C -0.11632 0.4125 -0.11754 0.41366 -0.11875 0.41482 C -0.12101 0.41968 -0.12431 0.42315 -0.12622 0.42824 C -0.12674 0.42986 -0.12674 0.43172 -0.12743 0.43311 C -0.12934 0.43727 -0.13368 0.44491 -0.13368 0.44514 C -0.13785 0.46459 -0.15035 0.48102 -0.16372 0.48982 C -0.16511 0.49074 -0.16598 0.49283 -0.16754 0.49306 C -0.17917 0.49468 -0.1908 0.49422 -0.20243 0.49491 C -0.20903 0.49699 -0.2165 0.49908 -0.22257 0.50324 C -0.22726 0.50648 -0.2283 0.50949 -0.23368 0.51158 C -0.24132 0.5213 -0.23316 0.51204 -0.24375 0.51991 C -0.24775 0.52292 -0.2507 0.52732 -0.25382 0.53148 C -0.25712 0.53588 -0.26042 0.54051 -0.26372 0.54491 C -0.26459 0.54607 -0.26632 0.54815 -0.26632 0.54838 E">
                                      <p:cBhvr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0741E-007 C -0.00487 0.00162 -0.00782 0.00463 -0.01251 0.00671 C -0.02101 0.01736 -0.00869 0.00278 -0.01876 0.01181 C -0.02709 0.01921 -0.03421 0.02917 -0.04254 0.03681 C -0.04914 0.04282 -0.06355 0.04259 -0.06997 0.04329 C -0.08264 0.04931 -0.09723 0.04769 -0.11007 0.04838 C -0.15626 0.05694 -0.20278 0.05833 -0.24879 0.06829 C -0.25938 0.07315 -0.27084 0.07616 -0.28126 0.08171 C -0.28681 0.08472 -0.29219 0.08819 -0.29757 0.09167 C -0.30296 0.09537 -0.30573 0.10093 -0.31129 0.10347 C -0.32014 0.11528 -0.31719 0.10926 -0.32136 0.12014 C -0.31858 0.13357 -0.31164 0.14583 -0.30504 0.15671 C -0.29115 0.1794 -0.27709 0.20023 -0.25626 0.21181 C -0.24549 0.22616 -0.22084 0.22269 -0.20886 0.22338 C -0.19462 0.22708 -0.17952 0.22708 -0.16511 0.22847 C -0.15382 0.23148 -0.14271 0.23357 -0.13126 0.23495 C -0.12292 0.23704 -0.11459 0.23982 -0.10626 0.24167 C -0.09462 0.24815 -0.10504 0.24282 -0.09497 0.24676 C -0.09254 0.24769 -0.08751 0.25 -0.08751 0.25 C -0.08126 0.25602 -0.0816 0.25857 -0.07761 0.26667 C -0.07882 0.27338 -0.07935 0.28032 -0.08126 0.28681 C -0.08195 0.28889 -0.08733 0.29375 -0.08872 0.29514 C -0.09566 0.30139 -0.10348 0.30509 -0.11129 0.30833 C -0.1158 0.3125 -0.12101 0.31597 -0.12622 0.31829 C -0.1349 0.32593 -0.13091 0.32361 -0.13751 0.32662 C -0.14098 0.32986 -0.14393 0.3338 -0.14757 0.33681 C -0.15018 0.33889 -0.15348 0.33982 -0.15626 0.34167 C -0.16251 0.35 -0.15487 0.34074 -0.16251 0.34676 C -0.1658 0.34931 -0.1691 0.35625 -0.17136 0.35995 C -0.17535 0.37639 -0.17379 0.36667 -0.17379 0.39005 E">
                                      <p:cBhvr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741E-006 C -0.0019 0.00741 -0.00659 0.01204 -0.01006 0.01829 C -0.0118 0.02153 -0.0151 0.02825 -0.0151 0.02825 C -0.01649 0.0338 -0.02135 0.04329 -0.02135 0.04329 C -0.02291 0.04954 -0.02604 0.05602 -0.02881 0.06158 C -0.03177 0.07385 -0.03524 0.08565 -0.0375 0.09815 C -0.03576 0.14445 -0.02482 0.19792 -0.04635 0.2382 C -0.04913 0.25024 -0.06024 0.2595 -0.06875 0.2632 C -0.08142 0.27454 -0.0901 0.28982 -0.1 0.30487 C -0.1059 0.31389 -0.11197 0.32177 -0.1151 0.33334 C -0.11545 0.35325 -0.11562 0.37339 -0.11631 0.39329 C -0.11666 0.40186 -0.11788 0.4132 -0.11996 0.42153 C -0.12083 0.42477 -0.12256 0.43149 -0.12256 0.43149 C -0.12187 0.44005 -0.12222 0.45116 -0.11753 0.45834 E">
                                      <p:cBhvr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8.51852E-006 C 0.0026 -0.01019 -0.00087 -0.01297 -0.00503 -0.01991 C -0.00955 -0.02732 -0.01458 -0.03542 -0.02118 -0.03982 C -0.02917 -0.04514 -0.03906 -0.04538 -0.04757 -0.04815 C -0.06285 -0.047 -0.0684 -0.04607 -0.08125 -0.04329 C -0.09583 -0.0301 -0.07361 -0.0507 -0.08872 -0.03496 C -0.09497 -0.02848 -0.1026 -0.02477 -0.10868 -0.01829 C -0.11493 -0.01158 -0.12049 -0.00417 -0.12622 0.00347 C -0.12986 0.00833 -0.13316 0.01319 -0.13628 0.01851 C -0.13802 0.02175 -0.13958 0.02523 -0.14132 0.02847 C -0.14219 0.03009 -0.14375 0.03333 -0.14375 0.03333 C -0.14531 0.03981 -0.14774 0.04698 -0.15122 0.05185 C -0.15243 0.05856 -0.15434 0.06249 -0.15625 0.06851 C -0.16146 0.08472 -0.15573 0.07314 -0.16128 0.08333 C -0.16424 0.09999 -0.16319 0.09212 -0.16493 0.10671 C -0.16406 0.12615 -0.16632 0.13587 -0.15868 0.14999 C -0.15677 0.1581 -0.15208 0.16342 -0.14878 0.17013 C -0.14149 0.18495 -0.13455 0.19953 -0.12622 0.21342 C -0.12465 0.21597 -0.11771 0.22847 -0.11632 0.23171 C -0.11562 0.23333 -0.1158 0.23541 -0.11493 0.2368 C -0.11267 0.2405 -0.10747 0.24675 -0.10747 0.24675 C -0.10469 0.25833 -0.10868 0.24444 -0.10122 0.25833 C -0.09965 0.26134 -0.09913 0.26527 -0.09757 0.26851 C -0.09705 0.2706 -0.0967 0.27291 -0.09618 0.27499 C -0.09549 0.27847 -0.09375 0.28518 -0.09375 0.28518 C -0.0941 0.29745 -0.09427 0.30948 -0.09497 0.32175 C -0.09635 0.3449 -0.12292 0.353 -0.13628 0.35347 C -0.16424 0.35439 -0.19201 0.35462 -0.21997 0.35509 C -0.23542 0.35995 -0.21094 0.35254 -0.24878 0.35833 C -0.25226 0.35879 -0.25868 0.3618 -0.25868 0.3618 C -0.26319 0.36573 -0.26788 0.36666 -0.27257 0.37013 C -0.2776 0.37384 -0.28316 0.38078 -0.28872 0.38333 C -0.2934 0.38958 -0.2967 0.39698 -0.30122 0.40347 C -0.29844 0.41458 -0.29531 0.42499 -0.28872 0.43333 C -0.28628 0.44328 -0.28906 0.43472 -0.28125 0.44675 C -0.27656 0.45416 -0.27274 0.46157 -0.26753 0.46851 C -0.26007 0.47847 -0.27049 0.46828 -0.26128 0.47847 C -0.25226 0.48865 -0.2401 0.49398 -0.23003 0.50185 C -0.22205 0.5081 -0.21406 0.51365 -0.20503 0.51666 C -0.2 0.52013 -0.19549 0.52499 -0.18993 0.52685 C -0.18663 0.528 -0.18003 0.53009 -0.18003 0.53009 C -0.17656 0.53448 -0.17292 0.53541 -0.16875 0.53842 C -0.16094 0.54398 -0.16823 0.53888 -0.1625 0.54513 C -0.1559 0.55231 -0.14861 0.55694 -0.14375 0.56666 C -0.1434 0.56828 -0.14323 0.57013 -0.14253 0.57175 C -0.14184 0.57314 -0.13993 0.57499 -0.13993 0.57499 E">
                                      <p:cBhvr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03704E-006 C -0.00729 0.003 -0.00538 0.00717 -0.01006 0.01342 C -0.01232 0.02245 -0.01319 0.03101 -0.0151 0.04004 C -0.01545 0.04444 -0.01562 0.04907 -0.01631 0.05347 C -0.01684 0.05648 -0.01875 0.05879 -0.01875 0.0618 C -0.01944 0.08819 -0.01701 0.11944 -0.00746 0.14328 C -0.00642 0.15648 -0.00416 0.16874 -0.0026 0.18171 C -0.00329 0.19976 -0.00017 0.21018 -0.00885 0.22175 C -0.01684 0.24374 -0.03107 0.2611 -0.04496 0.27661 C -0.04809 0.28009 -0.0526 0.28402 -0.05503 0.28842 C -0.05677 0.29166 -0.06006 0.29837 -0.06006 0.29837 C -0.06128 0.30323 -0.06111 0.30439 -0.06371 0.30833 C -0.06562 0.31134 -0.06996 0.31666 -0.06996 0.31666 C -0.07135 0.32222 -0.07465 0.32893 -0.07135 0.33495 C -0.07031 0.33703 -0.06788 0.33703 -0.06631 0.33842 C -0.05972 0.34421 -0.06805 0.33981 -0.06006 0.34328 C -0.0559 0.34884 -0.04982 0.35046 -0.04496 0.35509 C -0.03923 0.36064 -0.0375 0.37013 -0.03246 0.37661 C -0.02864 0.39235 -0.03437 0.37036 -0.02881 0.3868 C -0.02777 0.39004 -0.02621 0.39675 -0.02621 0.39675 C -0.0276 0.4162 -0.02968 0.41874 -0.01753 0.42661 C -0.0118 0.43425 -0.00798 0.43796 -3.33333E-006 0.44004 C 0.00435 0.44282 0.00782 0.44675 0.0125 0.44837 C 0.01424 0.44907 0.01754 0.44999 0.01754 0.44999 E">
                                      <p:cBhvr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39166 0.57153 E">
                                      <p:cBhvr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3.33333E-006 L -0.3 0.53819 E">
                                      <p:cBhvr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18519E-006 C -0.01077 -0.00323 -0.02188 -0.00277 -0.03247 0.00163 C -0.03559 0.00764 -0.03837 0.01366 -0.04115 0.01991 C -0.04271 0.02339 -0.04619 0.02987 -0.04619 0.02987 C -0.04792 0.03727 -0.04601 0.0426 -0.04497 0.05001 C -0.04184 0.0713 -0.03612 0.09098 -0.03125 0.11158 C -0.03021 0.12501 -0.02813 0.13681 -0.02622 0.15001 C -0.02483 0.17616 -0.0198 0.2044 -0.02622 0.22987 C -0.02657 0.23473 -0.02657 0.24931 -0.02865 0.25649 C -0.03629 0.28264 -0.04757 0.3051 -0.0625 0.32501 C -0.06997 0.33496 -0.08455 0.33889 -0.09375 0.34491 C -0.10851 0.3544 -0.12466 0.35788 -0.14115 0.35996 C -0.15452 0.36575 -0.16858 0.36482 -0.18264 0.36667 C -0.1882 0.36922 -0.1941 0.37014 -0.2 0.37153 C -0.2066 0.37524 -0.21181 0.37663 -0.21875 0.37825 C -0.225 0.38218 -0.22813 0.38635 -0.23507 0.3882 C -0.24098 0.39329 -0.24375 0.397 -0.24896 0.40325 C -0.25799 0.42848 -0.24775 0.46135 -0.24497 0.4882 C -0.24601 0.51436 -0.23698 0.55464 -0.26146 0.56482 C -0.27744 0.58172 -0.31094 0.58774 -0.33143 0.58982 C -0.34184 0.58866 -0.35209 0.58843 -0.3625 0.58658 C -0.3698 0.58542 -0.37761 0.5801 -0.3849 0.57825 C -0.40209 0.5669 -0.42119 0.56089 -0.43994 0.55487 C -0.44809 0.54746 -0.4573 0.54399 -0.46615 0.5382 C -0.4783 0.53033 -0.49028 0.52014 -0.50365 0.51667 C -0.51476 0.50626 -0.52674 0.49792 -0.53872 0.48982 C -0.54619 0.48496 -0.55504 0.48473 -0.5625 0.47987 C -0.57223 0.47339 -0.58056 0.46737 -0.59115 0.46482 C -0.60244 0.45764 -0.61754 0.45649 -0.63004 0.45325 C -0.64549 0.45371 -0.66094 0.45325 -0.67622 0.45487 C -0.67744 0.4551 -0.67778 0.45718 -0.67865 0.45834 C -0.68143 0.46204 -0.68455 0.46505 -0.6875 0.46829 C -0.69705 0.47848 -0.70139 0.4919 -0.70625 0.50649 C -0.70816 0.51227 -0.70764 0.5169 -0.71129 0.52153 C -0.7125 0.52663 -0.71494 0.53427 -0.71494 0.53982 E">
                                      <p:cBhvr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зим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снегов.wmf"/>
          <p:cNvPicPr/>
          <p:nvPr/>
        </p:nvPicPr>
        <p:blipFill>
          <a:blip r:embed="rId2"/>
          <a:stretch/>
        </p:blipFill>
        <p:spPr>
          <a:xfrm>
            <a:off x="685800" y="388620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снеговик маш.gif"/>
          <p:cNvPicPr/>
          <p:nvPr/>
        </p:nvPicPr>
        <p:blipFill>
          <a:blip r:embed="rId3"/>
          <a:stretch/>
        </p:blipFill>
        <p:spPr>
          <a:xfrm>
            <a:off x="3124080" y="4495680"/>
            <a:ext cx="121932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снеговик6.wmf"/>
          <p:cNvPicPr/>
          <p:nvPr/>
        </p:nvPicPr>
        <p:blipFill>
          <a:blip r:embed="rId4"/>
          <a:stretch/>
        </p:blipFill>
        <p:spPr>
          <a:xfrm>
            <a:off x="4343400" y="3581280"/>
            <a:ext cx="2057400" cy="25545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снеговик2.jpg"/>
          <p:cNvPicPr/>
          <p:nvPr/>
        </p:nvPicPr>
        <p:blipFill>
          <a:blip r:embed="rId5"/>
          <a:stretch/>
        </p:blipFill>
        <p:spPr>
          <a:xfrm>
            <a:off x="6400800" y="3429000"/>
            <a:ext cx="1695600" cy="2771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1828800" y="762120"/>
            <a:ext cx="17524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114800" y="914400"/>
            <a:ext cx="236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у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33333E-006 L 0.3 3.33333E-006 E">
                                      <p:cBhvr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3.33333E-006 L 0.51667 0.01111 E">
                                      <p:cBhvr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29"/>
          <p:cNvGrpSpPr/>
          <p:nvPr/>
        </p:nvGrpSpPr>
        <p:grpSpPr>
          <a:xfrm>
            <a:off x="533520" y="380880"/>
            <a:ext cx="8153280" cy="6021360"/>
            <a:chOff x="533520" y="380880"/>
            <a:chExt cx="8153280" cy="6021360"/>
          </a:xfrm>
        </p:grpSpPr>
        <p:sp>
          <p:nvSpPr>
            <p:cNvPr id="62" name="Прямоугольник 1"/>
            <p:cNvSpPr/>
            <p:nvPr/>
          </p:nvSpPr>
          <p:spPr>
            <a:xfrm>
              <a:off x="533520" y="380880"/>
              <a:ext cx="8153280" cy="602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ая соединительная линия 3"/>
            <p:cNvSpPr/>
            <p:nvPr/>
          </p:nvSpPr>
          <p:spPr>
            <a:xfrm>
              <a:off x="533520" y="91404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4"/>
            <p:cNvSpPr/>
            <p:nvPr/>
          </p:nvSpPr>
          <p:spPr>
            <a:xfrm>
              <a:off x="533520" y="137160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ая соединительная линия 5"/>
            <p:cNvSpPr/>
            <p:nvPr/>
          </p:nvSpPr>
          <p:spPr>
            <a:xfrm>
              <a:off x="533520" y="190512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ая соединительная линия 6"/>
            <p:cNvSpPr/>
            <p:nvPr/>
          </p:nvSpPr>
          <p:spPr>
            <a:xfrm>
              <a:off x="533520" y="251460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7"/>
            <p:cNvSpPr/>
            <p:nvPr/>
          </p:nvSpPr>
          <p:spPr>
            <a:xfrm>
              <a:off x="533520" y="312444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ая соединительная линия 8"/>
            <p:cNvSpPr/>
            <p:nvPr/>
          </p:nvSpPr>
          <p:spPr>
            <a:xfrm>
              <a:off x="533520" y="365796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9"/>
            <p:cNvSpPr/>
            <p:nvPr/>
          </p:nvSpPr>
          <p:spPr>
            <a:xfrm>
              <a:off x="533520" y="426780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10"/>
            <p:cNvSpPr/>
            <p:nvPr/>
          </p:nvSpPr>
          <p:spPr>
            <a:xfrm>
              <a:off x="533520" y="480096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ая соединительная линия 11"/>
            <p:cNvSpPr/>
            <p:nvPr/>
          </p:nvSpPr>
          <p:spPr>
            <a:xfrm>
              <a:off x="533520" y="541080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12"/>
            <p:cNvSpPr/>
            <p:nvPr/>
          </p:nvSpPr>
          <p:spPr>
            <a:xfrm>
              <a:off x="533520" y="5944320"/>
              <a:ext cx="8153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14"/>
            <p:cNvSpPr/>
            <p:nvPr/>
          </p:nvSpPr>
          <p:spPr>
            <a:xfrm flipH="1">
              <a:off x="1142280" y="38160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ая соединительная линия 16"/>
            <p:cNvSpPr/>
            <p:nvPr/>
          </p:nvSpPr>
          <p:spPr>
            <a:xfrm flipH="1">
              <a:off x="167652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17"/>
            <p:cNvSpPr/>
            <p:nvPr/>
          </p:nvSpPr>
          <p:spPr>
            <a:xfrm flipH="1">
              <a:off x="228600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18"/>
            <p:cNvSpPr/>
            <p:nvPr/>
          </p:nvSpPr>
          <p:spPr>
            <a:xfrm flipH="1">
              <a:off x="289548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19"/>
            <p:cNvSpPr/>
            <p:nvPr/>
          </p:nvSpPr>
          <p:spPr>
            <a:xfrm flipH="1">
              <a:off x="350532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20"/>
            <p:cNvSpPr/>
            <p:nvPr/>
          </p:nvSpPr>
          <p:spPr>
            <a:xfrm flipH="1">
              <a:off x="411480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21"/>
            <p:cNvSpPr/>
            <p:nvPr/>
          </p:nvSpPr>
          <p:spPr>
            <a:xfrm flipH="1">
              <a:off x="472464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22"/>
            <p:cNvSpPr/>
            <p:nvPr/>
          </p:nvSpPr>
          <p:spPr>
            <a:xfrm flipH="1">
              <a:off x="533412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рямая соединительная линия 23"/>
            <p:cNvSpPr/>
            <p:nvPr/>
          </p:nvSpPr>
          <p:spPr>
            <a:xfrm flipH="1">
              <a:off x="594360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ая соединительная линия 24"/>
            <p:cNvSpPr/>
            <p:nvPr/>
          </p:nvSpPr>
          <p:spPr>
            <a:xfrm flipH="1">
              <a:off x="655344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ая соединительная линия 25"/>
            <p:cNvSpPr/>
            <p:nvPr/>
          </p:nvSpPr>
          <p:spPr>
            <a:xfrm flipH="1">
              <a:off x="716292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26"/>
            <p:cNvSpPr/>
            <p:nvPr/>
          </p:nvSpPr>
          <p:spPr>
            <a:xfrm flipH="1">
              <a:off x="769644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27"/>
            <p:cNvSpPr/>
            <p:nvPr/>
          </p:nvSpPr>
          <p:spPr>
            <a:xfrm flipH="1">
              <a:off x="8229600" y="380880"/>
              <a:ext cx="1440" cy="60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30"/>
          <p:cNvSpPr/>
          <p:nvPr/>
        </p:nvSpPr>
        <p:spPr>
          <a:xfrm>
            <a:off x="609480" y="685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1"/>
          <p:cNvSpPr/>
          <p:nvPr/>
        </p:nvSpPr>
        <p:spPr>
          <a:xfrm>
            <a:off x="1752480" y="685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2"/>
          <p:cNvSpPr/>
          <p:nvPr/>
        </p:nvSpPr>
        <p:spPr>
          <a:xfrm>
            <a:off x="685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3"/>
          <p:cNvSpPr/>
          <p:nvPr/>
        </p:nvSpPr>
        <p:spPr>
          <a:xfrm>
            <a:off x="11430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4"/>
          <p:cNvSpPr/>
          <p:nvPr/>
        </p:nvSpPr>
        <p:spPr>
          <a:xfrm>
            <a:off x="23623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5"/>
          <p:cNvSpPr/>
          <p:nvPr/>
        </p:nvSpPr>
        <p:spPr>
          <a:xfrm>
            <a:off x="2971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6"/>
          <p:cNvSpPr/>
          <p:nvPr/>
        </p:nvSpPr>
        <p:spPr>
          <a:xfrm>
            <a:off x="41911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7"/>
          <p:cNvSpPr/>
          <p:nvPr/>
        </p:nvSpPr>
        <p:spPr>
          <a:xfrm>
            <a:off x="48006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8"/>
          <p:cNvSpPr/>
          <p:nvPr/>
        </p:nvSpPr>
        <p:spPr>
          <a:xfrm>
            <a:off x="60199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9"/>
          <p:cNvSpPr/>
          <p:nvPr/>
        </p:nvSpPr>
        <p:spPr>
          <a:xfrm>
            <a:off x="66294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0"/>
          <p:cNvSpPr/>
          <p:nvPr/>
        </p:nvSpPr>
        <p:spPr>
          <a:xfrm>
            <a:off x="7696080" y="1752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1"/>
          <p:cNvSpPr/>
          <p:nvPr/>
        </p:nvSpPr>
        <p:spPr>
          <a:xfrm>
            <a:off x="8153280" y="1752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2"/>
          <p:cNvSpPr/>
          <p:nvPr/>
        </p:nvSpPr>
        <p:spPr>
          <a:xfrm>
            <a:off x="609480" y="2895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3"/>
          <p:cNvSpPr/>
          <p:nvPr/>
        </p:nvSpPr>
        <p:spPr>
          <a:xfrm>
            <a:off x="114300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4"/>
          <p:cNvSpPr/>
          <p:nvPr/>
        </p:nvSpPr>
        <p:spPr>
          <a:xfrm>
            <a:off x="228600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5"/>
          <p:cNvSpPr/>
          <p:nvPr/>
        </p:nvSpPr>
        <p:spPr>
          <a:xfrm>
            <a:off x="297180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6"/>
          <p:cNvSpPr/>
          <p:nvPr/>
        </p:nvSpPr>
        <p:spPr>
          <a:xfrm>
            <a:off x="419112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7"/>
          <p:cNvSpPr/>
          <p:nvPr/>
        </p:nvSpPr>
        <p:spPr>
          <a:xfrm>
            <a:off x="480060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8"/>
          <p:cNvSpPr/>
          <p:nvPr/>
        </p:nvSpPr>
        <p:spPr>
          <a:xfrm>
            <a:off x="601992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9"/>
          <p:cNvSpPr/>
          <p:nvPr/>
        </p:nvSpPr>
        <p:spPr>
          <a:xfrm>
            <a:off x="662940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0"/>
          <p:cNvSpPr/>
          <p:nvPr/>
        </p:nvSpPr>
        <p:spPr>
          <a:xfrm>
            <a:off x="68580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1"/>
          <p:cNvSpPr/>
          <p:nvPr/>
        </p:nvSpPr>
        <p:spPr>
          <a:xfrm>
            <a:off x="114300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2"/>
          <p:cNvSpPr/>
          <p:nvPr/>
        </p:nvSpPr>
        <p:spPr>
          <a:xfrm>
            <a:off x="1752480" y="4038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8"/>
          <p:cNvSpPr/>
          <p:nvPr/>
        </p:nvSpPr>
        <p:spPr>
          <a:xfrm>
            <a:off x="228600" y="304920"/>
            <a:ext cx="86868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3"/>
          <p:cNvGrpSpPr/>
          <p:nvPr/>
        </p:nvGrpSpPr>
        <p:grpSpPr>
          <a:xfrm>
            <a:off x="2438280" y="701280"/>
            <a:ext cx="1676520" cy="1203840"/>
            <a:chOff x="2438280" y="701280"/>
            <a:chExt cx="1676520" cy="1203840"/>
          </a:xfrm>
        </p:grpSpPr>
        <p:sp>
          <p:nvSpPr>
            <p:cNvPr id="111" name="Овал 1"/>
            <p:cNvSpPr/>
            <p:nvPr/>
          </p:nvSpPr>
          <p:spPr>
            <a:xfrm>
              <a:off x="2438280" y="1333440"/>
              <a:ext cx="1676520" cy="5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Дуга 2"/>
            <p:cNvSpPr/>
            <p:nvPr/>
          </p:nvSpPr>
          <p:spPr>
            <a:xfrm rot="8790000">
              <a:off x="3107880" y="837720"/>
              <a:ext cx="633240" cy="460440"/>
            </a:xfrm>
            <a:custGeom>
              <a:avLst/>
              <a:gdLst>
                <a:gd name="textAreaLeft" fmla="*/ 248040 w 633240"/>
                <a:gd name="textAreaRight" fmla="*/ 633600 w 633240"/>
                <a:gd name="textAreaTop" fmla="*/ 0 h 460440"/>
                <a:gd name="textAreaBottom" fmla="*/ 355320 h 460440"/>
              </a:gdLst>
              <a:ahLst/>
              <a:rect l="textAreaLeft" t="textAreaTop" r="textAreaRight" b="textAreaBottom"/>
              <a:pathLst>
                <a:path stroke="0" w="719788" h="490991">
                  <a:moveTo>
                    <a:pt x="281796" y="5850"/>
                  </a:moveTo>
                  <a:lnTo>
                    <a:pt x="281796" y="5850"/>
                  </a:lnTo>
                  <a:arcTo wR="359894" hR="245496" stAng="-6483013" swAng="7911648"/>
                  <a:lnTo>
                    <a:pt x="359894" y="245496"/>
                  </a:lnTo>
                  <a:close/>
                </a:path>
                <a:path fill="none" w="719788" h="490991">
                  <a:moveTo>
                    <a:pt x="281796" y="5850"/>
                  </a:moveTo>
                  <a:lnTo>
                    <a:pt x="281796" y="5850"/>
                  </a:lnTo>
                  <a:arcTo wR="359894" hR="245496" stAng="-6483013" swAng="791164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Группа 4"/>
          <p:cNvGrpSpPr/>
          <p:nvPr/>
        </p:nvGrpSpPr>
        <p:grpSpPr>
          <a:xfrm>
            <a:off x="4648320" y="619920"/>
            <a:ext cx="1752480" cy="1280160"/>
            <a:chOff x="4648320" y="619920"/>
            <a:chExt cx="1752480" cy="1280160"/>
          </a:xfrm>
        </p:grpSpPr>
        <p:sp>
          <p:nvSpPr>
            <p:cNvPr id="114" name="Овал 5"/>
            <p:cNvSpPr/>
            <p:nvPr/>
          </p:nvSpPr>
          <p:spPr>
            <a:xfrm>
              <a:off x="4648320" y="1290240"/>
              <a:ext cx="1752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Дуга 6"/>
            <p:cNvSpPr/>
            <p:nvPr/>
          </p:nvSpPr>
          <p:spPr>
            <a:xfrm rot="8790000">
              <a:off x="5347440" y="761760"/>
              <a:ext cx="662040" cy="492120"/>
            </a:xfrm>
            <a:custGeom>
              <a:avLst/>
              <a:gdLst>
                <a:gd name="textAreaLeft" fmla="*/ 258840 w 662040"/>
                <a:gd name="textAreaRight" fmla="*/ 662400 w 662040"/>
                <a:gd name="textAreaTop" fmla="*/ 0 h 492120"/>
                <a:gd name="textAreaBottom" fmla="*/ 379440 h 492120"/>
              </a:gdLst>
              <a:ahLst/>
              <a:rect l="textAreaLeft" t="textAreaTop" r="textAreaRight" b="textAreaBottom"/>
              <a:pathLst>
                <a:path stroke="0" w="719551" h="491912">
                  <a:moveTo>
                    <a:pt x="281539" y="5886"/>
                  </a:moveTo>
                  <a:lnTo>
                    <a:pt x="281539" y="5886"/>
                  </a:lnTo>
                  <a:arcTo wR="359776" hR="245956" stAng="-6483011" swAng="7911647"/>
                  <a:lnTo>
                    <a:pt x="359776" y="245956"/>
                  </a:lnTo>
                  <a:close/>
                </a:path>
                <a:path fill="none" w="719551" h="491912">
                  <a:moveTo>
                    <a:pt x="281539" y="5886"/>
                  </a:moveTo>
                  <a:lnTo>
                    <a:pt x="281539" y="5886"/>
                  </a:lnTo>
                  <a:arcTo wR="359776" hR="245956" stAng="-6483011" swAng="7911647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7"/>
          <p:cNvGrpSpPr/>
          <p:nvPr/>
        </p:nvGrpSpPr>
        <p:grpSpPr>
          <a:xfrm>
            <a:off x="6858000" y="612000"/>
            <a:ext cx="1828800" cy="1288080"/>
            <a:chOff x="6858000" y="612000"/>
            <a:chExt cx="1828800" cy="1288080"/>
          </a:xfrm>
        </p:grpSpPr>
        <p:sp>
          <p:nvSpPr>
            <p:cNvPr id="117" name="Овал 8"/>
            <p:cNvSpPr/>
            <p:nvPr/>
          </p:nvSpPr>
          <p:spPr>
            <a:xfrm>
              <a:off x="6858000" y="1290240"/>
              <a:ext cx="1828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Дуга 9"/>
            <p:cNvSpPr/>
            <p:nvPr/>
          </p:nvSpPr>
          <p:spPr>
            <a:xfrm rot="8790000">
              <a:off x="7589880" y="761400"/>
              <a:ext cx="690480" cy="492120"/>
            </a:xfrm>
            <a:custGeom>
              <a:avLst/>
              <a:gdLst>
                <a:gd name="textAreaLeft" fmla="*/ 270000 w 690480"/>
                <a:gd name="textAreaRight" fmla="*/ 690840 w 690480"/>
                <a:gd name="textAreaTop" fmla="*/ 0 h 492120"/>
                <a:gd name="textAreaBottom" fmla="*/ 379440 h 492120"/>
              </a:gdLst>
              <a:ahLst/>
              <a:rect l="textAreaLeft" t="textAreaTop" r="textAreaRight" b="textAreaBottom"/>
              <a:pathLst>
                <a:path stroke="0" w="719335" h="491912">
                  <a:moveTo>
                    <a:pt x="281432" y="5889"/>
                  </a:moveTo>
                  <a:lnTo>
                    <a:pt x="281432" y="5889"/>
                  </a:lnTo>
                  <a:arcTo wR="359668" hR="245956" stAng="-6483011" swAng="7911640"/>
                  <a:lnTo>
                    <a:pt x="359668" y="245956"/>
                  </a:lnTo>
                  <a:close/>
                </a:path>
                <a:path fill="none" w="719335" h="491912">
                  <a:moveTo>
                    <a:pt x="281432" y="5889"/>
                  </a:moveTo>
                  <a:lnTo>
                    <a:pt x="281432" y="5889"/>
                  </a:lnTo>
                  <a:arcTo wR="359668" hR="245956" stAng="-6483011" swAng="7911640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10"/>
          <p:cNvGrpSpPr/>
          <p:nvPr/>
        </p:nvGrpSpPr>
        <p:grpSpPr>
          <a:xfrm>
            <a:off x="2590920" y="2304000"/>
            <a:ext cx="1676160" cy="1272600"/>
            <a:chOff x="2590920" y="2304000"/>
            <a:chExt cx="1676160" cy="1272600"/>
          </a:xfrm>
        </p:grpSpPr>
        <p:sp>
          <p:nvSpPr>
            <p:cNvPr id="120" name="Овал 11"/>
            <p:cNvSpPr/>
            <p:nvPr/>
          </p:nvSpPr>
          <p:spPr>
            <a:xfrm>
              <a:off x="2590920" y="2966760"/>
              <a:ext cx="167616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Дуга 12"/>
            <p:cNvSpPr/>
            <p:nvPr/>
          </p:nvSpPr>
          <p:spPr>
            <a:xfrm rot="8790000">
              <a:off x="3260160" y="2437560"/>
              <a:ext cx="633240" cy="492120"/>
            </a:xfrm>
            <a:custGeom>
              <a:avLst/>
              <a:gdLst>
                <a:gd name="textAreaLeft" fmla="*/ 247680 w 633240"/>
                <a:gd name="textAreaRight" fmla="*/ 633600 w 63324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  <a:lnTo>
                    <a:pt x="359894" y="245956"/>
                  </a:lnTo>
                  <a:close/>
                </a:path>
                <a:path fill="none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Группа 13"/>
          <p:cNvGrpSpPr/>
          <p:nvPr/>
        </p:nvGrpSpPr>
        <p:grpSpPr>
          <a:xfrm>
            <a:off x="4876920" y="2311920"/>
            <a:ext cx="1600200" cy="1264680"/>
            <a:chOff x="4876920" y="2311920"/>
            <a:chExt cx="1600200" cy="1264680"/>
          </a:xfrm>
        </p:grpSpPr>
        <p:sp>
          <p:nvSpPr>
            <p:cNvPr id="123" name="Овал 14"/>
            <p:cNvSpPr/>
            <p:nvPr/>
          </p:nvSpPr>
          <p:spPr>
            <a:xfrm>
              <a:off x="4876920" y="2966760"/>
              <a:ext cx="16002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Дуга 15"/>
            <p:cNvSpPr/>
            <p:nvPr/>
          </p:nvSpPr>
          <p:spPr>
            <a:xfrm rot="8790000">
              <a:off x="5516280" y="2437920"/>
              <a:ext cx="604800" cy="492120"/>
            </a:xfrm>
            <a:custGeom>
              <a:avLst/>
              <a:gdLst>
                <a:gd name="textAreaLeft" fmla="*/ 236520 w 604800"/>
                <a:gd name="textAreaRight" fmla="*/ 605160 w 60480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  <a:lnTo>
                    <a:pt x="360022" y="245956"/>
                  </a:lnTo>
                  <a:close/>
                </a:path>
                <a:path fill="none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Группа 16"/>
          <p:cNvGrpSpPr/>
          <p:nvPr/>
        </p:nvGrpSpPr>
        <p:grpSpPr>
          <a:xfrm>
            <a:off x="7010280" y="2304000"/>
            <a:ext cx="1676520" cy="1272600"/>
            <a:chOff x="7010280" y="2304000"/>
            <a:chExt cx="1676520" cy="1272600"/>
          </a:xfrm>
        </p:grpSpPr>
        <p:sp>
          <p:nvSpPr>
            <p:cNvPr id="126" name="Овал 17"/>
            <p:cNvSpPr/>
            <p:nvPr/>
          </p:nvSpPr>
          <p:spPr>
            <a:xfrm>
              <a:off x="7010280" y="2966760"/>
              <a:ext cx="167652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Дуга 18"/>
            <p:cNvSpPr/>
            <p:nvPr/>
          </p:nvSpPr>
          <p:spPr>
            <a:xfrm rot="8790000">
              <a:off x="7679520" y="2437560"/>
              <a:ext cx="633240" cy="492120"/>
            </a:xfrm>
            <a:custGeom>
              <a:avLst/>
              <a:gdLst>
                <a:gd name="textAreaLeft" fmla="*/ 247680 w 633240"/>
                <a:gd name="textAreaRight" fmla="*/ 633600 w 63324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  <a:lnTo>
                    <a:pt x="359894" y="245956"/>
                  </a:lnTo>
                  <a:close/>
                </a:path>
                <a:path fill="none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19"/>
          <p:cNvSpPr/>
          <p:nvPr/>
        </p:nvSpPr>
        <p:spPr>
          <a:xfrm>
            <a:off x="228600" y="1371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1752480" y="1371600"/>
            <a:ext cx="457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21"/>
          <p:cNvSpPr/>
          <p:nvPr/>
        </p:nvSpPr>
        <p:spPr>
          <a:xfrm>
            <a:off x="266688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22"/>
          <p:cNvSpPr/>
          <p:nvPr/>
        </p:nvSpPr>
        <p:spPr>
          <a:xfrm>
            <a:off x="312408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23"/>
          <p:cNvSpPr/>
          <p:nvPr/>
        </p:nvSpPr>
        <p:spPr>
          <a:xfrm>
            <a:off x="358128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24"/>
          <p:cNvSpPr/>
          <p:nvPr/>
        </p:nvSpPr>
        <p:spPr>
          <a:xfrm>
            <a:off x="708660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25"/>
          <p:cNvSpPr/>
          <p:nvPr/>
        </p:nvSpPr>
        <p:spPr>
          <a:xfrm>
            <a:off x="754380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26"/>
          <p:cNvSpPr/>
          <p:nvPr/>
        </p:nvSpPr>
        <p:spPr>
          <a:xfrm>
            <a:off x="8001000" y="1447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7"/>
          <p:cNvSpPr/>
          <p:nvPr/>
        </p:nvSpPr>
        <p:spPr>
          <a:xfrm>
            <a:off x="4191120" y="1371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4343400" y="2971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6400800" y="1295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0"/>
          <p:cNvSpPr/>
          <p:nvPr/>
        </p:nvSpPr>
        <p:spPr>
          <a:xfrm>
            <a:off x="6629400" y="2971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1"/>
          <p:cNvSpPr/>
          <p:nvPr/>
        </p:nvSpPr>
        <p:spPr>
          <a:xfrm>
            <a:off x="5105520" y="31240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2"/>
          <p:cNvSpPr/>
          <p:nvPr/>
        </p:nvSpPr>
        <p:spPr>
          <a:xfrm>
            <a:off x="5562720" y="31240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5943600" y="3124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8229600" y="3124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772400" y="3124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315200" y="3124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7"/>
          <p:cNvSpPr/>
          <p:nvPr/>
        </p:nvSpPr>
        <p:spPr>
          <a:xfrm>
            <a:off x="30492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+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8"/>
          <p:cNvSpPr/>
          <p:nvPr/>
        </p:nvSpPr>
        <p:spPr>
          <a:xfrm>
            <a:off x="1752480" y="2895480"/>
            <a:ext cx="457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39"/>
          <p:cNvSpPr/>
          <p:nvPr/>
        </p:nvSpPr>
        <p:spPr>
          <a:xfrm>
            <a:off x="533520" y="457200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0"/>
          <p:cNvSpPr/>
          <p:nvPr/>
        </p:nvSpPr>
        <p:spPr>
          <a:xfrm>
            <a:off x="990720" y="4800600"/>
            <a:ext cx="24382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0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2"/>
          <p:cNvSpPr/>
          <p:nvPr/>
        </p:nvSpPr>
        <p:spPr>
          <a:xfrm>
            <a:off x="2819520" y="480060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3"/>
          <p:cNvSpPr/>
          <p:nvPr/>
        </p:nvSpPr>
        <p:spPr>
          <a:xfrm>
            <a:off x="5257800" y="4800600"/>
            <a:ext cx="24382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+ а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4"/>
          <p:cNvSpPr/>
          <p:nvPr/>
        </p:nvSpPr>
        <p:spPr>
          <a:xfrm>
            <a:off x="7010280" y="48006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5"/>
          <p:cNvSpPr/>
          <p:nvPr/>
        </p:nvSpPr>
        <p:spPr>
          <a:xfrm>
            <a:off x="1752480" y="1371600"/>
            <a:ext cx="45720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6"/>
          <p:cNvSpPr/>
          <p:nvPr/>
        </p:nvSpPr>
        <p:spPr>
          <a:xfrm>
            <a:off x="1752480" y="2895480"/>
            <a:ext cx="45720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47"/>
          <p:cNvSpPr/>
          <p:nvPr/>
        </p:nvSpPr>
        <p:spPr>
          <a:xfrm>
            <a:off x="457200" y="457200"/>
            <a:ext cx="685800" cy="6094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43"/>
          <p:cNvSpPr/>
          <p:nvPr/>
        </p:nvSpPr>
        <p:spPr>
          <a:xfrm>
            <a:off x="228600" y="457200"/>
            <a:ext cx="868680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457200" y="1371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2057400" y="1371600"/>
            <a:ext cx="45720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57400" y="1371600"/>
            <a:ext cx="457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Группа 4"/>
          <p:cNvGrpSpPr/>
          <p:nvPr/>
        </p:nvGrpSpPr>
        <p:grpSpPr>
          <a:xfrm>
            <a:off x="4876920" y="788040"/>
            <a:ext cx="1600200" cy="1264680"/>
            <a:chOff x="4876920" y="788040"/>
            <a:chExt cx="1600200" cy="1264680"/>
          </a:xfrm>
        </p:grpSpPr>
        <p:sp>
          <p:nvSpPr>
            <p:cNvPr id="161" name="Овал 5"/>
            <p:cNvSpPr/>
            <p:nvPr/>
          </p:nvSpPr>
          <p:spPr>
            <a:xfrm>
              <a:off x="4876920" y="1442880"/>
              <a:ext cx="16002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Дуга 6"/>
            <p:cNvSpPr/>
            <p:nvPr/>
          </p:nvSpPr>
          <p:spPr>
            <a:xfrm rot="8790000">
              <a:off x="5516280" y="914040"/>
              <a:ext cx="604800" cy="492120"/>
            </a:xfrm>
            <a:custGeom>
              <a:avLst/>
              <a:gdLst>
                <a:gd name="textAreaLeft" fmla="*/ 236520 w 604800"/>
                <a:gd name="textAreaRight" fmla="*/ 605160 w 60480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  <a:lnTo>
                    <a:pt x="360022" y="245956"/>
                  </a:lnTo>
                  <a:close/>
                </a:path>
                <a:path fill="none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Группа 7"/>
          <p:cNvGrpSpPr/>
          <p:nvPr/>
        </p:nvGrpSpPr>
        <p:grpSpPr>
          <a:xfrm>
            <a:off x="2819520" y="780120"/>
            <a:ext cx="1676160" cy="1272600"/>
            <a:chOff x="2819520" y="780120"/>
            <a:chExt cx="1676160" cy="1272600"/>
          </a:xfrm>
        </p:grpSpPr>
        <p:sp>
          <p:nvSpPr>
            <p:cNvPr id="164" name="Овал 8"/>
            <p:cNvSpPr/>
            <p:nvPr/>
          </p:nvSpPr>
          <p:spPr>
            <a:xfrm>
              <a:off x="2819520" y="1442880"/>
              <a:ext cx="167616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Дуга 9"/>
            <p:cNvSpPr/>
            <p:nvPr/>
          </p:nvSpPr>
          <p:spPr>
            <a:xfrm rot="8790000">
              <a:off x="3488760" y="913680"/>
              <a:ext cx="633240" cy="492120"/>
            </a:xfrm>
            <a:custGeom>
              <a:avLst/>
              <a:gdLst>
                <a:gd name="textAreaLeft" fmla="*/ 247680 w 633240"/>
                <a:gd name="textAreaRight" fmla="*/ 633600 w 63324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  <a:lnTo>
                    <a:pt x="359894" y="245956"/>
                  </a:lnTo>
                  <a:close/>
                </a:path>
                <a:path fill="none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Группа 10"/>
          <p:cNvGrpSpPr/>
          <p:nvPr/>
        </p:nvGrpSpPr>
        <p:grpSpPr>
          <a:xfrm>
            <a:off x="6934320" y="772200"/>
            <a:ext cx="1752480" cy="1280520"/>
            <a:chOff x="6934320" y="772200"/>
            <a:chExt cx="1752480" cy="1280520"/>
          </a:xfrm>
        </p:grpSpPr>
        <p:sp>
          <p:nvSpPr>
            <p:cNvPr id="167" name="Овал 11"/>
            <p:cNvSpPr/>
            <p:nvPr/>
          </p:nvSpPr>
          <p:spPr>
            <a:xfrm>
              <a:off x="6934320" y="1442880"/>
              <a:ext cx="1752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Дуга 12"/>
            <p:cNvSpPr/>
            <p:nvPr/>
          </p:nvSpPr>
          <p:spPr>
            <a:xfrm rot="8790000">
              <a:off x="7633440" y="914040"/>
              <a:ext cx="662040" cy="492120"/>
            </a:xfrm>
            <a:custGeom>
              <a:avLst/>
              <a:gdLst>
                <a:gd name="textAreaLeft" fmla="*/ 258840 w 662040"/>
                <a:gd name="textAreaRight" fmla="*/ 662400 w 662040"/>
                <a:gd name="textAreaTop" fmla="*/ 0 h 492120"/>
                <a:gd name="textAreaBottom" fmla="*/ 379440 h 492120"/>
              </a:gdLst>
              <a:ahLst/>
              <a:rect l="textAreaLeft" t="textAreaTop" r="textAreaRight" b="textAreaBottom"/>
              <a:pathLst>
                <a:path stroke="0" w="719551" h="491912">
                  <a:moveTo>
                    <a:pt x="281539" y="5886"/>
                  </a:moveTo>
                  <a:lnTo>
                    <a:pt x="281539" y="5886"/>
                  </a:lnTo>
                  <a:arcTo wR="359776" hR="245956" stAng="-6483011" swAng="7911647"/>
                  <a:lnTo>
                    <a:pt x="359776" y="245956"/>
                  </a:lnTo>
                  <a:close/>
                </a:path>
                <a:path fill="none" w="719551" h="491912">
                  <a:moveTo>
                    <a:pt x="281539" y="5886"/>
                  </a:moveTo>
                  <a:lnTo>
                    <a:pt x="281539" y="5886"/>
                  </a:lnTo>
                  <a:arcTo wR="359776" hR="245956" stAng="-6483011" swAng="7911647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Группа 13"/>
          <p:cNvGrpSpPr/>
          <p:nvPr/>
        </p:nvGrpSpPr>
        <p:grpSpPr>
          <a:xfrm>
            <a:off x="2971800" y="2380320"/>
            <a:ext cx="1676520" cy="1272600"/>
            <a:chOff x="2971800" y="2380320"/>
            <a:chExt cx="1676520" cy="1272600"/>
          </a:xfrm>
        </p:grpSpPr>
        <p:sp>
          <p:nvSpPr>
            <p:cNvPr id="170" name="Овал 14"/>
            <p:cNvSpPr/>
            <p:nvPr/>
          </p:nvSpPr>
          <p:spPr>
            <a:xfrm>
              <a:off x="2971800" y="3043080"/>
              <a:ext cx="167652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Дуга 15"/>
            <p:cNvSpPr/>
            <p:nvPr/>
          </p:nvSpPr>
          <p:spPr>
            <a:xfrm rot="8790000">
              <a:off x="3641040" y="2513880"/>
              <a:ext cx="633240" cy="492120"/>
            </a:xfrm>
            <a:custGeom>
              <a:avLst/>
              <a:gdLst>
                <a:gd name="textAreaLeft" fmla="*/ 247680 w 633240"/>
                <a:gd name="textAreaRight" fmla="*/ 633600 w 63324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  <a:lnTo>
                    <a:pt x="359894" y="245956"/>
                  </a:lnTo>
                  <a:close/>
                </a:path>
                <a:path fill="none" w="719788" h="491912">
                  <a:moveTo>
                    <a:pt x="281657" y="5882"/>
                  </a:moveTo>
                  <a:lnTo>
                    <a:pt x="281657" y="5882"/>
                  </a:lnTo>
                  <a:arcTo wR="359894" hR="245956" stAng="-6483007" swAng="7911635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Группа 16"/>
          <p:cNvGrpSpPr/>
          <p:nvPr/>
        </p:nvGrpSpPr>
        <p:grpSpPr>
          <a:xfrm>
            <a:off x="5105520" y="2396520"/>
            <a:ext cx="1523880" cy="1256400"/>
            <a:chOff x="5105520" y="2396520"/>
            <a:chExt cx="1523880" cy="1256400"/>
          </a:xfrm>
        </p:grpSpPr>
        <p:sp>
          <p:nvSpPr>
            <p:cNvPr id="173" name="Овал 17"/>
            <p:cNvSpPr/>
            <p:nvPr/>
          </p:nvSpPr>
          <p:spPr>
            <a:xfrm>
              <a:off x="5105520" y="3043080"/>
              <a:ext cx="15238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Дуга 18"/>
            <p:cNvSpPr/>
            <p:nvPr/>
          </p:nvSpPr>
          <p:spPr>
            <a:xfrm rot="8790000">
              <a:off x="5714640" y="2513880"/>
              <a:ext cx="574560" cy="492120"/>
            </a:xfrm>
            <a:custGeom>
              <a:avLst/>
              <a:gdLst>
                <a:gd name="textAreaLeft" fmla="*/ 224640 w 574560"/>
                <a:gd name="textAreaRight" fmla="*/ 574920 w 574560"/>
                <a:gd name="textAreaTop" fmla="*/ 0 h 492120"/>
                <a:gd name="textAreaBottom" fmla="*/ 379440 h 492120"/>
              </a:gdLst>
              <a:ahLst/>
              <a:rect l="textAreaLeft" t="textAreaTop" r="textAreaRight" b="textAreaBottom"/>
              <a:pathLst>
                <a:path stroke="0" w="718344" h="491912">
                  <a:moveTo>
                    <a:pt x="280942" y="5905"/>
                  </a:moveTo>
                  <a:lnTo>
                    <a:pt x="280942" y="5905"/>
                  </a:lnTo>
                  <a:arcTo wR="359172" hR="245956" stAng="-6483013" swAng="7911640"/>
                  <a:lnTo>
                    <a:pt x="359172" y="245956"/>
                  </a:lnTo>
                  <a:close/>
                </a:path>
                <a:path fill="none" w="718344" h="491912">
                  <a:moveTo>
                    <a:pt x="280942" y="5905"/>
                  </a:moveTo>
                  <a:lnTo>
                    <a:pt x="280942" y="5905"/>
                  </a:lnTo>
                  <a:arcTo wR="359172" hR="245956" stAng="-6483013" swAng="7911640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Группа 19"/>
          <p:cNvGrpSpPr/>
          <p:nvPr/>
        </p:nvGrpSpPr>
        <p:grpSpPr>
          <a:xfrm>
            <a:off x="7086600" y="2388240"/>
            <a:ext cx="1600200" cy="1264680"/>
            <a:chOff x="7086600" y="2388240"/>
            <a:chExt cx="1600200" cy="1264680"/>
          </a:xfrm>
        </p:grpSpPr>
        <p:sp>
          <p:nvSpPr>
            <p:cNvPr id="176" name="Овал 20"/>
            <p:cNvSpPr/>
            <p:nvPr/>
          </p:nvSpPr>
          <p:spPr>
            <a:xfrm>
              <a:off x="7086600" y="3043080"/>
              <a:ext cx="16002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Дуга 21"/>
            <p:cNvSpPr/>
            <p:nvPr/>
          </p:nvSpPr>
          <p:spPr>
            <a:xfrm rot="8790000">
              <a:off x="7725960" y="2514240"/>
              <a:ext cx="604800" cy="492120"/>
            </a:xfrm>
            <a:custGeom>
              <a:avLst/>
              <a:gdLst>
                <a:gd name="textAreaLeft" fmla="*/ 236520 w 604800"/>
                <a:gd name="textAreaRight" fmla="*/ 605160 w 604800"/>
                <a:gd name="textAreaTop" fmla="*/ 0 h 492120"/>
                <a:gd name="textAreaBottom" fmla="*/ 379800 h 492120"/>
              </a:gdLst>
              <a:ahLst/>
              <a:rect l="textAreaLeft" t="textAreaTop" r="textAreaRight" b="textAreaBottom"/>
              <a:pathLst>
                <a:path stroke="0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  <a:lnTo>
                    <a:pt x="360022" y="245956"/>
                  </a:lnTo>
                  <a:close/>
                </a:path>
                <a:path fill="none" w="720044" h="491912">
                  <a:moveTo>
                    <a:pt x="281783" y="5878"/>
                  </a:moveTo>
                  <a:lnTo>
                    <a:pt x="281783" y="5878"/>
                  </a:lnTo>
                  <a:arcTo wR="360022" hR="245956" stAng="-6483016" swAng="791164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22"/>
          <p:cNvSpPr/>
          <p:nvPr/>
        </p:nvSpPr>
        <p:spPr>
          <a:xfrm>
            <a:off x="457200" y="2971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3"/>
          <p:cNvSpPr/>
          <p:nvPr/>
        </p:nvSpPr>
        <p:spPr>
          <a:xfrm>
            <a:off x="2057400" y="2971800"/>
            <a:ext cx="45720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4"/>
          <p:cNvSpPr/>
          <p:nvPr/>
        </p:nvSpPr>
        <p:spPr>
          <a:xfrm>
            <a:off x="2057400" y="2971800"/>
            <a:ext cx="457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25"/>
          <p:cNvSpPr/>
          <p:nvPr/>
        </p:nvSpPr>
        <p:spPr>
          <a:xfrm>
            <a:off x="609480" y="441972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6"/>
          <p:cNvSpPr/>
          <p:nvPr/>
        </p:nvSpPr>
        <p:spPr>
          <a:xfrm>
            <a:off x="1066680" y="4648320"/>
            <a:ext cx="24386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0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7"/>
          <p:cNvSpPr/>
          <p:nvPr/>
        </p:nvSpPr>
        <p:spPr>
          <a:xfrm>
            <a:off x="2895480" y="4648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8"/>
          <p:cNvSpPr/>
          <p:nvPr/>
        </p:nvSpPr>
        <p:spPr>
          <a:xfrm>
            <a:off x="5334120" y="4648320"/>
            <a:ext cx="24382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а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9"/>
          <p:cNvSpPr/>
          <p:nvPr/>
        </p:nvSpPr>
        <p:spPr>
          <a:xfrm>
            <a:off x="7086600" y="47242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30"/>
          <p:cNvSpPr/>
          <p:nvPr/>
        </p:nvSpPr>
        <p:spPr>
          <a:xfrm>
            <a:off x="3048120" y="1523880"/>
            <a:ext cx="457200" cy="3812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31"/>
          <p:cNvSpPr/>
          <p:nvPr/>
        </p:nvSpPr>
        <p:spPr>
          <a:xfrm>
            <a:off x="3733920" y="1523880"/>
            <a:ext cx="457200" cy="3812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32"/>
          <p:cNvSpPr/>
          <p:nvPr/>
        </p:nvSpPr>
        <p:spPr>
          <a:xfrm>
            <a:off x="7315200" y="1523880"/>
            <a:ext cx="457200" cy="3812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33"/>
          <p:cNvSpPr/>
          <p:nvPr/>
        </p:nvSpPr>
        <p:spPr>
          <a:xfrm>
            <a:off x="7924680" y="1523880"/>
            <a:ext cx="457200" cy="3812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4"/>
          <p:cNvSpPr/>
          <p:nvPr/>
        </p:nvSpPr>
        <p:spPr>
          <a:xfrm>
            <a:off x="4495680" y="1447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5"/>
          <p:cNvSpPr/>
          <p:nvPr/>
        </p:nvSpPr>
        <p:spPr>
          <a:xfrm>
            <a:off x="4648320" y="3048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6"/>
          <p:cNvSpPr/>
          <p:nvPr/>
        </p:nvSpPr>
        <p:spPr>
          <a:xfrm>
            <a:off x="65530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7"/>
          <p:cNvSpPr/>
          <p:nvPr/>
        </p:nvSpPr>
        <p:spPr>
          <a:xfrm>
            <a:off x="6629400" y="3048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38"/>
          <p:cNvSpPr/>
          <p:nvPr/>
        </p:nvSpPr>
        <p:spPr>
          <a:xfrm rot="1560000">
            <a:off x="3450960" y="3071520"/>
            <a:ext cx="225360" cy="50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39"/>
          <p:cNvSpPr/>
          <p:nvPr/>
        </p:nvSpPr>
        <p:spPr>
          <a:xfrm rot="1560000">
            <a:off x="3981600" y="3147840"/>
            <a:ext cx="220680" cy="48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40"/>
          <p:cNvSpPr/>
          <p:nvPr/>
        </p:nvSpPr>
        <p:spPr>
          <a:xfrm rot="1560000">
            <a:off x="5578200" y="3071880"/>
            <a:ext cx="220680" cy="4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41"/>
          <p:cNvSpPr/>
          <p:nvPr/>
        </p:nvSpPr>
        <p:spPr>
          <a:xfrm rot="1560000">
            <a:off x="6036840" y="3146040"/>
            <a:ext cx="208080" cy="474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42"/>
          <p:cNvSpPr/>
          <p:nvPr/>
        </p:nvSpPr>
        <p:spPr>
          <a:xfrm>
            <a:off x="609480" y="609480"/>
            <a:ext cx="685800" cy="6098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88"/>
          <p:cNvSpPr/>
          <p:nvPr/>
        </p:nvSpPr>
        <p:spPr>
          <a:xfrm>
            <a:off x="228600" y="380880"/>
            <a:ext cx="868680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86" descr="синица.jpg"/>
          <p:cNvPicPr/>
          <p:nvPr/>
        </p:nvPicPr>
        <p:blipFill>
          <a:blip r:embed="rId1"/>
          <a:srcRect l="11805" t="19948" r="9851" b="5989"/>
          <a:stretch/>
        </p:blipFill>
        <p:spPr>
          <a:xfrm>
            <a:off x="4648320" y="3733920"/>
            <a:ext cx="663480" cy="6206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87" descr="птиц4.gif"/>
          <p:cNvPicPr/>
          <p:nvPr/>
        </p:nvPicPr>
        <p:blipFill>
          <a:blip r:embed="rId2"/>
          <a:stretch/>
        </p:blipFill>
        <p:spPr>
          <a:xfrm>
            <a:off x="3124080" y="3657600"/>
            <a:ext cx="648000" cy="720720"/>
          </a:xfrm>
          <a:prstGeom prst="rect">
            <a:avLst/>
          </a:prstGeom>
          <a:ln w="0">
            <a:noFill/>
          </a:ln>
        </p:spPr>
      </p:pic>
      <p:sp>
        <p:nvSpPr>
          <p:cNvPr id="202" name="Овал 1"/>
          <p:cNvSpPr/>
          <p:nvPr/>
        </p:nvSpPr>
        <p:spPr>
          <a:xfrm>
            <a:off x="533520" y="457200"/>
            <a:ext cx="685800" cy="6094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380880" y="1143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5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380880" y="1905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5053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+ 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3505320" y="1143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+ 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6705720" y="1981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7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6629400" y="1143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1828800" y="12193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0"/>
          <p:cNvSpPr/>
          <p:nvPr/>
        </p:nvSpPr>
        <p:spPr>
          <a:xfrm>
            <a:off x="1828800" y="19810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1"/>
          <p:cNvSpPr/>
          <p:nvPr/>
        </p:nvSpPr>
        <p:spPr>
          <a:xfrm>
            <a:off x="5105520" y="2057400"/>
            <a:ext cx="45720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2"/>
          <p:cNvSpPr/>
          <p:nvPr/>
        </p:nvSpPr>
        <p:spPr>
          <a:xfrm>
            <a:off x="5105520" y="11430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3"/>
          <p:cNvSpPr/>
          <p:nvPr/>
        </p:nvSpPr>
        <p:spPr>
          <a:xfrm>
            <a:off x="8153280" y="2057400"/>
            <a:ext cx="45720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4"/>
          <p:cNvSpPr/>
          <p:nvPr/>
        </p:nvSpPr>
        <p:spPr>
          <a:xfrm>
            <a:off x="8153280" y="1295280"/>
            <a:ext cx="457200" cy="3812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1905120" y="9907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1905120" y="18288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5181480" y="18288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8"/>
          <p:cNvSpPr/>
          <p:nvPr/>
        </p:nvSpPr>
        <p:spPr>
          <a:xfrm>
            <a:off x="5181480" y="990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9"/>
          <p:cNvSpPr/>
          <p:nvPr/>
        </p:nvSpPr>
        <p:spPr>
          <a:xfrm>
            <a:off x="8229600" y="18288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8229600" y="10666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1"/>
          <p:cNvSpPr/>
          <p:nvPr/>
        </p:nvSpPr>
        <p:spPr>
          <a:xfrm>
            <a:off x="380880" y="2895480"/>
            <a:ext cx="685800" cy="6098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Группа 46"/>
          <p:cNvGrpSpPr/>
          <p:nvPr/>
        </p:nvGrpSpPr>
        <p:grpSpPr>
          <a:xfrm>
            <a:off x="152280" y="4191120"/>
            <a:ext cx="3886200" cy="825480"/>
            <a:chOff x="152280" y="4191120"/>
            <a:chExt cx="3886200" cy="825480"/>
          </a:xfrm>
        </p:grpSpPr>
        <p:sp>
          <p:nvSpPr>
            <p:cNvPr id="223" name="Прямая соединительная линия 23"/>
            <p:cNvSpPr/>
            <p:nvPr/>
          </p:nvSpPr>
          <p:spPr>
            <a:xfrm>
              <a:off x="304560" y="4343400"/>
              <a:ext cx="358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ая соединительная линия 25"/>
            <p:cNvSpPr/>
            <p:nvPr/>
          </p:nvSpPr>
          <p:spPr>
            <a:xfrm flipH="1">
              <a:off x="304560" y="419184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27"/>
            <p:cNvSpPr/>
            <p:nvPr/>
          </p:nvSpPr>
          <p:spPr>
            <a:xfrm flipH="1">
              <a:off x="68544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ая соединительная линия 28"/>
            <p:cNvSpPr/>
            <p:nvPr/>
          </p:nvSpPr>
          <p:spPr>
            <a:xfrm flipH="1">
              <a:off x="114264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29"/>
            <p:cNvSpPr/>
            <p:nvPr/>
          </p:nvSpPr>
          <p:spPr>
            <a:xfrm flipH="1">
              <a:off x="152388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30"/>
            <p:cNvSpPr/>
            <p:nvPr/>
          </p:nvSpPr>
          <p:spPr>
            <a:xfrm flipH="1">
              <a:off x="190476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31"/>
            <p:cNvSpPr/>
            <p:nvPr/>
          </p:nvSpPr>
          <p:spPr>
            <a:xfrm flipH="1">
              <a:off x="228600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32"/>
            <p:cNvSpPr/>
            <p:nvPr/>
          </p:nvSpPr>
          <p:spPr>
            <a:xfrm flipH="1">
              <a:off x="266688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33"/>
            <p:cNvSpPr/>
            <p:nvPr/>
          </p:nvSpPr>
          <p:spPr>
            <a:xfrm flipH="1">
              <a:off x="304812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34"/>
            <p:cNvSpPr/>
            <p:nvPr/>
          </p:nvSpPr>
          <p:spPr>
            <a:xfrm flipH="1">
              <a:off x="342900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рямая соединительная линия 35"/>
            <p:cNvSpPr/>
            <p:nvPr/>
          </p:nvSpPr>
          <p:spPr>
            <a:xfrm flipH="1">
              <a:off x="388620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36"/>
            <p:cNvSpPr/>
            <p:nvPr/>
          </p:nvSpPr>
          <p:spPr>
            <a:xfrm>
              <a:off x="15228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37"/>
            <p:cNvSpPr/>
            <p:nvPr/>
          </p:nvSpPr>
          <p:spPr>
            <a:xfrm>
              <a:off x="53316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38"/>
            <p:cNvSpPr/>
            <p:nvPr/>
          </p:nvSpPr>
          <p:spPr>
            <a:xfrm>
              <a:off x="99036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9"/>
            <p:cNvSpPr/>
            <p:nvPr/>
          </p:nvSpPr>
          <p:spPr>
            <a:xfrm>
              <a:off x="129528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40"/>
            <p:cNvSpPr/>
            <p:nvPr/>
          </p:nvSpPr>
          <p:spPr>
            <a:xfrm>
              <a:off x="167616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41"/>
            <p:cNvSpPr/>
            <p:nvPr/>
          </p:nvSpPr>
          <p:spPr>
            <a:xfrm>
              <a:off x="213336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2"/>
            <p:cNvSpPr/>
            <p:nvPr/>
          </p:nvSpPr>
          <p:spPr>
            <a:xfrm>
              <a:off x="243828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43"/>
            <p:cNvSpPr/>
            <p:nvPr/>
          </p:nvSpPr>
          <p:spPr>
            <a:xfrm>
              <a:off x="281952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44"/>
            <p:cNvSpPr/>
            <p:nvPr/>
          </p:nvSpPr>
          <p:spPr>
            <a:xfrm>
              <a:off x="32004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45"/>
            <p:cNvSpPr/>
            <p:nvPr/>
          </p:nvSpPr>
          <p:spPr>
            <a:xfrm>
              <a:off x="36576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47"/>
          <p:cNvGrpSpPr/>
          <p:nvPr/>
        </p:nvGrpSpPr>
        <p:grpSpPr>
          <a:xfrm>
            <a:off x="4876920" y="4191120"/>
            <a:ext cx="3886200" cy="825480"/>
            <a:chOff x="4876920" y="4191120"/>
            <a:chExt cx="3886200" cy="825480"/>
          </a:xfrm>
        </p:grpSpPr>
        <p:sp>
          <p:nvSpPr>
            <p:cNvPr id="245" name="Прямая соединительная линия 48"/>
            <p:cNvSpPr/>
            <p:nvPr/>
          </p:nvSpPr>
          <p:spPr>
            <a:xfrm>
              <a:off x="5029200" y="4343400"/>
              <a:ext cx="358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49"/>
            <p:cNvSpPr/>
            <p:nvPr/>
          </p:nvSpPr>
          <p:spPr>
            <a:xfrm flipH="1">
              <a:off x="5029200" y="419184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50"/>
            <p:cNvSpPr/>
            <p:nvPr/>
          </p:nvSpPr>
          <p:spPr>
            <a:xfrm flipH="1">
              <a:off x="541008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51"/>
            <p:cNvSpPr/>
            <p:nvPr/>
          </p:nvSpPr>
          <p:spPr>
            <a:xfrm flipH="1">
              <a:off x="586728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52"/>
            <p:cNvSpPr/>
            <p:nvPr/>
          </p:nvSpPr>
          <p:spPr>
            <a:xfrm flipH="1">
              <a:off x="624852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53"/>
            <p:cNvSpPr/>
            <p:nvPr/>
          </p:nvSpPr>
          <p:spPr>
            <a:xfrm flipH="1">
              <a:off x="662940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ая соединительная линия 54"/>
            <p:cNvSpPr/>
            <p:nvPr/>
          </p:nvSpPr>
          <p:spPr>
            <a:xfrm flipH="1">
              <a:off x="701064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Прямая соединительная линия 55"/>
            <p:cNvSpPr/>
            <p:nvPr/>
          </p:nvSpPr>
          <p:spPr>
            <a:xfrm flipH="1">
              <a:off x="739152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56"/>
            <p:cNvSpPr/>
            <p:nvPr/>
          </p:nvSpPr>
          <p:spPr>
            <a:xfrm flipH="1">
              <a:off x="777276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57"/>
            <p:cNvSpPr/>
            <p:nvPr/>
          </p:nvSpPr>
          <p:spPr>
            <a:xfrm flipH="1">
              <a:off x="815364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Прямая соединительная линия 58"/>
            <p:cNvSpPr/>
            <p:nvPr/>
          </p:nvSpPr>
          <p:spPr>
            <a:xfrm flipH="1">
              <a:off x="8610840" y="4191120"/>
              <a:ext cx="7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59"/>
            <p:cNvSpPr/>
            <p:nvPr/>
          </p:nvSpPr>
          <p:spPr>
            <a:xfrm>
              <a:off x="487692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0"/>
            <p:cNvSpPr/>
            <p:nvPr/>
          </p:nvSpPr>
          <p:spPr>
            <a:xfrm>
              <a:off x="52578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61"/>
            <p:cNvSpPr/>
            <p:nvPr/>
          </p:nvSpPr>
          <p:spPr>
            <a:xfrm>
              <a:off x="57150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62"/>
            <p:cNvSpPr/>
            <p:nvPr/>
          </p:nvSpPr>
          <p:spPr>
            <a:xfrm>
              <a:off x="601992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63"/>
            <p:cNvSpPr/>
            <p:nvPr/>
          </p:nvSpPr>
          <p:spPr>
            <a:xfrm>
              <a:off x="64008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64"/>
            <p:cNvSpPr/>
            <p:nvPr/>
          </p:nvSpPr>
          <p:spPr>
            <a:xfrm>
              <a:off x="685800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65"/>
            <p:cNvSpPr/>
            <p:nvPr/>
          </p:nvSpPr>
          <p:spPr>
            <a:xfrm>
              <a:off x="716292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66"/>
            <p:cNvSpPr/>
            <p:nvPr/>
          </p:nvSpPr>
          <p:spPr>
            <a:xfrm>
              <a:off x="754416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67"/>
            <p:cNvSpPr/>
            <p:nvPr/>
          </p:nvSpPr>
          <p:spPr>
            <a:xfrm>
              <a:off x="792504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68"/>
            <p:cNvSpPr/>
            <p:nvPr/>
          </p:nvSpPr>
          <p:spPr>
            <a:xfrm>
              <a:off x="8382240" y="4496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70"/>
          <p:cNvSpPr/>
          <p:nvPr/>
        </p:nvSpPr>
        <p:spPr>
          <a:xfrm>
            <a:off x="8380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0 - 5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71"/>
          <p:cNvSpPr/>
          <p:nvPr/>
        </p:nvSpPr>
        <p:spPr>
          <a:xfrm>
            <a:off x="2895480" y="5486400"/>
            <a:ext cx="457200" cy="533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2"/>
          <p:cNvSpPr/>
          <p:nvPr/>
        </p:nvSpPr>
        <p:spPr>
          <a:xfrm>
            <a:off x="7620120" y="5486400"/>
            <a:ext cx="457200" cy="533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3"/>
          <p:cNvSpPr/>
          <p:nvPr/>
        </p:nvSpPr>
        <p:spPr>
          <a:xfrm>
            <a:off x="2971800" y="53341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4"/>
          <p:cNvSpPr/>
          <p:nvPr/>
        </p:nvSpPr>
        <p:spPr>
          <a:xfrm>
            <a:off x="114300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5"/>
          <p:cNvSpPr/>
          <p:nvPr/>
        </p:nvSpPr>
        <p:spPr>
          <a:xfrm>
            <a:off x="525780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+ 3 + 6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6"/>
          <p:cNvSpPr/>
          <p:nvPr/>
        </p:nvSpPr>
        <p:spPr>
          <a:xfrm>
            <a:off x="5715000" y="510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77"/>
          <p:cNvSpPr/>
          <p:nvPr/>
        </p:nvSpPr>
        <p:spPr>
          <a:xfrm>
            <a:off x="7696080" y="53341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Выгнутая вниз стрелка 80"/>
          <p:cNvSpPr/>
          <p:nvPr/>
        </p:nvSpPr>
        <p:spPr>
          <a:xfrm flipV="1">
            <a:off x="5029200" y="4037760"/>
            <a:ext cx="1295280" cy="295560"/>
          </a:xfrm>
          <a:custGeom>
            <a:avLst/>
            <a:gdLst>
              <a:gd name="textAreaLeft" fmla="*/ 315000 w 1295280"/>
              <a:gd name="textAreaRight" fmla="*/ 945720 w 1295280"/>
              <a:gd name="textAreaTop" fmla="*/ 39600 h 295560"/>
              <a:gd name="textAreaBottom" fmla="*/ 25596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513" hR="21600" stAng="10800000" swAng="-5400000"/>
                <a:lnTo>
                  <a:pt x="10514" y="21600"/>
                </a:lnTo>
                <a:arcTo wR="10513" hR="21600" stAng="5400000" swAng="-3989392"/>
                <a:lnTo>
                  <a:pt x="21372" y="4474"/>
                </a:lnTo>
                <a:lnTo>
                  <a:pt x="21026" y="0"/>
                </a:lnTo>
                <a:lnTo>
                  <a:pt x="20223" y="4474"/>
                </a:lnTo>
                <a:lnTo>
                  <a:pt x="20797" y="4474"/>
                </a:lnTo>
                <a:arcTo wR="10513" hR="21600" stAng="1410608" swAng="3989312"/>
                <a:lnTo>
                  <a:pt x="10513" y="21600"/>
                </a:lnTo>
                <a:arcTo wR="10513" hR="21600" stAng="5400080" swAng="5399920"/>
                <a:close/>
              </a:path>
              <a:path fill="darkenLess" w="21600" h="21600">
                <a:moveTo>
                  <a:pt x="0" y="0"/>
                </a:moveTo>
                <a:arcTo wR="10513" hR="21600" stAng="10800000" swAng="-5400000"/>
                <a:lnTo>
                  <a:pt x="10514" y="21600"/>
                </a:lnTo>
                <a:arcTo wR="10513" hR="21600" stAng="5400000" swAng="80"/>
                <a:lnTo>
                  <a:pt x="10513" y="21600"/>
                </a:lnTo>
                <a:arcTo wR="10513" hR="21600" stAng="5400080" swAng="539992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Выгнутая вниз стрелка 81"/>
          <p:cNvSpPr/>
          <p:nvPr/>
        </p:nvSpPr>
        <p:spPr>
          <a:xfrm rot="10800000">
            <a:off x="1447920" y="3962520"/>
            <a:ext cx="1992240" cy="341280"/>
          </a:xfrm>
          <a:custGeom>
            <a:avLst/>
            <a:gdLst>
              <a:gd name="textAreaLeft" fmla="*/ 485640 w 1992240"/>
              <a:gd name="textAreaRight" fmla="*/ 1458000 w 199224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537" hR="21600" stAng="10800000" swAng="-5400000"/>
                <a:lnTo>
                  <a:pt x="10538" y="21600"/>
                </a:lnTo>
                <a:arcTo wR="10537" hR="21600" stAng="5400000" swAng="-3992257"/>
                <a:lnTo>
                  <a:pt x="21372" y="4474"/>
                </a:lnTo>
                <a:lnTo>
                  <a:pt x="21074" y="0"/>
                </a:lnTo>
                <a:lnTo>
                  <a:pt x="20319" y="4474"/>
                </a:lnTo>
                <a:lnTo>
                  <a:pt x="20845" y="4474"/>
                </a:lnTo>
                <a:arcTo wR="10537" hR="21600" stAng="1407743" swAng="3992178"/>
                <a:lnTo>
                  <a:pt x="10537" y="21600"/>
                </a:lnTo>
                <a:arcTo wR="10537" hR="21600" stAng="5400080" swAng="5399920"/>
                <a:close/>
              </a:path>
              <a:path fill="darkenLess" w="21600" h="21600">
                <a:moveTo>
                  <a:pt x="0" y="0"/>
                </a:moveTo>
                <a:arcTo wR="10537" hR="21600" stAng="10800000" swAng="-5400000"/>
                <a:lnTo>
                  <a:pt x="10538" y="21600"/>
                </a:lnTo>
                <a:arcTo wR="10537" hR="21600" stAng="5400000" swAng="80"/>
                <a:lnTo>
                  <a:pt x="10537" y="21600"/>
                </a:lnTo>
                <a:arcTo wR="10537" hR="21600" stAng="5400080" swAng="539992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2"/>
          <p:cNvSpPr/>
          <p:nvPr/>
        </p:nvSpPr>
        <p:spPr>
          <a:xfrm>
            <a:off x="2057400" y="35053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3"/>
          <p:cNvSpPr/>
          <p:nvPr/>
        </p:nvSpPr>
        <p:spPr>
          <a:xfrm>
            <a:off x="533412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Выгнутая вниз стрелка 84"/>
          <p:cNvSpPr/>
          <p:nvPr/>
        </p:nvSpPr>
        <p:spPr>
          <a:xfrm flipV="1">
            <a:off x="6248520" y="4037760"/>
            <a:ext cx="2361960" cy="304920"/>
          </a:xfrm>
          <a:custGeom>
            <a:avLst/>
            <a:gdLst>
              <a:gd name="textAreaLeft" fmla="*/ 579600 w 2361960"/>
              <a:gd name="textAreaRight" fmla="*/ 1739160 w 23619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02" hR="21600" stAng="10800000" swAng="-5400000"/>
                <a:lnTo>
                  <a:pt x="10603" y="21600"/>
                </a:lnTo>
                <a:arcTo wR="10602" hR="21600" stAng="5400000" swAng="-3999963"/>
                <a:lnTo>
                  <a:pt x="21370" y="4474"/>
                </a:lnTo>
                <a:lnTo>
                  <a:pt x="21204" y="0"/>
                </a:lnTo>
                <a:lnTo>
                  <a:pt x="20577" y="4474"/>
                </a:lnTo>
                <a:lnTo>
                  <a:pt x="20973" y="4474"/>
                </a:lnTo>
                <a:arcTo wR="10602" hR="21600" stAng="1400037" swAng="3999883"/>
                <a:lnTo>
                  <a:pt x="10602" y="21600"/>
                </a:lnTo>
                <a:arcTo wR="10602" hR="21600" stAng="5400080" swAng="5399920"/>
                <a:close/>
              </a:path>
              <a:path fill="darkenLess" w="21600" h="21600">
                <a:moveTo>
                  <a:pt x="0" y="0"/>
                </a:moveTo>
                <a:arcTo wR="10602" hR="21600" stAng="10800000" swAng="-5400000"/>
                <a:lnTo>
                  <a:pt x="10603" y="21600"/>
                </a:lnTo>
                <a:arcTo wR="10602" hR="21600" stAng="5400000" swAng="80"/>
                <a:lnTo>
                  <a:pt x="10602" y="21600"/>
                </a:lnTo>
                <a:arcTo wR="10602" hR="21600" stAng="5400080" swAng="539992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85"/>
          <p:cNvSpPr/>
          <p:nvPr/>
        </p:nvSpPr>
        <p:spPr>
          <a:xfrm>
            <a:off x="693432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78"/>
          <p:cNvSpPr/>
          <p:nvPr/>
        </p:nvSpPr>
        <p:spPr>
          <a:xfrm>
            <a:off x="33526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79"/>
          <p:cNvSpPr/>
          <p:nvPr/>
        </p:nvSpPr>
        <p:spPr>
          <a:xfrm>
            <a:off x="49528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71"/>
          <p:cNvSpPr/>
          <p:nvPr/>
        </p:nvSpPr>
        <p:spPr>
          <a:xfrm>
            <a:off x="152280" y="152280"/>
            <a:ext cx="868680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380880" y="685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1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808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3808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380880" y="3200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3352680" y="3200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6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33526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5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7"/>
          <p:cNvSpPr/>
          <p:nvPr/>
        </p:nvSpPr>
        <p:spPr>
          <a:xfrm>
            <a:off x="3276720" y="1523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3352680" y="685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6095880" y="31240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6095880" y="2362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4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1"/>
          <p:cNvSpPr/>
          <p:nvPr/>
        </p:nvSpPr>
        <p:spPr>
          <a:xfrm>
            <a:off x="6095880" y="1523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2"/>
          <p:cNvSpPr/>
          <p:nvPr/>
        </p:nvSpPr>
        <p:spPr>
          <a:xfrm>
            <a:off x="6095880" y="609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4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3"/>
          <p:cNvSpPr/>
          <p:nvPr/>
        </p:nvSpPr>
        <p:spPr>
          <a:xfrm>
            <a:off x="1905120" y="762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4"/>
          <p:cNvSpPr/>
          <p:nvPr/>
        </p:nvSpPr>
        <p:spPr>
          <a:xfrm>
            <a:off x="1905120" y="1523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5"/>
          <p:cNvSpPr/>
          <p:nvPr/>
        </p:nvSpPr>
        <p:spPr>
          <a:xfrm>
            <a:off x="1905120" y="2438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6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7"/>
          <p:cNvSpPr/>
          <p:nvPr/>
        </p:nvSpPr>
        <p:spPr>
          <a:xfrm>
            <a:off x="4952880" y="32004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8"/>
          <p:cNvSpPr/>
          <p:nvPr/>
        </p:nvSpPr>
        <p:spPr>
          <a:xfrm>
            <a:off x="4876920" y="2438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9"/>
          <p:cNvSpPr/>
          <p:nvPr/>
        </p:nvSpPr>
        <p:spPr>
          <a:xfrm>
            <a:off x="4876920" y="16002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0"/>
          <p:cNvSpPr/>
          <p:nvPr/>
        </p:nvSpPr>
        <p:spPr>
          <a:xfrm>
            <a:off x="4876920" y="762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1"/>
          <p:cNvSpPr/>
          <p:nvPr/>
        </p:nvSpPr>
        <p:spPr>
          <a:xfrm>
            <a:off x="7696080" y="32004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2"/>
          <p:cNvSpPr/>
          <p:nvPr/>
        </p:nvSpPr>
        <p:spPr>
          <a:xfrm>
            <a:off x="7696080" y="25146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3"/>
          <p:cNvSpPr/>
          <p:nvPr/>
        </p:nvSpPr>
        <p:spPr>
          <a:xfrm>
            <a:off x="7696080" y="16765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4"/>
          <p:cNvSpPr/>
          <p:nvPr/>
        </p:nvSpPr>
        <p:spPr>
          <a:xfrm>
            <a:off x="7696080" y="762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5"/>
          <p:cNvSpPr/>
          <p:nvPr/>
        </p:nvSpPr>
        <p:spPr>
          <a:xfrm>
            <a:off x="1981080" y="609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26"/>
          <p:cNvSpPr/>
          <p:nvPr/>
        </p:nvSpPr>
        <p:spPr>
          <a:xfrm>
            <a:off x="304920" y="304920"/>
            <a:ext cx="609480" cy="4572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27"/>
          <p:cNvSpPr/>
          <p:nvPr/>
        </p:nvSpPr>
        <p:spPr>
          <a:xfrm>
            <a:off x="304920" y="3886200"/>
            <a:ext cx="685800" cy="6094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8"/>
          <p:cNvSpPr/>
          <p:nvPr/>
        </p:nvSpPr>
        <p:spPr>
          <a:xfrm>
            <a:off x="457200" y="4648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9"/>
          <p:cNvSpPr/>
          <p:nvPr/>
        </p:nvSpPr>
        <p:spPr>
          <a:xfrm>
            <a:off x="1905120" y="4648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30"/>
          <p:cNvSpPr/>
          <p:nvPr/>
        </p:nvSpPr>
        <p:spPr>
          <a:xfrm>
            <a:off x="1295280" y="4724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1"/>
          <p:cNvSpPr/>
          <p:nvPr/>
        </p:nvSpPr>
        <p:spPr>
          <a:xfrm>
            <a:off x="45720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2"/>
          <p:cNvSpPr/>
          <p:nvPr/>
        </p:nvSpPr>
        <p:spPr>
          <a:xfrm>
            <a:off x="91440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3   =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3"/>
          <p:cNvSpPr/>
          <p:nvPr/>
        </p:nvSpPr>
        <p:spPr>
          <a:xfrm>
            <a:off x="457200" y="5943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34"/>
          <p:cNvSpPr/>
          <p:nvPr/>
        </p:nvSpPr>
        <p:spPr>
          <a:xfrm>
            <a:off x="1295280" y="6095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5"/>
          <p:cNvSpPr/>
          <p:nvPr/>
        </p:nvSpPr>
        <p:spPr>
          <a:xfrm>
            <a:off x="1828800" y="5943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6"/>
          <p:cNvSpPr/>
          <p:nvPr/>
        </p:nvSpPr>
        <p:spPr>
          <a:xfrm>
            <a:off x="3505320" y="4648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37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8"/>
          <p:cNvSpPr/>
          <p:nvPr/>
        </p:nvSpPr>
        <p:spPr>
          <a:xfrm>
            <a:off x="4876920" y="4648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9"/>
          <p:cNvSpPr/>
          <p:nvPr/>
        </p:nvSpPr>
        <p:spPr>
          <a:xfrm>
            <a:off x="350532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0"/>
          <p:cNvSpPr/>
          <p:nvPr/>
        </p:nvSpPr>
        <p:spPr>
          <a:xfrm>
            <a:off x="3962520" y="5257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2  =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1"/>
          <p:cNvSpPr/>
          <p:nvPr/>
        </p:nvSpPr>
        <p:spPr>
          <a:xfrm>
            <a:off x="3505320" y="5867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42"/>
          <p:cNvSpPr/>
          <p:nvPr/>
        </p:nvSpPr>
        <p:spPr>
          <a:xfrm>
            <a:off x="4343400" y="59436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3"/>
          <p:cNvSpPr/>
          <p:nvPr/>
        </p:nvSpPr>
        <p:spPr>
          <a:xfrm>
            <a:off x="4876920" y="5867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44"/>
          <p:cNvSpPr/>
          <p:nvPr/>
        </p:nvSpPr>
        <p:spPr>
          <a:xfrm>
            <a:off x="6248520" y="4724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5"/>
          <p:cNvSpPr/>
          <p:nvPr/>
        </p:nvSpPr>
        <p:spPr>
          <a:xfrm>
            <a:off x="6705720" y="4648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5  =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6"/>
          <p:cNvSpPr/>
          <p:nvPr/>
        </p:nvSpPr>
        <p:spPr>
          <a:xfrm>
            <a:off x="617220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47"/>
          <p:cNvSpPr/>
          <p:nvPr/>
        </p:nvSpPr>
        <p:spPr>
          <a:xfrm>
            <a:off x="716292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8"/>
          <p:cNvSpPr/>
          <p:nvPr/>
        </p:nvSpPr>
        <p:spPr>
          <a:xfrm>
            <a:off x="7696080" y="52578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49"/>
          <p:cNvSpPr/>
          <p:nvPr/>
        </p:nvSpPr>
        <p:spPr>
          <a:xfrm>
            <a:off x="6248520" y="60199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0"/>
          <p:cNvSpPr/>
          <p:nvPr/>
        </p:nvSpPr>
        <p:spPr>
          <a:xfrm>
            <a:off x="6781680" y="5943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2  =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1"/>
          <p:cNvSpPr/>
          <p:nvPr/>
        </p:nvSpPr>
        <p:spPr>
          <a:xfrm>
            <a:off x="1981080" y="13716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2"/>
          <p:cNvSpPr/>
          <p:nvPr/>
        </p:nvSpPr>
        <p:spPr>
          <a:xfrm>
            <a:off x="1981080" y="22860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3"/>
          <p:cNvSpPr/>
          <p:nvPr/>
        </p:nvSpPr>
        <p:spPr>
          <a:xfrm>
            <a:off x="1981080" y="31240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4"/>
          <p:cNvSpPr/>
          <p:nvPr/>
        </p:nvSpPr>
        <p:spPr>
          <a:xfrm>
            <a:off x="4952880" y="609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5"/>
          <p:cNvSpPr/>
          <p:nvPr/>
        </p:nvSpPr>
        <p:spPr>
          <a:xfrm>
            <a:off x="4952880" y="14479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6"/>
          <p:cNvSpPr/>
          <p:nvPr/>
        </p:nvSpPr>
        <p:spPr>
          <a:xfrm>
            <a:off x="4952880" y="22860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7"/>
          <p:cNvSpPr/>
          <p:nvPr/>
        </p:nvSpPr>
        <p:spPr>
          <a:xfrm>
            <a:off x="5029200" y="30481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8"/>
          <p:cNvSpPr/>
          <p:nvPr/>
        </p:nvSpPr>
        <p:spPr>
          <a:xfrm>
            <a:off x="7772400" y="609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9"/>
          <p:cNvSpPr/>
          <p:nvPr/>
        </p:nvSpPr>
        <p:spPr>
          <a:xfrm>
            <a:off x="7772400" y="15238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0"/>
          <p:cNvSpPr/>
          <p:nvPr/>
        </p:nvSpPr>
        <p:spPr>
          <a:xfrm>
            <a:off x="7772400" y="23623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1"/>
          <p:cNvSpPr/>
          <p:nvPr/>
        </p:nvSpPr>
        <p:spPr>
          <a:xfrm>
            <a:off x="7772400" y="30481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2"/>
          <p:cNvSpPr/>
          <p:nvPr/>
        </p:nvSpPr>
        <p:spPr>
          <a:xfrm>
            <a:off x="1371600" y="4572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3"/>
          <p:cNvSpPr/>
          <p:nvPr/>
        </p:nvSpPr>
        <p:spPr>
          <a:xfrm>
            <a:off x="533520" y="5181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4"/>
          <p:cNvSpPr/>
          <p:nvPr/>
        </p:nvSpPr>
        <p:spPr>
          <a:xfrm>
            <a:off x="1371600" y="59436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5"/>
          <p:cNvSpPr/>
          <p:nvPr/>
        </p:nvSpPr>
        <p:spPr>
          <a:xfrm>
            <a:off x="4419720" y="4572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66"/>
          <p:cNvSpPr/>
          <p:nvPr/>
        </p:nvSpPr>
        <p:spPr>
          <a:xfrm>
            <a:off x="3581280" y="5181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7"/>
          <p:cNvSpPr/>
          <p:nvPr/>
        </p:nvSpPr>
        <p:spPr>
          <a:xfrm>
            <a:off x="4419720" y="5791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68"/>
          <p:cNvSpPr/>
          <p:nvPr/>
        </p:nvSpPr>
        <p:spPr>
          <a:xfrm>
            <a:off x="6324480" y="4572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69"/>
          <p:cNvSpPr/>
          <p:nvPr/>
        </p:nvSpPr>
        <p:spPr>
          <a:xfrm>
            <a:off x="7238880" y="5181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0"/>
          <p:cNvSpPr/>
          <p:nvPr/>
        </p:nvSpPr>
        <p:spPr>
          <a:xfrm>
            <a:off x="6324480" y="5867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15T19:02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