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5.gif" ContentType="image/gif"/>
  <Override PartName="/ppt/media/image6.png" ContentType="image/png"/>
  <Override PartName="/ppt/media/image10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4.gif" ContentType="image/gif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EF2-1FA2-455C-934E-0C2789D6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DABB-4585-4D78-9203-7AB06E15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3A7-98CD-4EDA-90F9-BF5C3F91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2C6-1E79-43B9-A758-12BF205E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1A77-426E-47F5-A168-537905E9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E7B6-8C36-40AA-B30E-67176D57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2BBF-BD33-4B48-81FA-22875B09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8087-4D03-441D-864B-8790C341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C790-5AAB-461B-901A-D34303F7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399D-E283-4B38-B2F8-8642E6EB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11FD-473D-41C3-8F33-5564DCF1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A1B5-E2DF-4221-AAB8-D457C758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7D84-5BF4-4D4B-B624-C0A586A3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2B26-9572-4183-B9DA-F7B2B716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BC18-AD8A-4EA6-8DB9-2926E938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CF2C-0EBC-40A3-90E7-FD19AD78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9689-5D68-4F87-88F4-2C0439C0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87F-A1BD-497A-9F5D-DDAD1B29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7F1-58ED-4776-854B-3FB51ADD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902B-E7BB-452B-8591-1FDE768E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793-5296-4180-BFC7-F8C31F8F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D29-E77F-4DB7-A0A5-88BCC373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6A00-FC97-4981-B631-D647CD54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7ED5-54AE-4EBB-8811-1082283D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6200"/>
                    <a:ext cx="279360" cy="261720"/>
                    <a:chOff x="8704440" y="16200"/>
                    <a:chExt cx="279360" cy="26172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8360" y="-27720"/>
                      <a:ext cx="1911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6280" y="98280"/>
                      <a:ext cx="1339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36800"/>
                    <a:ext cx="2700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8800" y="24480"/>
                    <a:ext cx="4032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30440" y="13320"/>
                    <a:ext cx="6156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840" y="59760"/>
                    <a:ext cx="2232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5400" y="195480"/>
                    <a:ext cx="6012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3560" y="172080"/>
                    <a:ext cx="360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31E6-AE7E-4A2E-8535-7C1D309D28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240"/>
            <a:chOff x="0" y="0"/>
            <a:chExt cx="9159840" cy="6870240"/>
          </a:xfrm>
        </p:grpSpPr>
        <p:sp>
          <p:nvSpPr>
            <p:cNvPr id="97" name="Rectangle 3"/>
            <p:cNvSpPr/>
            <p:nvPr/>
          </p:nvSpPr>
          <p:spPr>
            <a:xfrm>
              <a:off x="0" y="6646680"/>
              <a:ext cx="8078760" cy="2235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48960"/>
              <a:ext cx="8078760" cy="198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48960"/>
              <a:ext cx="1203120" cy="680904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0"/>
              <a:ext cx="1295280" cy="6313680"/>
              <a:chOff x="7848720" y="0"/>
              <a:chExt cx="1295280" cy="631368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0"/>
                <a:ext cx="762120" cy="2304000"/>
                <a:chOff x="8381880" y="0"/>
                <a:chExt cx="762120" cy="23040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63120" y="0"/>
                  <a:ext cx="279360" cy="291600"/>
                  <a:chOff x="8763120" y="0"/>
                  <a:chExt cx="279360" cy="2916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63120" y="0"/>
                    <a:ext cx="279360" cy="283680"/>
                    <a:chOff x="8763120" y="0"/>
                    <a:chExt cx="279360" cy="2836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802720" y="-39600"/>
                      <a:ext cx="2001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811720" y="100800"/>
                      <a:ext cx="14040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83000" y="185400"/>
                    <a:ext cx="2808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816400" y="6804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87680" y="56160"/>
                    <a:ext cx="6444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56080" y="110880"/>
                    <a:ext cx="2520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82640" y="246600"/>
                    <a:ext cx="6300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831520" y="222480"/>
                    <a:ext cx="3744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7576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7576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7852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5652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8092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5928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3764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201564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37640"/>
                <a:ext cx="828720" cy="4676040"/>
                <a:chOff x="7848720" y="1637640"/>
                <a:chExt cx="828720" cy="46760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3764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4004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4520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7236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2356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2632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30192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5588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2872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90708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3388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4244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6104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9060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896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980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696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532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7376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22280"/>
              <a:ext cx="1190520" cy="19260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71880"/>
              <a:ext cx="1219320" cy="19857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46520"/>
              <a:ext cx="1231920" cy="40082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61840"/>
              <a:ext cx="979560" cy="216864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72680"/>
              <a:ext cx="914400" cy="5012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308880"/>
              <a:ext cx="909720" cy="30495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48960"/>
              <a:ext cx="576360" cy="33285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50040"/>
              <a:ext cx="300240" cy="33289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50040"/>
              <a:ext cx="88920" cy="680904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3760"/>
              <a:ext cx="1165320" cy="614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48440" y="3340800"/>
              <a:ext cx="680904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324E-B1E2-46F5-B248-A72ABF9B2F44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1274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2071440"/>
            <a:ext cx="69292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Обработка нижнего среза платья»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071960" y="5143320"/>
            <a:ext cx="46432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итель: Хабибуллина Г. С,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учитель технологи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14200" y="285840"/>
            <a:ext cx="85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КУ С(К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 - 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а с. Цепочкино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жумского района Кировской област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5929200" y="3929040"/>
            <a:ext cx="2428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2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785880" y="2858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работа.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бработка нижнего среза швом вподгибку с закрытым срезо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Picture 7" descr="C:\Users\admin\Desktop\2.gif"/>
          <p:cNvPicPr/>
          <p:nvPr/>
        </p:nvPicPr>
        <p:blipFill>
          <a:blip r:embed="rId2"/>
          <a:stretch/>
        </p:blipFill>
        <p:spPr>
          <a:xfrm>
            <a:off x="285840" y="1785960"/>
            <a:ext cx="3857400" cy="28573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4071960" y="3857760"/>
            <a:ext cx="4714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какие технологические операции необходимо выполнить 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35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1"/>
          <p:cNvSpPr/>
          <p:nvPr/>
        </p:nvSpPr>
        <p:spPr>
          <a:xfrm>
            <a:off x="195912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785880" y="2858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  выполнения                                                 шва вподгибку с закрытым срезо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357120" y="1500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1 способ –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) одновременно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догнуть нижний срез и 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застрочить (проложить машинную строчку) на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расстоянии 1 - 2 мм от сгиб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Рисунок 7" descr="C:\Users\admin\Desktop\SAM_2894 1.jpg"/>
          <p:cNvPicPr/>
          <p:nvPr/>
        </p:nvPicPr>
        <p:blipFill>
          <a:blip r:embed="rId2"/>
          <a:stretch/>
        </p:blipFill>
        <p:spPr>
          <a:xfrm>
            <a:off x="2643120" y="2928960"/>
            <a:ext cx="3286080" cy="29289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3929040" y="6072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70e0d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5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1"/>
          <p:cNvSpPr/>
          <p:nvPr/>
        </p:nvSpPr>
        <p:spPr>
          <a:xfrm>
            <a:off x="195912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85880" y="2858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  выполнения                                                 шва вподгибку с закрытым срезо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57120" y="16430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 способ –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) заметать нижний срез на изнаночную сторону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на 0, 5  мм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б) подогнуть заметанный срез еще раз на 1,0 см и 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застрочить на расстоянии 1 - 2 мм от сгиба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6" name="Рисунок 14" descr="C:\Users\admin\Desktop\SAM_2893 2-1.jpg"/>
          <p:cNvPicPr/>
          <p:nvPr/>
        </p:nvPicPr>
        <p:blipFill>
          <a:blip r:embed="rId2"/>
          <a:stretch/>
        </p:blipFill>
        <p:spPr>
          <a:xfrm>
            <a:off x="1000080" y="342900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7" descr="C:\Users\admin\Desktop\SAM_2894 1.jpg"/>
          <p:cNvPicPr/>
          <p:nvPr/>
        </p:nvPicPr>
        <p:blipFill>
          <a:blip r:embed="rId3"/>
          <a:stretch/>
        </p:blipFill>
        <p:spPr>
          <a:xfrm>
            <a:off x="4857840" y="3429000"/>
            <a:ext cx="3071880" cy="25718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5"/>
          <p:cNvSpPr/>
          <p:nvPr/>
        </p:nvSpPr>
        <p:spPr>
          <a:xfrm>
            <a:off x="6143760" y="61437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70e0d"/>
                </a:solidFill>
                <a:latin typeface="Times New Roman"/>
                <a:ea typeface="Times New Roman"/>
              </a:rPr>
              <a:t>б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2000160" y="61437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70e0d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5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1"/>
          <p:cNvSpPr/>
          <p:nvPr/>
        </p:nvSpPr>
        <p:spPr>
          <a:xfrm>
            <a:off x="195912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785880" y="2858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  выполнения                                                 шва вподгибку с закрытым срезо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357120" y="1643040"/>
            <a:ext cx="857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 способ –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) заметать нижний срез на изнаночную сторону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на 0, 5  мм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б) подогнуть срез еще раз на 1,0 см и заметать; 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в) застрочить на расстоянии 1 - 2 мм от сгиба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4" name="Рисунок 7" descr="C:\Users\admin\Desktop\SAM_2883 3-1.jpg"/>
          <p:cNvPicPr/>
          <p:nvPr/>
        </p:nvPicPr>
        <p:blipFill>
          <a:blip r:embed="rId2"/>
          <a:stretch/>
        </p:blipFill>
        <p:spPr>
          <a:xfrm>
            <a:off x="571680" y="3643200"/>
            <a:ext cx="2286000" cy="242892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8" descr="C:\Users\admin\Desktop\105PHOTO\SAM_2887 3-2.jpg"/>
          <p:cNvPicPr/>
          <p:nvPr/>
        </p:nvPicPr>
        <p:blipFill>
          <a:blip r:embed="rId3"/>
          <a:stretch/>
        </p:blipFill>
        <p:spPr>
          <a:xfrm>
            <a:off x="3429000" y="3643200"/>
            <a:ext cx="2357280" cy="24289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9" descr="C:\Users\admin\Desktop\SAM_2885 3-3.jpg"/>
          <p:cNvPicPr/>
          <p:nvPr/>
        </p:nvPicPr>
        <p:blipFill>
          <a:blip r:embed="rId4"/>
          <a:stretch/>
        </p:blipFill>
        <p:spPr>
          <a:xfrm>
            <a:off x="6357960" y="3643200"/>
            <a:ext cx="2357280" cy="23688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938160" y="438120"/>
            <a:ext cx="561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357800" y="61437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70e0d"/>
                </a:solidFill>
                <a:latin typeface="Times New Roman"/>
                <a:ea typeface="Times New Roman"/>
              </a:rPr>
              <a:t>б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357200" y="61437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70e0d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7215120" y="61437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70e0d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2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3024105fa0e6df31eddb2eec64e77dde"/>
          <p:cNvPicPr/>
          <p:nvPr/>
        </p:nvPicPr>
        <p:blipFill>
          <a:blip r:embed="rId2"/>
          <a:stretch/>
        </p:blipFill>
        <p:spPr>
          <a:xfrm>
            <a:off x="5214960" y="1214280"/>
            <a:ext cx="3357720" cy="25718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785880" y="214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облюдение  правил техники безопасност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1071720" y="92880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выполнении                         ручных рабо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214200" y="1841400"/>
            <a:ext cx="5072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е вкалывать иглы и булавки в одежд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е брать игу или булавки в ро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глы и булавки хранить в игольниц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се ручные работы с иголками выполнять только в наперстк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ередавать ножницы кольцами вперед с сомкнутыми лезвиям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5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0001-001-Znakomim-detej-s-professijami"/>
          <p:cNvPicPr/>
          <p:nvPr/>
        </p:nvPicPr>
        <p:blipFill>
          <a:blip r:embed="rId2"/>
          <a:stretch/>
        </p:blipFill>
        <p:spPr>
          <a:xfrm>
            <a:off x="5857920" y="1071720"/>
            <a:ext cx="3019320" cy="22669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500040" y="8571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выполнении                               машинных рабо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714240" y="214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облюдение правил техники безопасност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71680" y="242892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214200" y="1785960"/>
            <a:ext cx="5643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убрать волосы под косынк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еред работой убрать с платформы машины все посторонние предметы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ледить за рабочей позой и положением рук:  не наклоняться к движущимся и вращающимся частям машины, не подводить руки к игл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е разговаривать во время работ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чистку и смазку машины, а также замену иглы производить только при выключенной машин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9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images"/>
          <p:cNvPicPr/>
          <p:nvPr/>
        </p:nvPicPr>
        <p:blipFill>
          <a:blip r:embed="rId2"/>
          <a:stretch/>
        </p:blipFill>
        <p:spPr>
          <a:xfrm>
            <a:off x="5429160" y="1214280"/>
            <a:ext cx="3338640" cy="24289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5"/>
          <p:cNvSpPr/>
          <p:nvPr/>
        </p:nvSpPr>
        <p:spPr>
          <a:xfrm>
            <a:off x="571680" y="1000080"/>
            <a:ext cx="528624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выполнении                         утюжильных рабо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ть за нагревом утюг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работой проверить шнур на наличие оголенных мес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работы с утюгом не отвлекаться и не разговариват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ть, чтобы шнур не перекручивался и не попадал под подошву утюг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утюжки под ногами должен быть резиновый коврик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ть и выключать утюг из розетки двумя рукам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714240" y="214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облюдение  правил техники безопасност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3"/>
          <p:cNvSpPr/>
          <p:nvPr/>
        </p:nvSpPr>
        <p:spPr>
          <a:xfrm>
            <a:off x="4140360" y="981000"/>
            <a:ext cx="33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7" name="Picture 41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1357200" y="42876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785880" y="1285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полнить в тетради таблицу по способу выполнения шва вподгибку с закрытым срезо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14240" y="2643120"/>
          <a:ext cx="7715520" cy="2082960"/>
        </p:xfrm>
        <a:graphic>
          <a:graphicData uri="http://schemas.openxmlformats.org/drawingml/2006/table">
            <a:tbl>
              <a:tblPr/>
              <a:tblGrid>
                <a:gridCol w="543240"/>
                <a:gridCol w="2217600"/>
                <a:gridCol w="3249720"/>
                <a:gridCol w="1704960"/>
              </a:tblGrid>
              <a:tr h="105228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Название операции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Технические условия                          выполнения операции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Вид работы                 (Р,  М, У)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Rectangle 6"/>
          <p:cNvSpPr/>
          <p:nvPr/>
        </p:nvSpPr>
        <p:spPr>
          <a:xfrm>
            <a:off x="642960" y="5361480"/>
            <a:ext cx="214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ручны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машинны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У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- утюжильны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125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16430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356920" y="571680"/>
            <a:ext cx="66438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оздать условия для применения знаний, умений и навыков при обработке нижнего среза изделия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791640" y="1785960"/>
            <a:ext cx="209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Прямоугольник 5"/>
          <p:cNvSpPr/>
          <p:nvPr/>
        </p:nvSpPr>
        <p:spPr>
          <a:xfrm>
            <a:off x="285840" y="264312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бразовательные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 обобщить и систематизировать знания учащихся о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способах обработки нижнего среза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пособствовать формированию умений и навыков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правильного и последовательного выполнения операций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по обработке нижнего среза издел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357120" y="40813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оррекционно – развивающие -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коррекция и развитие мышления и памят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оррекция и развитие мелкой моторики рук                          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через практическую работу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Прямоугольник 7"/>
          <p:cNvSpPr/>
          <p:nvPr/>
        </p:nvSpPr>
        <p:spPr>
          <a:xfrm>
            <a:off x="428760" y="51436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оспитательные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- способствовать воспитанию уважительного отношени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друг к  другу при анализе правильности выполнения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заданий и ответов на вопросы учителя, аккуратности при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ыполнении практического работ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5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1"/>
          <p:cNvSpPr/>
          <p:nvPr/>
        </p:nvSpPr>
        <p:spPr>
          <a:xfrm>
            <a:off x="1959120" y="208080"/>
            <a:ext cx="3398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857160" y="3571920"/>
          <a:ext cx="7358040" cy="2813040"/>
        </p:xfrm>
        <a:graphic>
          <a:graphicData uri="http://schemas.openxmlformats.org/drawingml/2006/table">
            <a:tbl>
              <a:tblPr/>
              <a:tblGrid>
                <a:gridCol w="2452680"/>
                <a:gridCol w="2452680"/>
                <a:gridCol w="2452680"/>
              </a:tblGrid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Ручные работы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Машинные работы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ВТО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3"/>
          <p:cNvSpPr/>
          <p:nvPr/>
        </p:nvSpPr>
        <p:spPr>
          <a:xfrm>
            <a:off x="2357280" y="571680"/>
            <a:ext cx="66438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500040" y="571680"/>
            <a:ext cx="792972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численные ниже термины распределите в таблице ,  разделяя ручные работы,  машинные работы, и работы по влажно-тепловой обработке: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тачать,  приметать,  обтачать,   выметать,  сутюжить,  оттянуть,  притачать, вметать,  обметать,  подшить,   разутюжить,   втачать,   расстрочить, заметать,  заутюжить,  настрочить,  обметать,  отутюжить,    наметать. 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21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642960" y="928800"/>
          <a:ext cx="8001000" cy="4578120"/>
        </p:xfrm>
        <a:graphic>
          <a:graphicData uri="http://schemas.openxmlformats.org/drawingml/2006/table">
            <a:tbl>
              <a:tblPr/>
              <a:tblGrid>
                <a:gridCol w="2786040"/>
                <a:gridCol w="2571840"/>
                <a:gridCol w="2643120"/>
              </a:tblGrid>
              <a:tr h="114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Ручные работы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Машинные работы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ВТО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римета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тача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разутюжи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вымета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бтача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риутюжи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вмета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ритача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заутюжи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одши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втача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тутюжи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замета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расстрочи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утюжи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намета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бметать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настрочи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5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1"/>
          <p:cNvSpPr/>
          <p:nvPr/>
        </p:nvSpPr>
        <p:spPr>
          <a:xfrm>
            <a:off x="195912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857160" y="1357200"/>
            <a:ext cx="6357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бработать подборта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бработать плечевые и боковые срезы   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бработать воротник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оединить воротник с горловиной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бработать рукава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оединить рукава с проймой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бработать боковые срезы юбки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бразовать сборки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оединить лиф платья с юбкой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ботать нижний срез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бметать петли и пришить пуговицы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тутюжить готовое изделие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Text Box 32"/>
          <p:cNvSpPr/>
          <p:nvPr/>
        </p:nvSpPr>
        <p:spPr>
          <a:xfrm>
            <a:off x="1000080" y="357120"/>
            <a:ext cx="77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пошива отрезного плать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3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1"/>
          <p:cNvSpPr/>
          <p:nvPr/>
        </p:nvSpPr>
        <p:spPr>
          <a:xfrm>
            <a:off x="1116000" y="2060640"/>
            <a:ext cx="3166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6" descr="C:\Users\admin\Desktop\1.gif"/>
          <p:cNvPicPr/>
          <p:nvPr/>
        </p:nvPicPr>
        <p:blipFill>
          <a:blip r:embed="rId2"/>
          <a:stretch/>
        </p:blipFill>
        <p:spPr>
          <a:xfrm>
            <a:off x="4714920" y="128592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C:\Users\admin\Desktop\2.gif"/>
          <p:cNvPicPr/>
          <p:nvPr/>
        </p:nvPicPr>
        <p:blipFill>
          <a:blip r:embed="rId3"/>
          <a:stretch/>
        </p:blipFill>
        <p:spPr>
          <a:xfrm>
            <a:off x="4643280" y="3571920"/>
            <a:ext cx="2928960" cy="21430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785880" y="2858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пособы обработки нижнего среза издел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14240" y="1714680"/>
            <a:ext cx="30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ом вподгибку с открытым срезо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714240" y="3643200"/>
            <a:ext cx="30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вом вподгибку с закрытым срезо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9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C:\Users\admin\Desktop\3.gif"/>
          <p:cNvPicPr/>
          <p:nvPr/>
        </p:nvPicPr>
        <p:blipFill>
          <a:blip r:embed="rId2"/>
          <a:stretch/>
        </p:blipFill>
        <p:spPr>
          <a:xfrm>
            <a:off x="5143680" y="1357200"/>
            <a:ext cx="2857320" cy="1857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C:\Users\admin\Desktop\4.gif"/>
          <p:cNvPicPr/>
          <p:nvPr/>
        </p:nvPicPr>
        <p:blipFill>
          <a:blip r:embed="rId3"/>
          <a:stretch/>
        </p:blipFill>
        <p:spPr>
          <a:xfrm>
            <a:off x="5143680" y="3929040"/>
            <a:ext cx="2857320" cy="19288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785880" y="4214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нтовочным шво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714240" y="150012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ом вподгибку с обметанным срезом потайными стежкам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85880" y="2858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пособы обработки нижнего среза издел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01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C:\Users\admin\Desktop\5.gif"/>
          <p:cNvPicPr/>
          <p:nvPr/>
        </p:nvPicPr>
        <p:blipFill>
          <a:blip r:embed="rId2"/>
          <a:stretch/>
        </p:blipFill>
        <p:spPr>
          <a:xfrm>
            <a:off x="4714920" y="1214280"/>
            <a:ext cx="3000240" cy="2428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928800" y="17146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овски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шво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Picture 5" descr="C:\Users\admin\Desktop\8.gif"/>
          <p:cNvPicPr/>
          <p:nvPr/>
        </p:nvPicPr>
        <p:blipFill>
          <a:blip r:embed="rId3"/>
          <a:stretch/>
        </p:blipFill>
        <p:spPr>
          <a:xfrm>
            <a:off x="4643280" y="4214880"/>
            <a:ext cx="3143520" cy="23572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928800" y="457200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тачк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85880" y="2858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пособы обработки нижнего среза издел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/>
        </a:graphic>
      </p:graphicFrame>
      <p:pic>
        <p:nvPicPr>
          <p:cNvPr id="238" name="Picture 35" descr="12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D:\Фото\У нас в гостях\ANIMASHKI39.gif"/>
          <p:cNvPicPr/>
          <p:nvPr/>
        </p:nvPicPr>
        <p:blipFill>
          <a:blip r:embed="rId2"/>
          <a:stretch/>
        </p:blipFill>
        <p:spPr>
          <a:xfrm>
            <a:off x="642960" y="214200"/>
            <a:ext cx="8143920" cy="6107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D:\Фото\У нас в гостях\Люди\1f3768f89f77.gif"/>
          <p:cNvPicPr/>
          <p:nvPr/>
        </p:nvPicPr>
        <p:blipFill>
          <a:blip r:embed="rId3"/>
          <a:stretch/>
        </p:blipFill>
        <p:spPr>
          <a:xfrm>
            <a:off x="285840" y="4286160"/>
            <a:ext cx="3143160" cy="2313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428760" y="64296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2:13:48Z</dcterms:created>
  <dc:creator>нет</dc:creator>
  <dc:description/>
  <dc:language>en-US</dc:language>
  <cp:lastModifiedBy>admin</cp:lastModifiedBy>
  <dcterms:modified xsi:type="dcterms:W3CDTF">2015-10-14T13:24:16Z</dcterms:modified>
  <cp:revision>112</cp:revision>
  <dc:subject/>
  <dc:title>Построение чертежа прямой юбки.</dc:title>
</cp:coreProperties>
</file>