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5.gif" ContentType="image/gif"/>
  <Override PartName="/ppt/media/image6.png" ContentType="image/png"/>
  <Override PartName="/ppt/media/image10.png" ContentType="image/png"/>
  <Override PartName="/ppt/media/image24.jpeg" ContentType="image/jpeg"/>
  <Override PartName="/ppt/media/image5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14.gif" ContentType="image/gif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3678-A024-46D6-A625-FF715CB22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A54E-A7E4-48A3-B304-23EA43B1A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3D64-63FD-4386-AF6E-27C420A46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9509-26A4-42EA-9A17-0CF23E762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584B2-C71B-4463-83A2-CB41DBD54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7260D-62BA-4427-A70F-63BF0D211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23F67-693F-402F-9017-D127AA97D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0358F-036B-40B9-B1E8-9ED1E3083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463C7-ED55-4734-870B-7AEC20C2D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EFD2A-CF6E-4804-8112-9CA89FE94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ED5FA-7D81-476F-B9F7-A5B585EF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D7CC-1C1A-4AFD-B34E-C3EA43628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57CDF-3302-4277-8D27-0DB38392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64C93-3A19-41CE-94AE-711326A7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CD28D-5718-4411-A34E-FB07882AC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E2389-A4ED-42B6-8DDB-519347933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7B90A-2FB7-4F85-BF94-3DC426C6A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391E-DBFB-45B7-85EB-330A161D4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6303-9D70-4BEB-A642-9D379BBEF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7394-37C6-4963-B77A-BB34122D2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9F6F-1AA9-44E5-8243-6C0271C9A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4150-F760-4F48-832C-369D5872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DECB-FB68-4A4F-8D42-D205FF58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D295-1019-4F80-A044-550BC241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6200"/>
                    <a:ext cx="279360" cy="261720"/>
                    <a:chOff x="8704440" y="16200"/>
                    <a:chExt cx="279360" cy="26172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8360" y="-27720"/>
                      <a:ext cx="1911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6280" y="98280"/>
                      <a:ext cx="13392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36800"/>
                    <a:ext cx="2700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8800" y="24480"/>
                    <a:ext cx="4032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30440" y="13320"/>
                    <a:ext cx="6156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840" y="59760"/>
                    <a:ext cx="2232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5400" y="195480"/>
                    <a:ext cx="6012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3560" y="172080"/>
                    <a:ext cx="360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9D874-D112-45F0-8EE4-4BE94689778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240"/>
            <a:chOff x="0" y="0"/>
            <a:chExt cx="9159840" cy="6870240"/>
          </a:xfrm>
        </p:grpSpPr>
        <p:sp>
          <p:nvSpPr>
            <p:cNvPr id="97" name="Rectangle 3"/>
            <p:cNvSpPr/>
            <p:nvPr/>
          </p:nvSpPr>
          <p:spPr>
            <a:xfrm>
              <a:off x="0" y="6646680"/>
              <a:ext cx="8078760" cy="2235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48960"/>
              <a:ext cx="8078760" cy="198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48960"/>
              <a:ext cx="1203120" cy="680904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0"/>
              <a:ext cx="1295280" cy="6313680"/>
              <a:chOff x="7848720" y="0"/>
              <a:chExt cx="1295280" cy="631368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0"/>
                <a:ext cx="762120" cy="2304000"/>
                <a:chOff x="8381880" y="0"/>
                <a:chExt cx="762120" cy="230400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63120" y="0"/>
                  <a:ext cx="279360" cy="291600"/>
                  <a:chOff x="8763120" y="0"/>
                  <a:chExt cx="279360" cy="29160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63120" y="0"/>
                    <a:ext cx="279360" cy="283680"/>
                    <a:chOff x="8763120" y="0"/>
                    <a:chExt cx="279360" cy="2836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802720" y="-39600"/>
                      <a:ext cx="2001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811720" y="100800"/>
                      <a:ext cx="14040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83000" y="185400"/>
                    <a:ext cx="2808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816400" y="68040"/>
                    <a:ext cx="4248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87680" y="56160"/>
                    <a:ext cx="6444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56080" y="110880"/>
                    <a:ext cx="2520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82640" y="246600"/>
                    <a:ext cx="6300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831520" y="222480"/>
                    <a:ext cx="3744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75760"/>
                  <a:ext cx="29556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75760"/>
                  <a:ext cx="29520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78520"/>
                  <a:ext cx="29556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56520"/>
                  <a:ext cx="29520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80920"/>
                  <a:ext cx="29520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59280"/>
                  <a:ext cx="29520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37640"/>
                  <a:ext cx="29520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2015640"/>
                  <a:ext cx="29520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37640"/>
                <a:ext cx="828720" cy="4676040"/>
                <a:chOff x="7848720" y="1637640"/>
                <a:chExt cx="828720" cy="46760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37640"/>
                  <a:ext cx="29556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40040"/>
                  <a:ext cx="29520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45200"/>
                  <a:ext cx="29556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72360"/>
                  <a:ext cx="29556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923560"/>
                  <a:ext cx="29520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26320"/>
                  <a:ext cx="29520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301920"/>
                  <a:ext cx="29556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55880"/>
                  <a:ext cx="29520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28720"/>
                  <a:ext cx="29556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907080"/>
                  <a:ext cx="29556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33880"/>
                  <a:ext cx="29556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42440"/>
                  <a:ext cx="29520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61040"/>
                  <a:ext cx="29520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90600"/>
                  <a:ext cx="29556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68960"/>
                  <a:ext cx="29520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9800"/>
                  <a:ext cx="29556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46960"/>
                  <a:ext cx="29520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25320"/>
                  <a:ext cx="29556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73760"/>
                  <a:ext cx="29520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22280"/>
              <a:ext cx="1190520" cy="192600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71880"/>
              <a:ext cx="1219320" cy="19857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46520"/>
              <a:ext cx="1231920" cy="40082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61840"/>
              <a:ext cx="979560" cy="216864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72680"/>
              <a:ext cx="914400" cy="5012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308880"/>
              <a:ext cx="909720" cy="30495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48960"/>
              <a:ext cx="576360" cy="332856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50040"/>
              <a:ext cx="300240" cy="332892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50040"/>
              <a:ext cx="88920" cy="680904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33760"/>
              <a:ext cx="1165320" cy="614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48440" y="3340800"/>
              <a:ext cx="680904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D3E4F-BC77-4E62-980B-809A3491AA5B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4" descr="1274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2071440"/>
            <a:ext cx="69292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«</a:t>
            </a: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Обработка нижнего среза платья»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071960" y="5143320"/>
            <a:ext cx="464328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ставитель: Хабибуллина Г. С,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учитель технологии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214200" y="285840"/>
            <a:ext cx="857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КУ С(К)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 - 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II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да с. Цепочкино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ржумского района Кировской области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5929200" y="3929040"/>
            <a:ext cx="2428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 класс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12" descr="127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5"/>
          <p:cNvSpPr/>
          <p:nvPr/>
        </p:nvSpPr>
        <p:spPr>
          <a:xfrm>
            <a:off x="785880" y="28584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ая работа.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Обработка нижнего среза швом вподгибку с закрытым срезом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4" name="Picture 7" descr="C:\Users\admin\Desktop\2.gif"/>
          <p:cNvPicPr/>
          <p:nvPr/>
        </p:nvPicPr>
        <p:blipFill>
          <a:blip r:embed="rId2"/>
          <a:stretch/>
        </p:blipFill>
        <p:spPr>
          <a:xfrm>
            <a:off x="285840" y="1785960"/>
            <a:ext cx="3857400" cy="285732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5"/>
          <p:cNvSpPr/>
          <p:nvPr/>
        </p:nvSpPr>
        <p:spPr>
          <a:xfrm>
            <a:off x="4071960" y="3857760"/>
            <a:ext cx="4714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какие технологические операции необходимо выполнить 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35" descr="127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11"/>
          <p:cNvSpPr/>
          <p:nvPr/>
        </p:nvSpPr>
        <p:spPr>
          <a:xfrm>
            <a:off x="1959120" y="208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785880" y="28584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особы  выполнения                                                 шва вподгибку с закрытым срезом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357120" y="150012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1 способ – </a:t>
            </a: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а) одновременно</a:t>
            </a:r>
            <a:r>
              <a:rPr b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подогнуть нижний срез и   </a:t>
            </a: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   застрочить (проложить машинную строчку) на  </a:t>
            </a: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   расстоянии 1 - 2 мм от сгиб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0" name="Рисунок 7" descr="C:\Users\admin\Desktop\SAM_2894 1.jpg"/>
          <p:cNvPicPr/>
          <p:nvPr/>
        </p:nvPicPr>
        <p:blipFill>
          <a:blip r:embed="rId2"/>
          <a:stretch/>
        </p:blipFill>
        <p:spPr>
          <a:xfrm>
            <a:off x="2643120" y="2928960"/>
            <a:ext cx="3286080" cy="292896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5"/>
          <p:cNvSpPr/>
          <p:nvPr/>
        </p:nvSpPr>
        <p:spPr>
          <a:xfrm>
            <a:off x="3929040" y="607212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70e0d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35" descr="127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11"/>
          <p:cNvSpPr/>
          <p:nvPr/>
        </p:nvSpPr>
        <p:spPr>
          <a:xfrm>
            <a:off x="1959120" y="208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785880" y="28584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особы  выполнения                                                 шва вподгибку с закрытым срезом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357120" y="1643040"/>
            <a:ext cx="835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2 способ – </a:t>
            </a: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а) заметать нижний срез на изнаночную сторону </a:t>
            </a: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          на 0, 5  мм;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б) подогнуть заметанный срез еще раз на 1,0 см и   </a:t>
            </a: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       застрочить на расстоянии 1 - 2 мм от сгиба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6" name="Рисунок 14" descr="C:\Users\admin\Desktop\SAM_2893 2-1.jpg"/>
          <p:cNvPicPr/>
          <p:nvPr/>
        </p:nvPicPr>
        <p:blipFill>
          <a:blip r:embed="rId2"/>
          <a:stretch/>
        </p:blipFill>
        <p:spPr>
          <a:xfrm>
            <a:off x="1000080" y="3429000"/>
            <a:ext cx="2928960" cy="257184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7" descr="C:\Users\admin\Desktop\SAM_2894 1.jpg"/>
          <p:cNvPicPr/>
          <p:nvPr/>
        </p:nvPicPr>
        <p:blipFill>
          <a:blip r:embed="rId3"/>
          <a:stretch/>
        </p:blipFill>
        <p:spPr>
          <a:xfrm>
            <a:off x="4857840" y="3429000"/>
            <a:ext cx="3071880" cy="257184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5"/>
          <p:cNvSpPr/>
          <p:nvPr/>
        </p:nvSpPr>
        <p:spPr>
          <a:xfrm>
            <a:off x="6143760" y="614376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70e0d"/>
                </a:solidFill>
                <a:latin typeface="Times New Roman"/>
                <a:ea typeface="Times New Roman"/>
              </a:rPr>
              <a:t>б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2000160" y="614376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70e0d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35" descr="127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11"/>
          <p:cNvSpPr/>
          <p:nvPr/>
        </p:nvSpPr>
        <p:spPr>
          <a:xfrm>
            <a:off x="1959120" y="208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785880" y="28584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особы  выполнения                                                 шва вподгибку с закрытым срезом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357120" y="1643040"/>
            <a:ext cx="857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3 способ – </a:t>
            </a: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а) заметать нижний срез на изнаночную сторону </a:t>
            </a: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       на 0, 5  мм;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б) подогнуть срез еще раз на 1,0 см и заметать;   </a:t>
            </a: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   в) застрочить на расстоянии 1 - 2 мм от сгиба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4" name="Рисунок 7" descr="C:\Users\admin\Desktop\SAM_2883 3-1.jpg"/>
          <p:cNvPicPr/>
          <p:nvPr/>
        </p:nvPicPr>
        <p:blipFill>
          <a:blip r:embed="rId2"/>
          <a:stretch/>
        </p:blipFill>
        <p:spPr>
          <a:xfrm>
            <a:off x="571680" y="3643200"/>
            <a:ext cx="2286000" cy="2428920"/>
          </a:xfrm>
          <a:prstGeom prst="rect">
            <a:avLst/>
          </a:prstGeom>
          <a:ln w="0">
            <a:noFill/>
          </a:ln>
        </p:spPr>
      </p:pic>
      <p:pic>
        <p:nvPicPr>
          <p:cNvPr id="265" name="Рисунок 8" descr="C:\Users\admin\Desktop\105PHOTO\SAM_2887 3-2.jpg"/>
          <p:cNvPicPr/>
          <p:nvPr/>
        </p:nvPicPr>
        <p:blipFill>
          <a:blip r:embed="rId3"/>
          <a:stretch/>
        </p:blipFill>
        <p:spPr>
          <a:xfrm>
            <a:off x="3429000" y="3643200"/>
            <a:ext cx="2357280" cy="2428920"/>
          </a:xfrm>
          <a:prstGeom prst="rect">
            <a:avLst/>
          </a:prstGeom>
          <a:ln w="0">
            <a:noFill/>
          </a:ln>
        </p:spPr>
      </p:pic>
      <p:pic>
        <p:nvPicPr>
          <p:cNvPr id="266" name="Рисунок 9" descr="C:\Users\admin\Desktop\SAM_2885 3-3.jpg"/>
          <p:cNvPicPr/>
          <p:nvPr/>
        </p:nvPicPr>
        <p:blipFill>
          <a:blip r:embed="rId4"/>
          <a:stretch/>
        </p:blipFill>
        <p:spPr>
          <a:xfrm>
            <a:off x="6357960" y="3643200"/>
            <a:ext cx="2357280" cy="236880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5"/>
          <p:cNvSpPr/>
          <p:nvPr/>
        </p:nvSpPr>
        <p:spPr>
          <a:xfrm>
            <a:off x="938160" y="438120"/>
            <a:ext cx="5619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4357800" y="614376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70e0d"/>
                </a:solidFill>
                <a:latin typeface="Times New Roman"/>
                <a:ea typeface="Times New Roman"/>
              </a:rPr>
              <a:t>б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1357200" y="614376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70e0d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7215120" y="614376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70e0d"/>
                </a:solidFill>
                <a:latin typeface="Times New Roman"/>
                <a:ea typeface="Times New Roman"/>
              </a:rPr>
              <a:t>в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2" descr="127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3" descr="3024105fa0e6df31eddb2eec64e77dde"/>
          <p:cNvPicPr/>
          <p:nvPr/>
        </p:nvPicPr>
        <p:blipFill>
          <a:blip r:embed="rId2"/>
          <a:stretch/>
        </p:blipFill>
        <p:spPr>
          <a:xfrm>
            <a:off x="5214960" y="1214280"/>
            <a:ext cx="3357720" cy="257184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5"/>
          <p:cNvSpPr/>
          <p:nvPr/>
        </p:nvSpPr>
        <p:spPr>
          <a:xfrm>
            <a:off x="785880" y="2142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Соблюдение  правил техники безопасност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4" name="Text Box 5"/>
          <p:cNvSpPr/>
          <p:nvPr/>
        </p:nvSpPr>
        <p:spPr>
          <a:xfrm>
            <a:off x="1071720" y="928800"/>
            <a:ext cx="328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и выполнении                         ручных работ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214200" y="1841400"/>
            <a:ext cx="50720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не вкалывать иглы и булавки в одежду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не брать игу или булавки в рот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иглы и булавки хранить в игольнице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все ручные работы с иголками выполнять только в наперстке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передавать ножницы кольцами вперед с сомкнутыми лезвиями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35" descr="127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5" descr="0001-001-Znakomim-detej-s-professijami"/>
          <p:cNvPicPr/>
          <p:nvPr/>
        </p:nvPicPr>
        <p:blipFill>
          <a:blip r:embed="rId2"/>
          <a:stretch/>
        </p:blipFill>
        <p:spPr>
          <a:xfrm>
            <a:off x="5857920" y="1071720"/>
            <a:ext cx="3019320" cy="226692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5"/>
          <p:cNvSpPr/>
          <p:nvPr/>
        </p:nvSpPr>
        <p:spPr>
          <a:xfrm>
            <a:off x="500040" y="8571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и выполнении                               машинных работ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714240" y="2142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Соблюдение правил техники безопасност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571680" y="2428920"/>
            <a:ext cx="428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214200" y="1785960"/>
            <a:ext cx="5643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убрать волосы под косынку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перед работой убрать с платформы машины все посторонние предметы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следить за рабочей позой и положением рук:  не наклоняться к движущимся и вращающимся частям машины, не подводить руки к игле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не разговаривать во время работы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чистку и смазку машины, а также замену иглы производить только при выключенной машине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39" descr="127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4" descr="images"/>
          <p:cNvPicPr/>
          <p:nvPr/>
        </p:nvPicPr>
        <p:blipFill>
          <a:blip r:embed="rId2"/>
          <a:stretch/>
        </p:blipFill>
        <p:spPr>
          <a:xfrm>
            <a:off x="5429160" y="1214280"/>
            <a:ext cx="3338640" cy="242892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5"/>
          <p:cNvSpPr/>
          <p:nvPr/>
        </p:nvSpPr>
        <p:spPr>
          <a:xfrm>
            <a:off x="571680" y="1000080"/>
            <a:ext cx="528624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и выполнении                         утюжильных работ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ить за нагревом утюг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работой проверить шнур на наличие оголенных мест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работы с утюгом не отвлекаться и не разговаривать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ить, чтобы шнур не перекручивался и не попадал под подошву утюг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утюжки под ногами должен быть резиновый коврик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ть и выключать утюг из розетки двумя руками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714240" y="2142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Соблюдение  правил техники безопасност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43"/>
          <p:cNvSpPr/>
          <p:nvPr/>
        </p:nvSpPr>
        <p:spPr>
          <a:xfrm>
            <a:off x="4140360" y="981000"/>
            <a:ext cx="33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87" name="Picture 41" descr="127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5"/>
          <p:cNvSpPr/>
          <p:nvPr/>
        </p:nvSpPr>
        <p:spPr>
          <a:xfrm>
            <a:off x="1357200" y="428760"/>
            <a:ext cx="628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9" name="Text Box 5"/>
          <p:cNvSpPr/>
          <p:nvPr/>
        </p:nvSpPr>
        <p:spPr>
          <a:xfrm>
            <a:off x="785880" y="128592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Заполнить в тетради таблицу по способу выполнения шва вподгибку с закрытым срезом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714240" y="2643120"/>
          <a:ext cx="7715520" cy="2082960"/>
        </p:xfrm>
        <a:graphic>
          <a:graphicData uri="http://schemas.openxmlformats.org/drawingml/2006/table">
            <a:tbl>
              <a:tblPr/>
              <a:tblGrid>
                <a:gridCol w="543240"/>
                <a:gridCol w="2217600"/>
                <a:gridCol w="3249720"/>
                <a:gridCol w="1704960"/>
              </a:tblGrid>
              <a:tr h="1052280"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20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Название операции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Технические условия                          выполнения операции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Вид работы                 (Р,  М, У)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1" name="Rectangle 6"/>
          <p:cNvSpPr/>
          <p:nvPr/>
        </p:nvSpPr>
        <p:spPr>
          <a:xfrm>
            <a:off x="642960" y="5361480"/>
            <a:ext cx="214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Р</a:t>
            </a: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f1311"/>
                </a:solidFill>
                <a:latin typeface="Calibri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ручные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М</a:t>
            </a: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f1311"/>
                </a:solidFill>
                <a:latin typeface="Calibri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машинные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У</a:t>
            </a: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- утюжильные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125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127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164304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356920" y="571680"/>
            <a:ext cx="664380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</a:t>
            </a:r>
            <a:r>
              <a:rPr b="1" lang="ru-RU" sz="2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создать условия для применения знаний, умений и навыков при обработке нижнего среза изделия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791640" y="1785960"/>
            <a:ext cx="209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и</a:t>
            </a: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Прямоугольник 5"/>
          <p:cNvSpPr/>
          <p:nvPr/>
        </p:nvSpPr>
        <p:spPr>
          <a:xfrm>
            <a:off x="285840" y="264312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Образовательные </a:t>
            </a:r>
            <a:r>
              <a:rPr b="1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- обобщить и систематизировать знания учащихся о                  </a:t>
            </a:r>
            <a:r>
              <a:rPr b="1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   способах обработки нижнего среза;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                                   </a:t>
            </a:r>
            <a:r>
              <a:rPr b="1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способствовать формированию умений и навыков           </a:t>
            </a:r>
            <a:r>
              <a:rPr b="1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                   правильного и последовательного выполнения операций  </a:t>
            </a:r>
            <a:r>
              <a:rPr b="1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                   по обработке нижнего среза изделия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357120" y="4081320"/>
            <a:ext cx="82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Коррекционно – развивающие - </a:t>
            </a:r>
            <a:r>
              <a:rPr b="1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коррекция и развитие мышления и памяти;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                                                      </a:t>
            </a:r>
            <a:r>
              <a:rPr b="1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коррекция и развитие мелкой моторики рук                                                      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                                                      </a:t>
            </a:r>
            <a:r>
              <a:rPr b="1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через практическую работу   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Прямоугольник 7"/>
          <p:cNvSpPr/>
          <p:nvPr/>
        </p:nvSpPr>
        <p:spPr>
          <a:xfrm>
            <a:off x="428760" y="5143680"/>
            <a:ext cx="83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Воспитательные</a:t>
            </a:r>
            <a:r>
              <a:rPr b="1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- способствовать воспитанию уважительного отношения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1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друг к  другу при анализе правильности выполнения  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1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заданий и ответов на вопросы учителя, аккуратности при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1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выполнении практического работы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5" descr="127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11"/>
          <p:cNvSpPr/>
          <p:nvPr/>
        </p:nvSpPr>
        <p:spPr>
          <a:xfrm>
            <a:off x="1959120" y="208080"/>
            <a:ext cx="3398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857160" y="3571920"/>
          <a:ext cx="7358040" cy="2813040"/>
        </p:xfrm>
        <a:graphic>
          <a:graphicData uri="http://schemas.openxmlformats.org/drawingml/2006/table">
            <a:tbl>
              <a:tblPr/>
              <a:tblGrid>
                <a:gridCol w="2452680"/>
                <a:gridCol w="2452680"/>
                <a:gridCol w="2452680"/>
              </a:tblGrid>
              <a:tr h="358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Ручные работы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Машинные работы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ВТО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Rectangle 3"/>
          <p:cNvSpPr/>
          <p:nvPr/>
        </p:nvSpPr>
        <p:spPr>
          <a:xfrm>
            <a:off x="2357280" y="571680"/>
            <a:ext cx="664380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500040" y="571680"/>
            <a:ext cx="792972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речисленные ниже термины распределите в таблице ,  разделяя ручные работы,  машинные работы, и работы по влажно-тепловой обработке: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стачать,  приметать,  обтачать,   выметать,  сутюжить,  оттянуть,  притачать, вметать,  обметать,  подшить,   разутюжить,   втачать,   расстрочить, заметать,  заутюжить,  настрочить,  обметать,  отутюжить,    наметать. 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1" name="Picture 21" descr="127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2" name=""/>
          <p:cNvGraphicFramePr/>
          <p:nvPr/>
        </p:nvGraphicFramePr>
        <p:xfrm>
          <a:off x="642960" y="928800"/>
          <a:ext cx="8001000" cy="4578120"/>
        </p:xfrm>
        <a:graphic>
          <a:graphicData uri="http://schemas.openxmlformats.org/drawingml/2006/table">
            <a:tbl>
              <a:tblPr/>
              <a:tblGrid>
                <a:gridCol w="2786040"/>
                <a:gridCol w="2571840"/>
                <a:gridCol w="2643120"/>
              </a:tblGrid>
              <a:tr h="1142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Ручные работы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Машинные работы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ВТО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приметать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стачать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разутюжить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выметать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обтачать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приутюжить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вметать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притачать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заутюжить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подшить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втачать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отутюжить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заметать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расстрочить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сутюжить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наметать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обметать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настрочить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35" descr="127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11"/>
          <p:cNvSpPr/>
          <p:nvPr/>
        </p:nvSpPr>
        <p:spPr>
          <a:xfrm>
            <a:off x="1959120" y="208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Text Box 32"/>
          <p:cNvSpPr/>
          <p:nvPr/>
        </p:nvSpPr>
        <p:spPr>
          <a:xfrm>
            <a:off x="857160" y="1357200"/>
            <a:ext cx="63579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2f13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Обработать подборта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2f13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Обработать плечевые и боковые срезы   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2f13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Обработать воротник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2f13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Соединить воротник с горловиной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2f13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Обработать рукава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2f13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Соединить рукава с проймой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2f13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Обработать боковые срезы юбки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2f13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Образовать сборки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2f13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Соединить лиф платья с юбкой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работать нижний срез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2f13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Обметать петли и пришить пуговицы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2f13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Отутюжить готовое изделие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Text Box 32"/>
          <p:cNvSpPr/>
          <p:nvPr/>
        </p:nvSpPr>
        <p:spPr>
          <a:xfrm>
            <a:off x="1000080" y="357120"/>
            <a:ext cx="771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лан пошива отрезного плать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13" descr="127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11"/>
          <p:cNvSpPr/>
          <p:nvPr/>
        </p:nvSpPr>
        <p:spPr>
          <a:xfrm>
            <a:off x="1116000" y="2060640"/>
            <a:ext cx="3166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9" name="Picture 6" descr="C:\Users\admin\Desktop\1.gif"/>
          <p:cNvPicPr/>
          <p:nvPr/>
        </p:nvPicPr>
        <p:blipFill>
          <a:blip r:embed="rId2"/>
          <a:stretch/>
        </p:blipFill>
        <p:spPr>
          <a:xfrm>
            <a:off x="4714920" y="1285920"/>
            <a:ext cx="2857320" cy="17859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C:\Users\admin\Desktop\2.gif"/>
          <p:cNvPicPr/>
          <p:nvPr/>
        </p:nvPicPr>
        <p:blipFill>
          <a:blip r:embed="rId3"/>
          <a:stretch/>
        </p:blipFill>
        <p:spPr>
          <a:xfrm>
            <a:off x="4643280" y="3571920"/>
            <a:ext cx="2928960" cy="214308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5"/>
          <p:cNvSpPr/>
          <p:nvPr/>
        </p:nvSpPr>
        <p:spPr>
          <a:xfrm>
            <a:off x="785880" y="28584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Способы обработки нижнего среза изделия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714240" y="1714680"/>
            <a:ext cx="30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вом вподгибку с открытым срезом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714240" y="3643200"/>
            <a:ext cx="30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вом вподгибку с закрытым срезом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79" descr="127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C:\Users\admin\Desktop\3.gif"/>
          <p:cNvPicPr/>
          <p:nvPr/>
        </p:nvPicPr>
        <p:blipFill>
          <a:blip r:embed="rId2"/>
          <a:stretch/>
        </p:blipFill>
        <p:spPr>
          <a:xfrm>
            <a:off x="5143680" y="1357200"/>
            <a:ext cx="2857320" cy="18576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C:\Users\admin\Desktop\4.gif"/>
          <p:cNvPicPr/>
          <p:nvPr/>
        </p:nvPicPr>
        <p:blipFill>
          <a:blip r:embed="rId3"/>
          <a:stretch/>
        </p:blipFill>
        <p:spPr>
          <a:xfrm>
            <a:off x="5143680" y="3929040"/>
            <a:ext cx="2857320" cy="192888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5"/>
          <p:cNvSpPr/>
          <p:nvPr/>
        </p:nvSpPr>
        <p:spPr>
          <a:xfrm>
            <a:off x="785880" y="4214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нтовочным швом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714240" y="1500120"/>
            <a:ext cx="350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вом вподгибку с обметанным срезом потайными стежками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785880" y="28584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Способы обработки нижнего среза изделия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101" descr="127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C:\Users\admin\Desktop\5.gif"/>
          <p:cNvPicPr/>
          <p:nvPr/>
        </p:nvPicPr>
        <p:blipFill>
          <a:blip r:embed="rId2"/>
          <a:stretch/>
        </p:blipFill>
        <p:spPr>
          <a:xfrm>
            <a:off x="4714920" y="1214280"/>
            <a:ext cx="3000240" cy="242892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5"/>
          <p:cNvSpPr/>
          <p:nvPr/>
        </p:nvSpPr>
        <p:spPr>
          <a:xfrm>
            <a:off x="928800" y="171468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сковски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швом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3" name="Picture 5" descr="C:\Users\admin\Desktop\8.gif"/>
          <p:cNvPicPr/>
          <p:nvPr/>
        </p:nvPicPr>
        <p:blipFill>
          <a:blip r:embed="rId3"/>
          <a:stretch/>
        </p:blipFill>
        <p:spPr>
          <a:xfrm>
            <a:off x="4643280" y="4214880"/>
            <a:ext cx="3143520" cy="235728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5"/>
          <p:cNvSpPr/>
          <p:nvPr/>
        </p:nvSpPr>
        <p:spPr>
          <a:xfrm>
            <a:off x="928800" y="457200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тачко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785880" y="28584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Способы обработки нижнего среза изделия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263520" y="1598760"/>
          <a:ext cx="7386480" cy="4497120"/>
        </p:xfrm>
        <a:graphic>
          <a:graphicData uri="http://schemas.openxmlformats.org/drawingml/2006/table"/>
        </a:graphic>
      </p:graphicFrame>
      <p:pic>
        <p:nvPicPr>
          <p:cNvPr id="238" name="Picture 35" descr="127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D:\Фото\У нас в гостях\ANIMASHKI39.gif"/>
          <p:cNvPicPr/>
          <p:nvPr/>
        </p:nvPicPr>
        <p:blipFill>
          <a:blip r:embed="rId2"/>
          <a:stretch/>
        </p:blipFill>
        <p:spPr>
          <a:xfrm>
            <a:off x="642960" y="214200"/>
            <a:ext cx="8143920" cy="61074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D:\Фото\У нас в гостях\Люди\1f3768f89f77.gif"/>
          <p:cNvPicPr/>
          <p:nvPr/>
        </p:nvPicPr>
        <p:blipFill>
          <a:blip r:embed="rId3"/>
          <a:stretch/>
        </p:blipFill>
        <p:spPr>
          <a:xfrm>
            <a:off x="285840" y="4286160"/>
            <a:ext cx="3143160" cy="23130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5"/>
          <p:cNvSpPr/>
          <p:nvPr/>
        </p:nvSpPr>
        <p:spPr>
          <a:xfrm>
            <a:off x="428760" y="642960"/>
            <a:ext cx="3143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Физкультминутк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3T12:13:48Z</dcterms:created>
  <dc:creator>нет</dc:creator>
  <dc:description/>
  <dc:language>en-US</dc:language>
  <cp:lastModifiedBy>admin</cp:lastModifiedBy>
  <dcterms:modified xsi:type="dcterms:W3CDTF">2015-10-14T13:24:16Z</dcterms:modified>
  <cp:revision>112</cp:revision>
  <dc:subject/>
  <dc:title>Построение чертежа прямой юбки.</dc:title>
</cp:coreProperties>
</file>