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gif" ContentType="image/gif"/>
  <Override PartName="/ppt/media/image5.jpeg" ContentType="image/jpeg"/>
  <Override PartName="/ppt/media/image11.gif" ContentType="image/gif"/>
  <Override PartName="/ppt/media/image7.png" ContentType="image/pn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DEA0-90E9-402A-9A0F-4A4CD24FB9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1EFE-0FE9-4FCC-BBBD-8C0A85ACAB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417B-515B-45C6-BF11-954FEA67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CB7-9DA8-4534-9332-99EDC69A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54A-F64F-4CA3-98D1-E36FD955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885A-6EB8-4DD6-8387-F5121544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9E46-FE7C-430A-9F60-F9269260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4259-67C6-4D8F-9A97-DA257ABB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96DD-E5DE-4A2F-96A1-05EE6B9B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D147-AF83-45D4-901F-CB47CFED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B647-D9DB-4A68-B4C2-BA6855A1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C118-C48A-4551-A95E-044E0435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B148-8740-4694-BF31-F4368B75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CD9-AAFE-468E-A696-C6F1A0E0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2E0C-A1BB-4CA4-A465-1A341658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D9E4-B107-4C1D-A9F2-B94BB090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253D-91BD-483C-91FF-37575294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E87C-D753-4FAA-AE58-9BECD07E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A9FA-7C08-4CE2-AE94-9A36816C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6FD-4386-469F-942E-4B200923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5A6F-F8A9-4284-BB0F-998466AE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FEF8-F0F6-405E-87E2-7C0EF28B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36DF-A7F0-4608-82B7-126CD42D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F27-28C5-4FEA-B5C2-C033751D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B68E-3C55-4C9B-9657-88E5222E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524-C4D3-4160-845F-416382E1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A185-F49D-43AB-B7CA-56AF9A5B1E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EB9C-F41D-47F4-88DF-CA2C6F964C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24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Открытый урок по английскому языку в 6-м классе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24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Сем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am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parents083"/>
          <p:cNvPicPr/>
          <p:nvPr/>
        </p:nvPicPr>
        <p:blipFill>
          <a:blip r:embed="rId1"/>
          <a:stretch/>
        </p:blipFill>
        <p:spPr>
          <a:xfrm>
            <a:off x="4140360" y="2492280"/>
            <a:ext cx="436716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Линейная денотатная карта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8229600" cy="47293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ea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kind o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bby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Рефлексия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34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mo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11480" y="1904760"/>
            <a:ext cx="3933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6588000" y="1197000"/>
            <a:ext cx="486000" cy="5113440"/>
          </a:xfrm>
          <a:prstGeom prst="upArrow">
            <a:avLst>
              <a:gd name="adj1" fmla="val 50000"/>
              <a:gd name="adj2" fmla="val 26303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11"/>
          <p:cNvPicPr/>
          <p:nvPr/>
        </p:nvPicPr>
        <p:blipFill>
          <a:blip r:embed="rId1"/>
          <a:stretch/>
        </p:blipFill>
        <p:spPr>
          <a:xfrm>
            <a:off x="2340000" y="2565360"/>
            <a:ext cx="1225440" cy="1224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16"/>
          <p:cNvPicPr/>
          <p:nvPr/>
        </p:nvPicPr>
        <p:blipFill>
          <a:blip r:embed="rId2"/>
          <a:stretch/>
        </p:blipFill>
        <p:spPr>
          <a:xfrm>
            <a:off x="1332000" y="4076640"/>
            <a:ext cx="1224000" cy="1311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13"/>
          <p:cNvPicPr/>
          <p:nvPr/>
        </p:nvPicPr>
        <p:blipFill>
          <a:blip r:embed="rId3"/>
          <a:stretch/>
        </p:blipFill>
        <p:spPr>
          <a:xfrm>
            <a:off x="3348000" y="4797360"/>
            <a:ext cx="130644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Black"/>
              </a:rPr>
              <a:t>Заключительный этап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 не ленись, а повтор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ья иначе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а мечтает быть артист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я сестренка – моя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й брат разбил сегодня ваз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й брат – малыш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й братик -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ядя Скрудж поехал в бан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ядю называют …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тя! А теперь твой фант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тя по-английски …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чку как вы назове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чка по-английски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й сынок испортил кр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ын, сынишка значит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 мне пришел друг на обе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 по-английски прос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semeinyi-portret-0000241570-preview"/>
          <p:cNvPicPr/>
          <p:nvPr/>
        </p:nvPicPr>
        <p:blipFill>
          <a:blip r:embed="rId1"/>
          <a:stretch/>
        </p:blipFill>
        <p:spPr>
          <a:xfrm>
            <a:off x="4716360" y="1197000"/>
            <a:ext cx="41436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611280" y="1436400"/>
            <a:ext cx="75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 for your work today. It was fantasti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 the lesson is over, good-bye!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2" descr="0094"/>
          <p:cNvPicPr/>
          <p:nvPr/>
        </p:nvPicPr>
        <p:blipFill>
          <a:blip r:embed="rId1"/>
          <a:stretch/>
        </p:blipFill>
        <p:spPr>
          <a:xfrm>
            <a:off x="5148360" y="3357720"/>
            <a:ext cx="2376360" cy="2230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big_smiles_31"/>
          <p:cNvPicPr/>
          <p:nvPr/>
        </p:nvPicPr>
        <p:blipFill>
          <a:blip r:embed="rId2"/>
          <a:stretch/>
        </p:blipFill>
        <p:spPr>
          <a:xfrm>
            <a:off x="1763640" y="3213000"/>
            <a:ext cx="2376720" cy="24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36160" y="1197000"/>
            <a:ext cx="8007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чало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ро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d to see you, my friends! How are you? Before we start I’d like to know about your mood. Show me your mood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айли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верка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отовности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бот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ready to work? So, let’s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11"/>
          <p:cNvPicPr/>
          <p:nvPr/>
        </p:nvPicPr>
        <p:blipFill>
          <a:blip r:embed="rId1"/>
          <a:stretch/>
        </p:blipFill>
        <p:spPr>
          <a:xfrm>
            <a:off x="3995640" y="3860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16"/>
          <p:cNvPicPr/>
          <p:nvPr/>
        </p:nvPicPr>
        <p:blipFill>
          <a:blip r:embed="rId2"/>
          <a:stretch/>
        </p:blipFill>
        <p:spPr>
          <a:xfrm>
            <a:off x="5364000" y="3860640"/>
            <a:ext cx="1152720" cy="123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13"/>
          <p:cNvPicPr/>
          <p:nvPr/>
        </p:nvPicPr>
        <p:blipFill>
          <a:blip r:embed="rId3"/>
          <a:stretch/>
        </p:blipFill>
        <p:spPr>
          <a:xfrm>
            <a:off x="6732720" y="3789360"/>
            <a:ext cx="12240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Речевая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разминка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468324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swer my questio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, have you got an elder broth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her na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, have you got a younger brother? Have you got a si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3, have you got a cousin? How many cousins have you g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4, have you got an uncle? What’s his name? where does he l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nybody a nephew or a niece? Nobody ha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be anybody has a wife or a husband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5" descr="left02"/>
          <p:cNvPicPr/>
          <p:nvPr/>
        </p:nvPicPr>
        <p:blipFill>
          <a:blip r:embed="rId1"/>
          <a:stretch/>
        </p:blipFill>
        <p:spPr>
          <a:xfrm>
            <a:off x="5724360" y="1557360"/>
            <a:ext cx="1905120" cy="496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3.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Целеполагание (предположение темы урока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412640"/>
            <a:ext cx="80074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, what we’ll talk about? What is our topic to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right we’ll speak ab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m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family relation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parents027"/>
          <p:cNvPicPr/>
          <p:nvPr/>
        </p:nvPicPr>
        <p:blipFill>
          <a:blip r:embed="rId1"/>
          <a:stretch/>
        </p:blipFill>
        <p:spPr>
          <a:xfrm>
            <a:off x="2700360" y="3716280"/>
            <a:ext cx="3816360" cy="314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4.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Выполнение задания на закрепление лексики по теме «Семья»</a:t>
            </a:r>
            <a:br>
              <a:rPr sz="4000"/>
            </a:b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4521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ive the opposite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father – a 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 sist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an uncl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an au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a nephew –  a ni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a s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u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a grandfather-a grand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a husband –  a w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851280" y="2349360"/>
          <a:ext cx="4938840" cy="1047960"/>
        </p:xfrm>
        <a:graphic>
          <a:graphicData uri="http://schemas.openxmlformats.org/drawingml/2006/table">
            <a:tbl>
              <a:tblPr/>
              <a:tblGrid>
                <a:gridCol w="1378080"/>
                <a:gridCol w="1092240"/>
                <a:gridCol w="1198440"/>
                <a:gridCol w="127008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Picture 74" descr="parents013"/>
          <p:cNvPicPr/>
          <p:nvPr/>
        </p:nvPicPr>
        <p:blipFill>
          <a:blip r:embed="rId1"/>
          <a:stretch/>
        </p:blipFill>
        <p:spPr>
          <a:xfrm>
            <a:off x="5796000" y="3429000"/>
            <a:ext cx="2533680" cy="29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Задание на распознавание лексических единиц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oin the Parts of the Words!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582840" y="1985040"/>
            <a:ext cx="791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                TER                BRO                          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                      THER                NT                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                HER             AU                        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                TER                      UN                      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UGH                MILY                GRAND             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1476360" y="2276640"/>
            <a:ext cx="1655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 flipV="1">
            <a:off x="1692360" y="2349000"/>
            <a:ext cx="1150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 flipV="1">
            <a:off x="2195640" y="443700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1547640" y="4437000"/>
            <a:ext cx="180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 flipV="1">
            <a:off x="5867280" y="2421000"/>
            <a:ext cx="158436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 flipV="1">
            <a:off x="6084720" y="3141720"/>
            <a:ext cx="107964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7"/>
          <p:cNvSpPr/>
          <p:nvPr/>
        </p:nvSpPr>
        <p:spPr>
          <a:xfrm flipV="1">
            <a:off x="5003640" y="3068640"/>
            <a:ext cx="505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8"/>
          <p:cNvSpPr/>
          <p:nvPr/>
        </p:nvSpPr>
        <p:spPr>
          <a:xfrm>
            <a:off x="5364000" y="2205000"/>
            <a:ext cx="1800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788508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1258920" y="2924280"/>
            <a:ext cx="165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ценочная таблица к заданию 5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87280" y="2276640"/>
          <a:ext cx="6445440" cy="884160"/>
        </p:xfrm>
        <a:graphic>
          <a:graphicData uri="http://schemas.openxmlformats.org/drawingml/2006/table">
            <a:tbl>
              <a:tblPr/>
              <a:tblGrid>
                <a:gridCol w="1663920"/>
                <a:gridCol w="1519200"/>
                <a:gridCol w="1519200"/>
                <a:gridCol w="1743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9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7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6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56"/>
          <p:cNvSpPr/>
          <p:nvPr/>
        </p:nvSpPr>
        <p:spPr>
          <a:xfrm>
            <a:off x="0" y="387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3" descr="11"/>
          <p:cNvPicPr/>
          <p:nvPr/>
        </p:nvPicPr>
        <p:blipFill>
          <a:blip r:embed="rId1"/>
          <a:stretch/>
        </p:blipFill>
        <p:spPr>
          <a:xfrm>
            <a:off x="1835280" y="3716280"/>
            <a:ext cx="1800000" cy="1801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4" descr="16"/>
          <p:cNvPicPr/>
          <p:nvPr/>
        </p:nvPicPr>
        <p:blipFill>
          <a:blip r:embed="rId2"/>
          <a:stretch/>
        </p:blipFill>
        <p:spPr>
          <a:xfrm>
            <a:off x="4140360" y="3860640"/>
            <a:ext cx="1663560" cy="1744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5" descr="13"/>
          <p:cNvPicPr/>
          <p:nvPr/>
        </p:nvPicPr>
        <p:blipFill>
          <a:blip r:embed="rId3"/>
          <a:stretch/>
        </p:blipFill>
        <p:spPr>
          <a:xfrm>
            <a:off x="6012000" y="3860640"/>
            <a:ext cx="1726920" cy="17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i="1" lang="ru-RU" sz="3600" spc="-1" strike="noStrike">
                <a:solidFill>
                  <a:srgbClr val="000000"/>
                </a:solidFill>
                <a:latin typeface="Arial Black"/>
              </a:rPr>
              <a:t>Релаксация: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34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elp Your Mother!</a:t>
            </a:r>
            <a:br>
              <a:rPr sz="24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2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lp your mother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the table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ut a knife and fork and spoon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lp your mother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the tabl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very afternoon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lp your mother, cl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the table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ake a knife and spoon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lp your mother, cl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the tabl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Morning, night and no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11480" y="1904760"/>
            <a:ext cx="3933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 kill two birds with one stone.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бить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азу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вух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йцев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нгл. погов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ef5ea2cd043c88a36d97e8ee8e5425ab"/>
          <p:cNvPicPr/>
          <p:nvPr/>
        </p:nvPicPr>
        <p:blipFill>
          <a:blip r:embed="rId1"/>
          <a:stretch/>
        </p:blipFill>
        <p:spPr>
          <a:xfrm>
            <a:off x="5076720" y="3141720"/>
            <a:ext cx="395928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 Black"/>
              </a:rPr>
              <a:t>Работа с текстами (структурирование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516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 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Jane Brown. I’m 12. I’d like to tell you about my family. I’ve got a mother, a father, an elder brother and a younger sister. M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randm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randd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n’t live with us. They live in another city. M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randpar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very kind and we love them very m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mother’s name is Mary Brown. She is 35. She is a beautiful slim woman. She likes cooking very much. Her cakes are so tast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father’s name is Paul Brown. He is 1 year older than our mother. My dad is a stro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nds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n. He enjoys repairing his c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sister Susan is 4 years younger than me. She is a pretty and smart girl. Susan likes walking with our dog in the park not far from our house. And she also often plays with her do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elder brother John is a tall boy of 14. He is clever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c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His hobbies are  playing computer games and footb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for me, I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ading books when I have free time. On Sundays I go shopping with my mum. I enjoy shopp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family is friendly. We always help each other. And we love each other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1:31:31Z</dcterms:created>
  <dc:creator>мишган жиган</dc:creator>
  <dc:description/>
  <dc:language>en-US</dc:language>
  <cp:lastModifiedBy>1</cp:lastModifiedBy>
  <dcterms:modified xsi:type="dcterms:W3CDTF">2013-02-19T05:28:08Z</dcterms:modified>
  <cp:revision>25</cp:revision>
  <dc:subject/>
  <dc:title>Открытый урок по английскому языку в 6-м классе</dc:title>
</cp:coreProperties>
</file>