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gif" ContentType="image/gif"/>
  <Override PartName="/ppt/media/image6.png" ContentType="image/png"/>
  <Override PartName="/ppt/media/image3.png" ContentType="image/png"/>
  <Override PartName="/ppt/media/image4.gif" ContentType="image/gif"/>
  <Override PartName="/ppt/media/image5.jpeg" ContentType="image/jpeg"/>
  <Override PartName="/ppt/media/image11.gif" ContentType="image/gif"/>
  <Override PartName="/ppt/media/image7.png" ContentType="image/png"/>
  <Override PartName="/ppt/media/image8.jpeg" ContentType="image/jpeg"/>
  <Override PartName="/ppt/media/image9.jpeg" ContentType="image/jpeg"/>
  <Override PartName="/ppt/media/image10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E6174-9938-4C81-9E14-32E0189A153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9F8EE-A84E-4DF8-BE55-B2714FFF026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75694-2A7D-42D6-B88D-EFC7DFA83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F6A89-FE69-4963-BCDA-262E109CC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6E14C-9374-48A6-9D61-DD5A21557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6443C-200B-4A4B-A341-3FCB46508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44659-06A7-40B9-8347-0592B9DFF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0E1B4-51B1-4A03-AC7F-FFC0663D0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F42E5-2DF7-454D-B850-2DF620832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B258B-C4F8-47B3-A4B9-80A42204E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A4C9A-BC0D-4963-A937-BCFDA7281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639C2-8586-4579-8512-61C425445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4E946-BD29-4F8A-AEE7-0F4B43B86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F84EE-B2C4-44A1-B0A7-D0BA965FC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C80DF-3FEB-4D10-BDA2-6D05CA26F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62AD6-FB8C-4640-B515-3F5A3B99B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96724-4DB6-4B6E-ABF5-D0EED71A3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CD9BF-FBD9-486E-B0ED-CBBF11C17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51226-0866-405D-B228-9C770ECEB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809C7-F98C-4D39-8916-9883E19E4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746EB-41FC-425E-BAFB-DDD042CA5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4AA22-8E76-43DB-8164-10463C10F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68CE8-C05E-439F-9959-CC651A9B1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639DD-885A-4FEF-BF1C-35A2A5904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6586A-2ABA-4C98-9E5E-264A2A85C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8B11B-C917-41F7-938B-6C9B013EB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39920"/>
                <a:gd name="textAreaBottom" fmla="*/ 2240280 h 22399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029200"/>
                <a:gd name="textAreaBottom" fmla="*/ 5029560 h 5029200"/>
              </a:gdLst>
              <a:ahLst/>
              <a:rect l="textAreaLeft" t="textAreaTop" r="textAreaRight" b="textAreaBottom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03560"/>
                <a:gd name="textAreaBottom" fmla="*/ 2203920 h 220356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>
                <a:gd name="textAreaLeft" fmla="*/ 0 w 7313760"/>
                <a:gd name="textAreaRight" fmla="*/ 7314120 w 7313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6edee">
                    <a:alpha val="0"/>
                  </a:srgbClr>
                </a:gs>
                <a:gs pos="100000">
                  <a:srgbClr val="afc2c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833560"/>
                <a:gd name="textAreaBottom" fmla="*/ 2833920 h 283356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beff0"/>
                </a:gs>
                <a:gs pos="100000">
                  <a:srgbClr val="d6ede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dbeff0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>
                <a:gd name="textAreaLeft" fmla="*/ 0 w 4570560"/>
                <a:gd name="textAreaRight" fmla="*/ 4570920 w 45705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6edee">
                    <a:alpha val="0"/>
                  </a:srgbClr>
                </a:gs>
                <a:gs pos="100000">
                  <a:srgbClr val="afc2c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beff0"/>
                </a:gs>
                <a:gs pos="100000">
                  <a:srgbClr val="d6edee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4CA60-3DDC-4963-BEEE-DF6513FC950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105520"/>
                <a:gd name="textAreaBottom" fmla="*/ 5105880 h 5105520"/>
              </a:gdLst>
              <a:ahLst/>
              <a:rect l="textAreaLeft" t="textAreaTop" r="textAreaRight" b="textAreaBottom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d6edee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3048120"/>
                <a:gd name="textAreaBottom" fmla="*/ 3048480 h 30481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>
                <a:gd name="textAreaLeft" fmla="*/ 0 w 5484960"/>
                <a:gd name="textAreaRight" fmla="*/ 5485320 w 54849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6edee">
                    <a:alpha val="0"/>
                  </a:srgbClr>
                </a:gs>
                <a:gs pos="100000">
                  <a:srgbClr val="afc2c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>
                <a:gd name="textAreaLeft" fmla="*/ 0 w 7769520"/>
                <a:gd name="textAreaRight" fmla="*/ 7769880 w 776952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6edee">
                    <a:alpha val="0"/>
                  </a:srgbClr>
                </a:gs>
                <a:gs pos="100000">
                  <a:srgbClr val="afc2c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3108240"/>
                <a:gd name="textAreaBottom" fmla="*/ 3108600 h 31082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beff0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119920"/>
                <a:gd name="textAreaBottom" fmla="*/ 5120280 h 511992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beff0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84782-865A-4278-A182-C14F15C3DB9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png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png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png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247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 Black"/>
              </a:rPr>
              <a:t>Открытый урок по английскому языку в 6-м классе</a:t>
            </a:r>
            <a:endParaRPr b="1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371600" y="3141720"/>
            <a:ext cx="6400800" cy="249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ема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«Семья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Famil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parents083"/>
          <p:cNvPicPr/>
          <p:nvPr/>
        </p:nvPicPr>
        <p:blipFill>
          <a:blip r:embed="rId1"/>
          <a:stretch/>
        </p:blipFill>
        <p:spPr>
          <a:xfrm>
            <a:off x="4140360" y="2492280"/>
            <a:ext cx="4367160" cy="409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 Black"/>
              </a:rPr>
              <a:t>Линейная денотатная карта</a:t>
            </a:r>
            <a:endParaRPr b="1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457200" y="1600200"/>
          <a:ext cx="8229600" cy="4729320"/>
        </p:xfrm>
        <a:graphic>
          <a:graphicData uri="http://schemas.openxmlformats.org/drawingml/2006/table">
            <a:tbl>
              <a:tblPr/>
              <a:tblGrid>
                <a:gridCol w="1371600"/>
                <a:gridCol w="1371600"/>
                <a:gridCol w="1371600"/>
                <a:gridCol w="1371600"/>
                <a:gridCol w="1371600"/>
                <a:gridCol w="1371600"/>
              </a:tblGrid>
              <a:tr h="89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m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g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pearan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at kind o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k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bby)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Рефлексия </a:t>
            </a:r>
            <a:endParaRPr b="1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340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r moo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911480" y="1904760"/>
            <a:ext cx="39337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10"/>
          <p:cNvSpPr/>
          <p:nvPr/>
        </p:nvSpPr>
        <p:spPr>
          <a:xfrm>
            <a:off x="6588000" y="1197000"/>
            <a:ext cx="486000" cy="5113440"/>
          </a:xfrm>
          <a:prstGeom prst="upArrow">
            <a:avLst>
              <a:gd name="adj1" fmla="val 50000"/>
              <a:gd name="adj2" fmla="val 26303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1" descr="11"/>
          <p:cNvPicPr/>
          <p:nvPr/>
        </p:nvPicPr>
        <p:blipFill>
          <a:blip r:embed="rId1"/>
          <a:stretch/>
        </p:blipFill>
        <p:spPr>
          <a:xfrm>
            <a:off x="2340000" y="2565360"/>
            <a:ext cx="1225440" cy="12240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2" descr="16"/>
          <p:cNvPicPr/>
          <p:nvPr/>
        </p:nvPicPr>
        <p:blipFill>
          <a:blip r:embed="rId2"/>
          <a:stretch/>
        </p:blipFill>
        <p:spPr>
          <a:xfrm>
            <a:off x="1332000" y="4076640"/>
            <a:ext cx="1224000" cy="131148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3" descr="13"/>
          <p:cNvPicPr/>
          <p:nvPr/>
        </p:nvPicPr>
        <p:blipFill>
          <a:blip r:embed="rId3"/>
          <a:stretch/>
        </p:blipFill>
        <p:spPr>
          <a:xfrm>
            <a:off x="3348000" y="4797360"/>
            <a:ext cx="1306440" cy="14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0</a:t>
            </a: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.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 Black"/>
              </a:rPr>
              <a:t>Заключительный этап</a:t>
            </a:r>
            <a:endParaRPr b="1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ы не ленись, а повтори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емья иначе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на мечтает быть артистко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я сестренка – моя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й брат разбил сегодня ваз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й брат – малыш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й братик - …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ядя Скрудж поехал в банк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ядю называют …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тя! А теперь твой фант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тя по-английски …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чку как вы назовете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чка по-английски …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й сынок испортил кран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ын, сынишка значит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 мне пришел друг на обед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руг по-английски просто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5" descr="semeinyi-portret-0000241570-preview"/>
          <p:cNvPicPr/>
          <p:nvPr/>
        </p:nvPicPr>
        <p:blipFill>
          <a:blip r:embed="rId1"/>
          <a:stretch/>
        </p:blipFill>
        <p:spPr>
          <a:xfrm>
            <a:off x="4716360" y="1197000"/>
            <a:ext cx="4143600" cy="548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4"/>
          <p:cNvSpPr/>
          <p:nvPr/>
        </p:nvSpPr>
        <p:spPr>
          <a:xfrm>
            <a:off x="611280" y="1436400"/>
            <a:ext cx="7561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ank you for your work today. It was fantastic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w the lesson is over, good-bye!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12" descr="0094"/>
          <p:cNvPicPr/>
          <p:nvPr/>
        </p:nvPicPr>
        <p:blipFill>
          <a:blip r:embed="rId1"/>
          <a:stretch/>
        </p:blipFill>
        <p:spPr>
          <a:xfrm>
            <a:off x="5148360" y="3357720"/>
            <a:ext cx="2376360" cy="22302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3" descr="big_smiles_31"/>
          <p:cNvPicPr/>
          <p:nvPr/>
        </p:nvPicPr>
        <p:blipFill>
          <a:blip r:embed="rId2"/>
          <a:stretch/>
        </p:blipFill>
        <p:spPr>
          <a:xfrm>
            <a:off x="1763640" y="3213000"/>
            <a:ext cx="2376720" cy="244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1136160" y="1197000"/>
            <a:ext cx="80074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66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Начало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урок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lad to see you, my friends! How are you? Before we start I’d like to know about your mood. Show me your mood (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майлик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Проверка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готовности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к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работ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 you ready to work? So, let’s sta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16" descr="11"/>
          <p:cNvPicPr/>
          <p:nvPr/>
        </p:nvPicPr>
        <p:blipFill>
          <a:blip r:embed="rId1"/>
          <a:stretch/>
        </p:blipFill>
        <p:spPr>
          <a:xfrm>
            <a:off x="3995640" y="3860640"/>
            <a:ext cx="1224000" cy="12240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7" descr="16"/>
          <p:cNvPicPr/>
          <p:nvPr/>
        </p:nvPicPr>
        <p:blipFill>
          <a:blip r:embed="rId2"/>
          <a:stretch/>
        </p:blipFill>
        <p:spPr>
          <a:xfrm>
            <a:off x="5364000" y="3860640"/>
            <a:ext cx="1152720" cy="12398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8" descr="13"/>
          <p:cNvPicPr/>
          <p:nvPr/>
        </p:nvPicPr>
        <p:blipFill>
          <a:blip r:embed="rId3"/>
          <a:stretch/>
        </p:blipFill>
        <p:spPr>
          <a:xfrm>
            <a:off x="6732720" y="3789360"/>
            <a:ext cx="1224000" cy="129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             </a:t>
            </a:r>
            <a:r>
              <a:rPr b="0" i="1" lang="en-US" sz="3200" spc="-1" strike="noStrike">
                <a:solidFill>
                  <a:srgbClr val="000000"/>
                </a:solidFill>
                <a:latin typeface="Arial Black"/>
              </a:rPr>
              <a:t>2. </a:t>
            </a:r>
            <a:r>
              <a:rPr b="0" i="1" lang="ru-RU" sz="3200" spc="-1" strike="noStrike">
                <a:solidFill>
                  <a:srgbClr val="000000"/>
                </a:solidFill>
                <a:latin typeface="Arial Black"/>
              </a:rPr>
              <a:t>Речевая</a:t>
            </a:r>
            <a:r>
              <a:rPr b="0" i="1" lang="en-US" sz="3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Arial Black"/>
              </a:rPr>
              <a:t>разминка</a:t>
            </a:r>
            <a:endParaRPr b="1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-360" y="1267920"/>
            <a:ext cx="4683240" cy="468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swer my questions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1, have you got an elder brother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’s her nam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2, have you got a younger brother? Have you got a sist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3, have you got a cousin? How many cousins have you go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4, have you got an uncle? What’s his name? where does he liv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s anybody a nephew or a niece? Nobody has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ybe anybody has a wife or a husband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45" descr="left02"/>
          <p:cNvPicPr/>
          <p:nvPr/>
        </p:nvPicPr>
        <p:blipFill>
          <a:blip r:embed="rId1"/>
          <a:stretch/>
        </p:blipFill>
        <p:spPr>
          <a:xfrm>
            <a:off x="5724360" y="1557360"/>
            <a:ext cx="1905120" cy="4962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 Black"/>
              </a:rPr>
              <a:t>3.  </a:t>
            </a: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Arial Black"/>
              </a:rPr>
              <a:t>Целеполагание (предположение темы урока)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 Black"/>
              </a:rPr>
              <a:t> 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412640"/>
            <a:ext cx="800748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you think, what we’ll talk about? What is our topic today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are right we’ll speak about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famil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family relations to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6" descr="parents027"/>
          <p:cNvPicPr/>
          <p:nvPr/>
        </p:nvPicPr>
        <p:blipFill>
          <a:blip r:embed="rId1"/>
          <a:stretch/>
        </p:blipFill>
        <p:spPr>
          <a:xfrm>
            <a:off x="2700360" y="3716280"/>
            <a:ext cx="3816360" cy="3141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4.</a:t>
            </a:r>
            <a:r>
              <a:rPr b="1" lang="ru-RU" sz="2800" spc="-1" strike="noStrike">
                <a:solidFill>
                  <a:srgbClr val="000000"/>
                </a:solidFill>
                <a:latin typeface="Arial Black"/>
              </a:rPr>
              <a:t> Выполнение задания на закрепление лексики по теме «Семья»</a:t>
            </a:r>
            <a:br>
              <a:rPr sz="4000"/>
            </a:br>
            <a:endParaRPr b="1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50560" y="1904760"/>
            <a:ext cx="45212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Give the opposites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 father – a m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) a sister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bro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) an uncle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an au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) a nephew –  a nie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) a so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 a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ugh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) a grandfather-a grandm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) a husband –  a wi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3851280" y="2349360"/>
          <a:ext cx="4938840" cy="1047960"/>
        </p:xfrm>
        <a:graphic>
          <a:graphicData uri="http://schemas.openxmlformats.org/drawingml/2006/table">
            <a:tbl>
              <a:tblPr/>
              <a:tblGrid>
                <a:gridCol w="1378080"/>
                <a:gridCol w="1092240"/>
                <a:gridCol w="1198440"/>
                <a:gridCol w="1270080"/>
              </a:tblGrid>
              <a:tr h="587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or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or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wor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lt;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wor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2" name="Picture 74" descr="parents013"/>
          <p:cNvPicPr/>
          <p:nvPr/>
        </p:nvPicPr>
        <p:blipFill>
          <a:blip r:embed="rId1"/>
          <a:stretch/>
        </p:blipFill>
        <p:spPr>
          <a:xfrm>
            <a:off x="5796000" y="3429000"/>
            <a:ext cx="2533680" cy="2976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 Black"/>
              </a:rPr>
              <a:t>5</a:t>
            </a:r>
            <a:r>
              <a:rPr b="1" lang="ru-RU" sz="4000" spc="-1" strike="noStrike">
                <a:solidFill>
                  <a:srgbClr val="000000"/>
                </a:solidFill>
                <a:latin typeface="Arial Black"/>
              </a:rPr>
              <a:t>. </a:t>
            </a:r>
            <a:r>
              <a:rPr b="0" i="1" lang="ru-RU" sz="2800" spc="-1" strike="noStrike">
                <a:solidFill>
                  <a:srgbClr val="000000"/>
                </a:solidFill>
                <a:latin typeface="Arial Black"/>
              </a:rPr>
              <a:t>Задание на распознавание лексических единиц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Join the Parts of the Words!</a:t>
            </a:r>
            <a:endParaRPr b="1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Rectangle 11"/>
          <p:cNvSpPr/>
          <p:nvPr/>
        </p:nvSpPr>
        <p:spPr>
          <a:xfrm>
            <a:off x="582840" y="1985040"/>
            <a:ext cx="79164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                TER                BRO                          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           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T                      THER                NT                M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           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S                HER             AU                        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           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                TER                      UN                      W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           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UGH                MILY                GRAND             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3"/>
          <p:cNvSpPr/>
          <p:nvPr/>
        </p:nvSpPr>
        <p:spPr>
          <a:xfrm>
            <a:off x="1476360" y="2276640"/>
            <a:ext cx="165564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14"/>
          <p:cNvSpPr/>
          <p:nvPr/>
        </p:nvSpPr>
        <p:spPr>
          <a:xfrm flipV="1">
            <a:off x="1692360" y="2349000"/>
            <a:ext cx="115092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15"/>
          <p:cNvSpPr/>
          <p:nvPr/>
        </p:nvSpPr>
        <p:spPr>
          <a:xfrm flipV="1">
            <a:off x="2195640" y="4437000"/>
            <a:ext cx="720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19"/>
          <p:cNvSpPr/>
          <p:nvPr/>
        </p:nvSpPr>
        <p:spPr>
          <a:xfrm>
            <a:off x="1547640" y="4437000"/>
            <a:ext cx="180036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20"/>
          <p:cNvSpPr/>
          <p:nvPr/>
        </p:nvSpPr>
        <p:spPr>
          <a:xfrm flipV="1">
            <a:off x="5867280" y="2421000"/>
            <a:ext cx="1584360" cy="19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26"/>
          <p:cNvSpPr/>
          <p:nvPr/>
        </p:nvSpPr>
        <p:spPr>
          <a:xfrm flipV="1">
            <a:off x="6084720" y="3141720"/>
            <a:ext cx="1079640" cy="180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27"/>
          <p:cNvSpPr/>
          <p:nvPr/>
        </p:nvSpPr>
        <p:spPr>
          <a:xfrm flipV="1">
            <a:off x="5003640" y="3068640"/>
            <a:ext cx="50508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28"/>
          <p:cNvSpPr/>
          <p:nvPr/>
        </p:nvSpPr>
        <p:spPr>
          <a:xfrm>
            <a:off x="5364000" y="2205000"/>
            <a:ext cx="1800360" cy="151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29"/>
          <p:cNvSpPr/>
          <p:nvPr/>
        </p:nvSpPr>
        <p:spPr>
          <a:xfrm>
            <a:off x="7885080" y="458136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30"/>
          <p:cNvSpPr/>
          <p:nvPr/>
        </p:nvSpPr>
        <p:spPr>
          <a:xfrm>
            <a:off x="1258920" y="2924280"/>
            <a:ext cx="165744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 Black"/>
              </a:rPr>
              <a:t>Оценочная таблица к заданию 5</a:t>
            </a:r>
            <a:endParaRPr b="1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6" name="Rectangle 4"/>
          <p:cNvSpPr/>
          <p:nvPr/>
        </p:nvSpPr>
        <p:spPr>
          <a:xfrm>
            <a:off x="0" y="2986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1187280" y="2276640"/>
          <a:ext cx="6445440" cy="884160"/>
        </p:xfrm>
        <a:graphic>
          <a:graphicData uri="http://schemas.openxmlformats.org/drawingml/2006/table">
            <a:tbl>
              <a:tblPr/>
              <a:tblGrid>
                <a:gridCol w="1663920"/>
                <a:gridCol w="1519200"/>
                <a:gridCol w="1519200"/>
                <a:gridCol w="17431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wor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-9 wor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-7 wor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lt; 6 wor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8" name="Rectangle 56"/>
          <p:cNvSpPr/>
          <p:nvPr/>
        </p:nvSpPr>
        <p:spPr>
          <a:xfrm>
            <a:off x="0" y="3870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73" descr="11"/>
          <p:cNvPicPr/>
          <p:nvPr/>
        </p:nvPicPr>
        <p:blipFill>
          <a:blip r:embed="rId1"/>
          <a:stretch/>
        </p:blipFill>
        <p:spPr>
          <a:xfrm>
            <a:off x="1835280" y="3716280"/>
            <a:ext cx="1800000" cy="18018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74" descr="16"/>
          <p:cNvPicPr/>
          <p:nvPr/>
        </p:nvPicPr>
        <p:blipFill>
          <a:blip r:embed="rId2"/>
          <a:stretch/>
        </p:blipFill>
        <p:spPr>
          <a:xfrm>
            <a:off x="4140360" y="3860640"/>
            <a:ext cx="1663560" cy="17449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75" descr="13"/>
          <p:cNvPicPr/>
          <p:nvPr/>
        </p:nvPicPr>
        <p:blipFill>
          <a:blip r:embed="rId3"/>
          <a:stretch/>
        </p:blipFill>
        <p:spPr>
          <a:xfrm>
            <a:off x="6012000" y="3860640"/>
            <a:ext cx="1726920" cy="1798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 Black"/>
              </a:rPr>
              <a:t>           </a:t>
            </a:r>
            <a:r>
              <a:rPr b="0" i="1" lang="ru-RU" sz="3600" spc="-1" strike="noStrike">
                <a:solidFill>
                  <a:srgbClr val="000000"/>
                </a:solidFill>
                <a:latin typeface="Arial Black"/>
              </a:rPr>
              <a:t>Релаксация:</a:t>
            </a:r>
            <a:endParaRPr b="1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340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40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Help Your Mother!</a:t>
            </a:r>
            <a:br>
              <a:rPr sz="2400"/>
            </a:b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20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Help your mother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the table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Put a knife and fork and spoon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Help your mother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the table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Every afternoon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Help your mother, cle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the table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Take a knife and spoon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Help your mother, cle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the table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Morning, night and no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911480" y="1904760"/>
            <a:ext cx="39337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 kill two birds with one stone. (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убить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разу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двух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зайцев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) –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англ. поговор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11" descr="ef5ea2cd043c88a36d97e8ee8e5425ab"/>
          <p:cNvPicPr/>
          <p:nvPr/>
        </p:nvPicPr>
        <p:blipFill>
          <a:blip r:embed="rId1"/>
          <a:stretch/>
        </p:blipFill>
        <p:spPr>
          <a:xfrm>
            <a:off x="5076720" y="3141720"/>
            <a:ext cx="3959280" cy="345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6868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7</a:t>
            </a: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. </a:t>
            </a: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Arial Black"/>
              </a:rPr>
              <a:t>Работа с текстами (структурирование)</a:t>
            </a:r>
            <a:endParaRPr b="1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95280" y="1341360"/>
            <a:ext cx="8229600" cy="55166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y  Fami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am Jane Brown. I’m 12. I’d like to tell you about my family. I’ve got a mother, a father, an elder brother and a younger sister. My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grandma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grandda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on’t live with us. They live in another city. My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grandparent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 very kind and we love them very muc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y mother’s name is Mary Brown. She is 35. She is a beautiful slim woman. She likes cooking very much. Her cakes are so tasty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y father’s name is Paul Brown. He is 1 year older than our mother. My dad is a strong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handsom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an. He enjoys repairing his ca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y sister Susan is 4 years younger than me. She is a pretty and smart girl. Susan likes walking with our dog in the park not far from our house. And she also often plays with her dol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y elder brother John is a tall boy of 14. He is clever and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sociab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His hobbies are  playing computer games and footba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 for me, I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ref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eading books when I have free time. On Sundays I go shopping with my mum. I enjoy shopping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r family is friendly. We always help each other. And we love each other to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7T11:31:31Z</dcterms:created>
  <dc:creator>мишган жиган</dc:creator>
  <dc:description/>
  <dc:language>en-US</dc:language>
  <cp:lastModifiedBy>1</cp:lastModifiedBy>
  <dcterms:modified xsi:type="dcterms:W3CDTF">2013-02-19T05:28:08Z</dcterms:modified>
  <cp:revision>25</cp:revision>
  <dc:subject/>
  <dc:title>Открытый урок по английскому языку в 6-м классе</dc:title>
</cp:coreProperties>
</file>