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504-AD57-40F8-836B-5F4FEAA8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0AE0-DC34-4BC1-91DE-5D1BC2F6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65E6-B89C-493D-90AE-8B0AE98E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DA41-46B1-42D0-AD3C-9B93CC94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17A7-3B71-44FA-B708-C5CD8126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E898-56A1-4A9A-8C31-4068B512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95B-0800-4AD8-967F-82150D4C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202B-DF50-4796-B02A-C4396C1D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93DD-E656-41D2-A0D8-C0BE2718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4777-4681-4CD3-B59E-01B7E780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C97A-0242-4E6B-9B39-ACBA579C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43AB-EFBA-4EA4-AD52-F45FED64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C4AB-107D-4354-9104-687160CEC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омоги сказать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«НЕТ»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коменд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профилактике нарком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60 из 9558"/>
          <p:cNvPicPr/>
          <p:nvPr/>
        </p:nvPicPr>
        <p:blipFill>
          <a:blip r:embed="rId2"/>
          <a:stretch/>
        </p:blipFill>
        <p:spPr>
          <a:xfrm>
            <a:off x="2971800" y="2286000"/>
            <a:ext cx="2971800" cy="1933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БОУ СПО МО «Волоколамский колледж права, экономики и безопас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5486400"/>
            <a:ext cx="335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авитель: Дягилева Н.И., преподаватель, классный руководитель 2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зависим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глядит как пьяный, но запаха 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но и незнакомо пахнет: от волос, кожи, выдыхаемого воздуха, одеж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ного спит или перестаёт спа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ного ест или перестаёт есть вообщ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одит время в компаниях асоциального тип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терял интерес к обычным развлечениям, привычному времяпрепровождению., спорту, любимым занятия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л реже бывать дома, чаще в закрытых компани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асто и «зашифрованно» говорит по телефону с незнакомыми людь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седует с родными все меньше и неохотне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зко снизил успеваемость, стал часто прогулива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зависим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двержен частым сменам настроения, депрессия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ывает беспричинно возбужден, но смех, агрессия быстро сменяются апатией, сонливостью или бессонниц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радает кишечными расстройствами: запор сменяется диаре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радает постоянным насморком: шмыгает носом и трет е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тоянно просит деньги и не может объяснить, на что их трат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падают вещи из дома (в том числе ложк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бегает раздеваться даже на пляже; постоянно ходит в одежде с длинными рукав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меты зависим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сли вы обнаружили у своего ребенка наличие указанных предметов, обязательно обратитесь к специалисту. Несколько упущенных недель могут привести к неповторимым последствия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апир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усочки фольг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копченные ложки, пузырьки с таблетками, с марганцовк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утылки с уксусом, ацетоном, пятновыводителем, другими химикат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акетики со странным содержимым: порошком, сушеными гриб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пользуемое химическое оборудование (без проявления интереса к химии, групповые химические эксперименты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уберечь ребёнка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 возможной бед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профилактических мер заключается в здоровом образе жизни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показывает практика, часто обеспечить надежную защиту детей от наркоопасности мешают заблуждения родителей. Многие думают, 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мы в свое время, когда были подростками, не пристрастились к чему-то плохому, значит, и наши дети не пойдут на эт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хорошо знаем внутренний мир своего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меньше информации на тему наркотиков, тем лучш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ует пустить все на самотек – ребенок настолько разумен, что инстинкт самосохранения его вовремя останов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ьте другом своему ребен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Если пришла бед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вы подозреваете, что ваш ребенок употребляет наркотики, прежде все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имательно понаблюдайте за ним, не проявляя чрезмерного подоз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судите свои наблюдения с ребенком без криков и обвинений в чем-либо, говоря об этом как бы с позиции постороннего наблюдате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стремитесь применить санкции сраз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держите ребенка, проявив понимание его ошибок и заботу о н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верьте его уверениям, что он сможет справиться с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бедите его в необходимости обращения к специалис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5-06T19:19:1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