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15A-3109-40E5-B06A-C15DBC49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549-0E18-458E-922A-79707CF2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74B-816B-40B9-BB01-5F19D8BE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257-CA9B-4E3B-ACCF-CC700637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8C9-8141-49A9-B444-2C2AA159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4B4-719A-4E13-B9E6-8CB77709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E3F-0DB0-40CC-A4F7-F5A7B221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63D-678E-45B4-A37B-86AD281C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76C-F7AA-402E-ACA2-DB7ED0C1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9CE-BF86-4C73-9332-FF162A30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5ED-DAF4-4BED-87AE-24073FC6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E58-75B9-4B16-89C5-B54A05C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2B37-A7FE-4D6F-B0B4-9D876661A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моги сказать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«НЕТ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оменд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рофилактике нарко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60 из 9558"/>
          <p:cNvPicPr/>
          <p:nvPr/>
        </p:nvPicPr>
        <p:blipFill>
          <a:blip r:embed="rId2"/>
          <a:stretch/>
        </p:blipFill>
        <p:spPr>
          <a:xfrm>
            <a:off x="2971800" y="2286000"/>
            <a:ext cx="2971800" cy="193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СПО МО «Волоколамский колледж права, экономики и безопас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5486400"/>
            <a:ext cx="335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итель: Дягилева Н.И., преподаватель, классный руководитель 2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зависи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глядит как пьяный, но запаха 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но и незнакомо пахнет: от волос, кожи, выдыхаемого воздуха, одеж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о спит или перестаёт сп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о ест или перестаёт есть вообщ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 время в компаниях асоциального ти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л интерес к обычным развлечениям, привычному времяпрепровождению., спорту, любимым занят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л реже бывать дома, чаще в закрытых компан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о и «зашифрованно» говорит по телефону с незнакомыми людь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седует с родными все меньше и неохотне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ко снизил успеваемость, стал часто прогули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зависи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вержен частым сменам настроения, депресс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ывает беспричинно возбужден, но смех, агрессия быстро сменяются апатией, сонливостью или бессонниц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адает кишечными расстройствами: запор сменяется диаре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адает постоянным насморком: шмыгает носом и трет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оянно просит деньги и не может объяснить, на что их трат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падают вещи из дома (в том числе лож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бегает раздеваться даже на пляже; постоянно ходит в одежде с длинными рукав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 зависи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вы обнаружили у своего ребенка наличие указанных предметов, обязательно обратитесь к специалисту. Несколько упущенных недель могут привести к неповторимым последстви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пи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усочки фоль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копченные ложки, пузырьки с таблетками, с марганцов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тылки с уксусом, ацетоном, пятновыводителем, другими химикат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кетики со странным содержимым: порошком, сушеными гриб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уемое химическое оборудование (без проявления интереса к химии, групповые химические эксперимент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уберечь ребёнк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 возможной бе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профилактических мер заключается в здоровом образе жизни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показывает практика, часто обеспечить надежную защиту детей от наркоопасности мешают заблуждения родителей. Многие думают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ы в свое время, когда были подростками, не пристрастились к чему-то плохому, значит, и наши дети не пойдут на э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хорошо знаем внутренний мир своего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меньше информации на тему наркотиков, тем лучш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ет пустить все на самотек – ребенок настолько разумен, что инстинкт самосохранения его вовремя останов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те другом своему ребен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сли пришла бе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ы подозреваете, что ваш ребенок употребляет наркотики, прежде вс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имательно понаблюдайте за ним, не проявляя чрезмерного подоз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удите свои наблюдения с ребенком без криков и обвинений в чем-либо, говоря об этом как бы с позиции постороннего наблюд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тремитесь применить санкции сраз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держите ребенка, проявив понимание его ошибок и заботу о н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ерьте его уверениям, что он сможет справиться с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едите его в необходимости обращения к специалис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06T19:19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