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138-DE7F-4613-9CA0-54711AED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B8F-0600-48A8-BB79-CF4C5E3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6B1-0993-442C-BDF8-FA1B0CD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819-3445-4575-AC1C-DD329BB6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889-FCFB-4451-87A7-B631751D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950-11FC-4A5C-8CD2-95962A6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C99-AE0F-49B5-8925-4DA61BB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5AB-C7A4-4F05-B58D-024F1AE3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42E-479F-4FB0-AF29-A87390C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510-3C38-4A9B-AEA5-F48389B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14B-DA2D-4017-B861-5DCE4BC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3CE-C21B-4801-8A16-A12B192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1560" indent="-227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598760" indent="-227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5960" indent="-22716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60567F-517D-49E2-90E9-D79FAEE81DC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079720" cy="13939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D:\Мои документы\FOTO\мамин день 2009\S6300753.JPG"/>
          <p:cNvPicPr/>
          <p:nvPr/>
        </p:nvPicPr>
        <p:blipFill>
          <a:blip r:embed="rId3"/>
          <a:stretch/>
        </p:blipFill>
        <p:spPr>
          <a:xfrm>
            <a:off x="2590920" y="3309840"/>
            <a:ext cx="234288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3" descr="D:\Мои документы\FOTO\мамин день 2009\S6300744.JPG"/>
          <p:cNvPicPr/>
          <p:nvPr/>
        </p:nvPicPr>
        <p:blipFill>
          <a:blip r:embed="rId4"/>
          <a:stretch/>
        </p:blipFill>
        <p:spPr>
          <a:xfrm>
            <a:off x="6400800" y="4819680"/>
            <a:ext cx="2038320" cy="152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TextBox 4" descr=""/>
          <p:cNvPicPr/>
          <p:nvPr/>
        </p:nvPicPr>
        <p:blipFill>
          <a:blip r:embed="rId5"/>
          <a:stretch/>
        </p:blipFill>
        <p:spPr>
          <a:xfrm>
            <a:off x="2209680" y="762120"/>
            <a:ext cx="647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2920" y="478080"/>
            <a:ext cx="8572320" cy="9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НЦЕВАЛЬНАЯ РАДУГА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, что каждый ребенок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личность неповторимая, способная на мно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ление способных детей, а так же детей требующих дополнительного внимания со стороны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воспитания детей в программе «ТАНЦЕВАЛЬНАЯ РАДУГ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учить детей слышать и понимать музыкального руководи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хороших результатов можно достичь, только установив доверительные, теплые отношения ребенка с педаго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звать желание  повторять за взросл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двести к умению движением показать видение музыки самими детьми, импровизировать, фантазировать, подбирать элементы соответствующие содержанию произ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Развитие детской музык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ерез игры, пляски, музыкальные композиции, развивать в детях музыкальные процес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учить слышать начало и окончание частей музыки, их характер, средства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огащать музыкальную память все новыми движениями, танцами, закрепляя в детском багаже пройденный матери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овершенствовать двигательную активность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принужденно и все более точнее передавать в движениях содержание, структуру и особенности музы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учить владеть своим тел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ординировать движения рук, ног, тела, а иногда и голоса (п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атывать пластичность, гибкость, изящество, красоту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азвивать выразительность дет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оставить детям радость и удовольствие от самого процесса движения в органической его связи с музы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атывая точность, четкость осмысленности движений применять подражательные движения или образные сравн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собираться, выступая перед аудиторией, научить показывать с удовольствием самое лучшее, чему научилис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увствовать себя свободно и легко выступать перед зрителями (детьми своей группы, детского сада, школьников, взрослым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D:\Мои документы\FOTO\несортированые\133SSCAM\S6300760.JPG"/>
          <p:cNvPicPr/>
          <p:nvPr/>
        </p:nvPicPr>
        <p:blipFill>
          <a:blip r:embed="rId2"/>
          <a:stretch/>
        </p:blipFill>
        <p:spPr>
          <a:xfrm>
            <a:off x="5715000" y="4000680"/>
            <a:ext cx="292428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2" descr="D:\Мои документы\FOTO\несортированые\133SSCAM\S6300752.JPG"/>
          <p:cNvPicPr/>
          <p:nvPr/>
        </p:nvPicPr>
        <p:blipFill>
          <a:blip r:embed="rId3"/>
          <a:stretch/>
        </p:blipFill>
        <p:spPr>
          <a:xfrm>
            <a:off x="500040" y="928800"/>
            <a:ext cx="2928960" cy="21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3" descr="D:\Мои документы\FOTO\новый год 2008\131SSCAM\S6300019.JPG"/>
          <p:cNvPicPr/>
          <p:nvPr/>
        </p:nvPicPr>
        <p:blipFill>
          <a:blip r:embed="rId4"/>
          <a:stretch/>
        </p:blipFill>
        <p:spPr>
          <a:xfrm>
            <a:off x="3071880" y="2500200"/>
            <a:ext cx="2928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TextBox 4" descr=""/>
          <p:cNvPicPr/>
          <p:nvPr/>
        </p:nvPicPr>
        <p:blipFill>
          <a:blip r:embed="rId5"/>
          <a:stretch/>
        </p:blipFill>
        <p:spPr>
          <a:xfrm>
            <a:off x="2073240" y="201600"/>
            <a:ext cx="5070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5035320" cy="11635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3809880" y="1384200"/>
            <a:ext cx="524160" cy="852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09480" y="274320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71720" y="47149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590920" y="289548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000680" y="4357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57880" y="50720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7143840" y="59292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657600" y="1981080"/>
            <a:ext cx="12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48320" y="243828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7072200" y="4643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80880" y="167652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6357960" y="36432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7215120" y="1928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664380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99072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ая со стрелкой 20" descr=""/>
          <p:cNvPicPr/>
          <p:nvPr/>
        </p:nvPicPr>
        <p:blipFill>
          <a:blip r:embed="rId4"/>
          <a:stretch/>
        </p:blipFill>
        <p:spPr>
          <a:xfrm>
            <a:off x="1238400" y="1450800"/>
            <a:ext cx="1371600" cy="2505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ая со стрелкой 24" descr=""/>
          <p:cNvPicPr/>
          <p:nvPr/>
        </p:nvPicPr>
        <p:blipFill>
          <a:blip r:embed="rId5"/>
          <a:stretch/>
        </p:blipFill>
        <p:spPr>
          <a:xfrm>
            <a:off x="3024360" y="1457280"/>
            <a:ext cx="583920" cy="16398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ая со стрелкой 26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658800" cy="2925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ая со стрелкой 29" descr=""/>
          <p:cNvPicPr/>
          <p:nvPr/>
        </p:nvPicPr>
        <p:blipFill>
          <a:blip r:embed="rId7"/>
          <a:stretch/>
        </p:blipFill>
        <p:spPr>
          <a:xfrm>
            <a:off x="596880" y="1085760"/>
            <a:ext cx="1079640" cy="938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ая со стрелкой 32" descr=""/>
          <p:cNvPicPr/>
          <p:nvPr/>
        </p:nvPicPr>
        <p:blipFill>
          <a:blip r:embed="rId8"/>
          <a:stretch/>
        </p:blipFill>
        <p:spPr>
          <a:xfrm>
            <a:off x="5257800" y="1371600"/>
            <a:ext cx="585720" cy="13525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ая со стрелкой 36" descr=""/>
          <p:cNvPicPr/>
          <p:nvPr/>
        </p:nvPicPr>
        <p:blipFill>
          <a:blip r:embed="rId9"/>
          <a:stretch/>
        </p:blipFill>
        <p:spPr>
          <a:xfrm>
            <a:off x="7040520" y="137160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ая со стрелкой 41" descr=""/>
          <p:cNvPicPr/>
          <p:nvPr/>
        </p:nvPicPr>
        <p:blipFill>
          <a:blip r:embed="rId10"/>
          <a:stretch/>
        </p:blipFill>
        <p:spPr>
          <a:xfrm>
            <a:off x="5962680" y="1378080"/>
            <a:ext cx="1084320" cy="2504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ая со стрелкой 44" descr=""/>
          <p:cNvPicPr/>
          <p:nvPr/>
        </p:nvPicPr>
        <p:blipFill>
          <a:blip r:embed="rId11"/>
          <a:stretch/>
        </p:blipFill>
        <p:spPr>
          <a:xfrm>
            <a:off x="5675400" y="1457280"/>
            <a:ext cx="944640" cy="37846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ая со стрелкой 50" descr=""/>
          <p:cNvPicPr/>
          <p:nvPr/>
        </p:nvPicPr>
        <p:blipFill>
          <a:blip r:embed="rId12"/>
          <a:stretch/>
        </p:blipFill>
        <p:spPr>
          <a:xfrm>
            <a:off x="1096920" y="1523880"/>
            <a:ext cx="1013040" cy="14320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ая со стрелкой 58" descr=""/>
          <p:cNvPicPr/>
          <p:nvPr/>
        </p:nvPicPr>
        <p:blipFill>
          <a:blip r:embed="rId13"/>
          <a:stretch/>
        </p:blipFill>
        <p:spPr>
          <a:xfrm>
            <a:off x="6477120" y="1371600"/>
            <a:ext cx="1225440" cy="15732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ая со стрелкой 63" descr=""/>
          <p:cNvPicPr/>
          <p:nvPr/>
        </p:nvPicPr>
        <p:blipFill>
          <a:blip r:embed="rId14"/>
          <a:stretch/>
        </p:blipFill>
        <p:spPr>
          <a:xfrm>
            <a:off x="1905120" y="1447920"/>
            <a:ext cx="1047600" cy="3498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ая со стрелкой 74" descr=""/>
          <p:cNvPicPr/>
          <p:nvPr/>
        </p:nvPicPr>
        <p:blipFill>
          <a:blip r:embed="rId15"/>
          <a:stretch/>
        </p:blipFill>
        <p:spPr>
          <a:xfrm>
            <a:off x="7182000" y="40179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ая со стрелкой 78" descr=""/>
          <p:cNvPicPr/>
          <p:nvPr/>
        </p:nvPicPr>
        <p:blipFill>
          <a:blip r:embed="rId16"/>
          <a:stretch/>
        </p:blipFill>
        <p:spPr>
          <a:xfrm>
            <a:off x="6540480" y="5443560"/>
            <a:ext cx="866880" cy="10238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ая со стрелкой 81" descr=""/>
          <p:cNvPicPr/>
          <p:nvPr/>
        </p:nvPicPr>
        <p:blipFill>
          <a:blip r:embed="rId17"/>
          <a:stretch/>
        </p:blipFill>
        <p:spPr>
          <a:xfrm>
            <a:off x="4170240" y="4743360"/>
            <a:ext cx="547920" cy="1285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83"/>
          <p:cNvSpPr/>
          <p:nvPr/>
        </p:nvSpPr>
        <p:spPr>
          <a:xfrm>
            <a:off x="3357720" y="5643720"/>
            <a:ext cx="20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ое ш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2430360" cy="1852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D:\Мои документы\FOTO\ПРАЗДНИКИ, РАЗВЛЕЧЕНИЯ--\осенние утренники 2008\IMG_1198.JPG"/>
          <p:cNvPicPr/>
          <p:nvPr/>
        </p:nvPicPr>
        <p:blipFill>
          <a:blip r:embed="rId3"/>
          <a:stretch/>
        </p:blipFill>
        <p:spPr>
          <a:xfrm>
            <a:off x="2438280" y="2209680"/>
            <a:ext cx="289584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TextBox 3" descr=""/>
          <p:cNvPicPr/>
          <p:nvPr/>
        </p:nvPicPr>
        <p:blipFill>
          <a:blip r:embed="rId4"/>
          <a:stretch/>
        </p:blipFill>
        <p:spPr>
          <a:xfrm>
            <a:off x="1731960" y="609480"/>
            <a:ext cx="119376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4" descr=""/>
          <p:cNvPicPr/>
          <p:nvPr/>
        </p:nvPicPr>
        <p:blipFill>
          <a:blip r:embed="rId5"/>
          <a:stretch/>
        </p:blipFill>
        <p:spPr>
          <a:xfrm>
            <a:off x="3236760" y="1395360"/>
            <a:ext cx="1122480" cy="49392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5" descr=""/>
          <p:cNvPicPr/>
          <p:nvPr/>
        </p:nvPicPr>
        <p:blipFill>
          <a:blip r:embed="rId6"/>
          <a:stretch/>
        </p:blipFill>
        <p:spPr>
          <a:xfrm>
            <a:off x="450720" y="1468440"/>
            <a:ext cx="1195560" cy="493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7"/>
          <a:stretch/>
        </p:blipFill>
        <p:spPr>
          <a:xfrm>
            <a:off x="3664080" y="469800"/>
            <a:ext cx="1193760" cy="49392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" descr=""/>
          <p:cNvPicPr/>
          <p:nvPr/>
        </p:nvPicPr>
        <p:blipFill>
          <a:blip r:embed="rId8"/>
          <a:stretch/>
        </p:blipFill>
        <p:spPr>
          <a:xfrm>
            <a:off x="6662880" y="3681360"/>
            <a:ext cx="1195200" cy="49392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8" descr=""/>
          <p:cNvPicPr/>
          <p:nvPr/>
        </p:nvPicPr>
        <p:blipFill>
          <a:blip r:embed="rId9"/>
          <a:stretch/>
        </p:blipFill>
        <p:spPr>
          <a:xfrm>
            <a:off x="231840" y="5541840"/>
            <a:ext cx="119520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9" descr=""/>
          <p:cNvPicPr/>
          <p:nvPr/>
        </p:nvPicPr>
        <p:blipFill>
          <a:blip r:embed="rId10"/>
          <a:stretch/>
        </p:blipFill>
        <p:spPr>
          <a:xfrm>
            <a:off x="5735520" y="5827680"/>
            <a:ext cx="1195560" cy="4939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0" descr=""/>
          <p:cNvPicPr/>
          <p:nvPr/>
        </p:nvPicPr>
        <p:blipFill>
          <a:blip r:embed="rId11"/>
          <a:stretch/>
        </p:blipFill>
        <p:spPr>
          <a:xfrm>
            <a:off x="7089840" y="4900680"/>
            <a:ext cx="1414440" cy="49356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1" descr=""/>
          <p:cNvPicPr/>
          <p:nvPr/>
        </p:nvPicPr>
        <p:blipFill>
          <a:blip r:embed="rId12"/>
          <a:stretch/>
        </p:blipFill>
        <p:spPr>
          <a:xfrm>
            <a:off x="2876400" y="5754600"/>
            <a:ext cx="155592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2" descr=""/>
          <p:cNvPicPr/>
          <p:nvPr/>
        </p:nvPicPr>
        <p:blipFill>
          <a:blip r:embed="rId13"/>
          <a:stretch/>
        </p:blipFill>
        <p:spPr>
          <a:xfrm>
            <a:off x="378000" y="3402000"/>
            <a:ext cx="14079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Box 1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295800" cy="17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C:\Documents and Settings\Admin\Рабочий стол\Муз. рук\Мокеева Наталия Николаевна\S6300757.jpg"/>
          <p:cNvPicPr/>
          <p:nvPr/>
        </p:nvPicPr>
        <p:blipFill>
          <a:blip r:embed="rId3"/>
          <a:stretch/>
        </p:blipFill>
        <p:spPr>
          <a:xfrm>
            <a:off x="1228680" y="1447920"/>
            <a:ext cx="1654200" cy="2206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C:\Documents and Settings\Admin\Рабочий стол\Муз. рук\Мокеева Наталия Николаевна\S6300758.jpg"/>
          <p:cNvPicPr/>
          <p:nvPr/>
        </p:nvPicPr>
        <p:blipFill>
          <a:blip r:embed="rId4"/>
          <a:stretch/>
        </p:blipFill>
        <p:spPr>
          <a:xfrm>
            <a:off x="3789360" y="3962520"/>
            <a:ext cx="1782720" cy="2395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C:\Documents and Settings\Admin\Рабочий стол\Муз. рук\Мокеева Наталия Николаевна\S6300763.jpg"/>
          <p:cNvPicPr/>
          <p:nvPr/>
        </p:nvPicPr>
        <p:blipFill>
          <a:blip r:embed="rId5"/>
          <a:stretch/>
        </p:blipFill>
        <p:spPr>
          <a:xfrm>
            <a:off x="6419880" y="3657600"/>
            <a:ext cx="20098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301840" cy="15732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4530960" cy="5698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4" descr=""/>
          <p:cNvPicPr/>
          <p:nvPr/>
        </p:nvPicPr>
        <p:blipFill>
          <a:blip r:embed="rId4"/>
          <a:stretch/>
        </p:blipFill>
        <p:spPr>
          <a:xfrm>
            <a:off x="1066680" y="2895480"/>
            <a:ext cx="1292400" cy="49392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5" descr=""/>
          <p:cNvPicPr/>
          <p:nvPr/>
        </p:nvPicPr>
        <p:blipFill>
          <a:blip r:embed="rId5"/>
          <a:stretch/>
        </p:blipFill>
        <p:spPr>
          <a:xfrm>
            <a:off x="6172200" y="2971800"/>
            <a:ext cx="1112760" cy="4176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6" descr=""/>
          <p:cNvPicPr/>
          <p:nvPr/>
        </p:nvPicPr>
        <p:blipFill>
          <a:blip r:embed="rId6"/>
          <a:stretch/>
        </p:blipFill>
        <p:spPr>
          <a:xfrm>
            <a:off x="878040" y="3328920"/>
            <a:ext cx="3114360" cy="4278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7" descr=""/>
          <p:cNvPicPr/>
          <p:nvPr/>
        </p:nvPicPr>
        <p:blipFill>
          <a:blip r:embed="rId7"/>
          <a:stretch/>
        </p:blipFill>
        <p:spPr>
          <a:xfrm>
            <a:off x="5303880" y="3328920"/>
            <a:ext cx="3120840" cy="3724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F:\фото диляра\Изображение 035.jpg"/>
          <p:cNvPicPr/>
          <p:nvPr/>
        </p:nvPicPr>
        <p:blipFill>
          <a:blip r:embed="rId8"/>
          <a:stretch/>
        </p:blipFill>
        <p:spPr>
          <a:xfrm>
            <a:off x="1143000" y="533520"/>
            <a:ext cx="2433600" cy="185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1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13992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4971960" y="2466720"/>
            <a:ext cx="4172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работы музыкального руководителя детского сад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ие детей в различных круж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1371600" y="2673000"/>
            <a:ext cx="815328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ы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Гимнаст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круж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25 выпускников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посещают 14 выпуск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ый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ое аген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«Эст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10 выпускников                                           посещают 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юшка</cp:lastModifiedBy>
  <dcterms:modified xsi:type="dcterms:W3CDTF">2015-10-15T16:33:26Z</dcterms:modified>
  <cp:revision>21</cp:revision>
  <dc:subject/>
  <dc:title>Слайд 1</dc:title>
</cp:coreProperties>
</file>