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9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66E-10DF-4FD7-AB47-888BBA14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C8F-A6E0-413F-9D5E-238B6D21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2D3-0DD8-4D2E-9435-694BA337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0AC-2CBB-4B06-B29A-5C4FE3F4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439-A070-43C4-A8B1-1910ED5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4F7-AA70-4B53-9482-CA713815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DED-D717-468D-8059-E6C08D6F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64C-4717-4FF8-B1EA-0328857F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816-9774-4304-A57D-2BC42FC7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C19-354C-480A-98CD-43E6537E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BB4-509E-484B-B4B6-1815405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A78-F204-492F-8AB2-4BF722D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1560" indent="-227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598760" indent="-227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5960" indent="-22716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AEC1B2-CD1B-4A6E-888F-43379A84247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6095880" y="2286000"/>
            <a:ext cx="2079720" cy="13939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D:\Мои документы\FOTO\мамин день 2009\S6300753.JPG"/>
          <p:cNvPicPr/>
          <p:nvPr/>
        </p:nvPicPr>
        <p:blipFill>
          <a:blip r:embed="rId3"/>
          <a:stretch/>
        </p:blipFill>
        <p:spPr>
          <a:xfrm>
            <a:off x="2590920" y="3309840"/>
            <a:ext cx="234288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Рисунок 3" descr="D:\Мои документы\FOTO\мамин день 2009\S6300744.JPG"/>
          <p:cNvPicPr/>
          <p:nvPr/>
        </p:nvPicPr>
        <p:blipFill>
          <a:blip r:embed="rId4"/>
          <a:stretch/>
        </p:blipFill>
        <p:spPr>
          <a:xfrm>
            <a:off x="6400800" y="4819680"/>
            <a:ext cx="2038320" cy="152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TextBox 4" descr=""/>
          <p:cNvPicPr/>
          <p:nvPr/>
        </p:nvPicPr>
        <p:blipFill>
          <a:blip r:embed="rId5"/>
          <a:stretch/>
        </p:blipFill>
        <p:spPr>
          <a:xfrm>
            <a:off x="2209680" y="762120"/>
            <a:ext cx="6477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42920" y="478080"/>
            <a:ext cx="8572320" cy="9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НЦЕВАЛЬНАЯ РАДУГА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ь, что каждый ребенок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личность неповторимая, способная на мног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вление способных детей, а так же детей требующих дополнительного внимания со стороны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воспитания детей в программе «ТАНЦЕВАЛЬНАЯ РАДУГ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аучить детей слышать и понимать музыкального руководите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хороших результатов можно достичь, только установив доверительные, теплые отношения ребенка с педагог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звать желание  повторять за взросл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двести к умению движением показать видение музыки самими детьми, импровизировать, фантазировать, подбирать элементы соответствующие содержанию произ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Развитие детской музыка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ерез игры, пляски, музыкальные композиции, развивать в детях музыкальные процесс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учить слышать начало и окончание частей музыки, их характер, средства вырази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огащать музыкальную память все новыми движениями, танцами, закрепляя в детском багаже пройденный матери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овершенствовать двигательную активность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принужденно и все более точнее передавать в движениях содержание, структуру и особенности музы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учить владеть своим тел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оординировать движения рук, ног, тела, а иногда и голоса (пен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батывать пластичность, гибкость, изящество, красоту дви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азвивать выразительность детского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доставить детям радость и удовольствие от самого процесса движения в органической его связи с музык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батывая точность, четкость осмысленности движений применять подражательные движения или образные сравн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мение собираться, выступая перед аудиторией, научить показывать с удовольствием самое лучшее, чему научилис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увствовать себя свободно и легко выступать перед зрителями (детьми своей группы, детского сада, школьников, взрослым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D:\Мои документы\FOTO\несортированые\133SSCAM\S6300760.JPG"/>
          <p:cNvPicPr/>
          <p:nvPr/>
        </p:nvPicPr>
        <p:blipFill>
          <a:blip r:embed="rId2"/>
          <a:stretch/>
        </p:blipFill>
        <p:spPr>
          <a:xfrm>
            <a:off x="5715000" y="4000680"/>
            <a:ext cx="292428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Рисунок 2" descr="D:\Мои документы\FOTO\несортированые\133SSCAM\S6300752.JPG"/>
          <p:cNvPicPr/>
          <p:nvPr/>
        </p:nvPicPr>
        <p:blipFill>
          <a:blip r:embed="rId3"/>
          <a:stretch/>
        </p:blipFill>
        <p:spPr>
          <a:xfrm>
            <a:off x="500040" y="928800"/>
            <a:ext cx="2928960" cy="219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Рисунок 3" descr="D:\Мои документы\FOTO\новый год 2008\131SSCAM\S6300019.JPG"/>
          <p:cNvPicPr/>
          <p:nvPr/>
        </p:nvPicPr>
        <p:blipFill>
          <a:blip r:embed="rId4"/>
          <a:stretch/>
        </p:blipFill>
        <p:spPr>
          <a:xfrm>
            <a:off x="3071880" y="2500200"/>
            <a:ext cx="2928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TextBox 4" descr=""/>
          <p:cNvPicPr/>
          <p:nvPr/>
        </p:nvPicPr>
        <p:blipFill>
          <a:blip r:embed="rId5"/>
          <a:stretch/>
        </p:blipFill>
        <p:spPr>
          <a:xfrm>
            <a:off x="2073240" y="201600"/>
            <a:ext cx="5070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5035320" cy="11635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3809880" y="1384200"/>
            <a:ext cx="524160" cy="852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609480" y="274320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71720" y="471492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еятельность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2590920" y="289548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с родителями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4000680" y="4357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357880" y="50720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и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7143840" y="592920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657600" y="1981080"/>
            <a:ext cx="12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ние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4648320" y="2438280"/>
            <a:ext cx="12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7072200" y="46432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380880" y="167652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6357960" y="36432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7215120" y="1928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6643800" y="2643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99072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ая со стрелкой 20" descr=""/>
          <p:cNvPicPr/>
          <p:nvPr/>
        </p:nvPicPr>
        <p:blipFill>
          <a:blip r:embed="rId4"/>
          <a:stretch/>
        </p:blipFill>
        <p:spPr>
          <a:xfrm>
            <a:off x="1238400" y="1450800"/>
            <a:ext cx="1371600" cy="25052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ая со стрелкой 24" descr=""/>
          <p:cNvPicPr/>
          <p:nvPr/>
        </p:nvPicPr>
        <p:blipFill>
          <a:blip r:embed="rId5"/>
          <a:stretch/>
        </p:blipFill>
        <p:spPr>
          <a:xfrm>
            <a:off x="3024360" y="1457280"/>
            <a:ext cx="583920" cy="16398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ая со стрелкой 26" descr=""/>
          <p:cNvPicPr/>
          <p:nvPr/>
        </p:nvPicPr>
        <p:blipFill>
          <a:blip r:embed="rId6"/>
          <a:stretch/>
        </p:blipFill>
        <p:spPr>
          <a:xfrm>
            <a:off x="4572000" y="1447920"/>
            <a:ext cx="658800" cy="29257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ая со стрелкой 29" descr=""/>
          <p:cNvPicPr/>
          <p:nvPr/>
        </p:nvPicPr>
        <p:blipFill>
          <a:blip r:embed="rId7"/>
          <a:stretch/>
        </p:blipFill>
        <p:spPr>
          <a:xfrm>
            <a:off x="596880" y="1085760"/>
            <a:ext cx="1079640" cy="9381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ая со стрелкой 32" descr=""/>
          <p:cNvPicPr/>
          <p:nvPr/>
        </p:nvPicPr>
        <p:blipFill>
          <a:blip r:embed="rId8"/>
          <a:stretch/>
        </p:blipFill>
        <p:spPr>
          <a:xfrm>
            <a:off x="5257800" y="1371600"/>
            <a:ext cx="585720" cy="135252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ая со стрелкой 36" descr=""/>
          <p:cNvPicPr/>
          <p:nvPr/>
        </p:nvPicPr>
        <p:blipFill>
          <a:blip r:embed="rId9"/>
          <a:stretch/>
        </p:blipFill>
        <p:spPr>
          <a:xfrm>
            <a:off x="7040520" y="137160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ая со стрелкой 41" descr=""/>
          <p:cNvPicPr/>
          <p:nvPr/>
        </p:nvPicPr>
        <p:blipFill>
          <a:blip r:embed="rId10"/>
          <a:stretch/>
        </p:blipFill>
        <p:spPr>
          <a:xfrm>
            <a:off x="5962680" y="1378080"/>
            <a:ext cx="1084320" cy="2504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ая со стрелкой 44" descr=""/>
          <p:cNvPicPr/>
          <p:nvPr/>
        </p:nvPicPr>
        <p:blipFill>
          <a:blip r:embed="rId11"/>
          <a:stretch/>
        </p:blipFill>
        <p:spPr>
          <a:xfrm>
            <a:off x="5675400" y="1457280"/>
            <a:ext cx="944640" cy="37846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ая со стрелкой 50" descr=""/>
          <p:cNvPicPr/>
          <p:nvPr/>
        </p:nvPicPr>
        <p:blipFill>
          <a:blip r:embed="rId12"/>
          <a:stretch/>
        </p:blipFill>
        <p:spPr>
          <a:xfrm>
            <a:off x="1096920" y="1523880"/>
            <a:ext cx="1013040" cy="14320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ая со стрелкой 58" descr=""/>
          <p:cNvPicPr/>
          <p:nvPr/>
        </p:nvPicPr>
        <p:blipFill>
          <a:blip r:embed="rId13"/>
          <a:stretch/>
        </p:blipFill>
        <p:spPr>
          <a:xfrm>
            <a:off x="6477120" y="1371600"/>
            <a:ext cx="1225440" cy="15732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ая со стрелкой 63" descr=""/>
          <p:cNvPicPr/>
          <p:nvPr/>
        </p:nvPicPr>
        <p:blipFill>
          <a:blip r:embed="rId14"/>
          <a:stretch/>
        </p:blipFill>
        <p:spPr>
          <a:xfrm>
            <a:off x="1905120" y="1447920"/>
            <a:ext cx="1047600" cy="34988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ая со стрелкой 74" descr=""/>
          <p:cNvPicPr/>
          <p:nvPr/>
        </p:nvPicPr>
        <p:blipFill>
          <a:blip r:embed="rId15"/>
          <a:stretch/>
        </p:blipFill>
        <p:spPr>
          <a:xfrm>
            <a:off x="7182000" y="401796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ая со стрелкой 78" descr=""/>
          <p:cNvPicPr/>
          <p:nvPr/>
        </p:nvPicPr>
        <p:blipFill>
          <a:blip r:embed="rId16"/>
          <a:stretch/>
        </p:blipFill>
        <p:spPr>
          <a:xfrm>
            <a:off x="6540480" y="5443560"/>
            <a:ext cx="866880" cy="10238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ая со стрелкой 81" descr=""/>
          <p:cNvPicPr/>
          <p:nvPr/>
        </p:nvPicPr>
        <p:blipFill>
          <a:blip r:embed="rId17"/>
          <a:stretch/>
        </p:blipFill>
        <p:spPr>
          <a:xfrm>
            <a:off x="4170240" y="4743360"/>
            <a:ext cx="547920" cy="1285920"/>
          </a:xfrm>
          <a:prstGeom prst="rect">
            <a:avLst/>
          </a:prstGeom>
          <a:ln w="0">
            <a:noFill/>
          </a:ln>
        </p:spPr>
      </p:pic>
      <p:sp>
        <p:nvSpPr>
          <p:cNvPr id="80" name="TextBox 83"/>
          <p:cNvSpPr/>
          <p:nvPr/>
        </p:nvSpPr>
        <p:spPr>
          <a:xfrm>
            <a:off x="3357720" y="5643720"/>
            <a:ext cx="20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евальное ш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Box 1" descr=""/>
          <p:cNvPicPr/>
          <p:nvPr/>
        </p:nvPicPr>
        <p:blipFill>
          <a:blip r:embed="rId2"/>
          <a:stretch/>
        </p:blipFill>
        <p:spPr>
          <a:xfrm>
            <a:off x="6400800" y="1219320"/>
            <a:ext cx="2430360" cy="1852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D:\Мои документы\FOTO\ПРАЗДНИКИ, РАЗВЛЕЧЕНИЯ--\осенние утренники 2008\IMG_1198.JPG"/>
          <p:cNvPicPr/>
          <p:nvPr/>
        </p:nvPicPr>
        <p:blipFill>
          <a:blip r:embed="rId3"/>
          <a:stretch/>
        </p:blipFill>
        <p:spPr>
          <a:xfrm>
            <a:off x="2438280" y="2209680"/>
            <a:ext cx="2895840" cy="24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TextBox 3" descr=""/>
          <p:cNvPicPr/>
          <p:nvPr/>
        </p:nvPicPr>
        <p:blipFill>
          <a:blip r:embed="rId4"/>
          <a:stretch/>
        </p:blipFill>
        <p:spPr>
          <a:xfrm>
            <a:off x="1731960" y="609480"/>
            <a:ext cx="119376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4" descr=""/>
          <p:cNvPicPr/>
          <p:nvPr/>
        </p:nvPicPr>
        <p:blipFill>
          <a:blip r:embed="rId5"/>
          <a:stretch/>
        </p:blipFill>
        <p:spPr>
          <a:xfrm>
            <a:off x="3236760" y="1395360"/>
            <a:ext cx="1122480" cy="49392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5" descr=""/>
          <p:cNvPicPr/>
          <p:nvPr/>
        </p:nvPicPr>
        <p:blipFill>
          <a:blip r:embed="rId6"/>
          <a:stretch/>
        </p:blipFill>
        <p:spPr>
          <a:xfrm>
            <a:off x="450720" y="1468440"/>
            <a:ext cx="1195560" cy="49356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6" descr=""/>
          <p:cNvPicPr/>
          <p:nvPr/>
        </p:nvPicPr>
        <p:blipFill>
          <a:blip r:embed="rId7"/>
          <a:stretch/>
        </p:blipFill>
        <p:spPr>
          <a:xfrm>
            <a:off x="3664080" y="469800"/>
            <a:ext cx="1193760" cy="49392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" descr=""/>
          <p:cNvPicPr/>
          <p:nvPr/>
        </p:nvPicPr>
        <p:blipFill>
          <a:blip r:embed="rId8"/>
          <a:stretch/>
        </p:blipFill>
        <p:spPr>
          <a:xfrm>
            <a:off x="6662880" y="3681360"/>
            <a:ext cx="1195200" cy="49392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8" descr=""/>
          <p:cNvPicPr/>
          <p:nvPr/>
        </p:nvPicPr>
        <p:blipFill>
          <a:blip r:embed="rId9"/>
          <a:stretch/>
        </p:blipFill>
        <p:spPr>
          <a:xfrm>
            <a:off x="231840" y="5541840"/>
            <a:ext cx="119520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9" descr=""/>
          <p:cNvPicPr/>
          <p:nvPr/>
        </p:nvPicPr>
        <p:blipFill>
          <a:blip r:embed="rId10"/>
          <a:stretch/>
        </p:blipFill>
        <p:spPr>
          <a:xfrm>
            <a:off x="5735520" y="5827680"/>
            <a:ext cx="1195560" cy="4939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0" descr=""/>
          <p:cNvPicPr/>
          <p:nvPr/>
        </p:nvPicPr>
        <p:blipFill>
          <a:blip r:embed="rId11"/>
          <a:stretch/>
        </p:blipFill>
        <p:spPr>
          <a:xfrm>
            <a:off x="7089840" y="4900680"/>
            <a:ext cx="1414440" cy="49356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1" descr=""/>
          <p:cNvPicPr/>
          <p:nvPr/>
        </p:nvPicPr>
        <p:blipFill>
          <a:blip r:embed="rId12"/>
          <a:stretch/>
        </p:blipFill>
        <p:spPr>
          <a:xfrm>
            <a:off x="2876400" y="5754600"/>
            <a:ext cx="1555920" cy="49392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2" descr=""/>
          <p:cNvPicPr/>
          <p:nvPr/>
        </p:nvPicPr>
        <p:blipFill>
          <a:blip r:embed="rId13"/>
          <a:stretch/>
        </p:blipFill>
        <p:spPr>
          <a:xfrm>
            <a:off x="378000" y="3402000"/>
            <a:ext cx="14079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xtBox 1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3295800" cy="17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C:\Documents and Settings\Admin\Рабочий стол\Муз. рук\Мокеева Наталия Николаевна\S6300757.jpg"/>
          <p:cNvPicPr/>
          <p:nvPr/>
        </p:nvPicPr>
        <p:blipFill>
          <a:blip r:embed="rId3"/>
          <a:stretch/>
        </p:blipFill>
        <p:spPr>
          <a:xfrm>
            <a:off x="1228680" y="1447920"/>
            <a:ext cx="1654200" cy="22064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C:\Documents and Settings\Admin\Рабочий стол\Муз. рук\Мокеева Наталия Николаевна\S6300758.jpg"/>
          <p:cNvPicPr/>
          <p:nvPr/>
        </p:nvPicPr>
        <p:blipFill>
          <a:blip r:embed="rId4"/>
          <a:stretch/>
        </p:blipFill>
        <p:spPr>
          <a:xfrm>
            <a:off x="3789360" y="3962520"/>
            <a:ext cx="1782720" cy="2395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C:\Documents and Settings\Admin\Рабочий стол\Муз. рук\Мокеева Наталия Николаевна\S6300763.jpg"/>
          <p:cNvPicPr/>
          <p:nvPr/>
        </p:nvPicPr>
        <p:blipFill>
          <a:blip r:embed="rId5"/>
          <a:stretch/>
        </p:blipFill>
        <p:spPr>
          <a:xfrm>
            <a:off x="6419880" y="3657600"/>
            <a:ext cx="20098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301840" cy="15732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2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4530960" cy="5698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4" descr=""/>
          <p:cNvPicPr/>
          <p:nvPr/>
        </p:nvPicPr>
        <p:blipFill>
          <a:blip r:embed="rId4"/>
          <a:stretch/>
        </p:blipFill>
        <p:spPr>
          <a:xfrm>
            <a:off x="1066680" y="2895480"/>
            <a:ext cx="1292400" cy="49392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5" descr=""/>
          <p:cNvPicPr/>
          <p:nvPr/>
        </p:nvPicPr>
        <p:blipFill>
          <a:blip r:embed="rId5"/>
          <a:stretch/>
        </p:blipFill>
        <p:spPr>
          <a:xfrm>
            <a:off x="6172200" y="2971800"/>
            <a:ext cx="1112760" cy="4176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6" descr=""/>
          <p:cNvPicPr/>
          <p:nvPr/>
        </p:nvPicPr>
        <p:blipFill>
          <a:blip r:embed="rId6"/>
          <a:stretch/>
        </p:blipFill>
        <p:spPr>
          <a:xfrm>
            <a:off x="878040" y="3328920"/>
            <a:ext cx="3114360" cy="42782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7" descr=""/>
          <p:cNvPicPr/>
          <p:nvPr/>
        </p:nvPicPr>
        <p:blipFill>
          <a:blip r:embed="rId7"/>
          <a:stretch/>
        </p:blipFill>
        <p:spPr>
          <a:xfrm>
            <a:off x="5303880" y="3328920"/>
            <a:ext cx="3120840" cy="3724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F:\фото диляра\Изображение 035.jpg"/>
          <p:cNvPicPr/>
          <p:nvPr/>
        </p:nvPicPr>
        <p:blipFill>
          <a:blip r:embed="rId8"/>
          <a:stretch/>
        </p:blipFill>
        <p:spPr>
          <a:xfrm>
            <a:off x="1143000" y="533520"/>
            <a:ext cx="2433600" cy="185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1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3139920" cy="1000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4971960" y="2466720"/>
            <a:ext cx="4172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работы музыкального руководителя детского сад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ие детей в различных круж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1371600" y="2673000"/>
            <a:ext cx="815328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евальный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Гимнастиче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круж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ют 25 выпускников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посещают 14 выпуск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ьный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ое агент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«Эсте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ют 10 выпускников                                           посещают 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юшка</cp:lastModifiedBy>
  <dcterms:modified xsi:type="dcterms:W3CDTF">2015-10-15T16:33:26Z</dcterms:modified>
  <cp:revision>21</cp:revision>
  <dc:subject/>
  <dc:title>Слайд 1</dc:title>
</cp:coreProperties>
</file>