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BA5A8-9C77-441E-8A61-67753C9AA7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11A83-4E37-4021-B8F3-3807B29EAA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E736-07F9-484A-9514-D9DC873A0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4F27-35DF-4335-9606-131810724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C53A-B1D2-415F-B236-F9CE9DB8F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152E-AB87-4CE8-8C56-CE314185A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4400A-E66C-412A-9703-07E416DD0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7A0CE-C087-4CCC-8C28-CBF97DCB9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98EDB-DE5C-434B-B57C-67ECA9225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36835-03BE-48CD-8561-4253244F2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8DF31-5BA6-4714-9644-CF99C7C0B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397ED-D4F5-4CE6-B646-9DE4BE34A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D4B88-282C-42EC-BA7C-AC6D3CD3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953B-888A-456C-B221-45841B3B3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88B7C-5E3B-4E4B-965E-233BB91F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30345-46BD-487F-B41D-61850F93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AA48E-78E7-4B0A-99E3-464E5D146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AB27E-45C8-47F2-8E5E-AA8E8EF18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E4C82-BE23-4B3E-ABA0-97141F01E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F861-87DF-41F4-BBC1-C77DA15E8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0A52-282E-4D7F-A6B5-46ECE7395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8085-D7C4-4494-B269-6834BE956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FEE5-8E11-458B-A5CC-44EF1312F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67E8-A915-4B48-B8A2-CAA926EE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202A-3F29-45CF-B604-DDEC3C61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84E9-B511-449D-9C8E-3F22797A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7A236-A979-4350-BD71-DA1F0C2A8D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FC484-3535-4BEE-A9F5-288CBBF9EE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44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1390680" y="1700280"/>
            <a:ext cx="7451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Estrangelo Edessa"/>
              </a:rPr>
              <a:t>Дет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Estrangelo Edessa"/>
              </a:rPr>
              <a:t> </a:t>
            </a:r>
            <a:r>
              <a:rPr b="1" lang="ru-RU" sz="6600" spc="-1" strike="noStrike">
                <a:solidFill>
                  <a:srgbClr val="0000ff"/>
                </a:solidFill>
                <a:latin typeface="Estrangelo Edessa"/>
              </a:rPr>
              <a:t>«группы риска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45"/>
          <p:cNvSpPr/>
          <p:nvPr/>
        </p:nvSpPr>
        <p:spPr>
          <a:xfrm>
            <a:off x="1114560" y="2278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22100"/>
                </a:solidFill>
                <a:latin typeface="Times New Roman"/>
              </a:rPr>
              <a:t>Дети «группы риска» МС(К)ОУ «Коррекционной школы - интерна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116000" y="708120"/>
          <a:ext cx="7632720" cy="5825880"/>
        </p:xfrm>
        <a:graphic>
          <a:graphicData uri="http://schemas.openxmlformats.org/drawingml/2006/table">
            <a:tbl>
              <a:tblPr/>
              <a:tblGrid>
                <a:gridCol w="376200"/>
                <a:gridCol w="2216160"/>
                <a:gridCol w="3745080"/>
                <a:gridCol w="1295280"/>
              </a:tblGrid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О ребен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а постановки на уч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. руководите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ивенков Дмитрий Валерьеви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виняется в совершении преступления по ст. 158 ч. 2 УК РФ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веловская А.С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урдаков Евгений Александрови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виняется в совершении преступления по ст. 158 ч. 2 УК РФ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ыткина О.В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Береснев Максим Сергееви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достиг возраста с которого наступает уголовная ответственность по ст. 116 УК РФ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макина Е.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Иванов Егор Сергееви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виняется в совершении преступления по ст. 158 ч. 2 УК РФ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ерина Н.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улаковский Иван Вячеславови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достиг возраста уголовной ответственности по ч. 2 ст. 158 УК РФ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ляева Е.В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Митюков Владимир Владимирови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достиг возраста уголовной ответственности по ч. 2 ст. 158 УК РФ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макина Е.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Вяткин Ринат Ришатови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виняется в преступлении предусмотренного ст. 158 УК РФ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насюк А.М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Матвеев Николай Николаеви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достиг возраста административного воздействия ст. 20.22 КоАП РФ. Обвиняется в совершении преступления, предусмотренного ст. 158. ч. 2 УК РФ. Примир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щинская Л.В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Беляков Вячеслав Игореви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виняется в преступлении предусмотренного ст. 158 УК РФ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ерина Н.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Атнаев Евгений Федорович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виняется в преступлении предусмотренного ст. 158 ч. 3 УК РФ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ерина Н.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Вахрушев Дмитрий Александрови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совершение административного правонарушения, предусмотренного ст. 20.21. КоАП РФ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насюк А.М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Кабытова Яна Валерьев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совершение административного правонарушения, предусмотренного ст. 20.21. КоАП РФ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ерина Н.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Несененко Елена Владимировна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достигла возраста административного воздействия ст. 20.22 КоАП РФ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насюк А.М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ятлов Никита Эдуардови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пуски уроков без уважительных причин, поведение во время уроков и на перемен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ляева Е.В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ников Алексей Владимирови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едение во время уроков и на переменах, в жилом корпус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ляева Е.В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фтай Иван Иванови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едение во время уроков и на перемен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иверстова Е.П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1332000" y="3357720"/>
            <a:ext cx="7343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ети «группы риска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это такая категория детей, которая требует особого внимания со стороны педагогов, воспитателей и других специалист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1260360" y="981000"/>
            <a:ext cx="73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ети «группы риска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— это те дети, которые находятся в критической ситуации под воздействием некоторых нежелательных фактор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1116000" y="404640"/>
          <a:ext cx="7488360" cy="6129360"/>
        </p:xfrm>
        <a:graphic>
          <a:graphicData uri="http://schemas.openxmlformats.org/drawingml/2006/table">
            <a:tbl>
              <a:tblPr/>
              <a:tblGrid>
                <a:gridCol w="2230560"/>
                <a:gridCol w="525780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руппы критери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ритерии, определяющие «группу риска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rowSpan="8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едицинск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меют хронические заболевания внутренних органов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меют проблемы с органами слуха, зрения, реч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асто и длительно болею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стоит на учете у психоневропотолог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енесли сложные медицинские операци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енесли стресс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еворукие дети (левша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руго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циальны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ивут в асоциальной семье (пренебрежительное или агрессивное) отношение к ребенку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ивут в малообеспеченной семь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семье беженцев, переселенцев (проблемы адаптации и языковые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блемы адаптации при смене местожительства, школы, класс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амовольный уход из дом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руго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1692360" y="1630440"/>
          <a:ext cx="6553080" cy="4535280"/>
        </p:xfrm>
        <a:graphic>
          <a:graphicData uri="http://schemas.openxmlformats.org/drawingml/2006/table">
            <a:tbl>
              <a:tblPr/>
              <a:tblGrid>
                <a:gridCol w="1927080"/>
                <a:gridCol w="4626000"/>
              </a:tblGrid>
              <a:tr h="3636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чебно-педагогическ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меют стойкую неуспеваемост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пуски занятий без уважительных причин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пускают отдельные предметы без уважительных причин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 rowSpan="8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веденческ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рушение поведе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рудности во взаимоотношениях со сверстниками и родителям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вышенная тревожност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потребление наркотических веществ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абакокуре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оксикома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иперактивност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руго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1692360" y="760320"/>
          <a:ext cx="6553080" cy="868320"/>
        </p:xfrm>
        <a:graphic>
          <a:graphicData uri="http://schemas.openxmlformats.org/drawingml/2006/table">
            <a:tbl>
              <a:tblPr/>
              <a:tblGrid>
                <a:gridCol w="1927080"/>
                <a:gridCol w="462600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руппы критери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ритерии, определяющие «группу риска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1934280" y="487080"/>
            <a:ext cx="585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2100"/>
                </a:solidFill>
                <a:latin typeface="Times New Roman"/>
              </a:rPr>
              <a:t>Подростки «группы риска» имею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2100"/>
                </a:solidFill>
                <a:latin typeface="Times New Roman"/>
              </a:rPr>
              <a:t>следующие особенности</a:t>
            </a:r>
            <a:r>
              <a:rPr b="1" lang="ru-RU" sz="2400" spc="-1" strike="noStrike">
                <a:solidFill>
                  <a:srgbClr val="4221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1042920" y="1631160"/>
            <a:ext cx="755964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072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сутствие ценностей, принятых в обществе (творчество, познание, активная деятельность); убеждение в своей ненужности в обществе, невозможности добиться в жизни чего-либо своими силами, своим умом и талантом, занять достойное положение среди сверстников, достичь материального благополуч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Проецирование на себя современной жизни собственных родителей, напоминающей гонки на выжи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Ощущение эмоционального отвержения со стороны родителей и одновременно психологическая автоном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Среди ценностей на первом месте — счастливая семейная жизнь, на втором — материальное благополучие, на третьем — здоров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В то же время, кажущаяся недоступность этих ценностей в жизни. Высокая ценность в сочетании с недосягаемостью порождает внутренний конфликт — один из источников стре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1258920" y="1700280"/>
            <a:ext cx="741672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Подкрепление потери ценности образования в реальной жизни — пример тех, кто плохо учился или не учился совсем, а в жизни преуспел (имеет палатку, гараж, машину и т.д.) — без знания подлинных путей достижения таких «ценносте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Повышенный уровень тревожности и агрессив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 Преобладание ценности красивой, легкой жизни, стремления получать от жизни одни удовольств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 Изменение направленности интересов — свободное времяпрепровождение (в подъезде, на улице, подальше от дома и т.п.), ощущение полной свободы (уход из дома, побеги, путешествия, ситуации переживания риска и т.д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. В отношениях со взрослыми характерны отклонения в общении, приводящие к переживанию своей ненужности, утрате собственной ценности и ценности другого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1547640" y="538200"/>
            <a:ext cx="64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2100"/>
                </a:solidFill>
                <a:latin typeface="Times New Roman"/>
              </a:rPr>
              <a:t>Подростки «группы риска» имею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2100"/>
                </a:solidFill>
                <a:latin typeface="Times New Roman"/>
              </a:rPr>
              <a:t>следующие особенности: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1182600" y="779040"/>
            <a:ext cx="751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22100"/>
                </a:solidFill>
                <a:latin typeface="Times New Roman"/>
              </a:rPr>
              <a:t>Типы неправильного воспитания детей в семье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1187280" y="1581480"/>
            <a:ext cx="741708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072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еприяти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Это те семьи, где рождение ребенка было нежелательным, или в случае, если планировался мальчик, родилась девочка, т.е. когда ребенок не удовлетворяет начальные ожидания родителей. Или такие семьи, где о ребенке заботятся, но нет душевного контак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Гиперсоциальное воспитани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Причина его в неверной ориентации родителей. Это слишком «правильные» люди, пытающиеся педантично выполнять все рекомендации по «идеальному» воспитанию. Гиперсоциальный ребенок вынужден постоянно подавлять эмоции, сдерживать свои желания. Отсюда может возникнуть агрессия или замкнут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Тревожно-мнительное воспитани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наблюдается в тех семьях, где ребенок единственный или очень болезненна тревога за ребенка. В таком случае ребенок несамостоятелен, обидчив, робо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Эгоцентрический тип восприят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ребенку, часто единственному, долгожданному навязывают представление о себе как идеальному ребенку. В результате ребенок не принимает во внимание интересы окружающи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1332000" y="339480"/>
            <a:ext cx="70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2100"/>
                </a:solidFill>
                <a:latin typeface="Times New Roman"/>
              </a:rPr>
              <a:t>Воспитательная работа по социально-педагогической поддержки детей «группы риска» строится на следующих принципах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1187280" y="1465560"/>
            <a:ext cx="7561440" cy="51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принцип уважения индивидуальности личности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если подавлять индивидуальность, то личность не раскроется, ее склонности и способности не разовьютс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принцип коллективной деятельност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личность должна уметь согласовываться с другими, индивидуальность в правильно организованной коллективной деятельности расцветает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принцип разумной требовательност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можно все, что не противоречит закону, правилам школьного распорядка, не вредит здоровью, не унижает достоинство других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принцип возрастного подход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каждый возрастной период позитивно отзывается на свои формы и метода воспитательного воздействи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принцип диалог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уравнивание позиций педагога и школьника, взрослого и ребенка помогает достичь доверительных отношений. Ребенок инстинктивно находит иногда более оригинальные и оптимальные пути решения многих проблем, задач, проектов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1042920" y="1557000"/>
            <a:ext cx="7632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принцип педагогической поддержк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ребенок не должен чувствовать себя нелюбимым, даже если он плохо учится. Он должен видеть в педагоге учителя, который защитит его от незнания, от стресса в связи с этим незнанием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принцип стимулирования самовоспитани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каждый школьник должен знать себя, научиться критически рассматривать свои поступки, воспитывать в себе чувство ответственности. Задача педагогов создать такие условия, где ребенок приобретет опыт планирования и рефлексии своей деятельност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принцип связи с реальной жизнью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дела, организуемые и проводимые в школе, должны соприкасаться с реальными делами поселка, района, области, страны. Дети должны чувствовать себя гражданами России, действовать на ее благо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принцип согласовани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все действия педагогов должны быть согласованы между собой, подчинены одной общей цели. Кроме того, каждый педагог должен помнить, что его педагогический долг состоит в том, чтобы создать условия для согласования детей друг с другом, детей и их родителе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1332000" y="339480"/>
            <a:ext cx="70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2100"/>
                </a:solidFill>
                <a:latin typeface="Times New Roman"/>
              </a:rPr>
              <a:t>Воспитательная работа по социально-педагогической поддержки детей «группы риска» строится на следующих принципах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5T16:42:31Z</dcterms:created>
  <dc:creator>User</dc:creator>
  <dc:description/>
  <cp:keywords/>
  <dc:language>en-US</dc:language>
  <cp:lastModifiedBy>Оксана</cp:lastModifiedBy>
  <dcterms:modified xsi:type="dcterms:W3CDTF">2015-10-14T20:18:42Z</dcterms:modified>
  <cp:revision>23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371049</vt:lpwstr>
  </property>
</Properties>
</file>