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CB68-A75E-45A7-BAEA-71F8F19E2D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3B20-A8FE-48F3-9C47-EACD13BE35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E77-E53D-4466-BE96-24E6787F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660-5C69-43FD-89BC-99BF69FA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D32-3CE2-4147-8A0C-8FB7309A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63B-B0F4-40E8-8431-54AD77CD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BD42-E531-403F-994A-B6C0951B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4E86-82C3-4B7F-9989-B8192481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6ACF-4EFA-4C70-B3C1-EAB1465F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0454-D4A8-4200-8B7C-DC8B1C8C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50BE-36F5-4255-94DF-5DC1EB3E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4766-F902-40EB-86C7-AB724EEE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32C5-B4FC-4576-86AC-69527900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D51-B85C-4CA9-BA93-00DE0285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801E-19D4-4CEE-ABA9-C7270211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B5A8-7F0E-47D8-AEC9-148FEB3E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A511-B11A-43B3-9FD9-1C1C5719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18DB-00AA-47B2-83F0-E95DE694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1620-4A3E-456A-B106-C07DF2F1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87A-8E0C-4D07-8384-EA1E1B67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02C-E879-442A-B845-3685E94F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F38-EDE6-4E33-A07D-D703CF40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653-7775-41EA-B95B-DFC8AA47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378-BE83-45DF-886F-C939E185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E19-DB0C-4C34-847F-F1BC48AA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150-3B08-492D-84A6-5AD11E2A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8D63-E8C8-466C-AA77-93D47E5840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D744-3A39-47DF-B94F-AB2F76AB8E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4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390680" y="1700280"/>
            <a:ext cx="74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Estrangelo Edessa"/>
              </a:rPr>
              <a:t>Дет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Estrangelo Edessa"/>
              </a:rPr>
              <a:t> </a:t>
            </a:r>
            <a:r>
              <a:rPr b="1" lang="ru-RU" sz="6600" spc="-1" strike="noStrike">
                <a:solidFill>
                  <a:srgbClr val="0000ff"/>
                </a:solidFill>
                <a:latin typeface="Estrangelo Edessa"/>
              </a:rPr>
              <a:t>«группы риска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45"/>
          <p:cNvSpPr/>
          <p:nvPr/>
        </p:nvSpPr>
        <p:spPr>
          <a:xfrm>
            <a:off x="1114560" y="2278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2100"/>
                </a:solidFill>
                <a:latin typeface="Times New Roman"/>
              </a:rPr>
              <a:t>Дети «группы риска» МС(К)ОУ «Коррекционной школы - интерн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708120"/>
          <a:ext cx="7632720" cy="5825880"/>
        </p:xfrm>
        <a:graphic>
          <a:graphicData uri="http://schemas.openxmlformats.org/drawingml/2006/table">
            <a:tbl>
              <a:tblPr/>
              <a:tblGrid>
                <a:gridCol w="376200"/>
                <a:gridCol w="2216160"/>
                <a:gridCol w="3745080"/>
                <a:gridCol w="129528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 ребен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постановки на уч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ивенков Дмитрий Валерье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виняется в совершении преступления по ст. 158 ч. 2 УК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ловская А.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урдаков Евгений Александр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виняется в совершении преступления по ст. 158 ч. 2 УК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ыткина О.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ереснев Максим Сергее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остиг возраста с которого наступает уголовная ответственность по ст. 116 УК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макина Е.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ванов Егор Сергее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виняется в совершении преступления по ст. 158 ч. 2 УК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ерина Н.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улаковский Иван Вячеслав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остиг возраста уголовной ответственности по ч. 2 ст. 158 УК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ляева Е.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итюков Владимир Владимир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остиг возраста уголовной ответственности по ч. 2 ст. 158 УК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макина Е.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яткин Ринат Ришат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виняется в преступлении предусмотренного ст. 158 УК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асюк А.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атвеев Николай Николае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остиг возраста административного воздействия ст. 20.22 КоАП РФ. Обвиняется в совершении преступления, предусмотренного ст. 158. ч. 2 УК РФ. Примир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щинская Л.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еляков Вячеслав Игоре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виняется в преступлении предусмотренного ст. 158 УК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ерина Н.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тнаев Евгений Федорович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виняется в преступлении предусмотренного ст. 158 ч. 3 УК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ерина Н.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Вахрушев Дмитрий Александр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овершение административного правонарушения, предусмотренного ст. 20.21. КоАП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асюк А.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Кабытова Яна Валерь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овершение административного правонарушения, предусмотренного ст. 20.21. КоАП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ерина Н.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Несененко Елена Владимировна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остигла возраста административного воздействия ст. 20.22 КоАП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асюк А.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ятлов Никита Эдуард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уски уроков без уважительных причин, поведение во время уроков и на перемен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ляева Е.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ников Алексей Владимир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во время уроков и на переменах, в жилом корпус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ляева Е.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фтай Иван Иван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во время уроков и на перемен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иверстова Е.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332000" y="3357720"/>
            <a:ext cx="73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ети «группы риска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такая категория детей, которая требует особого внимания со стороны педагогов, воспитателей и других специалис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260360" y="981000"/>
            <a:ext cx="73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ети «группы риска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это те дети, которые находятся в критической ситуации под воздействием некоторых нежелательных фак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116000" y="404640"/>
          <a:ext cx="7488360" cy="6129360"/>
        </p:xfrm>
        <a:graphic>
          <a:graphicData uri="http://schemas.openxmlformats.org/drawingml/2006/table">
            <a:tbl>
              <a:tblPr/>
              <a:tblGrid>
                <a:gridCol w="2230560"/>
                <a:gridCol w="525780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уппы критер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ии, определяющие «группу риска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дицинск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еют хронические заболевания внутренних орган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еют проблемы с органами слуха, зрения, реч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о и длительно болею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оит на учете у психоневропотолог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несли сложные медицинские опера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несли стресс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ворукие дети (левша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руго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вут в асоциальной семье (пренебрежительное или агрессивное) отношение к ребенк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вут в малообеспеченной семь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семье беженцев, переселенцев (проблемы адаптации и языковы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лемы адаптации при смене местожительства, школы, класс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вольный уход из до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руго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692360" y="1630440"/>
          <a:ext cx="6553080" cy="4535280"/>
        </p:xfrm>
        <a:graphic>
          <a:graphicData uri="http://schemas.openxmlformats.org/drawingml/2006/table">
            <a:tbl>
              <a:tblPr/>
              <a:tblGrid>
                <a:gridCol w="1927080"/>
                <a:gridCol w="4626000"/>
              </a:tblGrid>
              <a:tr h="363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ебно-педагогическ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еют стойкую неуспеваем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пуски занятий без уважительных причи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пускают отдельные предметы без уважительных причи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еденческ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ушение повед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удности во взаимоотношениях со сверстниками и родителя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ышенная тревож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отребление наркотических вещест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бакокур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сиком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иперактив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руго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692360" y="760320"/>
          <a:ext cx="6553080" cy="868320"/>
        </p:xfrm>
        <a:graphic>
          <a:graphicData uri="http://schemas.openxmlformats.org/drawingml/2006/table">
            <a:tbl>
              <a:tblPr/>
              <a:tblGrid>
                <a:gridCol w="1927080"/>
                <a:gridCol w="462600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уппы критер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ии, определяющие «группу риска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1934280" y="487080"/>
            <a:ext cx="58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2100"/>
                </a:solidFill>
                <a:latin typeface="Times New Roman"/>
              </a:rPr>
              <a:t>Подростки «группы риска» име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2100"/>
                </a:solidFill>
                <a:latin typeface="Times New Roman"/>
              </a:rPr>
              <a:t>следующие особенности</a:t>
            </a:r>
            <a:r>
              <a:rPr b="1" lang="ru-RU" sz="2400" spc="-1" strike="noStrike">
                <a:solidFill>
                  <a:srgbClr val="4221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042920" y="1631160"/>
            <a:ext cx="755964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ценностей, принятых в обществе (творчество, познание, активная деятельность); убеждение в своей ненужности в обществе, невозможности добиться в жизни чего-либо своими силами, своим умом и талантом, занять достойное положение среди сверстников, достичь материального благополу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оецирование на себя современной жизни собственных родителей, напоминающей гонки на выж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щущение эмоционального отвержения со стороны родителей и одновременно психологическая автоном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Среди ценностей на первом месте — счастливая семейная жизнь, на втором — материальное благополучие, на третьем —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В то же время, кажущаяся недоступность этих ценностей в жизни. Высокая ценность в сочетании с недосягаемостью порождает внутренний конфликт — один из источников стр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258920" y="1700280"/>
            <a:ext cx="74167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одкрепление потери ценности образования в реальной жизни — пример тех, кто плохо учился или не учился совсем, а в жизни преуспел (имеет палатку, гараж, машину и т.д.) — без знания подлинных путей достижения таких «ценност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овышенный уровень тревожности и агресс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Преобладание ценности красивой, легкой жизни, стремления получать от жизни одни удоволь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Изменение направленности интересов — свободное времяпрепровождение (в подъезде, на улице, подальше от дома и т.п.), ощущение полной свободы (уход из дома, побеги, путешествия, ситуации переживания риска и т.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В отношениях со взрослыми характерны отклонения в общении, приводящие к переживанию своей ненужности, утрате собственной ценности и ценности друг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547640" y="538200"/>
            <a:ext cx="64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2100"/>
                </a:solidFill>
                <a:latin typeface="Times New Roman"/>
              </a:rPr>
              <a:t>Подростки «группы риска» име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2100"/>
                </a:solidFill>
                <a:latin typeface="Times New Roman"/>
              </a:rPr>
              <a:t>следующие особенности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182600" y="779040"/>
            <a:ext cx="751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22100"/>
                </a:solidFill>
                <a:latin typeface="Times New Roman"/>
              </a:rPr>
              <a:t>Типы неправильного воспитания детей в семье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187280" y="1581480"/>
            <a:ext cx="7417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прият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о те семьи, где рождение ребенка было нежелательным, или в случае, если планировался мальчик, родилась девочка, т.е. когда ребенок не удовлетворяет начальные ожидания родителей. Или такие семьи, где о ребенке заботятся, но нет душевного контак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иперсоциальное воспита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ричина его в неверной ориентации родителей. Это слишком «правильные» люди, пытающиеся педантично выполнять все рекомендации по «идеальному» воспитанию. Гиперсоциальный ребенок вынужден постоянно подавлять эмоции, сдерживать свои желания. Отсюда может возникнуть агрессия или замкнут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ревожно-мнительное воспита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наблюдается в тех семьях, где ребенок единственный или очень болезненна тревога за ребенка. В таком случае ребенок несамостоятелен, обидчив, роб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гоцентрический тип восприят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ребенку, часто единственному, долгожданному навязывают представление о себе как идеальному ребенку. В результате ребенок не принимает во внимание интересы окружающи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1332000" y="3394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2100"/>
                </a:solidFill>
                <a:latin typeface="Times New Roman"/>
              </a:rPr>
              <a:t>Воспитательная работа по социально-педагогической поддержки детей «группы риска» строится на следующих принцип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187280" y="1465560"/>
            <a:ext cx="756144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 уважения индивидуальности личност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если подавлять индивидуальность, то личность не раскроется, ее склонности и способности не разовьютс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 коллективной деятель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личность должна уметь согласовываться с другими, индивидуальность в правильно организованной коллективной деятельности расцветае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 разумной требователь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можно все, что не противоречит закону, правилам школьного распорядка, не вредит здоровью, не унижает достоинство други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 возрастного подход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каждый возрастной период позитивно отзывается на свои формы и метода воспитательного воздейств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 диалог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уравнивание позиций педагога и школьника, взрослого и ребенка помогает достичь доверительных отношений. Ребенок инстинктивно находит иногда более оригинальные и оптимальные пути решения многих проблем, задач, проект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1042920" y="155700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 педагогической поддерж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ребенок не должен чувствовать себя нелюбимым, даже если он плохо учится. Он должен видеть в педагоге учителя, который защитит его от незнания, от стресса в связи с этим незнание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 стимулирования самовоспита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каждый школьник должен знать себя, научиться критически рассматривать свои поступки, воспитывать в себе чувство ответственности. Задача педагогов создать такие условия, где ребенок приобретет опыт планирования и рефлексии своей деятель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 связи с реальной жизнью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ела, организуемые и проводимые в школе, должны соприкасаться с реальными делами поселка, района, области, страны. Дети должны чувствовать себя гражданами России, действовать на ее бла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 согласова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се действия педагогов должны быть согласованы между собой, подчинены одной общей цели. Кроме того, каждый педагог должен помнить, что его педагогический долг состоит в том, чтобы создать условия для согласования детей друг с другом, детей и их родител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332000" y="3394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2100"/>
                </a:solidFill>
                <a:latin typeface="Times New Roman"/>
              </a:rPr>
              <a:t>Воспитательная работа по социально-педагогической поддержки детей «группы риска» строится на следующих принцип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6:42:31Z</dcterms:created>
  <dc:creator>User</dc:creator>
  <dc:description/>
  <cp:keywords/>
  <dc:language>en-US</dc:language>
  <cp:lastModifiedBy>Оксана</cp:lastModifiedBy>
  <dcterms:modified xsi:type="dcterms:W3CDTF">2015-10-14T20:18:42Z</dcterms:modified>
  <cp:revision>23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